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E08-DA9E-4AE4-819D-6B2EAA6B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5B3-6D9D-4C62-88C9-E39A7DD1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DA9-534C-4944-AC0B-7E8ED97F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2CB-EEAD-4E91-9252-24227677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6035-E519-4CC7-A3B3-264D8A23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395D-2CCB-4008-A3DE-AF2815C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F41A-67CF-474D-AEA3-B8267AE9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C82D-9E26-4A80-8DB1-56528B89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D397-35DB-427D-804C-E0956BD1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5976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F02B-E947-4D27-A4F3-07F9FBD0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8B12-0F47-4E49-9BF3-2C319A12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36F-3D78-4354-BCFB-CC939604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140C-10FE-45E3-80E7-81EBD174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6E53-CFFD-43D1-8306-F4E2D19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5073-0E08-4FE5-99F8-2326F30A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853E-C157-466F-A9BA-B0DAEB93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65E0-9F58-4A6C-92EF-F723AED7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6F5-5807-4149-B61E-36AACCF0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2CE-A3F1-45F7-B2A2-8CABCA66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8F2-6CEE-4428-8D9B-2F3FAC76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5976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CE1-29E6-4424-B745-837FC7F9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78F-9BF0-454C-A8B3-23114F1F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ADC-8DBC-4F51-83FD-D807B49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B0D-BA40-4C45-AC26-18530039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96136-1A70-4734-B5C3-D57DE21DEC0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5976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7CF96-E0CF-4CBA-AD2E-695213B42F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05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2300dc"/>
                </a:solidFill>
                <a:latin typeface="Arial"/>
                <a:ea typeface="msmincho"/>
              </a:rPr>
              <a:t>Роль искус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2300dc"/>
                </a:solidFill>
                <a:latin typeface="Arial"/>
                <a:ea typeface="msmincho"/>
              </a:rPr>
              <a:t> </a:t>
            </a:r>
            <a:r>
              <a:rPr b="1" lang="ru-RU" sz="8000" spc="-1" strike="noStrike">
                <a:solidFill>
                  <a:srgbClr val="2300dc"/>
                </a:solidFill>
                <a:latin typeface="Arial"/>
                <a:ea typeface="msmincho"/>
              </a:rPr>
              <a:t>в сближении народ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узей современного искусства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701964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smincho"/>
              </a:rPr>
              <a:t>Культура  объединяет все  стороны  человеческой  личности.  Нельзя быть  культурным  в  одной  области  и  оставаться  невежественным  в  другой.  Чем больше  человек  окружен  духовной  культурой, погружен  в  нее,  тем  ему  интереснее  жить, жизнь  приобретает  для  него  содержа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mincho"/>
              </a:rPr>
              <a:t>Д.С. Лиха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2300dc"/>
                </a:solidFill>
                <a:uFillTx/>
                <a:latin typeface="Times New Roman"/>
                <a:ea typeface="msmincho"/>
              </a:rPr>
              <a:t>Музей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mincho"/>
              </a:rPr>
              <a:t> — это учреждение, собирающее и выставляющее для всеобщего обозрения произведения искусства, предметы истории, науки, быта, которые располагаются в экспозиции по определенной систем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-1476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узеи мира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265040"/>
            <a:ext cx="9070920" cy="586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етьяковская  галерея, Музей  изобразительных искусств  им.  А. С.  Пушкин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(Москва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рмитаж,  Русский  музей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Санкт-Петербург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увр,  Музей  современного искусства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ариж,  Франц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зей Прадо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Мадрид,  Испан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циональная  картинная  галерея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Дрезден, Герман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45280" indent="-636480" algn="just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392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итанский  музей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Лондон,  Англия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и  д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Третьяковская галерея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619280"/>
            <a:ext cx="864072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узей изобразительных искусств им. А.С. Пушкина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89996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Государственный Эрмитаж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899964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Русский музей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24000" y="1457280"/>
            <a:ext cx="7540560" cy="574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Лувр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89996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7:28:53Z</dcterms:created>
  <dc:creator>Вера Колычева</dc:creator>
  <dc:description/>
  <dc:language>en-US</dc:language>
  <cp:lastModifiedBy/>
  <cp:revision>1</cp:revision>
  <dc:subject/>
  <dc:title/>
</cp:coreProperties>
</file>