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D6EF-66DD-4C9C-8B8B-CFE19290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AD28-5A73-4C80-B36E-857E878C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3AFC-496C-4B94-97F3-D3DAED47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0BC7-AB7E-44B6-BEB4-03874B34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B7E0-223E-4ADF-BC76-457E9230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B743-ADD0-4CF4-9581-B39FBC8B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6173-B69A-4FF2-98D0-212FBF58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B41E-3152-4C93-87DA-5C866E23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5497-13C3-4280-9C73-B06E7FB0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3280" y="-43200"/>
            <a:ext cx="905976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1EE1-8798-4AC5-AF01-B2996A21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FF40-11E5-4ECC-9DE7-A21C3541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B403-2D18-47A6-A3D8-26E41FDB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E8E8-EA2D-4F06-8B98-E67A8F30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FAB5-9CE6-4427-BA8E-D7C9E462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F786-1BA8-40B8-A99D-17BEBB43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0D9F-C010-4B7E-A301-5FFBFF41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28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652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2976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5235-31E7-4E9D-BA55-4C9EC91C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FD81-E5F6-400F-82A3-ED0826DF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5612-A636-4EFE-B8DB-BD56747C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5A15-1D97-4AF3-93E9-DA87D9A1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-43200"/>
            <a:ext cx="905976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9BC4-ECB9-421A-A1F7-9F2E1F1D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64CB-C304-4ABA-972A-15C69FAB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2CED-47F7-40B5-BC52-97297AA1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8519-FF9E-4161-9CF0-CB77BC03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45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8C39F-19D4-4E9F-9157-78E3A268A2C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3780000"/>
          </a:xfrm>
          <a:prstGeom prst="roundRect">
            <a:avLst>
              <a:gd name="adj" fmla="val 42"/>
            </a:avLst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57900"/>
                </a:solidFill>
                <a:latin typeface="Bitstream Vera Sans"/>
              </a:rPr>
              <a:t>Click to edit the title text format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845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5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A169D-D819-4338-BA0E-8862331D78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056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2300dc"/>
                </a:solidFill>
                <a:latin typeface="Arial"/>
                <a:ea typeface="msmincho"/>
              </a:rPr>
              <a:t>Роль искусств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2300dc"/>
                </a:solidFill>
                <a:latin typeface="Arial"/>
                <a:ea typeface="msmincho"/>
              </a:rPr>
              <a:t> </a:t>
            </a:r>
            <a:r>
              <a:rPr b="1" lang="ru-RU" sz="8000" spc="-1" strike="noStrike">
                <a:solidFill>
                  <a:srgbClr val="2300dc"/>
                </a:solidFill>
                <a:latin typeface="Arial"/>
                <a:ea typeface="msmincho"/>
              </a:rPr>
              <a:t>в сближении народо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266400"/>
            <a:ext cx="907092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00dc"/>
                </a:solidFill>
                <a:latin typeface="Bitstream Vera Sans"/>
              </a:rPr>
              <a:t>Музей современного искусства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40000" y="1800360"/>
            <a:ext cx="7019640" cy="558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msmincho"/>
              </a:rPr>
              <a:t>Культура  объединяет все  стороны  человеческой  личности.  Нельзя быть  культурным  в  одной  области  и  оставаться  невежественным  в  другой.  Чем больше  человек  окружен  духовной  культурой, погружен  в  нее,  тем  ему  интереснее  жить, жизнь  приобретает  для  него  содержа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smincho"/>
              </a:rPr>
              <a:t>Д.С. Лихач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2300dc"/>
                </a:solidFill>
                <a:uFillTx/>
                <a:latin typeface="Times New Roman"/>
                <a:ea typeface="msmincho"/>
              </a:rPr>
              <a:t>Музей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msmincho"/>
              </a:rPr>
              <a:t> — это учреждение, собирающее и выставляющее для всеобщего обозрения произведения искусства, предметы истории, науки, быта, которые располагаются в экспозиции по определенной систем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-1476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00dc"/>
                </a:solidFill>
                <a:latin typeface="Bitstream Vera Sans"/>
              </a:rPr>
              <a:t>Музеи мира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265040"/>
            <a:ext cx="9070920" cy="586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845280" indent="-636480" algn="just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85392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ретьяковская  галерея, Музей  изобразительных искусств  им.  А. С.  Пушкина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(Москва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45280" indent="-636480" algn="just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85392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рмитаж,  Русский  музей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Санкт-Петербург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45280" indent="-636480" algn="just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85392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увр,  Музей  современного искусства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Париж,  Франция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45280" indent="-636480" algn="just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85392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узей Прадо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Мадрид,  Испания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45280" indent="-636480" algn="just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85392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циональная  картинная  галерея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Дрезден, Германия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45280" indent="-636480" algn="just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85392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ританский  музей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Лондон,  Англия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и  др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00dc"/>
                </a:solidFill>
                <a:latin typeface="Bitstream Vera Sans"/>
              </a:rPr>
              <a:t>Третьяковская галерея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20720" y="1619280"/>
            <a:ext cx="8640720" cy="558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266400"/>
            <a:ext cx="907092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00dc"/>
                </a:solidFill>
                <a:latin typeface="Bitstream Vera Sans"/>
              </a:rPr>
              <a:t>Музей изобразительных искусств им. А.С. Пушкина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9640" y="1619280"/>
            <a:ext cx="8999640" cy="5759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00dc"/>
                </a:solidFill>
                <a:latin typeface="Bitstream Vera Sans"/>
              </a:rPr>
              <a:t>Государственный Эрмитаж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1619280"/>
            <a:ext cx="8999640" cy="558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00dc"/>
                </a:solidFill>
                <a:latin typeface="Bitstream Vera Sans"/>
              </a:rPr>
              <a:t>Русский музей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24000" y="1457280"/>
            <a:ext cx="7540560" cy="5742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00dc"/>
                </a:solidFill>
                <a:latin typeface="Bitstream Vera Sans"/>
              </a:rPr>
              <a:t>Лувр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9640" y="1440000"/>
            <a:ext cx="8999640" cy="5759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17:28:53Z</dcterms:created>
  <dc:creator>Вера Колычева</dc:creator>
  <dc:description/>
  <dc:language>en-US</dc:language>
  <cp:lastModifiedBy/>
  <cp:revision>1</cp:revision>
  <dc:subject/>
  <dc:title/>
</cp:coreProperties>
</file>