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4515-7038-4F4E-AB06-9E965831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EF9F-79CF-4760-A18D-C6AB534A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AF76-3B1E-4E8A-BFD3-340FA8E8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4429-AFED-427B-8B6E-FF9C6102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FB2A-6AD1-41C5-BC1A-BDC28310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2E3C-F362-4BDB-8B61-E4B35D73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0D2C-F769-4ADC-9704-3B9FCC74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8C97-7BAF-483A-A112-A4674A14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076D-A327-4A6E-90C8-E7D4A926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-43200"/>
            <a:ext cx="906300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B0CE-F95F-418D-8193-9321A0D9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07A7-A260-42EB-BFA4-D3DBC194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E53D-D589-4C8A-8B49-20EC7674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E9C8-5D3F-4B12-8D30-46F6B7B1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D503-5FB5-4179-A5F7-823D0D7A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7668-52A1-4071-9314-C8DCD707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5C21-B48B-44E6-8136-018C3C8B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3DAE-C239-4D56-9E18-3B6DA113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D9F-19D2-49E3-803A-F234D315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F9B9-248F-457B-8E95-ECECD6C8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DED5-45E6-44EA-A9FA-8B7B5803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-43200"/>
            <a:ext cx="906300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30D0-DB9A-4A2D-B518-ACD8B44A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ADE3-F30E-43D4-A849-436DB7F8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85D7-B781-45DF-BEFB-07F73670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D8F3-4309-4D70-AA1D-D5487856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5FAAD-B615-4425-92F8-67CAE504A6B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3780000"/>
          </a:xfrm>
          <a:prstGeom prst="roundRect">
            <a:avLst>
              <a:gd name="adj" fmla="val 42"/>
            </a:avLst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edit the title text format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21766-EFAB-49B4-964F-421E8213FF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266400"/>
            <a:ext cx="907092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Bitstream Vera Sans"/>
              </a:rPr>
              <a:t>Национальная картинная галерея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00000" y="1795320"/>
            <a:ext cx="8280360" cy="5405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Bitstream Vera Sans"/>
              </a:rPr>
              <a:t>Британский музей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00000" y="1440000"/>
            <a:ext cx="8280360" cy="5759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8280" y="179280"/>
            <a:ext cx="4943520" cy="708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0360" y="1832040"/>
            <a:ext cx="46800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300dc"/>
                </a:solidFill>
                <a:latin typeface="Bitstream Vera Sans"/>
              </a:rPr>
              <a:t>Международный конкурс молодых исполнителей им. П.И. Чайковского</a:t>
            </a:r>
            <a:endParaRPr b="1" lang="en-US" sz="3600" spc="-1" strike="noStrike">
              <a:solidFill>
                <a:srgbClr val="f57900"/>
              </a:solidFill>
              <a:latin typeface="Bitstream Vera Sans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266400"/>
            <a:ext cx="907092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Bitstream Vera Sans"/>
              </a:rPr>
              <a:t>Международные конкурсы для детей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6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839880" indent="-630000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85716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стиваль-конкурс  детского  и  юношеского  творчества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«Открытая  Европа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39880" indent="-630000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85716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курс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Молодой  балет  мира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39880" indent="-630000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85716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курс  хореографических  коллективов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Петербургская метелица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39880" indent="-630000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85716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курс  детских  рисунко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39880" indent="-630000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85716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семирные  Дельфийские  игры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39880" indent="-630000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85716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курс  исполнителей  популярной  песни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Детская  новая  волна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и 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780000" y="360360"/>
            <a:ext cx="6134040" cy="6838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1887120"/>
            <a:ext cx="4356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Bitstream Vera Sans"/>
              </a:rPr>
              <a:t>Евровидение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266400"/>
            <a:ext cx="907092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Bitstream Vera Sans"/>
              </a:rPr>
              <a:t>Международный проект «Три тенора»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20720" y="1800360"/>
            <a:ext cx="8640720" cy="558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7:28:53Z</dcterms:created>
  <dc:creator>Вера Колычева</dc:creator>
  <dc:description/>
  <dc:language>en-US</dc:language>
  <cp:lastModifiedBy/>
  <cp:revision>1</cp:revision>
  <dc:subject/>
  <dc:title/>
</cp:coreProperties>
</file>