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ECA9-7211-4C00-8C12-6463D90A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11B3-3BF2-4329-84B0-E09C53DD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F357-0661-41F7-8EF5-452A442C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9F7F-2178-41DB-8CC1-A2097C8A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A2DD-09C5-4FC7-A47B-45214F0B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41F4-9E22-41A3-8012-7EF2C4E5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9A88-F49A-453E-9487-036E7DDA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E9DE-7DB4-48A7-BF16-D44EA223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95CE-D5F2-4191-AEA9-F6B948DD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-43200"/>
            <a:ext cx="906300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9CEC-E193-4647-A0DC-74E62B75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2E9D-0BEC-463D-813D-D3D076C6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8AA6-D8A3-4919-BADE-B8FD8772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9F00-1182-41BD-B23C-21537A7A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1F33-E46C-4942-8157-7FC53243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ED6F-E62A-470B-A0D8-26C6DDBF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0007-2E6B-4070-87E4-F0629D33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E33B-B61B-48D8-BDFE-72C6B7C7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C300-C507-4C3B-AE4F-AFAA5D10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6FE4-F89B-4B5A-9506-78CE41AD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CDA7-B57F-45CF-A446-01765590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-43200"/>
            <a:ext cx="906300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A401-79C3-4F83-906F-A920C839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987B-A7C0-4726-B091-41F98F20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C5A9-0202-4BFE-AE58-9609AC24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5C91-A6BF-41CE-B76E-8DB430E0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C20A6-8E45-47A3-B842-0EBF31A11FB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3780000"/>
          </a:xfrm>
          <a:prstGeom prst="roundRect">
            <a:avLst>
              <a:gd name="adj" fmla="val 42"/>
            </a:avLst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-43200"/>
            <a:ext cx="9063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57900"/>
                </a:solidFill>
                <a:latin typeface="Bitstream Vera Sans"/>
              </a:rPr>
              <a:t>Click to edit the title text format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C40D9-8552-433A-956B-EAFA61AD85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266400"/>
            <a:ext cx="907092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00dc"/>
                </a:solidFill>
                <a:latin typeface="Bitstream Vera Sans"/>
              </a:rPr>
              <a:t>Национальная картинная галерея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00000" y="1795320"/>
            <a:ext cx="8280360" cy="5405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00dc"/>
                </a:solidFill>
                <a:latin typeface="Bitstream Vera Sans"/>
              </a:rPr>
              <a:t>Британский музей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00000" y="1440000"/>
            <a:ext cx="8280360" cy="5759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8280" y="179280"/>
            <a:ext cx="4943520" cy="708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0360" y="1832040"/>
            <a:ext cx="46800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300dc"/>
                </a:solidFill>
                <a:latin typeface="Bitstream Vera Sans"/>
              </a:rPr>
              <a:t>Международный конкурс молодых исполнителей им. П.И. Чайковского</a:t>
            </a:r>
            <a:endParaRPr b="1" lang="en-US" sz="3600" spc="-1" strike="noStrike">
              <a:solidFill>
                <a:srgbClr val="f57900"/>
              </a:solidFill>
              <a:latin typeface="Bitstream Vera Sans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266400"/>
            <a:ext cx="907092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00dc"/>
                </a:solidFill>
                <a:latin typeface="Bitstream Vera Sans"/>
              </a:rPr>
              <a:t>Международные конкурсы для детей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6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839880" indent="-630000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85716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естиваль-конкурс  детского  и  юношеского  творчества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«Открытая  Европа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39880" indent="-630000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85716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курс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Молодой  балет  мира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39880" indent="-630000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85716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курс  хореографических  коллективов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Петербургская метелица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39880" indent="-630000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85716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курс  детских  рисунков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39880" indent="-630000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85716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семирные  Дельфийские  игры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39880" indent="-630000">
              <a:lnSpc>
                <a:spcPct val="93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85716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курс  исполнителей  популярной  песни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Детская  новая  волна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и  д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780000" y="360360"/>
            <a:ext cx="6134040" cy="6838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1887120"/>
            <a:ext cx="4356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00dc"/>
                </a:solidFill>
                <a:latin typeface="Bitstream Vera Sans"/>
              </a:rPr>
              <a:t>Евровидение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266400"/>
            <a:ext cx="907092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00dc"/>
                </a:solidFill>
                <a:latin typeface="Bitstream Vera Sans"/>
              </a:rPr>
              <a:t>Международный проект «Три тенора»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20720" y="1800360"/>
            <a:ext cx="8640720" cy="558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17:28:53Z</dcterms:created>
  <dc:creator>Вера Колычева</dc:creator>
  <dc:description/>
  <dc:language>en-US</dc:language>
  <cp:lastModifiedBy/>
  <cp:revision>1</cp:revision>
  <dc:subject/>
  <dc:title/>
</cp:coreProperties>
</file>