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F31-B9CD-4FC3-9B48-DDAEDFCB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D59-6194-4093-AA0C-88CFCBB4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9E0-0804-4462-8B0D-6B30D750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DCB-42A8-4F2E-910A-ED8CDBEA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2528-D0A5-4169-960B-8C1193D6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1160-754B-4331-AC6A-475EF8F8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CA06-0243-4EFF-B445-AC2D7654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F5FB-CC28-47A1-93D8-E026EB4E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BB28-07DB-4566-9EE8-56E34E94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B7DC-91D0-4543-8CFB-9810A113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0584-82EB-4AFA-B9CE-152E18FF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C54-AB65-4117-8EA1-AA2429BF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0CAD-43B3-4074-9556-5562B4A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0A52-79E8-4015-9BC0-AF02944E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66E3-C74A-430E-A248-95CC1FF6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742C-F35B-49ED-BBA3-B23BF03E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4C53-062D-4AFD-9AEC-21652FA1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1D6-D979-497E-909F-0F4508D6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1FB-EF62-45D7-8F92-6A9301A2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845-BA98-4708-8DA6-A4218678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0A0-9D99-4C70-B240-6538C8E9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BF4-59C0-45F2-97C7-2B08515D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CBF-AD82-4E1A-ACBA-422C400D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031-260A-4642-9AB1-62900C79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884D-A168-4891-8286-3DD9C4DCE4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CFB5-A35D-4C4F-9EFD-9948316FCB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Внешняя политика России в конце </a:t>
            </a:r>
            <a:r>
              <a:rPr b="0" lang="en-US" sz="3600" spc="-1" strike="noStrike">
                <a:solidFill>
                  <a:srgbClr val="95934b"/>
                </a:solidFill>
                <a:latin typeface="Tahoma"/>
              </a:rPr>
              <a:t>XVII – </a:t>
            </a: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начале </a:t>
            </a:r>
            <a:r>
              <a:rPr b="0" lang="en-US" sz="3600" spc="-1" strike="noStrike">
                <a:solidFill>
                  <a:srgbClr val="95934b"/>
                </a:solidFill>
                <a:latin typeface="Tahoma"/>
              </a:rPr>
              <a:t>XVIII</a:t>
            </a:r>
            <a:r>
              <a:rPr b="0" lang="ru-RU" sz="3600" spc="-1" strike="noStrike">
                <a:solidFill>
                  <a:srgbClr val="95934b"/>
                </a:solidFill>
                <a:latin typeface="Tahoma"/>
              </a:rPr>
              <a:t> в.</a:t>
            </a:r>
            <a:br>
              <a:rPr sz="3600"/>
            </a:b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Северная войн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боту выполни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еник 7 «А» кла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БОУ СОШ №7 г. Сальс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регубов Кирил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697 г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Европу было направлено Великое посольство, в состав которого под именем Петр Михайлов входил сам государь Пет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« Великое посольство» не сумело создать союз против Османской империи. В то же время некоторые европейские дипломаты склоняли Россию к участию в войне на севере Европы. Пет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решил вступить в борьбу со Швецией за выход  в Балтийское мор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699 г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 Россией, Данией, Речью Посполитой и Саксонией был заключен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еверный союз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направленный против Швеции. В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700 г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оссия и Османская империя подписали перемирие, и Пет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ступил в войну со Швецией. Началась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Северная войн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лившаяся с 1700 по 1721 г.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Picture 4" descr="image3517"/>
          <p:cNvPicPr/>
          <p:nvPr/>
        </p:nvPicPr>
        <p:blipFill>
          <a:blip r:embed="rId1"/>
          <a:stretch/>
        </p:blipFill>
        <p:spPr>
          <a:xfrm>
            <a:off x="304920" y="3733920"/>
            <a:ext cx="4198680" cy="2971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4b9121dcd3bf"/>
          <p:cNvPicPr/>
          <p:nvPr/>
        </p:nvPicPr>
        <p:blipFill>
          <a:blip r:embed="rId2"/>
          <a:stretch/>
        </p:blipFill>
        <p:spPr>
          <a:xfrm>
            <a:off x="4724280" y="3733920"/>
            <a:ext cx="41148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т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инял энергичные меры по укреплению армии. В конце 1701 г. Русские войска под командованием Шереметьева нанесли шведам первое поражение, в 1702 г. Взяли крепость Нотебург у истоков Невы, в 1703 г. – форт Кроншлот в устье Нев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6 ма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703 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устье Невы была заложена Петропавловская крепость, положившая начало Петербургу. В том же году на воду был спущен первый корабль Балтийского флота. В 1704 г. Капитулировали шведские гарнизоны в Тарту, Нарве и Ивангороде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4" descr="0474"/>
          <p:cNvPicPr/>
          <p:nvPr/>
        </p:nvPicPr>
        <p:blipFill>
          <a:blip r:embed="rId1"/>
          <a:stretch/>
        </p:blipFill>
        <p:spPr>
          <a:xfrm>
            <a:off x="6172200" y="228600"/>
            <a:ext cx="2158920" cy="3068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39"/>
          <p:cNvPicPr/>
          <p:nvPr/>
        </p:nvPicPr>
        <p:blipFill>
          <a:blip r:embed="rId2"/>
          <a:stretch/>
        </p:blipFill>
        <p:spPr>
          <a:xfrm>
            <a:off x="6248520" y="3505320"/>
            <a:ext cx="21333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67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пехи России обеспокоили Карл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К 1707 г. Швеция, решив свои задачи в Центральной Европе, поставила перед собой новую цель – окончательное укрепление своего господства на Балтийском мор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3 тысячи шведских солдат во главе с Карло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ыступило в Россию и двинулись к Смоленску и Москве. В сентябре 1708 г. Карл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вернул на Украину. На Украине на его сторону перешли запорожцы и гетман И. Мазепа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8 сентября 1708 года – битва у деревни Лесная, которую Пет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азвал матерью Полтавской битв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Picture 4" descr="full-sv1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том 1709 г. Главные силы русской и шведской армий сблизились. 27 июн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709 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остоялась Полтавская битва. В ожесточенном бою шведская армия понесла большие потери после того, как русские драгуны, заманивая врага под огонь артиллерии, отошли к своему лагерю. Две колонны шведских войск, оторвавшиеся при этом от основных сил, были разгромлены, а защитники Полтавы, сделав вылазку, захватили лагерь осаждавших. Отступать шведам было некуд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Picture 4" descr="imgB"/>
          <p:cNvPicPr/>
          <p:nvPr/>
        </p:nvPicPr>
        <p:blipFill>
          <a:blip r:embed="rId1"/>
          <a:stretch/>
        </p:blipFill>
        <p:spPr>
          <a:xfrm>
            <a:off x="1219320" y="30481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 Полтавской битвы русская армия овладела Ригой, Ревелем и Выборгом. Был восстановлен Северный союз: Саксония и Дания вновь присоединились к России. На стороне Швеции выступила Турция, осенью 1710 г. Объявившая войну России. В 1711 г. На реке Прут русская армия была окружена турецкими войсками. Только вернув Турции Азов и разрушив Таганрог, Россия добилась перемирия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Picture 4" descr="mazepa_i_karl"/>
          <p:cNvPicPr/>
          <p:nvPr/>
        </p:nvPicPr>
        <p:blipFill>
          <a:blip r:embed="rId1"/>
          <a:stretch/>
        </p:blipFill>
        <p:spPr>
          <a:xfrm>
            <a:off x="1371600" y="3048120"/>
            <a:ext cx="64008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 изменить общий ход Северной войны было уже невозможно.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71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г. Русский флот одержал победу над шведским у мыс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нгут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1720 г. Шведский флот потерпел поражение у остров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енг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721 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 подписан Ништадский мирный договор между Россией и Швецией. Россия приобрела у Швеции Лифляндию, Эстляндию, Ингерманландию, часть Карелии и прочно утвердилась на Балтийском побережье – «прорубив окно в Европу»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9" name="Picture 4" descr="46777408_Grengam"/>
          <p:cNvPicPr/>
          <p:nvPr/>
        </p:nvPicPr>
        <p:blipFill>
          <a:blip r:embed="rId1"/>
          <a:stretch/>
        </p:blipFill>
        <p:spPr>
          <a:xfrm>
            <a:off x="2438280" y="3276720"/>
            <a:ext cx="6400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язи России с Европой и международное влияние её значительно возросло, что благоприятно отразилось на развит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Picture 4" descr="russia_1700_1721"/>
          <p:cNvPicPr/>
          <p:nvPr/>
        </p:nvPicPr>
        <p:blipFill>
          <a:blip r:embed="rId1"/>
          <a:stretch/>
        </p:blipFill>
        <p:spPr>
          <a:xfrm>
            <a:off x="609480" y="1676520"/>
            <a:ext cx="3591000" cy="49100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peterthegreatpic"/>
          <p:cNvPicPr/>
          <p:nvPr/>
        </p:nvPicPr>
        <p:blipFill>
          <a:blip r:embed="rId2"/>
          <a:stretch/>
        </p:blipFill>
        <p:spPr>
          <a:xfrm>
            <a:off x="4572000" y="1676520"/>
            <a:ext cx="396252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952880" y="0"/>
            <a:ext cx="419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ы подготовил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егубов Кирилл ученик 7 «А» клас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БОУ СОШ№7 города Сальска, Ростовской обла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исок литератур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овременная школьная энциклопедия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ры: Агеносов В.В. Амелькин А.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олный энциклопедический иллюстрированный справочник РОСС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ры: Дейниченко П. Красновский 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4" descr="649628564"/>
          <p:cNvPicPr/>
          <p:nvPr/>
        </p:nvPicPr>
        <p:blipFill>
          <a:blip r:embed="rId1"/>
          <a:stretch/>
        </p:blipFill>
        <p:spPr>
          <a:xfrm>
            <a:off x="228600" y="228600"/>
            <a:ext cx="4572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№1_kab101</cp:lastModifiedBy>
  <dcterms:modified xsi:type="dcterms:W3CDTF">2011-12-10T11:57:41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