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2F9-763A-44F9-9B4F-DF770527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199-D89D-4CB9-A29D-E5F6109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6B3-3691-4AA5-A86F-FFB9955B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917-3EB2-4337-8AFC-BBB0232C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3C12-39E0-45E6-95F1-52BE913C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955-47AB-4369-BD4F-E53182AA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6CC-C80A-4AB5-A10B-3D36B7E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C1E-76C7-4993-9FFC-5871207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94C3-6F63-4250-BF2A-3C986129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A2FE-9811-4795-A53B-97DFE43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26A-6534-44D1-AA31-91B81AFB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B37-DBDD-4450-9BA6-A2F4DE1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722-9CF7-43EE-AB79-C5E5042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E8C3-C63B-4951-B886-E9DF0C9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7A1-7878-4B05-AB7B-A2CE49BA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DB8-75D4-4455-901C-9C0B71B8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A9FF-7B0E-4EC2-9498-9716E613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D07-C740-4E8E-B639-D31527E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2F7-B0EB-4C38-9FF7-AF58015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D61-B7F7-48DB-B32F-DB1778B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2D5-E1DD-44EE-9609-9542EA3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E3E-F27E-473F-B447-896A4BA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715-3202-45E2-BD1F-E53F950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9DD-BA45-4F23-9DE3-2D3CEA8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E14-C2BE-475E-910B-F43E0E797D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F2C2-5FA8-4BB7-B3B4-42ADBA423F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нешняя политика России в конце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XVII – 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начале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XVIII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 в.</a:t>
            </a:r>
            <a:br>
              <a:rPr sz="3600"/>
            </a:b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Северная войн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боту выполн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7 «А»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БОУ СОШ №7 г. Саль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регубов Кирил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97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Европу было направлено Великое посольство, в состав которого под именем Петр Михайлов входил сам государь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« Великое посольство» не сумело создать союз против Османской империи. В то же время некоторые европейские дипломаты склоняли Россию к участию в войне на севере Европы.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ешил вступить в борьбу со Швецией за выход  в Балтийское мор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99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 Россией, Данией, Речью Посполитой и Саксонией был заключен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еверный союз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направленный против Швеции. 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700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сия и Османская империя подписали перемирие, и Пет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ступил в войну со Швецией. Началась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Северная войн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лившаяся с 1700 по 1721 г.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4" descr="image3517"/>
          <p:cNvPicPr/>
          <p:nvPr/>
        </p:nvPicPr>
        <p:blipFill>
          <a:blip r:embed="rId1"/>
          <a:stretch/>
        </p:blipFill>
        <p:spPr>
          <a:xfrm>
            <a:off x="304920" y="3733920"/>
            <a:ext cx="4198680" cy="2971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4b9121dcd3bf"/>
          <p:cNvPicPr/>
          <p:nvPr/>
        </p:nvPicPr>
        <p:blipFill>
          <a:blip r:embed="rId2"/>
          <a:stretch/>
        </p:blipFill>
        <p:spPr>
          <a:xfrm>
            <a:off x="4724280" y="3733920"/>
            <a:ext cx="4114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инял энергичные меры по укреплению армии. В конце 1701 г. Русские войска под командованием Шереметьева нанесли шведам первое поражение, в 1702 г. Взяли крепость Нотебург у истоков Невы, в 1703 г. – форт Кроншлот в устье Нев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 ма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03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устье Невы была заложена Петропавловская крепость, положившая начало Петербургу. В том же году на воду был спущен первый корабль Балтийского флота. В 1704 г. Капитулировали шведские гарнизоны в Тарту, Нарве и Ивангороде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4" descr="0474"/>
          <p:cNvPicPr/>
          <p:nvPr/>
        </p:nvPicPr>
        <p:blipFill>
          <a:blip r:embed="rId1"/>
          <a:stretch/>
        </p:blipFill>
        <p:spPr>
          <a:xfrm>
            <a:off x="6172200" y="228600"/>
            <a:ext cx="2158920" cy="306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39"/>
          <p:cNvPicPr/>
          <p:nvPr/>
        </p:nvPicPr>
        <p:blipFill>
          <a:blip r:embed="rId2"/>
          <a:stretch/>
        </p:blipFill>
        <p:spPr>
          <a:xfrm>
            <a:off x="6248520" y="3505320"/>
            <a:ext cx="2133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пехи России обеспокоили Карл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К 1707 г. Швеция, решив свои задачи в Центральной Европе, поставила перед собой новую цель – окончательное укрепление своего господства на Балтийском мор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3 тысячи шведских солдат во главе с Карл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ыступило в Россию и двинулись к Смоленску и Москве. В сентябре 1708 г. Кар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вернул на Украину. На Украине на его сторону перешли запорожцы и гетман И. Мазеп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8 сентября 1708 года – битва у деревни Лесная, которую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вал матерью Полтавской битв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4" descr="full-sv1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том 1709 г. Главные силы русской и шведской армий сблизились. 27 июн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09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стоялась Полтавская битва. В ожесточенном бою шведская армия понесла большие потери после того, как русские драгуны, заманивая врага под огонь артиллерии, отошли к своему лагерю. Две колонны шведских войск, оторвавшиеся при этом от основных сил, были разгромлены, а защитники Полтавы, сделав вылазку, захватили лагерь осаждавших. Отступать шведам было некуд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4" descr="imgB"/>
          <p:cNvPicPr/>
          <p:nvPr/>
        </p:nvPicPr>
        <p:blipFill>
          <a:blip r:embed="rId1"/>
          <a:stretch/>
        </p:blipFill>
        <p:spPr>
          <a:xfrm>
            <a:off x="1219320" y="30481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Полтавской битвы русская армия овладела Ригой, Ревелем и Выборгом. Был восстановлен Северный союз: Саксония и Дания вновь присоединились к России. На стороне Швеции выступила Турция, осенью 1710 г. Объявившая войну России. В 1711 г. На реке Прут русская армия была окружена турецкими войсками. Только вернув Турции Азов и разрушив Таганрог, Россия добилась перемирия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4" descr="mazepa_i_karl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 изменить общий ход Северной войны было уже невозможно.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1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г. Русский флот одержал победу над шведским у мыс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нгу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1720 г. Шведский флот потерпел поражение у остров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енг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21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подписан Ништадский мирный договор между Россией и Швецией. Россия приобрела у Швеции Лифляндию, Эстляндию, Ингерманландию, часть Карелии и прочно утвердилась на Балтийском побережье – «прорубив окно в Европу»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Picture 4" descr="46777408_Grengam"/>
          <p:cNvPicPr/>
          <p:nvPr/>
        </p:nvPicPr>
        <p:blipFill>
          <a:blip r:embed="rId1"/>
          <a:stretch/>
        </p:blipFill>
        <p:spPr>
          <a:xfrm>
            <a:off x="243828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язи России с Европой и международное влияние её значительно возросло, что благоприятно отразилось на развит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4" descr="russia_1700_1721"/>
          <p:cNvPicPr/>
          <p:nvPr/>
        </p:nvPicPr>
        <p:blipFill>
          <a:blip r:embed="rId1"/>
          <a:stretch/>
        </p:blipFill>
        <p:spPr>
          <a:xfrm>
            <a:off x="609480" y="1676520"/>
            <a:ext cx="3591000" cy="4910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peterthegreatpic"/>
          <p:cNvPicPr/>
          <p:nvPr/>
        </p:nvPicPr>
        <p:blipFill>
          <a:blip r:embed="rId2"/>
          <a:stretch/>
        </p:blipFill>
        <p:spPr>
          <a:xfrm>
            <a:off x="4572000" y="1676520"/>
            <a:ext cx="3962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ы подготови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губов Кирилл ученик 7 «А» кла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БОУ СОШ№7 города Сальска, Ростовской об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исок литерату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овременная школьная энциклопедия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ы: Агеносов В.В. Амелькин А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лный энциклопедический иллюстрированный справочник РОСС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ы: Дейниченко П. Красновский 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4" descr="649628564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№1_kab101</cp:lastModifiedBy>
  <dcterms:modified xsi:type="dcterms:W3CDTF">2011-12-10T11:57:4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