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DD1D-DA69-4B01-969E-987C17B8B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3BDB-F046-4B1F-94E7-B2D0A38E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9551-28B1-4E88-BAC4-EC17BD4FE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5655-BAF5-4DDF-AF1C-A62193DFF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FEEAE-9CA6-494D-892F-1C3489E90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20DE2-A66A-43BF-A819-D277F08D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B9D5-59B9-471E-9CAE-F75AE450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7E15-F51A-4FFD-8388-B9E66C3D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75A8-5808-48DE-9E51-9A064F2A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F468-16EE-4458-8CC5-D7C25FF9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0252-9341-4653-92D3-9B5D7962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BA4E-1A16-427C-9D9F-042D7213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92D26-61B6-4219-84C4-49F7AEC3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EC34-BA39-423A-B9B7-DC29EC1B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CCDD-F09A-4E48-A8FD-1032914F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73E8-2DDE-474A-B891-BCA612C7B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F5899-5FA1-4A3C-9B62-B63BC2D2A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CAD1-2F3D-4B8E-944B-F4D34707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2C67-3F38-406B-B63A-FC20E831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A4BD-FB4C-4480-940F-FB8B424E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B964-EE86-4AA5-98F8-118AD269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9091-AFA3-4138-BCBE-FF46D42B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3D34-2284-4E66-B7F9-E8F011E0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51DD-5396-4A4F-ADCC-416FB7A7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6e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6e6e9e"/>
                </a:gs>
                <a:gs pos="50000">
                  <a:srgbClr val="ffffff"/>
                </a:gs>
                <a:gs pos="100000">
                  <a:srgbClr val="6e6e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e6e9e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6e6e9e"/>
                </a:gs>
                <a:gs pos="50000">
                  <a:srgbClr val="ffffff"/>
                </a:gs>
                <a:gs pos="100000">
                  <a:srgbClr val="6e6e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6e6e9e"/>
                </a:gs>
                <a:gs pos="50000">
                  <a:srgbClr val="ffffff"/>
                </a:gs>
                <a:gs pos="100000">
                  <a:srgbClr val="6e6e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e6e9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e6e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e6e9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2915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E1D8-847A-484F-9154-E8CC3D16405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6e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6e6e9e"/>
                </a:gs>
                <a:gs pos="50000">
                  <a:srgbClr val="ffffff"/>
                </a:gs>
                <a:gs pos="100000">
                  <a:srgbClr val="6e6e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e6e9e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6e6e9e"/>
                </a:gs>
                <a:gs pos="50000">
                  <a:srgbClr val="ffffff"/>
                </a:gs>
                <a:gs pos="100000">
                  <a:srgbClr val="6e6e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6e6e9e"/>
                </a:gs>
                <a:gs pos="50000">
                  <a:srgbClr val="ffffff"/>
                </a:gs>
                <a:gs pos="100000">
                  <a:srgbClr val="6e6e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e6e9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e6e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e6e9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2915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812D-D648-42B8-859E-0AFD5DFB6533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5"/>
          <p:cNvSpPr/>
          <p:nvPr/>
        </p:nvSpPr>
        <p:spPr>
          <a:xfrm>
            <a:off x="1116000" y="549360"/>
            <a:ext cx="7416720" cy="24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ыдающийся деятель Чуваш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ван Яковлевич Яковле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5796000" y="4941720"/>
            <a:ext cx="31687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втор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емёнов Никола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амять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увашский народ глубоко чтит память Ивана Яковлевича Яковлева. Его имя присвоено Чувашскому государственному педагогическому институту, Аликовской и Бичуринской средним школам. В Чебоксарах поставлен памятник И.Я.Яковлеву, один из проспектов назван его имен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013"/>
          <p:cNvPicPr/>
          <p:nvPr/>
        </p:nvPicPr>
        <p:blipFill>
          <a:blip r:embed="rId1"/>
          <a:stretch/>
        </p:blipFill>
        <p:spPr>
          <a:xfrm>
            <a:off x="1258920" y="404640"/>
            <a:ext cx="6481800" cy="4792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"/>
          <p:cNvSpPr/>
          <p:nvPr/>
        </p:nvSpPr>
        <p:spPr>
          <a:xfrm>
            <a:off x="395280" y="558900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ид проспекта Ивана Яковлева в Чебоксар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амятник И.Я.Яковлев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42181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втор: скульптор Д.И. Народицкий, архитектор Г.Е. Саевич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ата открытия:В 1970 25 июня году состоялось открытие памятника великому просветителю чувашского народа, создателю новой чувашской письменности И.Я. Яковлеву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ронзовая литая статуя сидящего человека (весом более 3 т) первоначально была установлена на гранитной плите почти вровень с землёй. Затем скульптуру подняли более чем на 1 метр на двухступенчатый стилобат, облицованный квадратами полированного чёрного гранита. В 1970 году состоялось открытие памятника великому просветителю чувашского народа, создателю новой чувашской письменности И.Я. Яковлеву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8" descr="IMG_3424"/>
          <p:cNvPicPr/>
          <p:nvPr/>
        </p:nvPicPr>
        <p:blipFill>
          <a:blip r:embed="rId1"/>
          <a:stretch/>
        </p:blipFill>
        <p:spPr>
          <a:xfrm>
            <a:off x="4284720" y="1484280"/>
            <a:ext cx="4622760" cy="362916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9"/>
          <p:cNvSpPr/>
          <p:nvPr/>
        </p:nvSpPr>
        <p:spPr>
          <a:xfrm>
            <a:off x="4356000" y="5229360"/>
            <a:ext cx="478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сторасположение: сквер перед зданием Национальной библиотеки Чувашской Республики по пр. Лени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тор: скульптор Д.И. Народицкий, архитектор Г.Е. Саевич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1" descr="pamyatnik1"/>
          <p:cNvPicPr/>
          <p:nvPr/>
        </p:nvPicPr>
        <p:blipFill>
          <a:blip r:embed="rId1"/>
          <a:stretch/>
        </p:blipFill>
        <p:spPr>
          <a:xfrm>
            <a:off x="324000" y="404640"/>
            <a:ext cx="5256000" cy="37292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2"/>
          <p:cNvSpPr/>
          <p:nvPr/>
        </p:nvSpPr>
        <p:spPr>
          <a:xfrm>
            <a:off x="468360" y="4797360"/>
            <a:ext cx="835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жегодно 25 апреля, в День рождения просветителя, общественность Чувашской Республики проводит на сквере с памятником И.Я. Яковлеву праздничный митинг с возложением  живых цве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13" descr="015"/>
          <p:cNvPicPr/>
          <p:nvPr/>
        </p:nvPicPr>
        <p:blipFill>
          <a:blip r:embed="rId2"/>
          <a:stretch/>
        </p:blipFill>
        <p:spPr>
          <a:xfrm>
            <a:off x="5940360" y="1341360"/>
            <a:ext cx="280692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6" descr="001"/>
          <p:cNvPicPr/>
          <p:nvPr/>
        </p:nvPicPr>
        <p:blipFill>
          <a:blip r:embed="rId1"/>
          <a:stretch/>
        </p:blipFill>
        <p:spPr>
          <a:xfrm>
            <a:off x="1258920" y="620640"/>
            <a:ext cx="6697800" cy="40244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7"/>
          <p:cNvSpPr/>
          <p:nvPr/>
        </p:nvSpPr>
        <p:spPr>
          <a:xfrm>
            <a:off x="2226600" y="5358600"/>
            <a:ext cx="4665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узей И.Я.Яковлева на его родин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5" descr="018"/>
          <p:cNvPicPr/>
          <p:nvPr/>
        </p:nvPicPr>
        <p:blipFill>
          <a:blip r:embed="rId1"/>
          <a:stretch/>
        </p:blipFill>
        <p:spPr>
          <a:xfrm>
            <a:off x="1476360" y="404640"/>
            <a:ext cx="6191280" cy="43516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6"/>
          <p:cNvSpPr/>
          <p:nvPr/>
        </p:nvSpPr>
        <p:spPr>
          <a:xfrm>
            <a:off x="1042920" y="5084640"/>
            <a:ext cx="72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лагородной традицией Чувашского университета стало регулярное посещение могил И.Я. Яковлева и его родственников. Москва, Ваганьковское кладбищ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ентябрь, 1998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ы помним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ван Яковлевич Яковлев (1848-1930) - один из выдающихся деятелей культуры и просвещения дореволюционной России, талантливый педагог, ученый, мыслитель, организатор народного просвещения. Вся его жизнь и деятельность была посвящена благородному делу просвещения родного народа, способствовала формированию национальной интеллигенции, развитию культуры и росту национального самосознания чуваш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4427640" y="1844640"/>
            <a:ext cx="4392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раснов Н.Г. Иван Яковлев и его потомки.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Чебоксары, 1998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 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ураков Л.П. Прометей из чуваш. 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Чебоксары, 199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Яковлев А.И. И.Я. Яковле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1848-1930 гг. 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Под редакцие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офессора Ф.Н. Петрова. 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Чебоксары, 1958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1051200" y="3333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литература об И.Я.Яковлев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9" descr="024"/>
          <p:cNvPicPr/>
          <p:nvPr/>
        </p:nvPicPr>
        <p:blipFill>
          <a:blip r:embed="rId4"/>
          <a:stretch/>
        </p:blipFill>
        <p:spPr>
          <a:xfrm>
            <a:off x="611280" y="1341360"/>
            <a:ext cx="327816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" dur="1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1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6"/>
          <p:cNvSpPr txBox="1"/>
          <p:nvPr/>
        </p:nvSpPr>
        <p:spPr>
          <a:xfrm>
            <a:off x="2556000" y="2997360"/>
            <a:ext cx="3821040" cy="14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нец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3995640" y="2781360"/>
            <a:ext cx="453708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дающийся деятель культуры и просвещения чувашского народа, педагог, писатель, создатель современной чувашской письменности, переводчик, создатель дидактики двуязычной начальной школы в России, Почетный член Британского и Иностранного библейского общества в Лондоне (1913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го слова: Любой стране, люб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ции нет славы большей, ка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вать нечто для все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606600" y="358920"/>
            <a:ext cx="780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ван Яковлевич Яковлев (1848-1930)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3924360" y="1125000"/>
            <a:ext cx="4753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ился - 13.4.1848, д. Кошки-Новотимбаево Буинского уезда Симбирской губернии (ныне Тетюшского района Республики Татарстан), умер -  23.10.1930, Моск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10" descr="005"/>
          <p:cNvPicPr/>
          <p:nvPr/>
        </p:nvPicPr>
        <p:blipFill>
          <a:blip r:embed="rId1"/>
          <a:stretch/>
        </p:blipFill>
        <p:spPr>
          <a:xfrm>
            <a:off x="250920" y="1341360"/>
            <a:ext cx="349704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имбирская центральная чувашская школа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40384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увашская учительская школа — основана в Симбирске в 1868 чувашским педагогом и просветителем Иваном Яковлевичем Яковлевым (1848—1930). Первоначально была открыта как частная школа гимназиста (Иван Яковлев в это время обучался в 6 классе Симбирской классической гимназии). При содействии инспектора народных училищ Симбирской губернии Ильи Николаевича Ульянова в 1871 школа была признана Министерством народного просвещения, по его же рекомендации в школу был назначен первый учитель В.А. Калашников (1855—1935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8" descr="Simbirskaya_chuvashskaya_shkola"/>
          <p:cNvPicPr/>
          <p:nvPr/>
        </p:nvPicPr>
        <p:blipFill>
          <a:blip r:embed="rId1"/>
          <a:stretch/>
        </p:blipFill>
        <p:spPr>
          <a:xfrm>
            <a:off x="4427640" y="2060640"/>
            <a:ext cx="415764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имбирская центральная чувашская школа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 1877 школа именовалась Симбирской центральной чувашской школой. В школу принимались «крещёные и некрещёные чуваши, а также русские и крещёные татары без ограничения возраста, обычно 11 и не старше 18 лет». Обучение в школе вначале велось на чувашском или с помощью его, а по мере усвоения русского языка преподавание всех предметов происходило уже на нём. В школе преподавались предметы: «Закон Божий, русский и церковно-славянский языки, арифметика с методическими указаниями .В школе существовали 4 хора: мужской, женский и два смешанных, три оркестра — духовой, струнный и симфонический. учительской семинарии. До 1917 первая чувашская народная школа выпустила более тысячи выпускников. В 1919 семинария была закрыта в связи с организацией в Симбирске института народного просвещения на базе чувашского комплекс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3924360" y="687960"/>
            <a:ext cx="4968720" cy="39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Мы отдаем дань уважения просветительской деятельности выдающегося ученого-педагога Ивана Яковлевича Яковлева. Его благородное стремление удивительно сочеталось с потребностями общества, родного народа. Всю свою жизнь Иван Яковлев посвятил чувашскому языку, ставшему средством просвещения чувашского населения. Он содействовал открытию национальных школ, которые призваны были привить самобытную культуру и родной язык чувашским детям. Подлинным сокровищем нашего народа являются первые буквари, составленные на основе современного чувашского алфавита Ивана Яковлева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7" descr="kniga2"/>
          <p:cNvPicPr/>
          <p:nvPr/>
        </p:nvPicPr>
        <p:blipFill>
          <a:blip r:embed="rId1"/>
          <a:stretch/>
        </p:blipFill>
        <p:spPr>
          <a:xfrm>
            <a:off x="324000" y="1125360"/>
            <a:ext cx="3295440" cy="495324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8"/>
          <p:cNvSpPr/>
          <p:nvPr/>
        </p:nvSpPr>
        <p:spPr>
          <a:xfrm>
            <a:off x="3851280" y="4581360"/>
            <a:ext cx="496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1872 по 1919 годы с помощью своих учеников Иван Яковлевич выпустил 33 издания чувашского букваря в различных вариантах, большинство из которых ныне хранятся в дореволюционном фонде Государственного архива печати Чувашской Республи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002"/>
          <p:cNvPicPr/>
          <p:nvPr/>
        </p:nvPicPr>
        <p:blipFill>
          <a:blip r:embed="rId1"/>
          <a:stretch/>
        </p:blipFill>
        <p:spPr>
          <a:xfrm>
            <a:off x="395280" y="333360"/>
            <a:ext cx="3809880" cy="49053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7"/>
          <p:cNvSpPr/>
          <p:nvPr/>
        </p:nvSpPr>
        <p:spPr>
          <a:xfrm>
            <a:off x="468360" y="5589360"/>
            <a:ext cx="37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.Я.Яковлев - студент 1 курса Казанского университета. Казань, 1870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9" descr="006"/>
          <p:cNvPicPr/>
          <p:nvPr/>
        </p:nvPicPr>
        <p:blipFill>
          <a:blip r:embed="rId2"/>
          <a:stretch/>
        </p:blipFill>
        <p:spPr>
          <a:xfrm>
            <a:off x="4932360" y="333360"/>
            <a:ext cx="3524400" cy="53244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0"/>
          <p:cNvSpPr/>
          <p:nvPr/>
        </p:nvSpPr>
        <p:spPr>
          <a:xfrm>
            <a:off x="5004000" y="6020640"/>
            <a:ext cx="347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.Я.Яковлев. Симбирск, 1911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8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2" descr="021"/>
          <p:cNvPicPr/>
          <p:nvPr/>
        </p:nvPicPr>
        <p:blipFill>
          <a:blip r:embed="rId2"/>
          <a:stretch/>
        </p:blipFill>
        <p:spPr>
          <a:xfrm>
            <a:off x="0" y="189000"/>
            <a:ext cx="4753080" cy="29750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3"/>
          <p:cNvSpPr/>
          <p:nvPr/>
        </p:nvSpPr>
        <p:spPr>
          <a:xfrm>
            <a:off x="324000" y="340020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.Я Яковлев и Е.А. Яковлева с внучкой Катей в столовой своего дома. Симбирск, 1910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17" descr="semya3"/>
          <p:cNvPicPr/>
          <p:nvPr/>
        </p:nvPicPr>
        <p:blipFill>
          <a:blip r:embed="rId3"/>
          <a:stretch/>
        </p:blipFill>
        <p:spPr>
          <a:xfrm>
            <a:off x="3933720" y="1700280"/>
            <a:ext cx="5210280" cy="34671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8"/>
          <p:cNvSpPr/>
          <p:nvPr/>
        </p:nvSpPr>
        <p:spPr>
          <a:xfrm>
            <a:off x="3492360" y="5300640"/>
            <a:ext cx="565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.Я.Яковлев в кругу своей семьи. Сидят (слева направо): дочь Лида, И.Я.Яковлев, жена - Е.А.Яковлева, преподавательница иностранного языка Юзефа М. и Т.С.Савельева. Симбирск, 1907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8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6" descr="shkola3"/>
          <p:cNvPicPr/>
          <p:nvPr/>
        </p:nvPicPr>
        <p:blipFill>
          <a:blip r:embed="rId1"/>
          <a:stretch/>
        </p:blipFill>
        <p:spPr>
          <a:xfrm>
            <a:off x="179280" y="189000"/>
            <a:ext cx="5181840" cy="33811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7"/>
          <p:cNvSpPr/>
          <p:nvPr/>
        </p:nvSpPr>
        <p:spPr>
          <a:xfrm>
            <a:off x="250920" y="3714480"/>
            <a:ext cx="3348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чащиеся женских педагогических курсов Симбирской чувашской школы. Справа стоит наставниц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- Н.Я.Яковлева. Симбирск, 1909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9" descr="shkola4"/>
          <p:cNvPicPr/>
          <p:nvPr/>
        </p:nvPicPr>
        <p:blipFill>
          <a:blip r:embed="rId2"/>
          <a:stretch/>
        </p:blipFill>
        <p:spPr>
          <a:xfrm>
            <a:off x="3851280" y="2924280"/>
            <a:ext cx="5143320" cy="32479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0"/>
          <p:cNvSpPr/>
          <p:nvPr/>
        </p:nvSpPr>
        <p:spPr>
          <a:xfrm>
            <a:off x="3851280" y="6164640"/>
            <a:ext cx="529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чащиеся учительского класса Симбирской чувашской учительской школы. Симбирск, 1896г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8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8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8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132000" y="1125360"/>
            <a:ext cx="586764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рде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. Орден св. Станислава 3 степени. Награжден 26 декабря 1878 г. – «за отлично-усердную службу»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Орден св. Станислава 2 степени. Награжден 27 декабря 1887 г. – «за отлично-усердную службу»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. Орден св. Анны 3 степени. Награжден 15 мая 1889 г. – «за отличие на службе»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4. Орден св. Анны 2 степени. Награжден 26 декабря 1892 г. – «за отлично-усердную службу»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5. Орден св. Равноапостольского князя Владимира 4 степени. Награжден 9 марта 1900 г. – «за отлично-усердную службу». 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1476360" y="4221000"/>
            <a:ext cx="5472000" cy="23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да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Серебряная медаль в память в Бозе почивающего императора Александра III на Александровской ленте. Награжден 25 апреля 1896 г. на основании именного высочайшего указа от 26 февраля 1896 г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Темно-бронзовая медаль на ленте из государственных цветов. Награжден 30 января 1897 г. – «За труды по I всеобщей переписи населения 1897 г.»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. Медаль в память 300-летия царствования Дома Романовых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4. Медаль в память Отечественной войны 1812 г.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9" descr="nagrady2"/>
          <p:cNvPicPr/>
          <p:nvPr/>
        </p:nvPicPr>
        <p:blipFill>
          <a:blip r:embed="rId1"/>
          <a:stretch/>
        </p:blipFill>
        <p:spPr>
          <a:xfrm>
            <a:off x="324000" y="836640"/>
            <a:ext cx="2663640" cy="28796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0"/>
          <p:cNvSpPr/>
          <p:nvPr/>
        </p:nvSpPr>
        <p:spPr>
          <a:xfrm>
            <a:off x="4859280" y="260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гра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19:11:14Z</dcterms:created>
  <dc:creator>_</dc:creator>
  <dc:description/>
  <dc:language>en-US</dc:language>
  <cp:lastModifiedBy>user</cp:lastModifiedBy>
  <dcterms:modified xsi:type="dcterms:W3CDTF">2011-12-10T13:48:58Z</dcterms:modified>
  <cp:revision>38</cp:revision>
  <dc:subject/>
  <dc:title>Слайд 1</dc:title>
</cp:coreProperties>
</file>