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1699-D0C1-4B57-A6C9-C99D5551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AF48-781B-4A69-ACB0-509BF7F0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9470-893C-43B3-8CEB-4D6D7956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0224-C07A-4C30-A308-60F3FEFE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4447-09A5-4B09-B41A-D2F39FFE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D4E4-805A-4724-9DEE-E2BF7043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4913-D35E-40AB-9941-28CE86E0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886A-8966-4211-8F96-8739F756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006C-C47F-4AAE-9865-A8F6BA05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443D-7124-4057-9099-F7D496A0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3170-3C5C-44AF-95FD-E0C62556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499C-57CB-4FDB-85BE-8970BC2B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BF81-4251-47A4-AFF1-FD5E39DC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DF58-1886-4712-92C8-5240126C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F139-889B-40BE-88BB-B3227E80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A790-9A44-4B81-8F50-7DAD238A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8EBB-4AD0-4913-B877-F1B3FA72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F901-A501-426D-B9D8-9E57E024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AA4C-6156-4BB3-B685-CDEB6BE2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49DD-858A-4D4E-B1E0-F79BD2AC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769E-B5BA-4DCE-A9EE-52F074EA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B376-0CBB-4AF1-BCDE-90EA425B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C80D-2CDA-4688-AB23-80312AC1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182F-EE7B-4EE9-A447-0E80A96F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6e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6e6e9e"/>
                </a:gs>
                <a:gs pos="50000">
                  <a:srgbClr val="ffffff"/>
                </a:gs>
                <a:gs pos="100000">
                  <a:srgbClr val="6e6e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e6e9e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6e6e9e"/>
                </a:gs>
                <a:gs pos="50000">
                  <a:srgbClr val="ffffff"/>
                </a:gs>
                <a:gs pos="100000">
                  <a:srgbClr val="6e6e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6e6e9e"/>
                </a:gs>
                <a:gs pos="50000">
                  <a:srgbClr val="ffffff"/>
                </a:gs>
                <a:gs pos="100000">
                  <a:srgbClr val="6e6e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e6e9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e6e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e6e9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CDD9-C0DE-4650-BB69-F3237103535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6e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6e6e9e"/>
                </a:gs>
                <a:gs pos="50000">
                  <a:srgbClr val="ffffff"/>
                </a:gs>
                <a:gs pos="100000">
                  <a:srgbClr val="6e6e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e6e9e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6e6e9e"/>
                </a:gs>
                <a:gs pos="50000">
                  <a:srgbClr val="ffffff"/>
                </a:gs>
                <a:gs pos="100000">
                  <a:srgbClr val="6e6e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6e6e9e"/>
                </a:gs>
                <a:gs pos="50000">
                  <a:srgbClr val="ffffff"/>
                </a:gs>
                <a:gs pos="100000">
                  <a:srgbClr val="6e6e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e6e9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e6e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e6e9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50BE-24CE-4316-8D1A-F40065CBECC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1116000" y="549360"/>
            <a:ext cx="7416720" cy="24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ыдающийся деятель Чуваш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ван Яковлевич Яковле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796000" y="4941720"/>
            <a:ext cx="3168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втор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мёнов Никола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амять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увашский народ глубоко чтит память Ивана Яковлевича Яковлева. Его имя присвоено Чувашскому государственному педагогическому институту, Аликовской и Бичуринской средним школам. В Чебоксарах поставлен памятник И.Я.Яковлеву, один из проспектов назван его имен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013"/>
          <p:cNvPicPr/>
          <p:nvPr/>
        </p:nvPicPr>
        <p:blipFill>
          <a:blip r:embed="rId1"/>
          <a:stretch/>
        </p:blipFill>
        <p:spPr>
          <a:xfrm>
            <a:off x="1258920" y="404640"/>
            <a:ext cx="6481800" cy="4792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95280" y="55890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д проспекта Ивана Яковлева в Чебоксар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амятник И.Я.Яковлев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42181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тор: скульптор Д.И. Народицкий, архитектор Г.Е. Саевич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ата открытия:В 1970 25 июня году состоялось открытие памятника великому просветителю чувашского народа, создателю новой чувашской письменности И.Я. Яковлеву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ронзовая литая статуя сидящего человека (весом более 3 т) первоначально была установлена на гранитной плите почти вровень с землёй. Затем скульптуру подняли более чем на 1 метр на двухступенчатый стилобат, облицованный квадратами полированного чёрного гранита. В 1970 году состоялось открытие памятника великому просветителю чувашского народа, создателю новой чувашской письменности И.Я. Яковлеву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8" descr="IMG_3424"/>
          <p:cNvPicPr/>
          <p:nvPr/>
        </p:nvPicPr>
        <p:blipFill>
          <a:blip r:embed="rId1"/>
          <a:stretch/>
        </p:blipFill>
        <p:spPr>
          <a:xfrm>
            <a:off x="4284720" y="1484280"/>
            <a:ext cx="4622760" cy="36291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9"/>
          <p:cNvSpPr/>
          <p:nvPr/>
        </p:nvSpPr>
        <p:spPr>
          <a:xfrm>
            <a:off x="4356000" y="5229360"/>
            <a:ext cx="478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сторасположение: сквер перед зданием Национальной библиотеки Чувашской Республики по пр. Лени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тор: скульптор Д.И. Народицкий, архитектор Г.Е. Саеви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1" descr="pamyatnik1"/>
          <p:cNvPicPr/>
          <p:nvPr/>
        </p:nvPicPr>
        <p:blipFill>
          <a:blip r:embed="rId1"/>
          <a:stretch/>
        </p:blipFill>
        <p:spPr>
          <a:xfrm>
            <a:off x="324000" y="404640"/>
            <a:ext cx="5256000" cy="37292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2"/>
          <p:cNvSpPr/>
          <p:nvPr/>
        </p:nvSpPr>
        <p:spPr>
          <a:xfrm>
            <a:off x="468360" y="4797360"/>
            <a:ext cx="835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жегодно 25 апреля, в День рождения просветителя, общественность Чувашской Республики проводит на сквере с памятником И.Я. Яковлеву праздничный митинг с возложением  живых цве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3" descr="015"/>
          <p:cNvPicPr/>
          <p:nvPr/>
        </p:nvPicPr>
        <p:blipFill>
          <a:blip r:embed="rId2"/>
          <a:stretch/>
        </p:blipFill>
        <p:spPr>
          <a:xfrm>
            <a:off x="5940360" y="1341360"/>
            <a:ext cx="280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001"/>
          <p:cNvPicPr/>
          <p:nvPr/>
        </p:nvPicPr>
        <p:blipFill>
          <a:blip r:embed="rId1"/>
          <a:stretch/>
        </p:blipFill>
        <p:spPr>
          <a:xfrm>
            <a:off x="1258920" y="620640"/>
            <a:ext cx="6697800" cy="40244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2226600" y="5358600"/>
            <a:ext cx="4665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зей И.Я.Яковлева на его роди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5" descr="018"/>
          <p:cNvPicPr/>
          <p:nvPr/>
        </p:nvPicPr>
        <p:blipFill>
          <a:blip r:embed="rId1"/>
          <a:stretch/>
        </p:blipFill>
        <p:spPr>
          <a:xfrm>
            <a:off x="1476360" y="404640"/>
            <a:ext cx="6191280" cy="43516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6"/>
          <p:cNvSpPr/>
          <p:nvPr/>
        </p:nvSpPr>
        <p:spPr>
          <a:xfrm>
            <a:off x="1042920" y="508464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лагородной традицией Чувашского университета стало регулярное посещение могил И.Я. Яковлева и его родственников. Москва, Ваганьковское кладбищ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ентябрь, 199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ы помним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ван Яковлевич Яковлев (1848-1930) - один из выдающихся деятелей культуры и просвещения дореволюционной России, талантливый педагог, ученый, мыслитель, организатор народного просвещения. Вся его жизнь и деятельность была посвящена благородному делу просвещения родного народа, способствовала формированию национальной интеллигенции, развитию культуры и росту национального самосознания чуваш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427640" y="1844640"/>
            <a:ext cx="4392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раснов Н.Г. Иван Яковлев и его потомки.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Чебоксары, 199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 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ураков Л.П. Прометей из чуваш. 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Чебоксары, 19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Яковлев А.И. И.Я. Яковле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848-1930 гг.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Под редакци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фессора Ф.Н. Петрова. 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Чебоксары, 195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1051200" y="3333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литература об И.Я.Яковле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9" descr="024"/>
          <p:cNvPicPr/>
          <p:nvPr/>
        </p:nvPicPr>
        <p:blipFill>
          <a:blip r:embed="rId4"/>
          <a:stretch/>
        </p:blipFill>
        <p:spPr>
          <a:xfrm>
            <a:off x="611280" y="1341360"/>
            <a:ext cx="32781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6"/>
          <p:cNvSpPr txBox="1"/>
          <p:nvPr/>
        </p:nvSpPr>
        <p:spPr>
          <a:xfrm>
            <a:off x="2556000" y="2997360"/>
            <a:ext cx="382104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нец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3995640" y="2781360"/>
            <a:ext cx="453708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дающийся деятель культуры и просвещения чувашского народа, педагог, писатель, создатель современной чувашской письменности, переводчик, создатель дидактики двуязычной начальной школы в России, Почетный член Британского и Иностранного библейского общества в Лондоне (1913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 слова: Любой стране, люб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ции нет славы большей, к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вать нечто для вс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606600" y="358920"/>
            <a:ext cx="780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ван Яковлевич Яковлев (1848-1930)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3924360" y="1125000"/>
            <a:ext cx="4753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ился - 13.4.1848, д. Кошки-Новотимбаево Буинского уезда Симбирской губернии (ныне Тетюшского района Республики Татарстан), умер -  23.10.1930, Моск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0" descr="005"/>
          <p:cNvPicPr/>
          <p:nvPr/>
        </p:nvPicPr>
        <p:blipFill>
          <a:blip r:embed="rId1"/>
          <a:stretch/>
        </p:blipFill>
        <p:spPr>
          <a:xfrm>
            <a:off x="250920" y="1341360"/>
            <a:ext cx="349704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имбирская центральная чувашская школ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увашская учительская школа — основана в Симбирске в 1868 чувашским педагогом и просветителем Иваном Яковлевичем Яковлевым (1848—1930). Первоначально была открыта как частная школа гимназиста (Иван Яковлев в это время обучался в 6 классе Симбирской классической гимназии). При содействии инспектора народных училищ Симбирской губернии Ильи Николаевича Ульянова в 1871 школа была признана Министерством народного просвещения, по его же рекомендации в школу был назначен первый учитель В.А. Калашников (1855—1935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8" descr="Simbirskaya_chuvashskaya_shkola"/>
          <p:cNvPicPr/>
          <p:nvPr/>
        </p:nvPicPr>
        <p:blipFill>
          <a:blip r:embed="rId1"/>
          <a:stretch/>
        </p:blipFill>
        <p:spPr>
          <a:xfrm>
            <a:off x="4427640" y="2060640"/>
            <a:ext cx="415764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имбирская центральная чувашская школ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1877 школа именовалась Симбирской центральной чувашской школой. В школу принимались «крещёные и некрещёные чуваши, а также русские и крещёные татары без ограничения возраста, обычно 11 и не старше 18 лет». Обучение в школе вначале велось на чувашском или с помощью его, а по мере усвоения русского языка преподавание всех предметов происходило уже на нём. В школе преподавались предметы: «Закон Божий, русский и церковно-славянский языки, арифметика с методическими указаниями .В школе существовали 4 хора: мужской, женский и два смешанных, три оркестра — духовой, струнный и симфонический. учительской семинарии. До 1917 первая чувашская народная школа выпустила более тысячи выпускников. В 1919 семинария была закрыта в связи с организацией в Симбирске института народного просвещения на базе чувашского комплекс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3924360" y="687960"/>
            <a:ext cx="496872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Мы отдаем дань уважения просветительской деятельности выдающегося ученого-педагога Ивана Яковлевича Яковлева. Его благородное стремление удивительно сочеталось с потребностями общества, родного народа. Всю свою жизнь Иван Яковлев посвятил чувашскому языку, ставшему средством просвещения чувашского населения. Он содействовал открытию национальных школ, которые призваны были привить самобытную культуру и родной язык чувашским детям. Подлинным сокровищем нашего народа являются первые буквари, составленные на основе современного чувашского алфавита Ивана Яковлева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7" descr="kniga2"/>
          <p:cNvPicPr/>
          <p:nvPr/>
        </p:nvPicPr>
        <p:blipFill>
          <a:blip r:embed="rId1"/>
          <a:stretch/>
        </p:blipFill>
        <p:spPr>
          <a:xfrm>
            <a:off x="324000" y="1125360"/>
            <a:ext cx="3295440" cy="49532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3851280" y="4581360"/>
            <a:ext cx="496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1872 по 1919 годы с помощью своих учеников Иван Яковлевич выпустил 33 издания чувашского букваря в различных вариантах, большинство из которых ныне хранятся в дореволюционном фонде Государственного архива печати Чувашской Республ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002"/>
          <p:cNvPicPr/>
          <p:nvPr/>
        </p:nvPicPr>
        <p:blipFill>
          <a:blip r:embed="rId1"/>
          <a:stretch/>
        </p:blipFill>
        <p:spPr>
          <a:xfrm>
            <a:off x="395280" y="333360"/>
            <a:ext cx="3809880" cy="4905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468360" y="558936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.Я.Яковлев - студент 1 курса Казанского университета. Казань, 1870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9" descr="006"/>
          <p:cNvPicPr/>
          <p:nvPr/>
        </p:nvPicPr>
        <p:blipFill>
          <a:blip r:embed="rId2"/>
          <a:stretch/>
        </p:blipFill>
        <p:spPr>
          <a:xfrm>
            <a:off x="4932360" y="333360"/>
            <a:ext cx="3524400" cy="53244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0"/>
          <p:cNvSpPr/>
          <p:nvPr/>
        </p:nvSpPr>
        <p:spPr>
          <a:xfrm>
            <a:off x="5004000" y="6020640"/>
            <a:ext cx="34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.Я.Яковлев. Симбирск, 191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2" descr="021"/>
          <p:cNvPicPr/>
          <p:nvPr/>
        </p:nvPicPr>
        <p:blipFill>
          <a:blip r:embed="rId2"/>
          <a:stretch/>
        </p:blipFill>
        <p:spPr>
          <a:xfrm>
            <a:off x="0" y="189000"/>
            <a:ext cx="4753080" cy="29750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3"/>
          <p:cNvSpPr/>
          <p:nvPr/>
        </p:nvSpPr>
        <p:spPr>
          <a:xfrm>
            <a:off x="324000" y="340020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.Я Яковлев и Е.А. Яковлева с внучкой Катей в столовой своего дома. Симбирск, 1910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7" descr="semya3"/>
          <p:cNvPicPr/>
          <p:nvPr/>
        </p:nvPicPr>
        <p:blipFill>
          <a:blip r:embed="rId3"/>
          <a:stretch/>
        </p:blipFill>
        <p:spPr>
          <a:xfrm>
            <a:off x="3933720" y="1700280"/>
            <a:ext cx="5210280" cy="34671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8"/>
          <p:cNvSpPr/>
          <p:nvPr/>
        </p:nvSpPr>
        <p:spPr>
          <a:xfrm>
            <a:off x="3492360" y="5300640"/>
            <a:ext cx="56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.Я.Яковлев в кругу своей семьи. Сидят (слева направо): дочь Лида, И.Я.Яковлев, жена - Е.А.Яковлева, преподавательница иностранного языка Юзефа М. и Т.С.Савельева. Симбирск, 1907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shkola3"/>
          <p:cNvPicPr/>
          <p:nvPr/>
        </p:nvPicPr>
        <p:blipFill>
          <a:blip r:embed="rId1"/>
          <a:stretch/>
        </p:blipFill>
        <p:spPr>
          <a:xfrm>
            <a:off x="179280" y="189000"/>
            <a:ext cx="5181840" cy="33811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250920" y="3714480"/>
            <a:ext cx="3348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ащиеся женских педагогических курсов Симбирской чувашской школы. Справа стоит наставниц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- Н.Я.Яковлева. Симбирск, 1909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9" descr="shkola4"/>
          <p:cNvPicPr/>
          <p:nvPr/>
        </p:nvPicPr>
        <p:blipFill>
          <a:blip r:embed="rId2"/>
          <a:stretch/>
        </p:blipFill>
        <p:spPr>
          <a:xfrm>
            <a:off x="3851280" y="2924280"/>
            <a:ext cx="5143320" cy="32479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0"/>
          <p:cNvSpPr/>
          <p:nvPr/>
        </p:nvSpPr>
        <p:spPr>
          <a:xfrm>
            <a:off x="3851280" y="6164640"/>
            <a:ext cx="529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ащиеся учительского класса Симбирской чувашской учительской школы. Симбирск, 1896г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8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132000" y="1125360"/>
            <a:ext cx="586764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рде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Орден св. Станислава 3 степени. Награжден 26 декабря 1878 г. – «за отлично-усердную службу»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Орден св. Станислава 2 степени. Награжден 27 декабря 1887 г. – «за отлично-усердную службу»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Орден св. Анны 3 степени. Награжден 15 мая 1889 г. – «за отличие на службе»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Орден св. Анны 2 степени. Награжден 26 декабря 1892 г. – «за отлично-усердную службу»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. Орден св. Равноапостольского князя Владимира 4 степени. Награжден 9 марта 1900 г. – «за отлично-усердную службу». 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1476360" y="4221000"/>
            <a:ext cx="5472000" cy="23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да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Серебряная медаль в память в Бозе почивающего императора Александра III на Александровской ленте. Награжден 25 апреля 1896 г. на основании именного высочайшего указа от 26 февраля 1896 г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Темно-бронзовая медаль на ленте из государственных цветов. Награжден 30 января 1897 г. – «За труды по I всеобщей переписи населения 1897 г.»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Медаль в память 300-летия царствования Дома Романовых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Медаль в память Отечественной войны 1812 г.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9" descr="nagrady2"/>
          <p:cNvPicPr/>
          <p:nvPr/>
        </p:nvPicPr>
        <p:blipFill>
          <a:blip r:embed="rId1"/>
          <a:stretch/>
        </p:blipFill>
        <p:spPr>
          <a:xfrm>
            <a:off x="324000" y="836640"/>
            <a:ext cx="2663640" cy="2879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"/>
          <p:cNvSpPr/>
          <p:nvPr/>
        </p:nvSpPr>
        <p:spPr>
          <a:xfrm>
            <a:off x="4859280" y="260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гра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9:11:14Z</dcterms:created>
  <dc:creator>_</dc:creator>
  <dc:description/>
  <dc:language>en-US</dc:language>
  <cp:lastModifiedBy>user</cp:lastModifiedBy>
  <dcterms:modified xsi:type="dcterms:W3CDTF">2011-12-10T13:48:58Z</dcterms:modified>
  <cp:revision>38</cp:revision>
  <dc:subject/>
  <dc:title>Слайд 1</dc:title>
</cp:coreProperties>
</file>