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png" ContentType="image/pn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D4A31-2CC6-487A-9AFA-35F49FF0F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74514-C946-40C5-94BE-B38A3C30C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8DAD43-D230-4004-BC3C-F3A752F0FF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A2AE8C-B385-451E-BF8B-B47559C5E0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AB8B69-2E53-4ABD-8AB9-FC633C0CA4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494EDA-4A55-46B0-A9E5-E580621AE5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B71DB-2D56-43DF-A658-C19105051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7521E-6D59-4BF6-99A3-0C7E5A166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C9E6D-1E76-40C9-94F2-7EE9419289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3A775C-1FCD-4F98-9FE8-43CBC07E5A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A67B93-1F9A-45DA-B0F7-82649C2026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A98DB-F89C-45AB-9469-4FBC00CE0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EAB82-72B3-411E-AC81-40CCA84D3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064E2-7725-499B-8573-18C3B06F3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1E76A-48BF-4ACC-BDED-E560FC13C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2D1EE-63D2-4E9E-9668-F7028AE3F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7A67E-CBD6-46AD-B77D-24E40506C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7B21C-A105-4F03-8199-262D39E5B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B31AF-29F6-4457-9412-C822B20FF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5E47C-5564-4898-B922-8F84726AF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5B43F-08F6-445E-9703-1C3B6E8D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BAA7B-77FC-4B8B-9774-DA4F53F31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2B6EF-D1E8-46EE-86ED-AB06346BB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8431C-BD1F-4ADB-86B9-D5B3C0986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DB14E-D7DD-4BF7-935F-911BF00C9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BBB67-37F6-4999-9D18-22972C303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C07826-B589-4100-89A1-C37150CCCF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9DD20-580D-46B1-B6B0-D7EE3836B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36E0F-C071-4145-B20F-D4DFACD7E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3F4BC7-87A9-4A10-8D3B-32F8B1B56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933B0-35A2-40E0-BCD3-76E194CBC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A7FDF-6E8F-482B-A03B-2A3FFE9D1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D11F3-EF8B-4E1D-85B5-4ADCE9246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6BEE1-6CF2-4566-AEA2-4729F8745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7B653-D5DA-4A4D-9BC3-E7C1C7BE6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1E0ED-A4EA-4BE8-AF86-710871700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6B8D0-A791-455E-9F01-32CE5D3FE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2F5E26-C29F-4480-9B86-41BBFFE2BE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7F4D5E-C9E5-4C4E-98C1-8DFCE0C6E9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20DD66-BB0A-4F47-B7B3-DBB1DC471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4824C-CE57-42CF-A203-6F404A910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AD1C1-A956-4CA3-991C-63AA450A5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E452A-7DFB-400D-BF3F-69072561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D5628-7EC1-4D95-AE88-0F87BE666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0A1EE-4A72-42A8-A22D-224B6B996A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8492D6-C960-425B-B29D-A963B2512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04C22-B191-4923-B311-87A53C029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4431C-1C30-41C0-82C0-C8A1E4709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E3075-6944-4DC8-93DE-89A84E1C6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042B09-02A8-4189-A288-057E120E5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03F838-6AAF-4F40-A25C-1BA9E05738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BECA58-61EB-4C03-AA76-709DEB479B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F3ABD2-FA60-4D72-A316-705AF1F6DE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CA1B9-B965-4719-973E-52C0DB8B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3AF006-249E-498C-9300-E9ECB6F82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EB7A5-B6BB-44AB-9190-0E95BF747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9AC73-B2F8-45E3-BFA5-6B652B68D0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65CCF-2D3A-4DE9-896C-E879DE5F2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DD58B-9B54-4F4B-9068-697F0BAC3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16A34-3725-4404-BCDC-2B864D4DC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3FE0A-120F-4C41-8966-92B6055E8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40183-CDE9-4766-8DC6-38B7DFC47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6E8DDE-D609-41B2-A851-73FE92E26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CD2C79-7EA4-455B-8078-6C296AFC1D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930E7-73B2-480E-B312-EE30C58F3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C251CA-E328-4CA3-8421-4C1AF16A4F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D19FD5-406D-489C-84E1-A31E6EC09A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E19A87-158B-428D-92CD-9BEFA7180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6081F-354D-49B0-B8D6-D3D7B46C7D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ED7E3C-8B0F-4FD1-A2EE-0D9799FFE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F7C2B-160A-433B-B315-C8E43DECB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944EC-9991-49EC-B197-D8C8B592A1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1E571-5E9B-45C4-9F47-DA64AAA67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7A584-B146-42DE-A14C-278BB6FB9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4D4B3-3164-495B-B063-B0F5A64B4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FBC82-B3E7-483D-8EBA-352966DF1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BF293-410C-4D87-A4D1-15B3B5A87A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4A1DD5-B3ED-4194-AAD0-C1A69EFD4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3A67E4-A01A-499F-A78F-59FACDD0C8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4F2E24-C07D-4BD5-92E2-2505CD7F97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1C5235-A7B7-47EA-90A6-BC191BF306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363D3F-BBA3-4181-AC08-ED46D3BBB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A57C46-5B9A-4A05-B4B8-C343C8473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8B21E-8934-485C-B3B5-4D0BB4E10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3DD77A-4A39-471A-857F-56191EAA2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11FF1-C5FE-4B7E-BFA0-F327D6235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2FB97-C893-4D98-9AF4-FD09E5AAA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C6BDBC-3654-4C0D-8038-0E3E88F62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F5BDB-7182-45E6-BFDB-F52E9BE32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9E1CC-AD18-490B-9447-F779E9BFE6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3DED5E-FF39-4E8E-BAE1-CCEE06117B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6CD486-8EE5-4DCD-AB36-B1C02B66CC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C01DB1-C730-498A-AEDB-4A45DB8421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81D0C5-26CB-4E88-BED8-1DCFE8426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F1B71-24D8-461D-B13F-216E47ED66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01D58-8E6C-4A13-995C-D040BAD396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6939E4-DD41-4223-A21A-0474878FF0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C0CB-FC92-4579-8293-A93840B1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02C9A-9C1C-43FD-8BA3-454571CCE0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9C2EF-DAF1-472F-A6BE-EB3982FFDD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D55C8-5FB1-4C05-BB28-856C01933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8C51C-244D-449A-97F8-59479B506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E63D5A-39B3-49D6-9C93-02817E444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0912F4-0F0B-412F-8B22-1D52FD729F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593CF8-A63B-4FF0-BB83-AE07D4FD26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AA8171-30AF-4786-9671-3718142900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325569-E629-4528-885D-434603E1C9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Trebuchet MS"/>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863F2-241C-4479-9FB6-14E8514E4F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6891-9F9F-44F3-BE1E-E8D15C761BC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F8C9-A2DB-4AE4-A968-13C1B7419ED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E2DB-1C12-4F17-B704-6D7218391D6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Click to edit the outline text format</a:t>
            </a:r>
            <a:endParaRPr b="0" lang="en-US" sz="3200" spc="-1" strike="noStrike">
              <a:solidFill>
                <a:srgbClr val="fbeec9"/>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Second Outline Level</a:t>
            </a:r>
            <a:endParaRPr b="0" lang="en-US" sz="3200" spc="-1" strike="noStrike">
              <a:solidFill>
                <a:srgbClr val="fbeec9"/>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Third Outline Level</a:t>
            </a:r>
            <a:endParaRPr b="0" lang="en-US" sz="3200" spc="-1" strike="noStrike">
              <a:solidFill>
                <a:srgbClr val="fbeec9"/>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Fourth Outline Level</a:t>
            </a:r>
            <a:endParaRPr b="0" lang="en-US" sz="3200" spc="-1" strike="noStrike">
              <a:solidFill>
                <a:srgbClr val="fbeec9"/>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Fifth Outline Level</a:t>
            </a:r>
            <a:endParaRPr b="0" lang="en-US" sz="3200" spc="-1" strike="noStrike">
              <a:solidFill>
                <a:srgbClr val="fbeec9"/>
              </a:solidFill>
              <a:latin typeface="Trebuchet MS"/>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Sixth Outline Level</a:t>
            </a:r>
            <a:endParaRPr b="0" lang="en-US" sz="3200" spc="-1" strike="noStrike">
              <a:solidFill>
                <a:srgbClr val="fbeec9"/>
              </a:solidFill>
              <a:latin typeface="Trebuchet MS"/>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Trebuchet MS"/>
              </a:rPr>
              <a:t>Seventh Outline Level</a:t>
            </a:r>
            <a:endParaRPr b="0" lang="en-US" sz="3200" spc="-1" strike="noStrike">
              <a:solidFill>
                <a:srgbClr val="fbeec9"/>
              </a:solidFill>
              <a:latin typeface="Trebuchet MS"/>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Trebuchet MS"/>
              </a:rPr>
              <a:t>Click to edit the title text format</a:t>
            </a:r>
            <a:endParaRPr b="0" lang="en-US" sz="3600" spc="-1" strike="noStrike">
              <a:solidFill>
                <a:srgbClr val="fbeec9"/>
              </a:solidFill>
              <a:latin typeface="Trebuchet MS"/>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E514-12C9-4437-A7B4-B96B50113548}"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10E3-472A-437E-87DE-ECA104C707A3}"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DA6B-7213-410E-871D-9AEACD525E78}"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00E3-7397-4A42-AC7B-697B5B2DA337}"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6122-E256-491A-903A-67F40F378F00}"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Click to edit the outline text format</a:t>
            </a:r>
            <a:endParaRPr b="0" lang="en-US" sz="3200" spc="-1" strike="noStrike">
              <a:solidFill>
                <a:srgbClr val="4e3b30"/>
              </a:solidFill>
              <a:latin typeface="Trebuchet MS"/>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cond Outline Level</a:t>
            </a:r>
            <a:endParaRPr b="0" lang="en-US" sz="3200" spc="-1" strike="noStrike">
              <a:solidFill>
                <a:srgbClr val="4e3b30"/>
              </a:solidFill>
              <a:latin typeface="Trebuchet MS"/>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Third Outline Level</a:t>
            </a:r>
            <a:endParaRPr b="0" lang="en-US" sz="3200" spc="-1" strike="noStrike">
              <a:solidFill>
                <a:srgbClr val="4e3b30"/>
              </a:solidFill>
              <a:latin typeface="Trebuchet MS"/>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ourth Outline Level</a:t>
            </a:r>
            <a:endParaRPr b="0" lang="en-US" sz="3200" spc="-1" strike="noStrike">
              <a:solidFill>
                <a:srgbClr val="4e3b30"/>
              </a:solidFill>
              <a:latin typeface="Trebuchet MS"/>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Fifth Outline Level</a:t>
            </a:r>
            <a:endParaRPr b="0" lang="en-US" sz="3200" spc="-1" strike="noStrike">
              <a:solidFill>
                <a:srgbClr val="4e3b30"/>
              </a:solidFill>
              <a:latin typeface="Trebuchet MS"/>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ixth Outline Level</a:t>
            </a:r>
            <a:endParaRPr b="0" lang="en-US" sz="3200" spc="-1" strike="noStrike">
              <a:solidFill>
                <a:srgbClr val="4e3b30"/>
              </a:solidFill>
              <a:latin typeface="Trebuchet MS"/>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rebuchet MS"/>
              </a:rPr>
              <a:t>Seventh Outline Level</a:t>
            </a:r>
            <a:endParaRPr b="0" lang="en-US" sz="3200" spc="-1" strike="noStrike">
              <a:solidFill>
                <a:srgbClr val="4e3b30"/>
              </a:solidFill>
              <a:latin typeface="Trebuchet MS"/>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Trebuchet MS"/>
              </a:rPr>
              <a:t>Click to edit the title text format</a:t>
            </a:r>
            <a:endParaRPr b="0" lang="en-US" sz="3600" spc="-1" strike="noStrike">
              <a:solidFill>
                <a:srgbClr val="4e3b30"/>
              </a:solidFill>
              <a:latin typeface="Trebuchet MS"/>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A082-B310-4BF2-9709-15383C3A2450}"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3333cc"/>
                </a:solidFill>
                <a:latin typeface="Times New Roman"/>
                <a:ea typeface="Times New Roman"/>
              </a:rPr>
              <a:t>Физические качества -</a:t>
            </a:r>
            <a:endParaRPr b="0" lang="en-US" sz="5900" spc="-1" strike="noStrike">
              <a:solidFill>
                <a:srgbClr val="4e3b30"/>
              </a:solidFill>
              <a:latin typeface="Trebuchet MS"/>
            </a:endParaRPr>
          </a:p>
        </p:txBody>
      </p:sp>
      <p:sp>
        <p:nvSpPr>
          <p:cNvPr id="400" name=""/>
          <p:cNvSpPr txBox="1"/>
          <p:nvPr/>
        </p:nvSpPr>
        <p:spPr>
          <a:xfrm>
            <a:off x="0" y="1125360"/>
            <a:ext cx="9144000" cy="5732640"/>
          </a:xfrm>
          <a:prstGeom prst="rect">
            <a:avLst/>
          </a:prstGeom>
          <a:noFill/>
          <a:ln w="0">
            <a:noFill/>
          </a:ln>
        </p:spPr>
        <p:txBody>
          <a:bodyPr anchor="t">
            <a:norm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врожденные </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генетически унаследованные)</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морфофункциональные качества,</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благодаря которым возможна физическая</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материально выраженная) </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активность человека,</a:t>
            </a:r>
            <a:endParaRPr b="0" lang="en-US" sz="4800" spc="-1" strike="noStrike">
              <a:solidFill>
                <a:srgbClr val="4e3b30"/>
              </a:solidFill>
              <a:latin typeface="Trebuchet MS"/>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получающая свое полное проявление в целесообразной двигательной деятельности </a:t>
            </a:r>
            <a:r>
              <a:rPr b="1" lang="ru-RU" sz="2400" spc="-1" strike="noStrike">
                <a:solidFill>
                  <a:srgbClr val="4e3b30"/>
                </a:solidFill>
                <a:latin typeface="Trebuchet MS"/>
              </a:rPr>
              <a:t>. </a:t>
            </a:r>
            <a:endParaRPr b="0" lang="en-US" sz="2400" spc="-1" strike="noStrike">
              <a:solidFill>
                <a:srgbClr val="4e3b30"/>
              </a:solidFill>
              <a:latin typeface="Trebuchet MS"/>
            </a:endParaRPr>
          </a:p>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Прямоугольник 1"/>
          <p:cNvSpPr/>
          <p:nvPr/>
        </p:nvSpPr>
        <p:spPr>
          <a:xfrm>
            <a:off x="0" y="0"/>
            <a:ext cx="9144000" cy="600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Arial Black"/>
              </a:rPr>
              <a:t>Наиболее благоприятными периодами для развития скоростных способносте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Arial Black"/>
              </a:rPr>
              <a:t> </a:t>
            </a:r>
            <a:r>
              <a:rPr b="0" i="1" lang="ru-RU" sz="2000" spc="-1" strike="noStrike" u="sng">
                <a:solidFill>
                  <a:srgbClr val="c00000"/>
                </a:solidFill>
                <a:uFillTx/>
                <a:latin typeface="Arial Black"/>
              </a:rPr>
              <a:t>как у мальчиков, так и у девочек считается возраст от 7 до 11 лет.</a:t>
            </a:r>
            <a:r>
              <a:rPr b="0" lang="ru-RU" sz="2000" spc="-1" strike="noStrike">
                <a:solidFill>
                  <a:srgbClr val="c00000"/>
                </a:solidFill>
                <a:latin typeface="Arial Black"/>
              </a:rPr>
              <a:t> Несколько в меньшем темпе рост различных показателей быстроты продолжается с 11 до 14—15 лет. К этому возрасту фактически наступает стабилизация результатов в показателях быстроты простой реакции и максимальной частоты движений. Целенаправленные воздействия или занятия разными видами спорта оказывают положительное влияние на развитие скоростных способностей: специально тренирующиеся имеют преимущество на 5—20% и более, а рост результатов может продолжаться до 25 ле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Black"/>
              </a:rPr>
              <a:t>    </a:t>
            </a:r>
            <a:r>
              <a:rPr b="0" lang="ru-RU" sz="2000" spc="-1" strike="noStrike">
                <a:solidFill>
                  <a:srgbClr val="c00000"/>
                </a:solidFill>
                <a:latin typeface="Arial Black"/>
              </a:rPr>
              <a:t>Половые различия в уровне развития скоростных способностей невелики до 12—13-летнего возраста. Позже мальчики начинают опережать девочек, особенно в показателях быстроты целостных двигательных действий (бег, плавание и т.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Прямоугольник 1"/>
          <p:cNvSpPr/>
          <p:nvPr/>
        </p:nvSpPr>
        <p:spPr>
          <a:xfrm>
            <a:off x="0" y="0"/>
            <a:ext cx="9144000" cy="70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Black"/>
              </a:rPr>
              <a:t>Контрольные упражнения (тесты) для оценки скоростных способностей делятся на четыре группы: </a:t>
            </a:r>
            <a:r>
              <a:rPr b="0" lang="ru-RU" sz="1600" spc="-1" strike="noStrike">
                <a:solidFill>
                  <a:srgbClr val="c00000"/>
                </a:solidFill>
                <a:latin typeface="Arial"/>
                <a:ea typeface="Arial"/>
              </a:rPr>
              <a:t>1) для оценки быстроты простой и сложной реакции; 2) для оценки скорости одиночного движения; 3) для оценки максимальной быстроты движений в разных суставах; 4) для оценки скорости, проявляемой в целостных двигательных действиях, чаще всего в беге на короткие дистанц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c00000"/>
                </a:solidFill>
                <a:uFillTx/>
                <a:latin typeface="Arial"/>
                <a:ea typeface="Arial"/>
              </a:rPr>
              <a:t>Контрольные упражнения для оценки быстроты простой и сложной реакции. </a:t>
            </a:r>
            <a:r>
              <a:rPr b="0" lang="ru-RU" sz="1600" spc="-1" strike="noStrike">
                <a:solidFill>
                  <a:srgbClr val="c00000"/>
                </a:solidFill>
                <a:latin typeface="Arial"/>
                <a:ea typeface="Arial"/>
              </a:rPr>
              <a:t>Время простой реакции измеряют в условиях, когда заранее известен и тип сигнала, и способ ответа (например, при загорании лампочки отпустить кнопку, на выстрел стартера начать бег и т.д.).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В лабораторных условиях время реакции на свет, звук определяют с помощью хронореф-лексометров, определяющих время реакции с точностью до 0,01 или 0,001 с. Для оценки времени простой реакции используют не менее 10 попыток и определяют среднее время реаг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При измерении простой реакции можно применять линейку длиной 40 с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В соревновательных условиях время простой реакции измеряют с. помощью контактных датчиков, помещаемых в стартовые колодки (легкая атлетика), стартовую тумбу в бассейне (плавание) и т.д.</a:t>
            </a:r>
            <a:r>
              <a:rPr b="0" lang="ru-RU" sz="1600" spc="-1" strike="noStrike" u="sng">
                <a:solidFill>
                  <a:srgbClr val="c00000"/>
                </a:solidFill>
                <a:uFillTx/>
                <a:latin typeface="Arial"/>
                <a:ea typeface="Arial"/>
              </a:rPr>
              <a:t> Контрольные упражнения для оценки скорости одиночных движений </a:t>
            </a:r>
            <a:r>
              <a:rPr b="0" lang="ru-RU" sz="1600" spc="-1" strike="noStrike">
                <a:solidFill>
                  <a:srgbClr val="c00000"/>
                </a:solidFill>
                <a:latin typeface="Arial"/>
                <a:ea typeface="Arial"/>
              </a:rPr>
              <a:t>. Время удара, передачи мяча, броска, одного шага и т.п. определяют с помощью биомеханической аппаратур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c00000"/>
                </a:solidFill>
                <a:uFillTx/>
                <a:latin typeface="Arial"/>
                <a:ea typeface="Arial"/>
              </a:rPr>
              <a:t>Контрольные упражнения для оценки максимальной частоты движений </a:t>
            </a:r>
            <a:r>
              <a:rPr b="0" lang="ru-RU" sz="1600" spc="-1" strike="noStrike">
                <a:solidFill>
                  <a:srgbClr val="c00000"/>
                </a:solidFill>
                <a:latin typeface="Arial"/>
                <a:ea typeface="Arial"/>
              </a:rPr>
              <a:t>в разных суставах. Частоту движений рук, ног оценивают I с помощью теппингтестов. Регистрируется число движений руками (поочередно или одной) или ногами (поочередно или одной) за 5—20 с.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Arial"/>
                <a:ea typeface="Arial"/>
              </a:rPr>
              <a:t>Контрольные упражнения для оценки скорости, проявляемой в целостных двигательных действиях. Бег на 30, 50, 60, 100 м на скорость преодоления дистанции (с низкого и высокого старта). Измерение времени осуществляется двумя способами: вручную (секундомером) и автоматически с помощью фотоэлектронных и лазерных устройств, позволяющих фиксировать важнейшие показатели: динамику скорости, длину и частоту шагов, время отдельных фаз движен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Blac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Прямоугольник 1"/>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16" name="Прямоугольник 2"/>
          <p:cNvSpPr/>
          <p:nvPr/>
        </p:nvSpPr>
        <p:spPr>
          <a:xfrm>
            <a:off x="0" y="0"/>
            <a:ext cx="914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сыл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r>
              <a:rPr b="0" lang="en-US" sz="1800" spc="-1" strike="noStrike" u="sng">
                <a:solidFill>
                  <a:srgbClr val="c00000"/>
                </a:solidFill>
                <a:uFillTx/>
                <a:latin typeface="Arial"/>
              </a:rPr>
              <a:t> http</a:t>
            </a:r>
            <a:r>
              <a:rPr b="0" lang="en-US" sz="1800" spc="-1" strike="noStrike">
                <a:solidFill>
                  <a:srgbClr val="000000"/>
                </a:solidFill>
                <a:latin typeface="Arial"/>
              </a:rPr>
              <a:t>://dic.academic.ru/pictures/wiki/files/83/Start_Jeremy_Wariner_2007.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Arial"/>
              </a:rPr>
              <a:t>2.</a:t>
            </a:r>
            <a:r>
              <a:rPr b="0" lang="en-US" sz="1800" spc="-1" strike="noStrike" u="sng">
                <a:solidFill>
                  <a:srgbClr val="c00000"/>
                </a:solidFill>
                <a:uFillTx/>
                <a:latin typeface="Arial"/>
              </a:rPr>
              <a:t>http://images.yandex.ru/yandsearch?rpt=simage&amp;ed=1&amp;text=%D1%84%D0%B8%D0%B7%D0%B8%D1%87%D0%B5%D1%81%D0%BA%D0%BE%D0%B5%20%D0%BA%D0%B0%D1%87%D0%B5%D1%81%D1%82%D0%B2%D0%BE%20%D0%B1%D1%8B%D1%81%D1%82%D1%80%D0%BE%D1%82%D0%B0&amp;p=41&amp;img_url=www.news29.ru%2Fimages%2Fnews%2Fbig%2F119609066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Прямоугольник 3"/>
          <p:cNvSpPr/>
          <p:nvPr/>
        </p:nvSpPr>
        <p:spPr>
          <a:xfrm>
            <a:off x="0" y="2286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Список использованной литерату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В.И.Лях; А.А.Зданевич -  ФИЗИЧЕСКАЯ КУЛЬТУРА  ДЛЯ 5-11 КЛАС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Журналы - Физическая культура в школ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Прямоугольник 3"/>
          <p:cNvSpPr/>
          <p:nvPr/>
        </p:nvSpPr>
        <p:spPr>
          <a:xfrm>
            <a:off x="0" y="0"/>
            <a:ext cx="9144000" cy="692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cc"/>
                </a:solidFill>
                <a:latin typeface="Times New Roman"/>
                <a:ea typeface="Times New Roman"/>
              </a:rPr>
              <a:t>К основным физическим качествам относят </a:t>
            </a:r>
            <a:endParaRPr b="0" lang="en-US" sz="6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c87d0e"/>
                </a:solidFill>
                <a:latin typeface="Times New Roman"/>
                <a:ea typeface="Times New Roman"/>
              </a:rPr>
              <a:t>сил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00"/>
                </a:solidFill>
                <a:latin typeface="Times New Roman"/>
                <a:ea typeface="Times New Roman"/>
              </a:rPr>
              <a:t>быстрот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009900"/>
                </a:solidFill>
                <a:latin typeface="Times New Roman"/>
                <a:ea typeface="Times New Roman"/>
              </a:rPr>
              <a:t>вынослив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9900ff"/>
                </a:solidFill>
                <a:latin typeface="Times New Roman"/>
                <a:ea typeface="Times New Roman"/>
              </a:rPr>
              <a:t>гибк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66"/>
                </a:solidFill>
                <a:latin typeface="Times New Roman"/>
                <a:ea typeface="Times New Roman"/>
              </a:rPr>
              <a:t>ловкость.</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463680" y="-334800"/>
            <a:ext cx="9614160" cy="1388880"/>
          </a:xfrm>
          <a:prstGeom prst="rect">
            <a:avLst/>
          </a:prstGeom>
          <a:ln w="0">
            <a:noFill/>
          </a:ln>
        </p:spPr>
      </p:pic>
      <p:sp>
        <p:nvSpPr>
          <p:cNvPr id="403" name=""/>
          <p:cNvSpPr txBox="1"/>
          <p:nvPr/>
        </p:nvSpPr>
        <p:spPr>
          <a:xfrm>
            <a:off x="0" y="1071360"/>
            <a:ext cx="9144000" cy="578628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Trebuchet MS"/>
              </a:rPr>
              <a:t> </a:t>
            </a:r>
            <a:r>
              <a:rPr b="1" lang="ru-RU" sz="4000" spc="-1" strike="noStrike">
                <a:solidFill>
                  <a:srgbClr val="c00000"/>
                </a:solidFill>
                <a:latin typeface="Arial Black"/>
              </a:rPr>
              <a:t>  </a:t>
            </a:r>
            <a:r>
              <a:rPr b="1" lang="ru-RU" sz="4000" spc="-1" strike="noStrike">
                <a:solidFill>
                  <a:srgbClr val="c00000"/>
                </a:solidFill>
                <a:latin typeface="Arial Black"/>
              </a:rPr>
              <a:t>это   способность человека совершать двигательное действие в минимальный для данных условий отрезок времени  с определенной частотой и импульсивностью. </a:t>
            </a:r>
            <a:endParaRPr b="0" lang="en-US" sz="4000" spc="-1" strike="noStrike">
              <a:solidFill>
                <a:srgbClr val="4e3b30"/>
              </a:solidFill>
              <a:latin typeface="Trebuchet MS"/>
            </a:endParaRPr>
          </a:p>
        </p:txBody>
      </p:sp>
      <p:pic>
        <p:nvPicPr>
          <p:cNvPr id="404" name="Picture 2" descr="Картинка 42 из 421"/>
          <p:cNvPicPr/>
          <p:nvPr/>
        </p:nvPicPr>
        <p:blipFill>
          <a:blip r:embed="rId2"/>
          <a:stretch/>
        </p:blipFill>
        <p:spPr>
          <a:xfrm>
            <a:off x="6286680" y="4000680"/>
            <a:ext cx="2857320" cy="28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Прямоугольник 2"/>
          <p:cNvSpPr/>
          <p:nvPr/>
        </p:nvSpPr>
        <p:spPr>
          <a:xfrm>
            <a:off x="0" y="-79200"/>
            <a:ext cx="91440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70c0"/>
                </a:solidFill>
                <a:latin typeface="Arial Black"/>
              </a:rPr>
              <a:t>Развитие  быстроты </a:t>
            </a:r>
            <a:r>
              <a:rPr b="1" lang="ru-RU" sz="2400" spc="-1" strike="noStrike">
                <a:solidFill>
                  <a:srgbClr val="c00000"/>
                </a:solidFill>
                <a:latin typeface="Arial"/>
              </a:rPr>
              <a:t>зависит от лабильности нервно-мышечного аппарата, эластичности мышц, подвижности в суставах, согласованности деятельности мышц-антагонистов при максимально частом чередовании процессов возбуждения и торможения, степени владения техническими приемам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Arial"/>
              </a:rPr>
              <a:t>Наиболее успешно быстрота развивается в 10-12-летнем возрасте. </a:t>
            </a:r>
            <a:r>
              <a:rPr b="1" lang="ru-RU" sz="2400" spc="-1" strike="noStrike">
                <a:solidFill>
                  <a:srgbClr val="c00000"/>
                </a:solidFill>
                <a:latin typeface="Arial"/>
              </a:rPr>
              <a:t>Поскольку быстрота движений зависит от силы мышц, поэтому эти качества развивают параллельно. Как известно, чем меньше внешнее сопротивление движениям, тем они быстрее. Уменьшить вес снаряда, установленный правилами соревнований, нельзя. Также невозможно уменьшить вес тела без вреда для здоровья. Но можно увеличить силу. Возросшая сила позволит спортсмену легче преодолевать внешнее сопротивление, а значит, и быстрее выполнять движения.</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Прямоугольник 1"/>
          <p:cNvSpPr/>
          <p:nvPr/>
        </p:nvSpPr>
        <p:spPr>
          <a:xfrm>
            <a:off x="0" y="0"/>
            <a:ext cx="914400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Black"/>
              </a:rPr>
              <a:t>Задачи развития скоростных способностей</a:t>
            </a:r>
            <a:r>
              <a:rPr b="0"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000" spc="-1" strike="noStrike" u="sng">
                <a:solidFill>
                  <a:srgbClr val="c00000"/>
                </a:solidFill>
                <a:uFillTx/>
                <a:latin typeface="Arial Black"/>
              </a:rPr>
              <a:t> </a:t>
            </a:r>
            <a:r>
              <a:rPr b="0" lang="ru-RU" sz="2000" spc="-1" strike="noStrike" u="sng">
                <a:solidFill>
                  <a:srgbClr val="c00000"/>
                </a:solidFill>
                <a:uFillTx/>
                <a:latin typeface="Arial Black"/>
              </a:rPr>
              <a:t>Первая задача </a:t>
            </a:r>
            <a:r>
              <a:rPr b="0" lang="ru-RU" sz="2000" spc="-1" strike="noStrike">
                <a:solidFill>
                  <a:srgbClr val="c00000"/>
                </a:solidFill>
                <a:latin typeface="Arial Black"/>
              </a:rPr>
              <a:t>состоит в необходимости разностороннего развития скоростных способностей (быстрота реакции, частота движений, скорость одиночного движения, быстрота целостных действий) в сочетании с приобретением двигательных умений и навыков, которые осваивают дети за время обучения в образовательном учреждении. Для педагога по физической культуре и спорту важно не упустить младший и средний школьный возраст — сенситивные (особенно благоприятные) периоды для эффективного воздействия на эту группу способност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Arial Black"/>
              </a:rPr>
              <a:t>    </a:t>
            </a:r>
            <a:r>
              <a:rPr b="0" lang="ru-RU" sz="2000" spc="-1" strike="noStrike" u="sng">
                <a:solidFill>
                  <a:srgbClr val="c00000"/>
                </a:solidFill>
                <a:uFillTx/>
                <a:latin typeface="Arial Black"/>
              </a:rPr>
              <a:t>Вторая задача </a:t>
            </a:r>
            <a:r>
              <a:rPr b="0" lang="ru-RU" sz="2000" spc="-1" strike="noStrike">
                <a:solidFill>
                  <a:srgbClr val="c00000"/>
                </a:solidFill>
                <a:latin typeface="Arial Black"/>
              </a:rPr>
              <a:t>— максимальное развитие скоростных способностей при специализации детей, подростков, юношей и девушек в видах спорта, где скорость реагирования или быстрота действия играет существенную роль (бег на короткие дистанции, спортивные игры, единоборства, санный спорт и д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00000"/>
                </a:solidFill>
                <a:uFillTx/>
                <a:latin typeface="Arial Black"/>
              </a:rPr>
              <a:t>   </a:t>
            </a:r>
            <a:r>
              <a:rPr b="0" lang="ru-RU" sz="2000" spc="-1" strike="noStrike" u="sng">
                <a:solidFill>
                  <a:srgbClr val="c00000"/>
                </a:solidFill>
                <a:uFillTx/>
                <a:latin typeface="Arial Black"/>
              </a:rPr>
              <a:t>Третья задача </a:t>
            </a:r>
            <a:r>
              <a:rPr b="0" lang="ru-RU" sz="2000" spc="-1" strike="noStrike">
                <a:solidFill>
                  <a:srgbClr val="c00000"/>
                </a:solidFill>
                <a:latin typeface="Arial Black"/>
              </a:rPr>
              <a:t>— совершенствование скоростных способностей, от которых зависит успех в определенных видах трудовой деятельности (например, в летном деле, при выполнении функций оператора в промышленности, энергосистемах, системах связи и д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1"/>
          <p:cNvSpPr/>
          <p:nvPr/>
        </p:nvSpPr>
        <p:spPr>
          <a:xfrm>
            <a:off x="0" y="0"/>
            <a:ext cx="9144000" cy="704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Основными средствами воспитания быстроты  </a:t>
            </a:r>
            <a:r>
              <a:rPr b="1" lang="ru-RU" sz="2800" spc="-1" strike="noStrike">
                <a:solidFill>
                  <a:srgbClr val="c00000"/>
                </a:solidFill>
                <a:latin typeface="Arial"/>
              </a:rPr>
              <a:t>служат скоростные упражнения, выполняемые с предельной или околопредельной скоростью.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Методические приемы, которые способствуют развитию этого качества:</a:t>
            </a:r>
            <a:br>
              <a:rPr sz="3200"/>
            </a:br>
            <a:r>
              <a:rPr b="1" lang="ru-RU" sz="2000" spc="-1" strike="noStrike">
                <a:solidFill>
                  <a:srgbClr val="c00000"/>
                </a:solidFill>
                <a:latin typeface="Arial"/>
              </a:rPr>
              <a:t>- </a:t>
            </a:r>
            <a:r>
              <a:rPr b="1" lang="ru-RU" sz="2800" spc="-1" strike="noStrike">
                <a:solidFill>
                  <a:srgbClr val="c00000"/>
                </a:solidFill>
                <a:latin typeface="Arial"/>
              </a:rPr>
              <a:t>выполнение упражнений в облегченных условиях (бег по наклонной дорожке, использование силы тяги подвесок);</a:t>
            </a:r>
            <a:br>
              <a:rPr sz="2800"/>
            </a:br>
            <a:r>
              <a:rPr b="1" lang="ru-RU" sz="2800" spc="-1" strike="noStrike">
                <a:solidFill>
                  <a:srgbClr val="c00000"/>
                </a:solidFill>
                <a:latin typeface="Arial"/>
              </a:rPr>
              <a:t>- чередование упражнений в затрудненных и обычных условиях, варьирование отягощений;</a:t>
            </a:r>
            <a:br>
              <a:rPr sz="2800"/>
            </a:br>
            <a:r>
              <a:rPr b="1" lang="ru-RU" sz="2800" spc="-1" strike="noStrike">
                <a:solidFill>
                  <a:srgbClr val="c00000"/>
                </a:solidFill>
                <a:latin typeface="Arial"/>
              </a:rPr>
              <a:t>- бег за лидером (партнером), бег с разгона;</a:t>
            </a:r>
            <a:br>
              <a:rPr sz="2800"/>
            </a:br>
            <a:r>
              <a:rPr b="1" lang="ru-RU" sz="2800" spc="-1" strike="noStrike">
                <a:solidFill>
                  <a:srgbClr val="c00000"/>
                </a:solidFill>
                <a:latin typeface="Arial"/>
              </a:rPr>
              <a:t>- введение ограничения времени выполнения упражнения;</a:t>
            </a:r>
            <a:br>
              <a:rPr sz="2800"/>
            </a:br>
            <a:r>
              <a:rPr b="1" lang="ru-RU" sz="2800" spc="-1" strike="noStrike">
                <a:solidFill>
                  <a:srgbClr val="c00000"/>
                </a:solidFill>
                <a:latin typeface="Arial"/>
              </a:rPr>
              <a:t>- пространственные условия его выполнения.</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189000" y="-231840"/>
            <a:ext cx="9339480" cy="1663920"/>
          </a:xfrm>
          <a:prstGeom prst="rect">
            <a:avLst/>
          </a:prstGeom>
          <a:ln w="0">
            <a:noFill/>
          </a:ln>
        </p:spPr>
      </p:pic>
      <p:sp>
        <p:nvSpPr>
          <p:cNvPr id="409" name="Прямоугольник 3"/>
          <p:cNvSpPr/>
          <p:nvPr/>
        </p:nvSpPr>
        <p:spPr>
          <a:xfrm>
            <a:off x="0" y="1000080"/>
            <a:ext cx="914400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c00000"/>
                </a:solidFill>
                <a:latin typeface="Arial"/>
              </a:rPr>
              <a:t>1.  </a:t>
            </a:r>
            <a:r>
              <a:rPr b="1" lang="ru-RU" sz="2000" spc="-1" strike="noStrike" u="sng">
                <a:solidFill>
                  <a:srgbClr val="c00000"/>
                </a:solidFill>
                <a:uFillTx/>
                <a:latin typeface="Arial"/>
              </a:rPr>
              <a:t>Повторный метод. </a:t>
            </a:r>
            <a:r>
              <a:rPr b="1" lang="ru-RU" sz="2000" spc="-1" strike="noStrike">
                <a:solidFill>
                  <a:srgbClr val="c00000"/>
                </a:solidFill>
                <a:latin typeface="Arial"/>
              </a:rPr>
              <a:t>Суть его сводится к выполнению упражнений с околопредельной или максимальной скоростью. Следует выполнять задания в ответ на сигнал (преимущественно  зрительный)    и    на    быстроту   отдельных движений. Продолжительность выполнения задания такая, в течение которой поддерживается максимальная быстрота (обычно 5-10 сек.). Интервал отдыха между упражнениями должен обеспечивать наибольшую готовность к работе (30 сек. – 5 мин. В зависимости от характера упражнений и состояния спортсмен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2.  </a:t>
            </a:r>
            <a:r>
              <a:rPr b="1" lang="ru-RU" sz="2000" spc="-1" strike="noStrike" u="sng">
                <a:solidFill>
                  <a:srgbClr val="c00000"/>
                </a:solidFill>
                <a:uFillTx/>
                <a:latin typeface="Arial"/>
              </a:rPr>
              <a:t>Сопряженный метод. </a:t>
            </a:r>
            <a:r>
              <a:rPr b="1" lang="ru-RU" sz="2000" spc="-1" strike="noStrike">
                <a:solidFill>
                  <a:srgbClr val="c00000"/>
                </a:solidFill>
                <a:latin typeface="Arial"/>
              </a:rPr>
              <a:t>Например, выполнение ударного движения при нападающем ударе с отягощением на кис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перемещения с отягощением и т.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3.  </a:t>
            </a:r>
            <a:r>
              <a:rPr b="1" lang="ru-RU" sz="2000" spc="-1" strike="noStrike" u="sng">
                <a:solidFill>
                  <a:srgbClr val="c00000"/>
                </a:solidFill>
                <a:uFillTx/>
                <a:latin typeface="Arial"/>
              </a:rPr>
              <a:t>Метод круговой тренировки. </a:t>
            </a:r>
            <a:r>
              <a:rPr b="1" lang="ru-RU" sz="2000" spc="-1" strike="noStrike">
                <a:solidFill>
                  <a:srgbClr val="c00000"/>
                </a:solidFill>
                <a:latin typeface="Arial"/>
              </a:rPr>
              <a:t>Подбирают упражнения, при выполнении которых участвуют основные группы мышц и сустав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4.  </a:t>
            </a:r>
            <a:r>
              <a:rPr b="1" lang="ru-RU" sz="2000" spc="-1" strike="noStrike" u="sng">
                <a:solidFill>
                  <a:srgbClr val="c00000"/>
                </a:solidFill>
                <a:uFillTx/>
                <a:latin typeface="Arial"/>
              </a:rPr>
              <a:t>Игровой метод. </a:t>
            </a:r>
            <a:r>
              <a:rPr b="1" lang="ru-RU" sz="2000" spc="-1" strike="noStrike">
                <a:solidFill>
                  <a:srgbClr val="c00000"/>
                </a:solidFill>
                <a:latin typeface="Arial"/>
              </a:rPr>
              <a:t>Выполнение упражнений на быстроту в подвижных играх и  специальных эстафета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5.  </a:t>
            </a:r>
            <a:r>
              <a:rPr b="1" lang="ru-RU" sz="2000" spc="-1" strike="noStrike" u="sng">
                <a:solidFill>
                  <a:srgbClr val="c00000"/>
                </a:solidFill>
                <a:uFillTx/>
                <a:latin typeface="Arial"/>
              </a:rPr>
              <a:t>Соревновательный метод. </a:t>
            </a:r>
            <a:r>
              <a:rPr b="1" lang="ru-RU" sz="2000" spc="-1" strike="noStrike">
                <a:solidFill>
                  <a:srgbClr val="c00000"/>
                </a:solidFill>
                <a:latin typeface="Arial"/>
              </a:rPr>
              <a:t>Выполнение упражнений с предельной быстротой в условиях соревнов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Прямоугольник 1"/>
          <p:cNvSpPr/>
          <p:nvPr/>
        </p:nvSpPr>
        <p:spPr>
          <a:xfrm>
            <a:off x="0" y="0"/>
            <a:ext cx="9144000" cy="60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ff"/>
                </a:solidFill>
                <a:latin typeface="Arial"/>
              </a:rPr>
              <a:t>Быстрота определяется: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а) путем измерения скорости движения в ответ на определенный сигнал реакциометрами различной конструк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б) по количеству движений за установленное время незагруженной конечностью или туловищем в границах определенной амплитуд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в) по времени преодоления установленного короткого __________</a:t>
            </a:r>
            <a:br>
              <a:rPr sz="2000"/>
            </a:br>
            <a:r>
              <a:rPr b="1" lang="ru-RU" sz="2000" spc="-1" strike="noStrike">
                <a:solidFill>
                  <a:srgbClr val="c00000"/>
                </a:solidFill>
                <a:latin typeface="Arial"/>
              </a:rPr>
              <a:t>* Под «крейсерской» скоростью подразумевается средняя скорость прохождения дистанции. расстояния (например, бега на 20, 30 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 </a:t>
            </a:r>
            <a:r>
              <a:rPr b="1" lang="ru-RU" sz="2000" spc="-1" strike="noStrike">
                <a:solidFill>
                  <a:srgbClr val="c00000"/>
                </a:solidFill>
                <a:latin typeface="Arial"/>
              </a:rPr>
              <a:t>г) по скорости выполнения однократного движения в сложном действии, например отталкивания в прыжках, движения плечевого пояса и руки в метаниях, удара в боксе, начального движения бегуна на короткие дистанции, движений гимнаста и д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Все проявления быстроты эффективно развиваются при игре в баскетбол.</a:t>
            </a:r>
            <a:br>
              <a:rPr sz="2000"/>
            </a:br>
            <a:r>
              <a:rPr b="1" lang="ru-RU" sz="2000" spc="-1" strike="noStrike">
                <a:solidFill>
                  <a:srgbClr val="c00000"/>
                </a:solidFill>
                <a:latin typeface="Arial"/>
              </a:rPr>
              <a:t>Можно также порекомендовать ручной мяч, настольный теннис, подвижные игры с быстро меняющейся игровой ситуацией и быстрым передвижение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Прямоугольник 1"/>
          <p:cNvSpPr/>
          <p:nvPr/>
        </p:nvSpPr>
        <p:spPr>
          <a:xfrm>
            <a:off x="0" y="-79200"/>
            <a:ext cx="9144000" cy="53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Black"/>
              </a:rPr>
              <a:t>Факторы, влияющие на проявление быстроты и скорости движений спортсм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Black"/>
              </a:rPr>
              <a:t> </a:t>
            </a:r>
            <a:r>
              <a:rPr b="1" lang="ru-RU" sz="2000" spc="-1" strike="noStrike">
                <a:solidFill>
                  <a:srgbClr val="c00000"/>
                </a:solidFill>
                <a:latin typeface="Arial Black"/>
              </a:rPr>
              <a:t>Проявление форм быстроты и скорости движений зависит от целого ряда факторов: 1) состояния центральной нервной системы и нервно-мышечного аппарата человека; 2) морфологических особенностей мышечной ткани, ее композиции (т.е. от соотношения быстрых и медленных волокон); 3) силы мышц; 4) способности мышц быстро переходить из напряженного состояния в расслабленное; 5) энергетических запасов в мышце (аденозинтрифосфорная кислота — АТФ и креатинфосфат — КТФ); 6) амплитуды движений, т.е. от степени подвижности в суставах; 7) способности к координации движений при скоростной работе; 8) биологического ритма жизнедеятельности организма; 9) возраста и пола; 10) скоростных природных способностей человека. </a:t>
            </a:r>
            <a:endParaRPr b="0" lang="en-US" sz="2000" spc="-1" strike="noStrike">
              <a:solidFill>
                <a:srgbClr val="000000"/>
              </a:solidFill>
              <a:latin typeface="Arial"/>
            </a:endParaRPr>
          </a:p>
        </p:txBody>
      </p:sp>
      <p:pic>
        <p:nvPicPr>
          <p:cNvPr id="412" name="Picture 2" descr="Картинка 1 из 78827"/>
          <p:cNvPicPr/>
          <p:nvPr/>
        </p:nvPicPr>
        <p:blipFill>
          <a:blip r:embed="rId1"/>
          <a:stretch/>
        </p:blipFill>
        <p:spPr>
          <a:xfrm>
            <a:off x="6354720" y="5000760"/>
            <a:ext cx="278928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06:54:30Z</dcterms:created>
  <dc:creator>Vera</dc:creator>
  <dc:description/>
  <dc:language>en-US</dc:language>
  <cp:lastModifiedBy>admin</cp:lastModifiedBy>
  <dcterms:modified xsi:type="dcterms:W3CDTF">2011-11-14T15:27:40Z</dcterms:modified>
  <cp:revision>201</cp:revision>
  <dc:subject/>
  <dc:title>Слайд 1</dc:title>
</cp:coreProperties>
</file>