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5A58F-1AEB-4BD3-A503-02B5A930C1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22FEC-4956-445D-9A5B-51BB63FAE7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44A69-A651-46F7-BBDF-BE7259DDB4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63BEB-72C3-4BDB-A2DA-7C4B5AC582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21E29-56B2-446A-B65F-344B4138D2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03355-1C11-4532-8417-F01FF33276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BB2-EE38-4B64-B693-D68A1709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AAF-A7A3-45BD-8618-857A0168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4CE-DCC4-4372-AE97-7DDC3D86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543-6C98-42EA-B122-8B2714B1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573-9705-45A4-B717-D64D39CB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4F8-84B1-4734-AF1D-02CC13CE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73F-E8BE-4B92-A1C4-9EFD49B8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339-F5B6-436B-B2F4-42028ABC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52E-D01C-4A4F-9135-3FB5D420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D90-3D1F-4347-810E-0564F033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0E5-EE0D-4D31-A85D-B5241FA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C69-B845-44EB-A317-722FCDC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619CBB-5F60-4C2B-AB68-DD8107A932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 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Запишите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76360" y="1708200"/>
            <a:ext cx="88567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ры                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753080" y="2124000"/>
            <a:ext cx="4105080" cy="42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Запишите первую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:\Загрузки\картинки\photo20040222111819.jpg"/>
          <p:cNvPicPr/>
          <p:nvPr/>
        </p:nvPicPr>
        <p:blipFill>
          <a:blip r:embed="rId2"/>
          <a:stretch/>
        </p:blipFill>
        <p:spPr>
          <a:xfrm>
            <a:off x="1008000" y="1908000"/>
            <a:ext cx="63500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240000" y="1187280"/>
            <a:ext cx="482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56000" y="1116000"/>
            <a:ext cx="4889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592360" y="2050920"/>
            <a:ext cx="6286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735280" y="1403280"/>
            <a:ext cx="6324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пишите первый слог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24360" y="1547640"/>
            <a:ext cx="560376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52720" y="1403280"/>
            <a:ext cx="5472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952720" y="176364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4:40:48Z</dcterms:created>
  <dc:creator/>
  <dc:description/>
  <dc:language>en-US</dc:language>
  <cp:lastModifiedBy>XTreme</cp:lastModifiedBy>
  <dcterms:modified xsi:type="dcterms:W3CDTF">2011-10-31T07:03:26Z</dcterms:modified>
  <cp:revision>8</cp:revision>
  <dc:subject/>
  <dc:title>Слайд 1</dc:title>
</cp:coreProperties>
</file>