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14B71-7BB3-43F4-84D5-29FB692778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D9B19-316F-47A0-91B7-73C193FF5E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32792-517D-4E71-A514-3B015B1B67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735AB-A8E8-4293-8E7A-9AB14693FB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2E6C4-360A-4C02-ACA5-49714CFBA2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2F172-A501-4434-A764-6F0A592A14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C65-2397-47A5-BEC4-01CAE254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938-B88C-4603-8824-D5912D1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A2B-D920-41E0-A1B7-9396E08E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DB2-0894-49BF-9469-7E18F7ED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FF9-CADA-4B46-9D63-3E85CC60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582-E4A4-4577-B186-3AA2C25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6CE-1B08-41B7-8699-9674FD8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218-49A8-4CB0-960E-F478CA3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289-3249-4CB9-8BB0-8C19E90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481-0317-49F4-BD14-A835178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416-5403-44FD-B382-1331CFF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276-C17C-4038-9EC2-8DBF46C3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72DD2B-6257-4C26-8090-0D5B0D3786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 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Запишите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76360" y="1708200"/>
            <a:ext cx="88567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ры                .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753080" y="2124000"/>
            <a:ext cx="4105080" cy="42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Запишите перву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:\Загрузки\картинки\photo20040222111819.jpg"/>
          <p:cNvPicPr/>
          <p:nvPr/>
        </p:nvPicPr>
        <p:blipFill>
          <a:blip r:embed="rId2"/>
          <a:stretch/>
        </p:blipFill>
        <p:spPr>
          <a:xfrm>
            <a:off x="1008000" y="1908000"/>
            <a:ext cx="63500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240000" y="1187280"/>
            <a:ext cx="482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56000" y="1116000"/>
            <a:ext cx="4889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592360" y="2050920"/>
            <a:ext cx="6286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735280" y="1403280"/>
            <a:ext cx="6324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пишите первый слог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24360" y="1547640"/>
            <a:ext cx="560376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52720" y="1403280"/>
            <a:ext cx="5472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952720" y="176364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/>
  <dc:description/>
  <dc:language>en-US</dc:language>
  <cp:lastModifiedBy>XTreme</cp:lastModifiedBy>
  <dcterms:modified xsi:type="dcterms:W3CDTF">2011-10-31T07:03:26Z</dcterms:modified>
  <cp:revision>8</cp:revision>
  <dc:subject/>
  <dc:title>Слайд 1</dc:title>
</cp:coreProperties>
</file>