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CFA-00A3-43A3-9F1F-41FBA275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CE7-C4D7-4A65-A30B-139B042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F0E-5FEB-412C-922E-D21D8509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098-3001-470E-AA8F-F26954B8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FB7-5D03-4867-913F-58C5263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F2F-1A02-49E9-B7B2-3BA7A03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3CB-8811-4509-AE46-E9BDE6E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679-8F97-43DB-8ED3-A70B8ED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48A-E04D-4955-9AD4-F868A1C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CD4-DA70-4F63-9BEB-7D1709B9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68A-6BEF-4D9D-A3E3-B938FFB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823-4628-43D8-B965-E5A8D3A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48A46D-69DA-457D-BA79-C2ABAA6CD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0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:\Загрузки\картинки\rope_H.jpg"/>
          <p:cNvPicPr/>
          <p:nvPr/>
        </p:nvPicPr>
        <p:blipFill>
          <a:blip r:embed="rId1"/>
          <a:stretch/>
        </p:blipFill>
        <p:spPr>
          <a:xfrm>
            <a:off x="762120" y="1081080"/>
            <a:ext cx="7619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.                     .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843280" y="3500280"/>
            <a:ext cx="9144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3924360" y="3500280"/>
            <a:ext cx="9144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:\Загрузки\картинки\Madam_Alex_toys_046.gif"/>
          <p:cNvPicPr/>
          <p:nvPr/>
        </p:nvPicPr>
        <p:blipFill>
          <a:blip r:embed="rId1"/>
          <a:stretch/>
        </p:blipFill>
        <p:spPr>
          <a:xfrm>
            <a:off x="5148360" y="1700280"/>
            <a:ext cx="32256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ервую букву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75316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493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:\Загрузки\картинки\439339382573962.jpg"/>
          <p:cNvPicPr/>
          <p:nvPr/>
        </p:nvPicPr>
        <p:blipFill>
          <a:blip r:embed="rId1"/>
          <a:stretch/>
        </p:blipFill>
        <p:spPr>
          <a:xfrm>
            <a:off x="2050920" y="549360"/>
            <a:ext cx="59058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оследний слог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5152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715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655164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xxx</cp:lastModifiedBy>
  <dcterms:modified xsi:type="dcterms:W3CDTF">2011-10-30T12:43:30Z</dcterms:modified>
  <cp:revision>4</cp:revision>
  <dc:subject/>
  <dc:title>Слайд 1</dc:title>
</cp:coreProperties>
</file>