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F7D-9A23-4C69-8011-7EA9BE73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E91-D8CE-4D01-B1DC-13A383CA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CFC-3B7E-4BCE-B0D4-DB0F953F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E99-06F7-43D8-8D83-AA6B177A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EC1-1506-43D7-A655-40AECF39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E21-23EB-4BFF-8CBA-3A536713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6CF-3C7B-4A43-A560-2FACD7A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851-5C2F-42AD-9347-D659624C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355-96E7-4DEB-989E-C2815FA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184-9DCE-4CB7-9A9D-7EE0C4D9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0D1-E073-4593-B699-D07E671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16A-FC5A-494B-87ED-78F2F0E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5469F0-3D82-47E7-9ADD-8EB0365B0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6000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№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:\Загрузки\картинки\rope_H.jpg"/>
          <p:cNvPicPr/>
          <p:nvPr/>
        </p:nvPicPr>
        <p:blipFill>
          <a:blip r:embed="rId1"/>
          <a:stretch/>
        </p:blipFill>
        <p:spPr>
          <a:xfrm>
            <a:off x="762120" y="1081080"/>
            <a:ext cx="7619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.                     .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2843280" y="3500280"/>
            <a:ext cx="914400" cy="914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3924360" y="3500280"/>
            <a:ext cx="914400" cy="9144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:\Загрузки\картинки\Madam_Alex_toys_046.gif"/>
          <p:cNvPicPr/>
          <p:nvPr/>
        </p:nvPicPr>
        <p:blipFill>
          <a:blip r:embed="rId1"/>
          <a:stretch/>
        </p:blipFill>
        <p:spPr>
          <a:xfrm>
            <a:off x="5148360" y="1700280"/>
            <a:ext cx="32256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ервую букву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75316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71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4930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:\Загрузки\картинки\439339382573962.jpg"/>
          <p:cNvPicPr/>
          <p:nvPr/>
        </p:nvPicPr>
        <p:blipFill>
          <a:blip r:embed="rId1"/>
          <a:stretch/>
        </p:blipFill>
        <p:spPr>
          <a:xfrm>
            <a:off x="2050920" y="549360"/>
            <a:ext cx="59058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последний слог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5152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7150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655164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27:42Z</dcterms:created>
  <dc:creator/>
  <dc:description/>
  <dc:language>en-US</dc:language>
  <cp:lastModifiedBy>xxx</cp:lastModifiedBy>
  <dcterms:modified xsi:type="dcterms:W3CDTF">2011-10-30T12:43:30Z</dcterms:modified>
  <cp:revision>4</cp:revision>
  <dc:subject/>
  <dc:title>Слайд 1</dc:title>
</cp:coreProperties>
</file>