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6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0.wmf" ContentType="image/x-wmf"/>
  <Override PartName="/ppt/media/image1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2808-AB13-475F-895B-6FA9CCE7F6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DF2E-4422-4810-BE8F-7B56350F59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926-2437-40FB-B264-F5CAC9C4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ACE-9DF0-4F4A-AB30-138EC828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256-6103-4F5A-AD38-81B048BE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155-4719-4BB6-8302-15AE618E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62C-94A4-4831-BD64-E8A4C6F7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97B8-7C54-4FAA-9AD0-739F6036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4B8-6735-44C7-A0FF-1EC046C0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FCA-01AD-4303-B926-42D77599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AEC-8705-4539-A89B-1FA7F6F4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7C5-0F6D-45B7-ACDE-C23AA6C5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BE9-6120-4F4F-978B-68407A78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A5C-BA5A-4536-81BF-3FCC0C6F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008080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27B6-674B-4A7E-BF33-8BFBE5C640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3"/>
          <p:cNvSpPr txBox="1"/>
          <p:nvPr/>
        </p:nvSpPr>
        <p:spPr>
          <a:xfrm>
            <a:off x="1066680" y="45720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 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нировочные задани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класс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16"/>
          <p:cNvSpPr txBox="1"/>
          <p:nvPr/>
        </p:nvSpPr>
        <p:spPr>
          <a:xfrm>
            <a:off x="380880" y="1600200"/>
            <a:ext cx="8229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Графики элементарных функций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18"/>
          <p:cNvSpPr txBox="1"/>
          <p:nvPr/>
        </p:nvSpPr>
        <p:spPr>
          <a:xfrm>
            <a:off x="914400" y="419112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дготовила учитель математик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БОУСОШ № 43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.Северска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раснодарский край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кребий Ирина Александровна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9720" y="2401920"/>
          <a:ext cx="2644560" cy="2054160"/>
        </p:xfrm>
        <a:graphic>
          <a:graphicData uri="http://schemas.openxmlformats.org/drawingml/2006/table">
            <a:tbl>
              <a:tblPr/>
              <a:tblGrid>
                <a:gridCol w="2644560"/>
              </a:tblGrid>
              <a:tr h="20541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Object 1"/>
          <p:cNvGraphicFramePr/>
          <p:nvPr/>
        </p:nvGraphicFramePr>
        <p:xfrm>
          <a:off x="3587760" y="1295280"/>
          <a:ext cx="48610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7760" y="1295280"/>
                    <a:ext cx="48610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3"/>
          <p:cNvSpPr/>
          <p:nvPr/>
        </p:nvSpPr>
        <p:spPr>
          <a:xfrm>
            <a:off x="19800" y="3240"/>
            <a:ext cx="853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Times New Roman"/>
              </a:rPr>
              <a:t>На рисунке изображен график квадратичной фун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92900"/>
                </a:solidFill>
                <a:latin typeface="Times New Roman"/>
              </a:rPr>
              <a:t>Какая из перечисленных формул задает эту функци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762120" y="5105520"/>
          <a:ext cx="2361960" cy="98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05520"/>
                    <a:ext cx="236196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2"/>
          <p:cNvGraphicFramePr/>
          <p:nvPr/>
        </p:nvGraphicFramePr>
        <p:xfrm>
          <a:off x="685800" y="4038480"/>
          <a:ext cx="2438280" cy="88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038480"/>
                    <a:ext cx="24382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11"/>
          <p:cNvGraphicFramePr/>
          <p:nvPr/>
        </p:nvGraphicFramePr>
        <p:xfrm>
          <a:off x="590400" y="2209680"/>
          <a:ext cx="2686320" cy="93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400" y="2209680"/>
                    <a:ext cx="26863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10"/>
          <p:cNvGraphicFramePr/>
          <p:nvPr/>
        </p:nvGraphicFramePr>
        <p:xfrm>
          <a:off x="685800" y="3122640"/>
          <a:ext cx="2590920" cy="87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3122640"/>
                    <a:ext cx="259092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7640" y="4320"/>
            <a:ext cx="720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58"/>
                </a:solidFill>
                <a:latin typeface="Arial"/>
                <a:ea typeface="Times New Roman"/>
              </a:rPr>
              <a:t>График какой квадратичной фун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58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5a58"/>
                </a:solidFill>
                <a:latin typeface="Arial"/>
                <a:ea typeface="Times New Roman"/>
              </a:rPr>
              <a:t>изображен на рисун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4724280" y="1295280"/>
          <a:ext cx="4202280" cy="47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295280"/>
                    <a:ext cx="420228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7"/>
          <p:cNvGraphicFramePr/>
          <p:nvPr/>
        </p:nvGraphicFramePr>
        <p:xfrm>
          <a:off x="304920" y="5105520"/>
          <a:ext cx="38052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105520"/>
                    <a:ext cx="3805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6"/>
          <p:cNvGraphicFramePr/>
          <p:nvPr/>
        </p:nvGraphicFramePr>
        <p:xfrm>
          <a:off x="304920" y="3809880"/>
          <a:ext cx="380520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809880"/>
                    <a:ext cx="3805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152280" y="2590920"/>
          <a:ext cx="395784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2590920"/>
                    <a:ext cx="39578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"/>
          <p:cNvGraphicFramePr/>
          <p:nvPr/>
        </p:nvGraphicFramePr>
        <p:xfrm>
          <a:off x="152280" y="1523880"/>
          <a:ext cx="367524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1523880"/>
                    <a:ext cx="36752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17640" y="4320"/>
            <a:ext cx="720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58"/>
                </a:solidFill>
                <a:latin typeface="Arial"/>
                <a:ea typeface="Times New Roman"/>
              </a:rPr>
              <a:t>График какой квадратичной фун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58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5a58"/>
                </a:solidFill>
                <a:latin typeface="Arial"/>
                <a:ea typeface="Times New Roman"/>
              </a:rPr>
              <a:t>изображен на рисун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Object 1"/>
          <p:cNvGraphicFramePr/>
          <p:nvPr/>
        </p:nvGraphicFramePr>
        <p:xfrm>
          <a:off x="5181480" y="1295280"/>
          <a:ext cx="357516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295280"/>
                    <a:ext cx="357516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6"/>
          <p:cNvGraphicFramePr/>
          <p:nvPr/>
        </p:nvGraphicFramePr>
        <p:xfrm>
          <a:off x="1676520" y="4876920"/>
          <a:ext cx="286056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6920"/>
                    <a:ext cx="2860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5"/>
          <p:cNvGraphicFramePr/>
          <p:nvPr/>
        </p:nvGraphicFramePr>
        <p:xfrm>
          <a:off x="1523880" y="3657600"/>
          <a:ext cx="323388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3657600"/>
                    <a:ext cx="32338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4"/>
          <p:cNvGraphicFramePr/>
          <p:nvPr/>
        </p:nvGraphicFramePr>
        <p:xfrm>
          <a:off x="1600200" y="2438280"/>
          <a:ext cx="323388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438280"/>
                    <a:ext cx="32338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3"/>
          <p:cNvGraphicFramePr/>
          <p:nvPr/>
        </p:nvGraphicFramePr>
        <p:xfrm>
          <a:off x="1523880" y="1295280"/>
          <a:ext cx="3386160" cy="98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1295280"/>
                    <a:ext cx="338616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609480" y="3049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линейной функции. Какая из перечисленных формул задает эту функци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Object 1"/>
          <p:cNvGraphicFramePr/>
          <p:nvPr/>
        </p:nvGraphicFramePr>
        <p:xfrm>
          <a:off x="4800600" y="1219320"/>
          <a:ext cx="410688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219320"/>
                    <a:ext cx="41068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6"/>
          <p:cNvGraphicFramePr/>
          <p:nvPr/>
        </p:nvGraphicFramePr>
        <p:xfrm>
          <a:off x="1066680" y="5257800"/>
          <a:ext cx="27590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27590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5"/>
          <p:cNvGraphicFramePr/>
          <p:nvPr/>
        </p:nvGraphicFramePr>
        <p:xfrm>
          <a:off x="1219320" y="4419720"/>
          <a:ext cx="260028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19720"/>
                    <a:ext cx="26002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4"/>
          <p:cNvGraphicFramePr/>
          <p:nvPr/>
        </p:nvGraphicFramePr>
        <p:xfrm>
          <a:off x="1066680" y="2971800"/>
          <a:ext cx="2895840" cy="13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971800"/>
                    <a:ext cx="28958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3"/>
          <p:cNvGraphicFramePr/>
          <p:nvPr/>
        </p:nvGraphicFramePr>
        <p:xfrm>
          <a:off x="1295280" y="1523880"/>
          <a:ext cx="2210040" cy="1465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1523880"/>
                    <a:ext cx="221004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Object 1"/>
          <p:cNvGraphicFramePr/>
          <p:nvPr/>
        </p:nvGraphicFramePr>
        <p:xfrm>
          <a:off x="4800600" y="1981080"/>
          <a:ext cx="4038480" cy="39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403848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Прямоугольник 3"/>
          <p:cNvSpPr/>
          <p:nvPr/>
        </p:nvSpPr>
        <p:spPr>
          <a:xfrm>
            <a:off x="609480" y="3049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линейной функции. Какая из перечисленных формул задает эту функци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08160" y="3002040"/>
          <a:ext cx="3129120" cy="853920"/>
        </p:xfrm>
        <a:graphic>
          <a:graphicData uri="http://schemas.openxmlformats.org/drawingml/2006/table">
            <a:tbl>
              <a:tblPr/>
              <a:tblGrid>
                <a:gridCol w="3129120"/>
              </a:tblGrid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Object 6"/>
          <p:cNvGraphicFramePr/>
          <p:nvPr/>
        </p:nvGraphicFramePr>
        <p:xfrm>
          <a:off x="1295280" y="4495680"/>
          <a:ext cx="28260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495680"/>
                    <a:ext cx="2826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5"/>
          <p:cNvGraphicFramePr/>
          <p:nvPr/>
        </p:nvGraphicFramePr>
        <p:xfrm>
          <a:off x="1143000" y="3505320"/>
          <a:ext cx="32479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505320"/>
                    <a:ext cx="3247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4"/>
          <p:cNvGraphicFramePr/>
          <p:nvPr/>
        </p:nvGraphicFramePr>
        <p:xfrm>
          <a:off x="1066680" y="2743200"/>
          <a:ext cx="318456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743200"/>
                    <a:ext cx="31845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3"/>
          <p:cNvGraphicFramePr/>
          <p:nvPr/>
        </p:nvGraphicFramePr>
        <p:xfrm>
          <a:off x="990720" y="1828800"/>
          <a:ext cx="320040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1828800"/>
                    <a:ext cx="3200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1"/>
          <p:cNvGraphicFramePr/>
          <p:nvPr/>
        </p:nvGraphicFramePr>
        <p:xfrm>
          <a:off x="5105520" y="1905120"/>
          <a:ext cx="369252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05120"/>
                    <a:ext cx="369252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Прямоугольник 3"/>
          <p:cNvSpPr/>
          <p:nvPr/>
        </p:nvSpPr>
        <p:spPr>
          <a:xfrm>
            <a:off x="609480" y="3808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линейной функции. Какая из перечисленных формул задает эту функци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1295280" y="5181480"/>
          <a:ext cx="293400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5181480"/>
                    <a:ext cx="2934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5"/>
          <p:cNvGraphicFramePr/>
          <p:nvPr/>
        </p:nvGraphicFramePr>
        <p:xfrm>
          <a:off x="1447920" y="4191120"/>
          <a:ext cx="270504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191120"/>
                    <a:ext cx="2705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4"/>
          <p:cNvGraphicFramePr/>
          <p:nvPr/>
        </p:nvGraphicFramePr>
        <p:xfrm>
          <a:off x="1447920" y="3429000"/>
          <a:ext cx="2793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3429000"/>
                    <a:ext cx="2793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3"/>
          <p:cNvGraphicFramePr/>
          <p:nvPr/>
        </p:nvGraphicFramePr>
        <p:xfrm>
          <a:off x="1523880" y="2438280"/>
          <a:ext cx="265428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2438280"/>
                    <a:ext cx="2654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1"/>
          <p:cNvGraphicFramePr/>
          <p:nvPr/>
        </p:nvGraphicFramePr>
        <p:xfrm>
          <a:off x="4038480" y="2895480"/>
          <a:ext cx="47628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895480"/>
                    <a:ext cx="47628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Прямоугольник 3"/>
          <p:cNvSpPr/>
          <p:nvPr/>
        </p:nvSpPr>
        <p:spPr>
          <a:xfrm>
            <a:off x="609480" y="3808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линейной функции. Какая из перечисленных формул задает эту функци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6"/>
          <p:cNvGraphicFramePr/>
          <p:nvPr/>
        </p:nvGraphicFramePr>
        <p:xfrm>
          <a:off x="685800" y="5257800"/>
          <a:ext cx="30099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257800"/>
                    <a:ext cx="30099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5"/>
          <p:cNvGraphicFramePr/>
          <p:nvPr/>
        </p:nvGraphicFramePr>
        <p:xfrm>
          <a:off x="914400" y="3886200"/>
          <a:ext cx="2655720" cy="13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886200"/>
                    <a:ext cx="265572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4"/>
          <p:cNvGraphicFramePr/>
          <p:nvPr/>
        </p:nvGraphicFramePr>
        <p:xfrm>
          <a:off x="914400" y="2664000"/>
          <a:ext cx="2800440" cy="14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2664000"/>
                    <a:ext cx="28004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3"/>
          <p:cNvGraphicFramePr/>
          <p:nvPr/>
        </p:nvGraphicFramePr>
        <p:xfrm>
          <a:off x="838080" y="1655640"/>
          <a:ext cx="2743200" cy="12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1655640"/>
                    <a:ext cx="274320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Object 1"/>
          <p:cNvGraphicFramePr/>
          <p:nvPr/>
        </p:nvGraphicFramePr>
        <p:xfrm>
          <a:off x="3886200" y="2743200"/>
          <a:ext cx="506088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743200"/>
                    <a:ext cx="506088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Прямоугольник 3"/>
          <p:cNvSpPr/>
          <p:nvPr/>
        </p:nvSpPr>
        <p:spPr>
          <a:xfrm>
            <a:off x="609480" y="3808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линейной функции. Какая из перечисленных формул задает эту функци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Object 6"/>
          <p:cNvGraphicFramePr/>
          <p:nvPr/>
        </p:nvGraphicFramePr>
        <p:xfrm>
          <a:off x="838080" y="5334120"/>
          <a:ext cx="2463840" cy="109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334120"/>
                    <a:ext cx="24638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5"/>
          <p:cNvGraphicFramePr/>
          <p:nvPr/>
        </p:nvGraphicFramePr>
        <p:xfrm>
          <a:off x="685800" y="4114800"/>
          <a:ext cx="2635200" cy="116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114800"/>
                    <a:ext cx="26352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4"/>
          <p:cNvGraphicFramePr/>
          <p:nvPr/>
        </p:nvGraphicFramePr>
        <p:xfrm>
          <a:off x="542880" y="3276720"/>
          <a:ext cx="2952720" cy="76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2880" y="3276720"/>
                    <a:ext cx="29527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838080" y="1900080"/>
          <a:ext cx="2438640" cy="126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1900080"/>
                    <a:ext cx="243864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лбесина</cp:lastModifiedBy>
  <dcterms:modified xsi:type="dcterms:W3CDTF">2011-12-11T05:48:46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