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0.wmf" ContentType="image/x-wmf"/>
  <Override PartName="/ppt/media/image1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4B2B-51FA-42B0-89EC-343047123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BFB-0489-4A8A-B4D3-33A8B0693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DC3-FB95-434F-9AA8-96792808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42F-3987-4595-8CE1-FF043BCA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80D-2C47-494D-8DC5-8ED5915B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EA8-A8D1-40C7-8D53-0350277B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240-AB03-4448-AB4B-FD73039D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F03-7C3F-4582-B69A-57CE8D37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3E2-E2AF-4548-8E44-43F94CA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037-7AF3-4006-B8EA-2C814AE5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A84-4462-46B5-A253-AD838E5A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464-75E5-4053-B3D1-5F3F3D5B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28F-F202-42C9-AD0C-3496242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454-8C7C-467A-9BCC-0FE730F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872-07D7-4121-AF9B-8BB0B83CE8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Графики элементарных функций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9720" y="2401920"/>
          <a:ext cx="2644560" cy="2054160"/>
        </p:xfrm>
        <a:graphic>
          <a:graphicData uri="http://schemas.openxmlformats.org/drawingml/2006/table">
            <a:tbl>
              <a:tblPr/>
              <a:tblGrid>
                <a:gridCol w="2644560"/>
              </a:tblGrid>
              <a:tr h="20541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Object 1"/>
          <p:cNvGraphicFramePr/>
          <p:nvPr/>
        </p:nvGraphicFramePr>
        <p:xfrm>
          <a:off x="3587760" y="1295280"/>
          <a:ext cx="48610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7760" y="1295280"/>
                    <a:ext cx="48610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19800" y="324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Times New Roman"/>
              </a:rPr>
              <a:t>На рисунке изображен график квадратичной фун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92900"/>
                </a:solidFill>
                <a:latin typeface="Times New Roman"/>
              </a:rPr>
              <a:t>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762120" y="5105520"/>
          <a:ext cx="2361960" cy="98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23619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2"/>
          <p:cNvGraphicFramePr/>
          <p:nvPr/>
        </p:nvGraphicFramePr>
        <p:xfrm>
          <a:off x="685800" y="4038480"/>
          <a:ext cx="243828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038480"/>
                    <a:ext cx="2438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1"/>
          <p:cNvGraphicFramePr/>
          <p:nvPr/>
        </p:nvGraphicFramePr>
        <p:xfrm>
          <a:off x="590400" y="2209680"/>
          <a:ext cx="2686320" cy="93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400" y="2209680"/>
                    <a:ext cx="26863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0"/>
          <p:cNvGraphicFramePr/>
          <p:nvPr/>
        </p:nvGraphicFramePr>
        <p:xfrm>
          <a:off x="685800" y="3122640"/>
          <a:ext cx="2590920" cy="87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122640"/>
                    <a:ext cx="259092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7640" y="4320"/>
            <a:ext cx="720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График какой квадратичной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изображен на рисун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4724280" y="1295280"/>
          <a:ext cx="42022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95280"/>
                    <a:ext cx="420228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7"/>
          <p:cNvGraphicFramePr/>
          <p:nvPr/>
        </p:nvGraphicFramePr>
        <p:xfrm>
          <a:off x="304920" y="5105520"/>
          <a:ext cx="38052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105520"/>
                    <a:ext cx="3805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6"/>
          <p:cNvGraphicFramePr/>
          <p:nvPr/>
        </p:nvGraphicFramePr>
        <p:xfrm>
          <a:off x="304920" y="3809880"/>
          <a:ext cx="38052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9880"/>
                    <a:ext cx="3805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52280" y="2590920"/>
          <a:ext cx="39578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2590920"/>
                    <a:ext cx="39578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152280" y="1523880"/>
          <a:ext cx="367524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1523880"/>
                    <a:ext cx="3675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17640" y="4320"/>
            <a:ext cx="720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График какой квадратичной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5a58"/>
                </a:solidFill>
                <a:latin typeface="Arial"/>
                <a:ea typeface="Times New Roman"/>
              </a:rPr>
              <a:t>изображен на рисун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Object 1"/>
          <p:cNvGraphicFramePr/>
          <p:nvPr/>
        </p:nvGraphicFramePr>
        <p:xfrm>
          <a:off x="5181480" y="1295280"/>
          <a:ext cx="357516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95280"/>
                    <a:ext cx="357516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6"/>
          <p:cNvGraphicFramePr/>
          <p:nvPr/>
        </p:nvGraphicFramePr>
        <p:xfrm>
          <a:off x="1676520" y="4876920"/>
          <a:ext cx="286056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86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5"/>
          <p:cNvGraphicFramePr/>
          <p:nvPr/>
        </p:nvGraphicFramePr>
        <p:xfrm>
          <a:off x="1523880" y="3657600"/>
          <a:ext cx="323388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657600"/>
                    <a:ext cx="3233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1600200" y="2438280"/>
          <a:ext cx="323388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438280"/>
                    <a:ext cx="3233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1523880" y="1295280"/>
          <a:ext cx="3386160" cy="98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1295280"/>
                    <a:ext cx="338616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609480" y="30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4800600" y="1219320"/>
          <a:ext cx="41068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219320"/>
                    <a:ext cx="41068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6"/>
          <p:cNvGraphicFramePr/>
          <p:nvPr/>
        </p:nvGraphicFramePr>
        <p:xfrm>
          <a:off x="1066680" y="5257800"/>
          <a:ext cx="27590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2759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"/>
          <p:cNvGraphicFramePr/>
          <p:nvPr/>
        </p:nvGraphicFramePr>
        <p:xfrm>
          <a:off x="1219320" y="4419720"/>
          <a:ext cx="26002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2600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1066680" y="2971800"/>
          <a:ext cx="2895840" cy="13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2895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1295280" y="1523880"/>
          <a:ext cx="2210040" cy="146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1523880"/>
                    <a:ext cx="22100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4800600" y="1981080"/>
          <a:ext cx="4038480" cy="39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403848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Прямоугольник 3"/>
          <p:cNvSpPr/>
          <p:nvPr/>
        </p:nvSpPr>
        <p:spPr>
          <a:xfrm>
            <a:off x="609480" y="30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08160" y="3002040"/>
          <a:ext cx="3129120" cy="853920"/>
        </p:xfrm>
        <a:graphic>
          <a:graphicData uri="http://schemas.openxmlformats.org/drawingml/2006/table">
            <a:tbl>
              <a:tblPr/>
              <a:tblGrid>
                <a:gridCol w="312912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Object 6"/>
          <p:cNvGraphicFramePr/>
          <p:nvPr/>
        </p:nvGraphicFramePr>
        <p:xfrm>
          <a:off x="1295280" y="4495680"/>
          <a:ext cx="2826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2826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5"/>
          <p:cNvGraphicFramePr/>
          <p:nvPr/>
        </p:nvGraphicFramePr>
        <p:xfrm>
          <a:off x="1143000" y="3505320"/>
          <a:ext cx="32479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505320"/>
                    <a:ext cx="3247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"/>
          <p:cNvGraphicFramePr/>
          <p:nvPr/>
        </p:nvGraphicFramePr>
        <p:xfrm>
          <a:off x="1066680" y="2743200"/>
          <a:ext cx="31845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743200"/>
                    <a:ext cx="31845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3"/>
          <p:cNvGraphicFramePr/>
          <p:nvPr/>
        </p:nvGraphicFramePr>
        <p:xfrm>
          <a:off x="990720" y="1828800"/>
          <a:ext cx="32004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1828800"/>
                    <a:ext cx="3200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"/>
          <p:cNvGraphicFramePr/>
          <p:nvPr/>
        </p:nvGraphicFramePr>
        <p:xfrm>
          <a:off x="5105520" y="1905120"/>
          <a:ext cx="369252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36925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Прямоугольник 3"/>
          <p:cNvSpPr/>
          <p:nvPr/>
        </p:nvSpPr>
        <p:spPr>
          <a:xfrm>
            <a:off x="6094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1295280" y="5181480"/>
          <a:ext cx="29340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181480"/>
                    <a:ext cx="2934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5"/>
          <p:cNvGraphicFramePr/>
          <p:nvPr/>
        </p:nvGraphicFramePr>
        <p:xfrm>
          <a:off x="1447920" y="4191120"/>
          <a:ext cx="27050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91120"/>
                    <a:ext cx="2705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"/>
          <p:cNvGraphicFramePr/>
          <p:nvPr/>
        </p:nvGraphicFramePr>
        <p:xfrm>
          <a:off x="1447920" y="3429000"/>
          <a:ext cx="2793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279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"/>
          <p:cNvGraphicFramePr/>
          <p:nvPr/>
        </p:nvGraphicFramePr>
        <p:xfrm>
          <a:off x="1523880" y="2438280"/>
          <a:ext cx="265428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2654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4038480" y="2895480"/>
          <a:ext cx="47628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95480"/>
                    <a:ext cx="47628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Прямоугольник 3"/>
          <p:cNvSpPr/>
          <p:nvPr/>
        </p:nvSpPr>
        <p:spPr>
          <a:xfrm>
            <a:off x="6094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685800" y="5257800"/>
          <a:ext cx="30099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257800"/>
                    <a:ext cx="3009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5"/>
          <p:cNvGraphicFramePr/>
          <p:nvPr/>
        </p:nvGraphicFramePr>
        <p:xfrm>
          <a:off x="914400" y="3886200"/>
          <a:ext cx="2655720" cy="13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886200"/>
                    <a:ext cx="265572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"/>
          <p:cNvGraphicFramePr/>
          <p:nvPr/>
        </p:nvGraphicFramePr>
        <p:xfrm>
          <a:off x="914400" y="2664000"/>
          <a:ext cx="280044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2664000"/>
                    <a:ext cx="28004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3"/>
          <p:cNvGraphicFramePr/>
          <p:nvPr/>
        </p:nvGraphicFramePr>
        <p:xfrm>
          <a:off x="838080" y="1655640"/>
          <a:ext cx="2743200" cy="12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655640"/>
                    <a:ext cx="27432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Object 1"/>
          <p:cNvGraphicFramePr/>
          <p:nvPr/>
        </p:nvGraphicFramePr>
        <p:xfrm>
          <a:off x="3886200" y="2743200"/>
          <a:ext cx="50608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743200"/>
                    <a:ext cx="50608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Прямоугольник 3"/>
          <p:cNvSpPr/>
          <p:nvPr/>
        </p:nvSpPr>
        <p:spPr>
          <a:xfrm>
            <a:off x="609480" y="3808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линейной функции. Какая из перечисленных формул задает эту функц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838080" y="5334120"/>
          <a:ext cx="246384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334120"/>
                    <a:ext cx="24638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685800" y="4114800"/>
          <a:ext cx="263520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14800"/>
                    <a:ext cx="26352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542880" y="3276720"/>
          <a:ext cx="295272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880" y="3276720"/>
                    <a:ext cx="29527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838080" y="1900080"/>
          <a:ext cx="2438640" cy="12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1900080"/>
                    <a:ext cx="24386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1T05:48:46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