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CF5-8DCE-4634-9E58-AF48CC67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1EA-505D-4373-B034-6EEDFB6E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F7B-FDB5-4711-84C9-9C451CAB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118-AF2B-4C9E-AA80-40E8B085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BEF5-73F1-4161-AD28-AFB4D7B1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7D2E-1E73-4AE9-A939-3E9B3549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0491-4C29-45BF-8F3F-E4B0970A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4D33-392B-4620-9125-5C3AE69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4FD2-33AA-46F1-B24F-CBBC5931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E826-961B-47ED-9A0B-9991C58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C25A-2FFD-4273-AF63-0561ABC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96E-691A-4E41-B13B-C48D515C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E8EC-793A-459D-BA90-09176CBA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451E-227F-46AF-96BE-6D90A7C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02E6-3072-40E5-836C-6D1A2EFB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8161-832D-424A-A67B-12225EA2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5E5A-9C62-4313-B83E-A30B84D4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25B-F865-4A37-ACD8-A8513E75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9ED-2297-4D93-BCD2-2C3FC17A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0F3-EAFE-475B-92A4-B37C059C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F36-B242-4A6A-9955-21746227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34F-A547-4E00-BDC2-E8500BA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B9C-33BD-47BC-A40E-FC462AA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2BC-EA5A-4336-9FC9-8436924A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A9E6-7329-4551-A739-E7DDFBC197E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0168-6AAA-4B07-A8EC-1CD5FCE6935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30960" cy="3511440"/>
          </a:xfrm>
          <a:prstGeom prst="rect">
            <a:avLst/>
          </a:prstGeom>
          <a:ln w="0">
            <a:noFill/>
          </a:ln>
        </p:spPr>
      </p:pic>
      <p:pic>
        <p:nvPicPr>
          <p:cNvPr id="83" name="Подзаголовок 2" descr=""/>
          <p:cNvPicPr/>
          <p:nvPr/>
        </p:nvPicPr>
        <p:blipFill>
          <a:blip r:embed="rId2"/>
          <a:stretch/>
        </p:blipFill>
        <p:spPr>
          <a:xfrm>
            <a:off x="3852720" y="5419800"/>
            <a:ext cx="5126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Картинка 51 из 4023"/>
          <p:cNvPicPr/>
          <p:nvPr/>
        </p:nvPicPr>
        <p:blipFill>
          <a:blip r:embed="rId1"/>
          <a:stretch/>
        </p:blipFill>
        <p:spPr>
          <a:xfrm>
            <a:off x="571680" y="1071720"/>
            <a:ext cx="2857320" cy="436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4" descr="http://radikal.ua/data/upload/49112/ba193/9b84ce09bd_thumb.png"/>
          <p:cNvPicPr/>
          <p:nvPr/>
        </p:nvPicPr>
        <p:blipFill>
          <a:blip r:embed="rId2"/>
          <a:stretch/>
        </p:blipFill>
        <p:spPr>
          <a:xfrm>
            <a:off x="3786120" y="2214720"/>
            <a:ext cx="2014560" cy="192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3.bp.blogspot.com/_fo_OHPCitnA/TS6r0k4rydI/AAAAAAAAAEE/jmajEILVJpw/s1600/Easy+Sunder+Dinner+Roast+Chicken.jpg"/>
          <p:cNvPicPr/>
          <p:nvPr/>
        </p:nvPicPr>
        <p:blipFill>
          <a:blip r:embed="rId3"/>
          <a:stretch/>
        </p:blipFill>
        <p:spPr>
          <a:xfrm>
            <a:off x="5929200" y="500040"/>
            <a:ext cx="2818080" cy="230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артинка 2 из 110501"/>
          <p:cNvPicPr/>
          <p:nvPr/>
        </p:nvPicPr>
        <p:blipFill>
          <a:blip r:embed="rId4"/>
          <a:stretch/>
        </p:blipFill>
        <p:spPr>
          <a:xfrm>
            <a:off x="5929200" y="3143160"/>
            <a:ext cx="2919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009880" cy="4629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9" name="Picture 4" descr="http://radikal.ua/data/upload/49112/ba193/9b84ce09bd_thumb.png"/>
          <p:cNvPicPr/>
          <p:nvPr/>
        </p:nvPicPr>
        <p:blipFill>
          <a:blip r:embed="rId2"/>
          <a:stretch/>
        </p:blipFill>
        <p:spPr>
          <a:xfrm>
            <a:off x="3071880" y="2357280"/>
            <a:ext cx="2014560" cy="192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kneadfulthingsnow.com/images/spaghetti_pasta_109244.jpg"/>
          <p:cNvPicPr/>
          <p:nvPr/>
        </p:nvPicPr>
        <p:blipFill>
          <a:blip r:embed="rId3"/>
          <a:stretch/>
        </p:blipFill>
        <p:spPr>
          <a:xfrm>
            <a:off x="5572080" y="285840"/>
            <a:ext cx="2908440" cy="2786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5572080" y="3429000"/>
            <a:ext cx="29196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0840" y="2352600"/>
            <a:ext cx="8242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5:55:49Z</dcterms:created>
  <dc:creator>Катя</dc:creator>
  <dc:description/>
  <dc:language>en-US</dc:language>
  <cp:lastModifiedBy>Катя</cp:lastModifiedBy>
  <dcterms:modified xsi:type="dcterms:W3CDTF">2011-12-01T16:28:36Z</dcterms:modified>
  <cp:revision>4</cp:revision>
  <dc:subject/>
  <dc:title>WHAT COLOUR ARE THEY?</dc:title>
</cp:coreProperties>
</file>