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1EF-37C8-4C08-BF0B-43A07033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4D0-4D34-4E51-92D7-6F9AAF2F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59E-9EA3-44E2-87E8-ED8288B1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328-0201-4E73-8E17-65E1DC93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38C9-2C94-44F5-9578-4453DA05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D587-42A0-4239-BF51-45C547B0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9FAC-E84C-40AE-8010-32ED953D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5126-0417-42E4-A81D-51E5149D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7040-F395-4F76-8CE9-73109DBB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C67A-7A92-4859-BE48-78D75E16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88A1-71E8-46FA-8F68-093FAA54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499-F169-46C3-A22A-633BA3DE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0AA0-20D3-4760-B478-455539A7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795F-1999-43D2-8CCB-AD1794CF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4921-766D-4322-B362-2E96D87B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254E-7766-4B03-AFF7-25E57B17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1F04-38B4-48EB-9297-62383C57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7A9-485A-45DB-925F-2195FA48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F0B-8166-43EF-AFF3-6AAEA129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AA5-E5B6-4B1E-9F32-6D99D06B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E6E-F6A8-411C-896C-221A03C4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DF5-EE60-4300-A233-D34EAF33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8CC-4DF6-4BDD-B6E7-C88902B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F4D-BC60-43FC-8B5E-669523E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D65D-4610-4321-A710-4F01A3ABDA8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8CE8-1591-465D-AA38-595458036E0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30960" cy="3511440"/>
          </a:xfrm>
          <a:prstGeom prst="rect">
            <a:avLst/>
          </a:prstGeom>
          <a:ln w="0">
            <a:noFill/>
          </a:ln>
        </p:spPr>
      </p:pic>
      <p:pic>
        <p:nvPicPr>
          <p:cNvPr id="83" name="Подзаголовок 2" descr=""/>
          <p:cNvPicPr/>
          <p:nvPr/>
        </p:nvPicPr>
        <p:blipFill>
          <a:blip r:embed="rId2"/>
          <a:stretch/>
        </p:blipFill>
        <p:spPr>
          <a:xfrm>
            <a:off x="3852720" y="5419800"/>
            <a:ext cx="5126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Картинка 51 из 4023"/>
          <p:cNvPicPr/>
          <p:nvPr/>
        </p:nvPicPr>
        <p:blipFill>
          <a:blip r:embed="rId1"/>
          <a:stretch/>
        </p:blipFill>
        <p:spPr>
          <a:xfrm>
            <a:off x="571680" y="1071720"/>
            <a:ext cx="2857320" cy="436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4" descr="http://radikal.ua/data/upload/49112/ba193/9b84ce09bd_thumb.png"/>
          <p:cNvPicPr/>
          <p:nvPr/>
        </p:nvPicPr>
        <p:blipFill>
          <a:blip r:embed="rId2"/>
          <a:stretch/>
        </p:blipFill>
        <p:spPr>
          <a:xfrm>
            <a:off x="3786120" y="2214720"/>
            <a:ext cx="2014560" cy="192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3.bp.blogspot.com/_fo_OHPCitnA/TS6r0k4rydI/AAAAAAAAAEE/jmajEILVJpw/s1600/Easy+Sunder+Dinner+Roast+Chicken.jpg"/>
          <p:cNvPicPr/>
          <p:nvPr/>
        </p:nvPicPr>
        <p:blipFill>
          <a:blip r:embed="rId3"/>
          <a:stretch/>
        </p:blipFill>
        <p:spPr>
          <a:xfrm>
            <a:off x="5929200" y="500040"/>
            <a:ext cx="2818080" cy="230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артинка 2 из 110501"/>
          <p:cNvPicPr/>
          <p:nvPr/>
        </p:nvPicPr>
        <p:blipFill>
          <a:blip r:embed="rId4"/>
          <a:stretch/>
        </p:blipFill>
        <p:spPr>
          <a:xfrm>
            <a:off x="5929200" y="3143160"/>
            <a:ext cx="2919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009880" cy="4629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9" name="Picture 4" descr="http://radikal.ua/data/upload/49112/ba193/9b84ce09bd_thumb.png"/>
          <p:cNvPicPr/>
          <p:nvPr/>
        </p:nvPicPr>
        <p:blipFill>
          <a:blip r:embed="rId2"/>
          <a:stretch/>
        </p:blipFill>
        <p:spPr>
          <a:xfrm>
            <a:off x="3071880" y="2357280"/>
            <a:ext cx="2014560" cy="192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kneadfulthingsnow.com/images/spaghetti_pasta_109244.jpg"/>
          <p:cNvPicPr/>
          <p:nvPr/>
        </p:nvPicPr>
        <p:blipFill>
          <a:blip r:embed="rId3"/>
          <a:stretch/>
        </p:blipFill>
        <p:spPr>
          <a:xfrm>
            <a:off x="5572080" y="285840"/>
            <a:ext cx="2908440" cy="2786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5572080" y="3429000"/>
            <a:ext cx="29196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0840" y="2352600"/>
            <a:ext cx="8242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5:55:49Z</dcterms:created>
  <dc:creator>Катя</dc:creator>
  <dc:description/>
  <dc:language>en-US</dc:language>
  <cp:lastModifiedBy>Катя</cp:lastModifiedBy>
  <dcterms:modified xsi:type="dcterms:W3CDTF">2011-12-01T16:28:36Z</dcterms:modified>
  <cp:revision>4</cp:revision>
  <dc:subject/>
  <dc:title>WHAT COLOUR ARE THEY?</dc:title>
</cp:coreProperties>
</file>