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263-3744-4AD3-A0B3-AF1EA972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474-5BCE-46D6-B37B-FAB651D8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F59-F877-40F4-ADB2-8400AFCC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C21-E80B-48D1-907B-4B9A47AD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FA87-238F-4703-B14F-F0843548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D941-04BB-40F4-BDBE-62F5CEFE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AFCD-7FF1-430B-A58A-55138E53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546F-3601-4054-9F46-6AEA0882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DBB2-4610-4BBC-B33F-B16201E1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CCC2-5A75-40C8-813D-022402FD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E01F-2010-4661-9204-0FBDFFA9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E0D-510F-4993-BD2F-D8BB5E55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3340-53CC-4B53-A0FF-D0CFA9B3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B851-B3A3-41EA-9650-21E863AD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5503-5A37-46EC-9622-D1AB17CA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7B43-1420-48E1-968A-3F61AFD1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1A8C-67E7-448E-9508-6D42B73F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027-246F-4E68-9EFC-BB425288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D8E-68F9-4C33-BF48-A8AFC296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90A-02ED-407A-9510-CB622946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57B-0075-4DA5-87E0-A20F7688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002-DCD3-4A93-9D04-31E969CB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3CA-2699-479D-94C7-A6407FB0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1E6-E870-40CE-9D75-4058ED6B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2c324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2c3244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2c324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2c324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2c324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2c324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222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1B90-09B5-4672-B341-2C48A4668990}" type="slidenum">
              <a:rPr b="0" lang="ru-RU" sz="1200" spc="-1" strike="noStrike">
                <a:solidFill>
                  <a:srgbClr val="1d222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2c324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2c3244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2c324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2c324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2c324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2c324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222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30CE-257A-49D2-AE8A-F5A70DB67929}" type="slidenum">
              <a:rPr b="0" lang="ru-RU" sz="1200" spc="-1" strike="noStrike">
                <a:solidFill>
                  <a:srgbClr val="1d222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5105520" y="4365360"/>
            <a:ext cx="403848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c3244"/>
                </a:solidFill>
                <a:latin typeface="Times New Roman"/>
              </a:rPr>
              <a:t>Выполнил: Колупаев Серафим,    ученик 10Г класса </a:t>
            </a:r>
            <a:r>
              <a:rPr b="0" lang="en-US" sz="1700" spc="-1" strike="noStrike">
                <a:solidFill>
                  <a:srgbClr val="2c3244"/>
                </a:solidFill>
                <a:latin typeface="Times New Roman"/>
              </a:rPr>
              <a:t>М</a:t>
            </a:r>
            <a:r>
              <a:rPr b="0" lang="ru-RU" sz="1700" spc="-1" strike="noStrike">
                <a:solidFill>
                  <a:srgbClr val="2c3244"/>
                </a:solidFill>
                <a:latin typeface="Times New Roman"/>
              </a:rPr>
              <a:t>ОУ </a:t>
            </a:r>
            <a:r>
              <a:rPr b="0" lang="en-US" sz="1700" spc="-1" strike="noStrike">
                <a:solidFill>
                  <a:srgbClr val="2c3244"/>
                </a:solidFill>
                <a:latin typeface="Times New Roman"/>
              </a:rPr>
              <a:t>лице</a:t>
            </a:r>
            <a:r>
              <a:rPr b="0" lang="ru-RU" sz="1700" spc="-1" strike="noStrike">
                <a:solidFill>
                  <a:srgbClr val="2c3244"/>
                </a:solidFill>
                <a:latin typeface="Times New Roman"/>
              </a:rPr>
              <a:t>я</a:t>
            </a:r>
            <a:r>
              <a:rPr b="0" lang="en-US" sz="1700" spc="-1" strike="noStrike">
                <a:solidFill>
                  <a:srgbClr val="2c3244"/>
                </a:solidFill>
                <a:latin typeface="Times New Roman"/>
              </a:rPr>
              <a:t> №29</a:t>
            </a:r>
            <a:endParaRPr b="0" lang="en-US" sz="1700" spc="-1" strike="noStrike">
              <a:solidFill>
                <a:srgbClr val="2c3244"/>
              </a:solidFill>
              <a:latin typeface="Times New Roman"/>
            </a:endParaRPr>
          </a:p>
          <a:p>
            <a:pPr marL="536400" indent="-402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c3244"/>
                </a:solidFill>
                <a:latin typeface="Times New Roman"/>
              </a:rPr>
              <a:t>        </a:t>
            </a:r>
            <a:r>
              <a:rPr b="0" lang="ru-RU" sz="1700" spc="-1" strike="noStrike">
                <a:solidFill>
                  <a:srgbClr val="2c3244"/>
                </a:solidFill>
                <a:latin typeface="Times New Roman"/>
              </a:rPr>
              <a:t>г.Тамбова</a:t>
            </a:r>
            <a:endParaRPr b="0" lang="en-US" sz="1700" spc="-1" strike="noStrike">
              <a:solidFill>
                <a:srgbClr val="2c3244"/>
              </a:solidFill>
              <a:latin typeface="Times New Roman"/>
            </a:endParaRPr>
          </a:p>
          <a:p>
            <a:pPr marL="536400" indent="-402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c3244"/>
              </a:solidFill>
              <a:latin typeface="Times New Roman"/>
            </a:endParaRPr>
          </a:p>
          <a:p>
            <a:pPr marL="536400" indent="-402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c3244"/>
                </a:solidFill>
                <a:latin typeface="Times New Roman"/>
              </a:rPr>
              <a:t>Руководитель: Архипова Т.М., учитель биологии</a:t>
            </a:r>
            <a:endParaRPr b="0" lang="en-US" sz="17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6760" y="1356840"/>
            <a:ext cx="857268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Влияние поллютантов на качество продуктов пчеловодства</a:t>
            </a:r>
            <a:endParaRPr b="0" lang="en-US" sz="3200" spc="-1" strike="noStrike">
              <a:solidFill>
                <a:srgbClr val="2c3244"/>
              </a:solidFill>
              <a:latin typeface="Times New Roman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00040" y="4540320"/>
            <a:ext cx="2643120" cy="17463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1148760" y="2928960"/>
            <a:ext cx="373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60093"/>
                </a:solidFill>
                <a:uFillTx/>
                <a:latin typeface="Arial"/>
              </a:rPr>
              <a:t>Творческое название</a:t>
            </a:r>
            <a:endParaRPr b="0" lang="en-US" sz="2800" spc="-1" strike="noStrike">
              <a:solidFill>
                <a:srgbClr val="2c324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1214280" y="3786120"/>
            <a:ext cx="6143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Каков облёт - таков и мёд.</a:t>
            </a:r>
            <a:endParaRPr b="0" lang="en-US" sz="2800" spc="-1" strike="noStrike">
              <a:solidFill>
                <a:srgbClr val="2c32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684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SmartArt 3" descr=""/>
          <p:cNvPicPr/>
          <p:nvPr/>
        </p:nvPicPr>
        <p:blipFill>
          <a:blip r:embed="rId2"/>
          <a:stretch/>
        </p:blipFill>
        <p:spPr>
          <a:xfrm>
            <a:off x="1133640" y="2066760"/>
            <a:ext cx="7272000" cy="3853080"/>
          </a:xfrm>
          <a:prstGeom prst="rect">
            <a:avLst/>
          </a:prstGeom>
          <a:ln w="0">
            <a:noFill/>
          </a:ln>
        </p:spPr>
      </p:pic>
      <p:cxnSp>
        <p:nvCxnSpPr>
          <p:cNvPr id="109" name="Прямая со стрелкой 5"/>
          <p:cNvCxnSpPr/>
          <p:nvPr/>
        </p:nvCxnSpPr>
        <p:spPr>
          <a:xfrm flipH="1">
            <a:off x="1785600" y="1500120"/>
            <a:ext cx="1357920" cy="572400"/>
          </a:xfrm>
          <a:prstGeom prst="straightConnector1">
            <a:avLst/>
          </a:prstGeom>
          <a:ln w="9360">
            <a:solidFill>
              <a:srgbClr val="2c3244"/>
            </a:solidFill>
            <a:miter/>
            <a:tailEnd len="med" type="arrow" w="med"/>
          </a:ln>
        </p:spPr>
      </p:cxnSp>
      <p:cxnSp>
        <p:nvCxnSpPr>
          <p:cNvPr id="110" name="Прямая со стрелкой 7"/>
          <p:cNvCxnSpPr/>
          <p:nvPr/>
        </p:nvCxnSpPr>
        <p:spPr>
          <a:xfrm>
            <a:off x="6143400" y="1500120"/>
            <a:ext cx="1500840" cy="572400"/>
          </a:xfrm>
          <a:prstGeom prst="straightConnector1">
            <a:avLst/>
          </a:prstGeom>
          <a:ln w="9360">
            <a:solidFill>
              <a:srgbClr val="2c3244"/>
            </a:solidFill>
            <a:miter/>
            <a:tailEnd len="med" type="arrow" w="med"/>
          </a:ln>
        </p:spPr>
      </p:cxnSp>
      <p:cxnSp>
        <p:nvCxnSpPr>
          <p:cNvPr id="111" name="Прямая со стрелкой 9"/>
          <p:cNvCxnSpPr/>
          <p:nvPr/>
        </p:nvCxnSpPr>
        <p:spPr>
          <a:xfrm flipH="1">
            <a:off x="4785480" y="1714680"/>
            <a:ext cx="2520" cy="2002320"/>
          </a:xfrm>
          <a:prstGeom prst="straightConnector1">
            <a:avLst/>
          </a:prstGeom>
          <a:ln w="9360">
            <a:solidFill>
              <a:srgbClr val="2c32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285840" y="-85680"/>
            <a:ext cx="8645400" cy="151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285840" y="3143160"/>
            <a:ext cx="2571840" cy="2928960"/>
          </a:xfrm>
          <a:prstGeom prst="irregularSeal1">
            <a:avLst/>
          </a:prstGeom>
          <a:solidFill>
            <a:srgbClr val="b5b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5429160" y="928800"/>
            <a:ext cx="3500640" cy="2928960"/>
          </a:xfrm>
          <a:prstGeom prst="irregularSeal1">
            <a:avLst/>
          </a:prstGeom>
          <a:solidFill>
            <a:srgbClr val="b5b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c3244"/>
                </a:solidFill>
                <a:latin typeface="Arial"/>
              </a:rPr>
              <a:t>Аэрозоли(свинец, </a:t>
            </a:r>
            <a:endParaRPr b="0" lang="en-US" sz="1400" spc="-1" strike="noStrike">
              <a:solidFill>
                <a:srgbClr val="2c324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c3244"/>
                </a:solidFill>
                <a:latin typeface="Arial"/>
              </a:rPr>
              <a:t>кадмий,медь, цинк)</a:t>
            </a:r>
            <a:endParaRPr b="0" lang="en-US" sz="14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2428920" y="1143000"/>
            <a:ext cx="2500200" cy="2286000"/>
          </a:xfrm>
          <a:prstGeom prst="irregularSeal1">
            <a:avLst/>
          </a:prstGeom>
          <a:solidFill>
            <a:srgbClr val="b5b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17" name="Выноска-облако 7"/>
          <p:cNvSpPr/>
          <p:nvPr/>
        </p:nvSpPr>
        <p:spPr>
          <a:xfrm>
            <a:off x="4643280" y="4286160"/>
            <a:ext cx="2143440" cy="20005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9f1ff"/>
          </a:solidFill>
          <a:ln w="25560">
            <a:solidFill>
              <a:srgbClr val="008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cxnSp>
        <p:nvCxnSpPr>
          <p:cNvPr id="118" name="Прямая со стрелкой 9"/>
          <p:cNvCxnSpPr/>
          <p:nvPr/>
        </p:nvCxnSpPr>
        <p:spPr>
          <a:xfrm flipH="1" flipV="1">
            <a:off x="2571480" y="4642920"/>
            <a:ext cx="1643760" cy="286560"/>
          </a:xfrm>
          <a:prstGeom prst="straightConnector1">
            <a:avLst/>
          </a:prstGeom>
          <a:ln w="9360">
            <a:solidFill>
              <a:srgbClr val="2c3244"/>
            </a:solidFill>
            <a:miter/>
            <a:tailEnd len="med" type="arrow" w="med"/>
          </a:ln>
        </p:spPr>
      </p:cxnSp>
      <p:cxnSp>
        <p:nvCxnSpPr>
          <p:cNvPr id="119" name="Прямая со стрелкой 11"/>
          <p:cNvCxnSpPr/>
          <p:nvPr/>
        </p:nvCxnSpPr>
        <p:spPr>
          <a:xfrm flipV="1">
            <a:off x="6357600" y="3785400"/>
            <a:ext cx="572040" cy="500760"/>
          </a:xfrm>
          <a:prstGeom prst="straightConnector1">
            <a:avLst/>
          </a:prstGeom>
          <a:ln w="9360">
            <a:solidFill>
              <a:srgbClr val="2c3244"/>
            </a:solidFill>
            <a:miter/>
            <a:tailEnd len="med" type="arrow" w="med"/>
          </a:ln>
        </p:spPr>
      </p:cxnSp>
      <p:cxnSp>
        <p:nvCxnSpPr>
          <p:cNvPr id="120" name="Прямая со стрелкой 13"/>
          <p:cNvCxnSpPr/>
          <p:nvPr/>
        </p:nvCxnSpPr>
        <p:spPr>
          <a:xfrm flipH="1" flipV="1">
            <a:off x="3999960" y="3071160"/>
            <a:ext cx="857880" cy="1429560"/>
          </a:xfrm>
          <a:prstGeom prst="straightConnector1">
            <a:avLst/>
          </a:prstGeom>
          <a:ln w="9360">
            <a:solidFill>
              <a:srgbClr val="2c3244"/>
            </a:solidFill>
            <a:miter/>
            <a:tailEnd len="med" type="arrow" w="med"/>
          </a:ln>
        </p:spPr>
      </p:cxnSp>
      <p:sp>
        <p:nvSpPr>
          <p:cNvPr id="121" name="Rectangle 5"/>
          <p:cNvSpPr/>
          <p:nvPr/>
        </p:nvSpPr>
        <p:spPr>
          <a:xfrm>
            <a:off x="4643280" y="485964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3244"/>
                </a:solidFill>
                <a:latin typeface="Calibri"/>
                <a:ea typeface="Times New Roman"/>
              </a:rPr>
              <a:t>Атмосферный воздух</a:t>
            </a: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571840" y="20019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3244"/>
                </a:solidFill>
                <a:latin typeface="Calibri"/>
                <a:ea typeface="Times New Roman"/>
              </a:rPr>
              <a:t>Газообразная ртуть</a:t>
            </a: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571680" y="414504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3244"/>
                </a:solidFill>
                <a:latin typeface="Calibri"/>
                <a:ea typeface="Times New Roman"/>
              </a:rPr>
              <a:t>Пыль(органические соединения)</a:t>
            </a: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01124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428720" y="1428840"/>
            <a:ext cx="4257720" cy="4308480"/>
          </a:xfrm>
          <a:prstGeom prst="rect">
            <a:avLst/>
          </a:prstGeom>
          <a:solidFill>
            <a:srgbClr val="ffcbcc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наличие нерастворимых веществ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К</a:t>
            </a: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оличество </a:t>
            </a: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пыльцевых зёрен </a:t>
            </a: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реже определяют виды пыльцы растений (пыльцевой анализ)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содержание воды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содержание минеральных веществ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содержание</a:t>
            </a: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сахаров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ктивность</a:t>
            </a: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 диастазы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Кислотность </a:t>
            </a: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концентрации опасных и токсических веществ (</a:t>
            </a: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антибиотики</a:t>
            </a: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 пестициды, радионуклиды)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К</a:t>
            </a: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онцентрация </a:t>
            </a: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оксиметилфурфурола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электропроводность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642960" y="1428840"/>
            <a:ext cx="32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244"/>
                </a:solidFill>
                <a:latin typeface="Tahoma"/>
              </a:rPr>
              <a:t>проводят комплексно, путем химического анализа, с помощью физико-химических методов, при помощи микроскопии, </a:t>
            </a:r>
            <a:r>
              <a:rPr b="0" lang="ru-RU" sz="1800" spc="-1" strike="noStrike">
                <a:solidFill>
                  <a:srgbClr val="2c3244"/>
                </a:solidFill>
                <a:latin typeface="Tahoma"/>
              </a:rPr>
              <a:t>органолептически.</a:t>
            </a: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244"/>
                </a:solidFill>
                <a:latin typeface="Tahoma"/>
              </a:rPr>
              <a:t>Чаще всего определяют следующие показатели:</a:t>
            </a:r>
            <a:br>
              <a:rPr sz="1800"/>
            </a:b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178596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ГОСТу РФ допустимая влажность мёда составляет 21%. </a:t>
            </a: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00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56b1f"/>
                </a:solidFill>
                <a:latin typeface="Times New Roman"/>
              </a:rPr>
              <a:t>Влажность исследуемого образца мёда составляет </a:t>
            </a:r>
            <a:r>
              <a:rPr b="1" i="1" lang="en-US" sz="3200" spc="-1" strike="noStrike">
                <a:solidFill>
                  <a:srgbClr val="456b1f"/>
                </a:solidFill>
                <a:latin typeface="Times New Roman"/>
              </a:rPr>
              <a:t> 19</a:t>
            </a:r>
            <a:r>
              <a:rPr b="1" i="1" lang="ru-RU" sz="3200" spc="-1" strike="noStrike">
                <a:solidFill>
                  <a:srgbClr val="456b1f"/>
                </a:solidFill>
                <a:latin typeface="Times New Roman"/>
              </a:rPr>
              <a:t>%, </a:t>
            </a:r>
            <a:endParaRPr b="0" lang="en-US" sz="32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56b1f"/>
                </a:solidFill>
                <a:latin typeface="Times New Roman"/>
              </a:rPr>
              <a:t>это говорит о его хорошем качестве и зрелости.</a:t>
            </a:r>
            <a:endParaRPr b="0" lang="en-US" sz="3200" spc="-1" strike="noStrike">
              <a:solidFill>
                <a:srgbClr val="2c32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7" descr=""/>
          <p:cNvPicPr/>
          <p:nvPr/>
        </p:nvPicPr>
        <p:blipFill>
          <a:blip r:embed="rId1"/>
          <a:stretch/>
        </p:blipFill>
        <p:spPr>
          <a:xfrm>
            <a:off x="281160" y="-79200"/>
            <a:ext cx="8350200" cy="133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57120" y="1143000"/>
          <a:ext cx="8229600" cy="5554800"/>
        </p:xfrm>
        <a:graphic>
          <a:graphicData uri="http://schemas.openxmlformats.org/drawingml/2006/table">
            <a:tbl>
              <a:tblPr/>
              <a:tblGrid>
                <a:gridCol w="1111320"/>
                <a:gridCol w="3521160"/>
                <a:gridCol w="3597120"/>
              </a:tblGrid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Катион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Воздействие или реактив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Наблюдаемая реакция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300" spc="-1" strike="noStrike" baseline="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Водный раствор аммиака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Ярко-васильковая окраска раствора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0" lang="en-US" sz="1300" spc="-1" strike="noStrike" baseline="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Водный раствор аммиака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Голубая окраска раствора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0" lang="en-US" sz="1300" spc="-1" strike="noStrike" baseline="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Серная кислота, растворимые сульфаты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Белый осадок, растворимый в растворах едких щелочей и ацетат аммония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Хроматы щелочей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Жёлтый осадок, растворимый в азотной кислоте и растворах едких щелочей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Черный осадок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en-US" sz="1300" spc="-1" strike="noStrike" baseline="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(NH</a:t>
                      </a:r>
                      <a:r>
                        <a:rPr b="0" lang="en-US" sz="1300" spc="-1" strike="noStrike" baseline="-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300" spc="-1" strike="noStrike" baseline="-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en-TT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TT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CNS</a:t>
                      </a: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300" spc="-1" strike="noStrike" baseline="-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]-тетрародано-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меркурат аммония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В присутствии ионов меди -фиолетовый осадок;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В присутствии ионов кобальта – синий осадок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TT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r>
                        <a:rPr b="0" lang="en-TT" sz="1300" spc="-1" strike="noStrike" baseline="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Cерная кислота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Белый хлопьевидный осадок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Пламя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Жёлто-зелёное окрашивание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Аg</a:t>
                      </a:r>
                      <a:r>
                        <a:rPr b="0" lang="en-US" sz="1300" spc="-1" strike="noStrike" baseline="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Соляная кислота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Белый осадок, хорошо растворимый в водном растворе аммиака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300" spc="-1" strike="noStrike" baseline="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Гексацианоферрат(II) калия-жёлтая кровяная соль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Синий осадок(берлинская лазурь)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Роданид-ион SCN</a:t>
                      </a:r>
                      <a:r>
                        <a:rPr b="0" lang="en-US" sz="1300" spc="-1" strike="noStrike" baseline="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Ярко</a:t>
                      </a:r>
                      <a:r>
                        <a:rPr b="0" lang="ru-RU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красное окрашивание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2419200" y="281160"/>
            <a:ext cx="2549520" cy="1150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Так как качественные реакции не дали положительного результата, мы можем сделать вывод,что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в мёде Тамбовской области нет катионов тяжёлых металлов. Это объясняется тем, чт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 при переработке нектара в м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ё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д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 пчелы способны отфильтровывать и  аккумулировать большинство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редных веществ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в своём теле.</a:t>
            </a: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463680" y="285840"/>
            <a:ext cx="8242200" cy="920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14200" y="1142640"/>
            <a:ext cx="8786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в результате работы над проектом выяснено, что загрязнение окружающей среды  влияет на пчёл и продукты пчеловодства,  в хитиновом покрове   этих насекомых накапливается много  продуктов техногенной сферы, в том числе и тяжёлые металлы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для получения чистых от поллютантов  продуктов пчеловодства, необходимо устанавливать ульи в местах, где таких загрязнителей мало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гипотеза, выдвинутая в проекте, подтвердилась и нарастающее загрязнение окружающей  среды, приводящее к сокращению численности пчёл, влияет на качество продуктов пчеловодства ( пыльцу, пергу, прополис и др.)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на качество мёда загрязнения не влияют, благодаря природной способности пчел фильтровать нектар в процессе вызревания меда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где бы ни находилась пасека  мы можем быть уверены в безопасности меда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Лавренов.В.К</a:t>
            </a:r>
            <a:r>
              <a:rPr b="1" i="1" lang="en-US" sz="1500" spc="-1" strike="noStrike">
                <a:solidFill>
                  <a:srgbClr val="2c3244"/>
                </a:solidFill>
                <a:latin typeface="Times New Roman"/>
              </a:rPr>
              <a:t>.,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 </a:t>
            </a:r>
            <a:r>
              <a:rPr b="0" i="1" lang="ru-RU" sz="1500" spc="-1" strike="noStrike">
                <a:solidFill>
                  <a:srgbClr val="2c3244"/>
                </a:solidFill>
                <a:latin typeface="Times New Roman"/>
              </a:rPr>
              <a:t>«Энциклопедия мёда-пыльца и перга», 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Санкт-Петербург, издательство "Диалог", 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Салыгина М.В.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 Химия</a:t>
            </a:r>
            <a:r>
              <a:rPr b="0" i="1" lang="ru-RU" sz="1500" spc="-1" strike="noStrike">
                <a:solidFill>
                  <a:srgbClr val="2c3244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для школьников и абитуриентов, 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«Виктория» С.-</a:t>
            </a:r>
            <a:r>
              <a:rPr b="0" lang="ru-RU" sz="1500" spc="-1" strike="noStrike">
                <a:solidFill>
                  <a:srgbClr val="2c3244"/>
                </a:solidFill>
                <a:latin typeface="Times New Roman"/>
              </a:rPr>
              <a:t>П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етербург, 2005-240с.)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Т.А.Акимова, А.П. Кузьмин,В.В.Хаскин,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 «Экология»,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М.,»Юнити»,2001г.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Осинцева Л.А. 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Факторы, позволяющие прогнозировать содержание ТМ  в продуктах пчеловодства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/ - Барнаул: Изд-во АГАУ, 2008.- Кн.2. – С. 108-110.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Коркина В.И. 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Апимониторинг окружающей среды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/ – Кемерово: Кузбассвузиздат, 2008. – С. 33-35.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Осинцева Л.А. 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Оценка качества и безопасность продуктов пчеловодства в связи с распределением поллютантов в растениях–пыльценосах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/ - Барнаул, 2008. – С.339-344.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Русакова Т.М.,   РепниковаЛ.В.,  Мартынова В.М. 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Роль пчел в получении экологически чистых продуктов пчеловодства.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 Мат. координационного совещания и конф. «Новое в науке и практике пчеловодства». Рыбное, 2003: 190-193.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КолбинаЛ.М. 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Содержание тяжелых металлов в пчелах и продуктах пчеловодства.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 Тез. докл. 4-й Межд. науч.-практ. конф. «Экология и охрана окружающей среды». Рязань, 1998: 156-157. 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c3244"/>
                </a:solidFill>
                <a:latin typeface="Times New Roman"/>
              </a:rPr>
              <a:t>Ресурсы сети Интернет.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В результате интенсивного развития промышленности, транспорта, энергетики, а также интенсификации сельскохозяйственного производства возрастает антропогенное воздействие на природную среду, что приводит к развитию процессов техногенеза, то есть изменения природных комплексов под воздействием производственной деятельности человека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.Эти вещества могут попасть в продукты питания,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следовательно и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в организм человека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390600" y="255600"/>
            <a:ext cx="8240760" cy="115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28760" y="128592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Каким образом загрязнение окружающей среды сказывается на пчёлах и продуктах пчеловодства?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500040" y="3000240"/>
            <a:ext cx="67867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60093"/>
                </a:solidFill>
                <a:uFillTx/>
                <a:latin typeface="Arial"/>
              </a:rPr>
              <a:t>Гипотеза:</a:t>
            </a:r>
            <a:endParaRPr b="0" lang="en-US" sz="2800" spc="-1" strike="noStrike">
              <a:solidFill>
                <a:srgbClr val="2c324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Вредные вещества техногенного характера, </a:t>
            </a:r>
            <a:endParaRPr b="0" lang="en-US" sz="2000" spc="-1" strike="noStrike">
              <a:solidFill>
                <a:srgbClr val="2c324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накапливающиеся в растениях, переходят в </a:t>
            </a:r>
            <a:endParaRPr b="0" lang="en-US" sz="2000" spc="-1" strike="noStrike">
              <a:solidFill>
                <a:srgbClr val="2c324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продукты пчеловодства и отрицательно влияют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на здоровье человека</a:t>
            </a:r>
            <a:endParaRPr b="0" lang="en-US" sz="2000" spc="-1" strike="noStrike">
              <a:solidFill>
                <a:srgbClr val="2c324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2c324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-1760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изучение  влияния на пчёл загрязнения окружающей среды и возможности воздействия этих веществ на организм человека через продукты пчеловодства</a:t>
            </a:r>
            <a:endParaRPr b="0" lang="en-US" sz="32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00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1" i="1" lang="ru-RU" sz="21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i="1" lang="en-US" sz="2100" spc="-1" strike="noStrike">
                <a:solidFill>
                  <a:srgbClr val="006600"/>
                </a:solidFill>
                <a:latin typeface="Times New Roman"/>
              </a:rPr>
              <a:t>Предпроектный</a:t>
            </a:r>
            <a:endParaRPr b="0" lang="en-US" sz="2100" spc="-1" strike="noStrike">
              <a:solidFill>
                <a:srgbClr val="2c3244"/>
              </a:solidFill>
              <a:latin typeface="Times New Roman"/>
            </a:endParaRPr>
          </a:p>
          <a:p>
            <a:pPr lvl="1" marL="1168560" indent="-824040">
              <a:lnSpc>
                <a:spcPct val="80000"/>
              </a:lnSpc>
              <a:spcBef>
                <a:spcPts val="499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244"/>
                </a:solidFill>
                <a:latin typeface="Times New Roman"/>
              </a:rPr>
              <a:t>Выбор темы и постановка задач</a:t>
            </a:r>
            <a:endParaRPr b="0" lang="en-US" sz="2000" spc="-1" strike="noStrike">
              <a:solidFill>
                <a:srgbClr val="2c3244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00"/>
                </a:solidFill>
                <a:latin typeface="Times New Roman"/>
              </a:rPr>
              <a:t>II.  Проектный</a:t>
            </a:r>
            <a:endParaRPr b="0" lang="en-US" sz="2100" spc="-1" strike="noStrike">
              <a:solidFill>
                <a:srgbClr val="2c3244"/>
              </a:solidFill>
              <a:latin typeface="Times New Roman"/>
            </a:endParaRPr>
          </a:p>
          <a:p>
            <a:pPr lvl="1" marL="1168560" indent="-824040">
              <a:lnSpc>
                <a:spcPct val="80000"/>
              </a:lnSpc>
              <a:spcBef>
                <a:spcPts val="499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244"/>
                </a:solidFill>
                <a:latin typeface="Times New Roman"/>
              </a:rPr>
              <a:t>Исследование литературных источников </a:t>
            </a:r>
            <a:endParaRPr b="0" lang="en-US" sz="2000" spc="-1" strike="noStrike">
              <a:solidFill>
                <a:srgbClr val="2c3244"/>
              </a:solidFill>
              <a:latin typeface="Times New Roman"/>
            </a:endParaRPr>
          </a:p>
          <a:p>
            <a:pPr lvl="1" marL="1168560" indent="-824040">
              <a:lnSpc>
                <a:spcPct val="80000"/>
              </a:lnSpc>
              <a:spcBef>
                <a:spcPts val="499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244"/>
                </a:solidFill>
                <a:latin typeface="Times New Roman"/>
              </a:rPr>
              <a:t>Анкетирование учащихся </a:t>
            </a:r>
            <a:endParaRPr b="0" lang="en-US" sz="2000" spc="-1" strike="noStrike">
              <a:solidFill>
                <a:srgbClr val="2c3244"/>
              </a:solidFill>
              <a:latin typeface="Times New Roman"/>
            </a:endParaRPr>
          </a:p>
          <a:p>
            <a:pPr lvl="1" marL="1168560" indent="-824040">
              <a:lnSpc>
                <a:spcPct val="80000"/>
              </a:lnSpc>
              <a:spcBef>
                <a:spcPts val="499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244"/>
                </a:solidFill>
                <a:latin typeface="Times New Roman"/>
              </a:rPr>
              <a:t>Написание реферата по теме исследования</a:t>
            </a:r>
            <a:endParaRPr b="0" lang="en-US" sz="2000" spc="-1" strike="noStrike">
              <a:solidFill>
                <a:srgbClr val="2c3244"/>
              </a:solidFill>
              <a:latin typeface="Times New Roman"/>
            </a:endParaRPr>
          </a:p>
          <a:p>
            <a:pPr lvl="1" marL="1168560" indent="-824040">
              <a:lnSpc>
                <a:spcPct val="80000"/>
              </a:lnSpc>
              <a:spcBef>
                <a:spcPts val="499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244"/>
                </a:solidFill>
                <a:latin typeface="Times New Roman"/>
              </a:rPr>
              <a:t>Исследование мёда на наличие в нём солей тяжёлых металлов</a:t>
            </a:r>
            <a:endParaRPr b="0" lang="en-US" sz="2000" spc="-1" strike="noStrike">
              <a:solidFill>
                <a:srgbClr val="2c3244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21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i="1" lang="en-US" sz="2100" spc="-1" strike="noStrike">
                <a:solidFill>
                  <a:srgbClr val="006600"/>
                </a:solidFill>
                <a:latin typeface="Times New Roman"/>
              </a:rPr>
              <a:t> Заключительный</a:t>
            </a:r>
            <a:endParaRPr b="0" lang="en-US" sz="2100" spc="-1" strike="noStrike">
              <a:solidFill>
                <a:srgbClr val="2c3244"/>
              </a:solidFill>
              <a:latin typeface="Times New Roman"/>
            </a:endParaRPr>
          </a:p>
          <a:p>
            <a:pPr lvl="1" marL="1168560" indent="-824040">
              <a:lnSpc>
                <a:spcPct val="80000"/>
              </a:lnSpc>
              <a:spcBef>
                <a:spcPts val="499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244"/>
                </a:solidFill>
                <a:latin typeface="Times New Roman"/>
              </a:rPr>
              <a:t>Подведение итогов реализации проекта</a:t>
            </a:r>
            <a:endParaRPr b="0" lang="en-US" sz="2000" spc="-1" strike="noStrike">
              <a:solidFill>
                <a:srgbClr val="2c3244"/>
              </a:solidFill>
              <a:latin typeface="Times New Roman"/>
            </a:endParaRPr>
          </a:p>
          <a:p>
            <a:pPr lvl="1" marL="1168560" indent="-824040">
              <a:lnSpc>
                <a:spcPct val="80000"/>
              </a:lnSpc>
              <a:spcBef>
                <a:spcPts val="499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244"/>
                </a:solidFill>
                <a:latin typeface="Times New Roman"/>
              </a:rPr>
              <a:t>Участие в ученических научно- практических конференциях  «Первые шаги в науку», «Грани творчества».</a:t>
            </a:r>
            <a:endParaRPr b="0" lang="en-US" sz="2000" spc="-1" strike="noStrike">
              <a:solidFill>
                <a:srgbClr val="2c3244"/>
              </a:solidFill>
              <a:latin typeface="Times New Roman"/>
            </a:endParaRPr>
          </a:p>
          <a:p>
            <a:pPr lvl="1" marL="1168560" indent="-824040">
              <a:lnSpc>
                <a:spcPct val="80000"/>
              </a:lnSpc>
              <a:spcBef>
                <a:spcPts val="499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244"/>
                </a:solidFill>
                <a:latin typeface="Times New Roman"/>
              </a:rPr>
              <a:t>Размещение результатов проекта в сети Интернет</a:t>
            </a:r>
            <a:endParaRPr b="0" lang="en-US" sz="2000" spc="-1" strike="noStrike">
              <a:solidFill>
                <a:srgbClr val="2c32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4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242560" cy="10062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0" y="199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14240" y="1428840"/>
          <a:ext cx="7715520" cy="4357440"/>
        </p:xfrm>
        <a:graphic>
          <a:graphicData uri="http://schemas.openxmlformats.org/drawingml/2006/table">
            <a:tbl>
              <a:tblPr/>
              <a:tblGrid>
                <a:gridCol w="1246320"/>
                <a:gridCol w="703440"/>
                <a:gridCol w="847440"/>
                <a:gridCol w="757440"/>
                <a:gridCol w="946080"/>
                <a:gridCol w="689040"/>
                <a:gridCol w="954000"/>
                <a:gridCol w="1571760"/>
              </a:tblGrid>
              <a:tr h="2009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Возраст 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респондента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Знаете ли вы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о том, что продукты пчеловодства очень полезны?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Как вы думаете,загрязнение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окружающей среды влияет на жизнеспособность пчёл?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Могут ли вредные вещества из окружающей среды попасть в мёд</a:t>
                      </a:r>
                      <a:r>
                        <a:rPr b="1" lang="ru-RU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 и продукты пчеловодства</a:t>
                      </a: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Какие продукты пчеловодства вам известны?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8-11 лет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Мёд, соты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12-15 лет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Мёд, прополис, </a:t>
                      </a:r>
                      <a:r>
                        <a:rPr b="1" lang="ru-RU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пчелиный </a:t>
                      </a: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яд, пыльца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4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946440"/>
          </a:xfrm>
          <a:prstGeom prst="rect">
            <a:avLst/>
          </a:prstGeom>
          <a:ln w="0">
            <a:noFill/>
          </a:ln>
        </p:spPr>
      </p:pic>
      <p:pic>
        <p:nvPicPr>
          <p:cNvPr id="101" name="Схема 3" descr=""/>
          <p:cNvPicPr/>
          <p:nvPr/>
        </p:nvPicPr>
        <p:blipFill>
          <a:blip r:embed="rId2"/>
          <a:stretch/>
        </p:blipFill>
        <p:spPr>
          <a:xfrm>
            <a:off x="426960" y="1566720"/>
            <a:ext cx="82170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1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техногенные загрязнители среды: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воздуха 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- аэрополлютанты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воды 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- гидрополлютанты 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земли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  - терраполлютанты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93560" y="-237960"/>
            <a:ext cx="824256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785880" y="857160"/>
          <a:ext cx="6931080" cy="5284800"/>
        </p:xfrm>
        <a:graphic>
          <a:graphicData uri="http://schemas.openxmlformats.org/drawingml/2006/table">
            <a:tbl>
              <a:tblPr/>
              <a:tblGrid>
                <a:gridCol w="3265200"/>
                <a:gridCol w="496800"/>
                <a:gridCol w="592200"/>
                <a:gridCol w="488880"/>
                <a:gridCol w="490680"/>
                <a:gridCol w="488880"/>
                <a:gridCol w="490680"/>
                <a:gridCol w="565200"/>
                <a:gridCol w="54720"/>
              </a:tblGrid>
              <a:tr h="22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Свойство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1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endParaRPr b="0" lang="en-US" sz="11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1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1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1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1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1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</a:tr>
              <a:tr h="2476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Биохимическая активность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Токсичность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bc96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Канцерогенность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Обогащение аэрозолей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Минеральная форма распространения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Органическая форма распространения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Подвижность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Тенденция к биоконцентрированию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Эффективность накопления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Комплексообразующая способность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Склонность к гидролизу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Растворимость соединений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Время жизни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071800" y="5786280"/>
          <a:ext cx="3214440" cy="771840"/>
        </p:xfrm>
        <a:graphic>
          <a:graphicData uri="http://schemas.openxmlformats.org/drawingml/2006/table">
            <a:tbl>
              <a:tblPr/>
              <a:tblGrid>
                <a:gridCol w="2998440"/>
                <a:gridCol w="216000"/>
              </a:tblGrid>
              <a:tr h="368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5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- высокая</a:t>
                      </a:r>
                      <a:r>
                        <a:rPr b="1" lang="ru-RU" sz="12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 - умеренная</a:t>
                      </a:r>
                      <a:r>
                        <a:rPr b="1" lang="ru-RU" sz="12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4f6228"/>
                          </a:solidFill>
                          <a:latin typeface="Times New Roman"/>
                          <a:ea typeface="Times New Roman"/>
                        </a:rPr>
                        <a:t>Н - низкая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29:28Z</dcterms:created>
  <dc:creator>Серафим</dc:creator>
  <dc:description/>
  <dc:language>en-US</dc:language>
  <cp:lastModifiedBy>Admin</cp:lastModifiedBy>
  <dcterms:modified xsi:type="dcterms:W3CDTF">2011-05-17T21:13:10Z</dcterms:modified>
  <cp:revision>42</cp:revision>
  <dc:subject/>
  <dc:title>Каков облет , таков и мед.</dc:title>
</cp:coreProperties>
</file>