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0F3-B1DF-447D-9F53-8DF9626F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022-1DED-4F98-9D85-D1257C9E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295-3A7B-4078-A13D-C836290E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3C7-B21E-4683-8C8F-D59B04BD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28D-D44E-47A9-B0C6-D5B144B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793-FED0-4644-8F08-0B325E2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694-3E97-40B4-A6B2-3E67EDCD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8E6-ECFB-4537-ABC2-EE6E21A3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567-600F-41B2-BC32-4958FC1F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023-1DA1-4D3D-B3F2-B33E1344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246-1390-46CB-B94A-9ECE4686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6DA-0EA9-409D-A5CE-5CFD6FD5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26F7FD-8AFA-4B02-9F6F-F85D34707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840" y="2128680"/>
            <a:ext cx="650088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2d2db9"/>
                </a:solidFill>
                <a:latin typeface="Arial"/>
              </a:rPr>
              <a:t>Картинный </a:t>
            </a:r>
            <a:br>
              <a:rPr sz="5400"/>
            </a:br>
            <a:r>
              <a:rPr b="1" lang="ru-RU" sz="5400" spc="-1" strike="noStrike">
                <a:solidFill>
                  <a:srgbClr val="2d2db9"/>
                </a:solidFill>
                <a:latin typeface="Arial"/>
              </a:rPr>
              <a:t>диктант №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филова Галина Борис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-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Клин Моск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заглавные  и строчные буквы, о которых говорится в стихотвор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йдём отсюда по троп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 мы дойдём до буквы «П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Documents and Settings\Admin\Мои документы\Мои рисунки\03zdup-600x402.jpg"/>
          <p:cNvPicPr/>
          <p:nvPr/>
        </p:nvPicPr>
        <p:blipFill>
          <a:blip r:embed="rId1"/>
          <a:stretch/>
        </p:blipFill>
        <p:spPr>
          <a:xfrm>
            <a:off x="2786040" y="3643200"/>
            <a:ext cx="3714840" cy="21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Алфавит продолжит наш</a:t>
            </a:r>
            <a:br>
              <a:rPr sz="4400"/>
            </a:b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уква «Л» - лесной шалаш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Admin\Мои документы\Мои рисунки\asdgasdfsdaf.jpg"/>
          <p:cNvPicPr/>
          <p:nvPr/>
        </p:nvPicPr>
        <p:blipFill>
          <a:blip r:embed="rId1"/>
          <a:stretch/>
        </p:blipFill>
        <p:spPr>
          <a:xfrm>
            <a:off x="1571760" y="1936800"/>
            <a:ext cx="5715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лумесяц в небе тёмном</a:t>
            </a:r>
            <a:br>
              <a:rPr sz="4400"/>
            </a:b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уквой «С» повис над дом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Мои рисунки\crescent.jpg"/>
          <p:cNvPicPr/>
          <p:nvPr/>
        </p:nvPicPr>
        <p:blipFill>
          <a:blip r:embed="rId1"/>
          <a:stretch/>
        </p:blipFill>
        <p:spPr>
          <a:xfrm>
            <a:off x="2928960" y="2071800"/>
            <a:ext cx="33336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от буква «В» видна вдали – </a:t>
            </a:r>
            <a:br>
              <a:rPr sz="4400"/>
            </a:b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расивая, вита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\Мои документы\Мои рисунки\letter_B_1.gif"/>
          <p:cNvPicPr/>
          <p:nvPr/>
        </p:nvPicPr>
        <p:blipFill>
          <a:blip r:embed="rId1"/>
          <a:stretch/>
        </p:blipFill>
        <p:spPr>
          <a:xfrm>
            <a:off x="2357280" y="1928880"/>
            <a:ext cx="42958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81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Запиши слоги с буквой Я</a:t>
            </a:r>
            <a:br>
              <a:rPr sz="4400"/>
            </a:b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я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                ва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                                ру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тя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ку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                    мя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   са                         д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81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 Спиши предложения.</a:t>
            </a:r>
            <a:br>
              <a:rPr sz="4400"/>
            </a:br>
            <a:br>
              <a:rPr sz="4400"/>
            </a:b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сыт. Он спит.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Мои документы\Мои рисунки\a8791f7f83f23704e4bf1d58fc3_prev.jpg"/>
          <p:cNvPicPr/>
          <p:nvPr/>
        </p:nvPicPr>
        <p:blipFill>
          <a:blip r:embed="rId1"/>
          <a:stretch/>
        </p:blipFill>
        <p:spPr>
          <a:xfrm>
            <a:off x="4071960" y="3357720"/>
            <a:ext cx="3548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2d2db9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Мои документы\Мои рисунки\310759553.gif"/>
          <p:cNvPicPr/>
          <p:nvPr/>
        </p:nvPicPr>
        <p:blipFill>
          <a:blip r:embed="rId1"/>
          <a:stretch/>
        </p:blipFill>
        <p:spPr>
          <a:xfrm>
            <a:off x="2928960" y="18572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06:45Z</dcterms:created>
  <dc:creator/>
  <dc:description/>
  <dc:language>en-US</dc:language>
  <cp:lastModifiedBy>XTreme</cp:lastModifiedBy>
  <dcterms:modified xsi:type="dcterms:W3CDTF">2011-12-09T06:24:57Z</dcterms:modified>
  <cp:revision>6</cp:revision>
  <dc:subject/>
  <dc:title>Слайд 1</dc:title>
</cp:coreProperties>
</file>