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EF5-80A2-4E64-8269-6BF67393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F8C-34A0-4244-929A-CCD4F10A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A64-B640-49FF-8238-A3F24833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0B9-1782-42C4-9248-11314CDC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AF00-ECE9-4332-AC73-D2D0B206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D8EF-BEFE-42B3-BE42-ACD3AEAA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4CB7-1D91-4D12-A40C-5DD7770D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16FD-AA0C-41A5-BBC2-B3F4403E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9FCB-D4FC-4BCC-844C-7548AA7B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06FC-0349-4BDE-9EA4-C917E1EF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A26-D850-468D-B646-AC4DCFBE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1A3-F6B6-4DFF-9228-73A1070D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165C-45EB-40DE-B754-E97C5CE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1E16-361C-4A6E-B38B-210DE8EF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ACEB-5072-465F-8844-93B3AAA7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2653-EE50-4F35-8247-2E05C530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F590-DE0A-4253-8762-53491AE9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7B4-52A6-43ED-970F-0B51BA43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CCA-17BA-4337-950A-7FBE1BDA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F86-F0D4-418A-B949-A153A818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9DD-ECD7-4935-9B04-A1DAFD79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2F0-9F8A-46C3-AEE1-CA550D4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A68-ACB5-48BC-B430-C333033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674-8840-424B-BC6C-D2769F4C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368D-ED15-4134-81DB-C027501C032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B6B1-86FE-46AA-99C1-A88FE4A1513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25360" y="353880"/>
            <a:ext cx="8955000" cy="302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147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Б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«Гимназия №1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расимова Е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3296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новные принципы работы по рейтинговой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стем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ценка не зависит от характера межличностных отношений учителя и учен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знание не наказывается, стимулируется процесс позн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к волен выбирать стратегию своей деятельности, так как оценки предполагаемых видов деятельности определены заране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остная рейтинговая система непрерывно фиксирует ход естественного образовательного процесса и имеет составляющие контрол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кущий – ежеурочный контроль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межуточный – в конце четверти, изучения темы, раздел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тоговая аттестация – в конце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57160" y="2428920"/>
          <a:ext cx="7786800" cy="3387600"/>
        </p:xfrm>
        <a:graphic>
          <a:graphicData uri="http://schemas.openxmlformats.org/drawingml/2006/table">
            <a:tbl>
              <a:tblPr/>
              <a:tblGrid>
                <a:gridCol w="3786120"/>
                <a:gridCol w="4000680"/>
              </a:tblGrid>
              <a:tr h="85608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бал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ир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рочная работа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графическа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бщений из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ой литера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ы с ме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1 балл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1590120" y="150120"/>
            <a:ext cx="571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едение оценки за уро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ейтинговой систем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785880" y="2500200"/>
          <a:ext cx="7715160" cy="3057480"/>
        </p:xfrm>
        <a:graphic>
          <a:graphicData uri="http://schemas.openxmlformats.org/drawingml/2006/table">
            <a:tbl>
              <a:tblPr/>
              <a:tblGrid>
                <a:gridCol w="2841480"/>
                <a:gridCol w="2032200"/>
                <a:gridCol w="2841480"/>
              </a:tblGrid>
              <a:tr h="5274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баллов и выш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б. – 14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б. – 11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б. – 7 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усвоение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143280" y="716760"/>
            <a:ext cx="83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чёт баллов и вывод своего уровн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20840" y="615960"/>
            <a:ext cx="824220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214200" y="2357280"/>
          <a:ext cx="8786880" cy="2176560"/>
        </p:xfrm>
        <a:graphic>
          <a:graphicData uri="http://schemas.openxmlformats.org/drawingml/2006/table">
            <a:tbl>
              <a:tblPr/>
              <a:tblGrid>
                <a:gridCol w="1285920"/>
                <a:gridCol w="1643040"/>
                <a:gridCol w="1606680"/>
                <a:gridCol w="1536840"/>
                <a:gridCol w="1928520"/>
                <a:gridCol w="785880"/>
              </a:tblGrid>
              <a:tr h="136872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зад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е задание-минутка чистопис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е задание – конкур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теоретиков 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е задание – рабо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 схем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е задание – самостоятельная раб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ё было понят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 труд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 интерес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гу рассказать други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3280" rIns="53280" tIns="53280" bIns="53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6" descr="thumb002[1].jpg"/>
          <p:cNvPicPr/>
          <p:nvPr/>
        </p:nvPicPr>
        <p:blipFill>
          <a:blip r:embed="rId2"/>
          <a:stretch/>
        </p:blipFill>
        <p:spPr>
          <a:xfrm>
            <a:off x="2071800" y="857160"/>
            <a:ext cx="2428920" cy="1500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214680" y="856800"/>
            <a:ext cx="2786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почему у разных насекомых лапки имеют разное строени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акое значение это имеет в их жизн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акие конечности насекомых можно назвать «прыгательные», «копательные», «плавательные», «хватательные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http://nasfoto.narod.ru/images/raznie/thumbnails/thumb006.jpg"/>
          <p:cNvPicPr/>
          <p:nvPr/>
        </p:nvPicPr>
        <p:blipFill>
          <a:blip r:embed="rId3"/>
          <a:stretch/>
        </p:blipFill>
        <p:spPr>
          <a:xfrm>
            <a:off x="0" y="1000080"/>
            <a:ext cx="2500200" cy="157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nasfoto.narod.ru/images/strekozy/thumbnails/thumb059.jpg"/>
          <p:cNvPicPr/>
          <p:nvPr/>
        </p:nvPicPr>
        <p:blipFill>
          <a:blip r:embed="rId4"/>
          <a:stretch/>
        </p:blipFill>
        <p:spPr>
          <a:xfrm>
            <a:off x="214200" y="2786040"/>
            <a:ext cx="3214800" cy="220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nasfoto.narod.ru/images/pauk/thumbnails/thumb010.jpg"/>
          <p:cNvPicPr/>
          <p:nvPr/>
        </p:nvPicPr>
        <p:blipFill>
          <a:blip r:embed="rId5"/>
          <a:stretch/>
        </p:blipFill>
        <p:spPr>
          <a:xfrm>
            <a:off x="3429000" y="2214720"/>
            <a:ext cx="2928960" cy="192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nasfoto.narod.ru/images/gusenici/thumbnails/thumb359.jpg"/>
          <p:cNvPicPr/>
          <p:nvPr/>
        </p:nvPicPr>
        <p:blipFill>
          <a:blip r:embed="rId6"/>
          <a:stretch/>
        </p:blipFill>
        <p:spPr>
          <a:xfrm>
            <a:off x="5143680" y="5143680"/>
            <a:ext cx="3357360" cy="142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Виды насекомых 099"/>
          <p:cNvPicPr/>
          <p:nvPr/>
        </p:nvPicPr>
        <p:blipFill>
          <a:blip r:embed="rId7"/>
          <a:stretch/>
        </p:blipFill>
        <p:spPr>
          <a:xfrm>
            <a:off x="2428920" y="4000680"/>
            <a:ext cx="2857320" cy="16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20 Водомерка"/>
          <p:cNvPicPr/>
          <p:nvPr/>
        </p:nvPicPr>
        <p:blipFill>
          <a:blip r:embed="rId8"/>
          <a:stretch/>
        </p:blipFill>
        <p:spPr>
          <a:xfrm>
            <a:off x="500040" y="5214960"/>
            <a:ext cx="2762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1249200" y="146160"/>
            <a:ext cx="7413840" cy="1122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71680" y="1143000"/>
            <a:ext cx="8115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центре образовательного процесса находится ребенок как субъект познания, что отвечает мировой тенденции гуманизации образов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чностно-ориентированное  обучение является здоровьесберегающей технологие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оследнее время наметилась тенденция, когда родители выбирают не просто какие-либо дополнительные предметы, услуги, но ищут, прежде всего, благоприятную, комфортную для своего ребенка образовательную среду, где бы он не затерялся в общей массе, где была бы видна его индивидуальност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обходимость перехода к данной модели школы осознается обществ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186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665280" y="701640"/>
            <a:ext cx="8057880" cy="174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85520" y="3357360"/>
            <a:ext cx="79009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algn="just">
              <a:spcBef>
                <a:spcPts val="10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мобытность ребён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spcBef>
                <a:spcPts val="10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моценность ребён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spcBef>
                <a:spcPts val="10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убъективность процесса уч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92160" y="407880"/>
            <a:ext cx="8942400" cy="2036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57120" y="2508120"/>
            <a:ext cx="83296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реализ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дапт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регуля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защ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algn="just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воспитания и другие, необходимые для становления самобытного личностного обр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1596960" y="603360"/>
            <a:ext cx="7309080" cy="1249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99840" y="2571840"/>
            <a:ext cx="7086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1199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уманитарна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1199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ультуросозидательная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(культурообразующая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1199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оциализаци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28520" y="-219240"/>
            <a:ext cx="10283760" cy="1706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99840" y="2286000"/>
            <a:ext cx="7086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развитие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самостоятельность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marL="73080" algn="just">
              <a:lnSpc>
                <a:spcPct val="80000"/>
              </a:lnSpc>
              <a:spcBef>
                <a:spcPts val="1151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свобода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7120" y="142560"/>
            <a:ext cx="8329680" cy="64292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личия между традиционным и                  личностно-ориентированным уроком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 целеполага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 деятельности учите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тношению «учитель-ученик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деятельности учен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3" name="Прямая со стрелкой 4"/>
          <p:cNvCxnSpPr/>
          <p:nvPr/>
        </p:nvCxnSpPr>
        <p:spPr>
          <a:xfrm flipH="1">
            <a:off x="2428200" y="1570680"/>
            <a:ext cx="1429560" cy="92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4" name="Прямая со стрелкой 6"/>
          <p:cNvCxnSpPr/>
          <p:nvPr/>
        </p:nvCxnSpPr>
        <p:spPr>
          <a:xfrm flipH="1">
            <a:off x="2785320" y="1857240"/>
            <a:ext cx="1500840" cy="185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5" name="Прямая со стрелкой 8"/>
          <p:cNvCxnSpPr/>
          <p:nvPr/>
        </p:nvCxnSpPr>
        <p:spPr>
          <a:xfrm>
            <a:off x="6071040" y="1642680"/>
            <a:ext cx="1786680" cy="2715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6" name="Прямая со стрелкой 10"/>
          <p:cNvCxnSpPr/>
          <p:nvPr/>
        </p:nvCxnSpPr>
        <p:spPr>
          <a:xfrm flipH="1">
            <a:off x="3357000" y="2071440"/>
            <a:ext cx="1929240" cy="350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170160" y="30240"/>
            <a:ext cx="2809800" cy="725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14200" y="428760"/>
            <a:ext cx="87868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Создание положительного эмоционального настроя на работу у всех ребят в ходе урок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Сообщение в начале урока не только темы, но и порядка организации учебной деятельност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личие плана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Использование субъектного опыта ученик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Создание условий для проявления познавательной активности учащихся и достижения успеха каждым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ом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Повышение степени самостоятельности в учебной деятельности, реализация стратегии сотрудничества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етание  фронтальной работы с классом с групповыми формами деятельност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 Создание атмосферы заинтересованности каждого ученика в работе класс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Применение на уроке специально разработанного дидактического материала, использовани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оуровневых  заданий, позволяющих ученику самому выбирать вид и форму материал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ловесную, графическую, условно-символическую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Ориентация деятельности учащихся на развитие интеллектуальных умений, на формирование учебно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ятельности(а не на передачу учебной информации), освоение компонентов учебной деятельност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учебной задачи, учебных действий, самоконтроля, самооценки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Обсуждение в конце урока не только того, что нового узнали, но и того, что понравилось (не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равилось) и почему, что бы хотелось выполнить еще раз, что сделать по-другом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Оценка определяется по ряду параметров, по конечному результату, пути его достижения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ости, оригинальност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8400" y="785520"/>
            <a:ext cx="815796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8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1" i="1" lang="ru-RU" sz="4200" spc="-1" strike="noStrike">
                <a:solidFill>
                  <a:srgbClr val="ffffff"/>
                </a:solidFill>
                <a:latin typeface="Times New Roman"/>
              </a:rPr>
              <a:t>Контрольная работа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о теме: « Умножение. Переместительное свойство            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умножения.»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Цели: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проверить усвоение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>
              <a:lnSpc>
                <a:spcPct val="80000"/>
              </a:lnSpc>
              <a:spcBef>
                <a:spcPts val="8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смысла умножения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>
              <a:lnSpc>
                <a:spcPct val="80000"/>
              </a:lnSpc>
              <a:spcBef>
                <a:spcPts val="8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переместительного свойства умножения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8400">
              <a:lnSpc>
                <a:spcPct val="80000"/>
              </a:lnSpc>
              <a:spcBef>
                <a:spcPts val="8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математической терминологии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0" y="-360"/>
            <a:ext cx="4857840" cy="67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Первый уровен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. Запиши выражения и вычисли их значения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о 9 взять два раза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о 6 взять девять ра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8 умножить на 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умножить на 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увеличить в 7 ра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. Вставь пропущенные числа, чтобы равенства были верные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7 · 4= 4 · □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0 · 15=15 · □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9 · 1=1 · □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. Найди значения выражений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7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6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8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 · 9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5 · 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4.Ломаная состоит из трех одинаковых звеньев по 4 см в каждом. Начерти эту ломаную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Второй уровен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. Вставьте знаки: &lt;, &gt;, =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· 2 □ 2+2+2+2+2+2+2+2+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7 · 2 □ 2+2+2+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 · 9+9 □ 9 · 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7 · 6 □ 7 · 3+7+7+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. Запиши выражения и вычисли их значения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ервый множитель 3, второй 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роизведение чисел 9 и 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8 увеличить в 9 ра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8 увеличить на 9 ра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.Длина ломаной линии записана выражением 2 · 3 (см). Начерти эту ломаную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Третий уровен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. Запиши выражения и вычисли их значения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роизведение чисел 9 и 3 уменьшить на 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сумму чисел 13 и 25 уменьшить на 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произведение чисел 9 и 5 увеличить на 1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.Вставь пропущенные знаки действий, чтобы получились верные равенства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4 · 9=66 □ 3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7 · 9=70 □ 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· 5=51□ 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9 · 8=60 □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3.Сумма длин сторон квадрата записана выражением 3 · 4 (см). Построй это квадрат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20:36:13Z</dcterms:created>
  <dc:creator>Герасимова</dc:creator>
  <dc:description/>
  <dc:language>en-US</dc:language>
  <cp:lastModifiedBy>Герасимова</cp:lastModifiedBy>
  <dcterms:modified xsi:type="dcterms:W3CDTF">2011-11-02T20:29:27Z</dcterms:modified>
  <cp:revision>73</cp:revision>
  <dc:subject/>
  <dc:title>ЛИЧНОСТНО-ОРИЕНТИРОВАННЫЙ   ПОДХОД-ПУТЬ К ПОВЫШЕНИЮ                 КАЧЕСТВА ЗНАНИЙ </dc:title>
</cp:coreProperties>
</file>