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ADD9-A2F2-4EC7-B78F-614353D3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3D8-72EF-449B-938B-6D4FE1D9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334A-780A-4717-8616-44CF96C9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02B-3B9F-455E-B127-0C77E112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B3B3-989E-4C43-873A-7C345B32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7536-36BE-4B6A-9F72-4FF15A63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1112-55BC-48A0-93D9-95D13E05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6A56-DCB3-4545-B70A-46CAB4A6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17A8-F866-43F8-AB7E-51676153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B513-75B2-428A-AACB-620ACDD9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4904-DC4E-48CC-B72B-5154CC6B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A917-78FE-430C-B3E7-D6A169A7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6EA1-523F-4454-8EDB-8FCE3738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F709-7F77-4C25-BE25-7D7BCE11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D92A-F199-4A35-A3EE-24573ACD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DFC3-382B-42B9-ACD5-48F08A10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6B80-E28E-4EC4-A840-6B099175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3BF2-7B1E-43AD-A1B6-B3413CEF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B4E2-8195-4B9C-9C33-D9A5D664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8A96-4147-48A1-B04E-4DBFEACA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A307-4473-461B-89BC-58347859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0754-FDE8-42FB-A91E-89F4C9B2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268-E950-4FD2-9AB2-F1AE23C9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DFC9-45B2-4E74-8E22-9A0CA789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8E71-CEDD-46AC-BFA0-E9131DD751C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E649-BB9E-422C-815C-EEEC6AFCBD2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25360" y="353880"/>
            <a:ext cx="8955000" cy="3029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21472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Б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«Гимназия №1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расимова Е.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57120" y="571320"/>
            <a:ext cx="832968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сновные принципы работы по рейтинговой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истем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ценка не зависит от характера межличностных отношений учителя и ученик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знание не наказывается, стимулируется процесс позн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ник волен выбирать стратегию своей деятельности, так как оценки предполагаемых видов деятельности определены заране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елостная рейтинговая система непрерывно фиксирует ход естественного образовательного процесса и имеет составляющие контрол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кущий – ежеурочный контроль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межуточный – в конце четверти, изучения темы, раздел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тоговая аттестация – в конце г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857160" y="2428920"/>
          <a:ext cx="7786800" cy="3387600"/>
        </p:xfrm>
        <a:graphic>
          <a:graphicData uri="http://schemas.openxmlformats.org/drawingml/2006/table">
            <a:tbl>
              <a:tblPr/>
              <a:tblGrid>
                <a:gridCol w="3786120"/>
                <a:gridCol w="4000680"/>
              </a:tblGrid>
              <a:tr h="85608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ы рабо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балл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стир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ерочная работа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графическа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бщений из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ой литерату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ы с мес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1 балл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1"/>
          <p:cNvSpPr/>
          <p:nvPr/>
        </p:nvSpPr>
        <p:spPr>
          <a:xfrm>
            <a:off x="1590120" y="150120"/>
            <a:ext cx="571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едение оценки за урок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ейтинговой систем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785880" y="2500200"/>
          <a:ext cx="7715160" cy="3057480"/>
        </p:xfrm>
        <a:graphic>
          <a:graphicData uri="http://schemas.openxmlformats.org/drawingml/2006/table">
            <a:tbl>
              <a:tblPr/>
              <a:tblGrid>
                <a:gridCol w="2841480"/>
                <a:gridCol w="2032200"/>
                <a:gridCol w="2841480"/>
              </a:tblGrid>
              <a:tr h="52740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 балл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 баллов и выш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б. – 14 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б. – 11 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 б. – 7 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усвоение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1"/>
          <p:cNvSpPr/>
          <p:nvPr/>
        </p:nvSpPr>
        <p:spPr>
          <a:xfrm>
            <a:off x="143280" y="716760"/>
            <a:ext cx="83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счёт баллов и вывод своего уровн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20840" y="615960"/>
            <a:ext cx="824220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214200" y="2357280"/>
          <a:ext cx="8786880" cy="2176560"/>
        </p:xfrm>
        <a:graphic>
          <a:graphicData uri="http://schemas.openxmlformats.org/drawingml/2006/table">
            <a:tbl>
              <a:tblPr/>
              <a:tblGrid>
                <a:gridCol w="1285920"/>
                <a:gridCol w="1643040"/>
                <a:gridCol w="1606680"/>
                <a:gridCol w="1536840"/>
                <a:gridCol w="1928520"/>
                <a:gridCol w="785880"/>
              </a:tblGrid>
              <a:tr h="136872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мер зад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е задание-минутка чистопис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е задание – конкур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теоретиков 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е задание – работ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 схем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е задание – самостоятельная рабо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флекс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ё было понят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 труд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 интерес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гу рассказать друг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88416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6" descr="thumb002[1].jpg"/>
          <p:cNvPicPr/>
          <p:nvPr/>
        </p:nvPicPr>
        <p:blipFill>
          <a:blip r:embed="rId2"/>
          <a:stretch/>
        </p:blipFill>
        <p:spPr>
          <a:xfrm>
            <a:off x="2071800" y="857160"/>
            <a:ext cx="2428920" cy="1500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6214680" y="856800"/>
            <a:ext cx="27860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почему у разных насекомых лапки имеют разное строение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какое значение это имеет в их жизн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какие конечности насекомых можно назвать «прыгательные», «копательные», «плавательные», «хватательные»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2" descr="http://nasfoto.narod.ru/images/raznie/thumbnails/thumb006.jpg"/>
          <p:cNvPicPr/>
          <p:nvPr/>
        </p:nvPicPr>
        <p:blipFill>
          <a:blip r:embed="rId3"/>
          <a:stretch/>
        </p:blipFill>
        <p:spPr>
          <a:xfrm>
            <a:off x="0" y="1000080"/>
            <a:ext cx="2500200" cy="1571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nasfoto.narod.ru/images/strekozy/thumbnails/thumb059.jpg"/>
          <p:cNvPicPr/>
          <p:nvPr/>
        </p:nvPicPr>
        <p:blipFill>
          <a:blip r:embed="rId4"/>
          <a:stretch/>
        </p:blipFill>
        <p:spPr>
          <a:xfrm>
            <a:off x="214200" y="2786040"/>
            <a:ext cx="3214800" cy="2205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nasfoto.narod.ru/images/pauk/thumbnails/thumb010.jpg"/>
          <p:cNvPicPr/>
          <p:nvPr/>
        </p:nvPicPr>
        <p:blipFill>
          <a:blip r:embed="rId5"/>
          <a:stretch/>
        </p:blipFill>
        <p:spPr>
          <a:xfrm>
            <a:off x="3429000" y="2214720"/>
            <a:ext cx="2928960" cy="1928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nasfoto.narod.ru/images/gusenici/thumbnails/thumb359.jpg"/>
          <p:cNvPicPr/>
          <p:nvPr/>
        </p:nvPicPr>
        <p:blipFill>
          <a:blip r:embed="rId6"/>
          <a:stretch/>
        </p:blipFill>
        <p:spPr>
          <a:xfrm>
            <a:off x="5143680" y="5143680"/>
            <a:ext cx="3357360" cy="1428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Виды насекомых 099"/>
          <p:cNvPicPr/>
          <p:nvPr/>
        </p:nvPicPr>
        <p:blipFill>
          <a:blip r:embed="rId7"/>
          <a:stretch/>
        </p:blipFill>
        <p:spPr>
          <a:xfrm>
            <a:off x="2428920" y="4000680"/>
            <a:ext cx="2857320" cy="1643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20 Водомерка"/>
          <p:cNvPicPr/>
          <p:nvPr/>
        </p:nvPicPr>
        <p:blipFill>
          <a:blip r:embed="rId8"/>
          <a:stretch/>
        </p:blipFill>
        <p:spPr>
          <a:xfrm>
            <a:off x="500040" y="5214960"/>
            <a:ext cx="27622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1249200" y="146160"/>
            <a:ext cx="7413840" cy="1122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71680" y="1143000"/>
            <a:ext cx="8115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центре образовательного процесса находится ребенок как субъект познания, что отвечает мировой тенденции гуманизации образова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чностно-ориентированное  обучение является здоровьесберегающей технологие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последнее время наметилась тенденция, когда родители выбирают не просто какие-либо дополнительные предметы, услуги, но ищут, прежде всего, благоприятную, комфортную для своего ребенка образовательную среду, где бы он не затерялся в общей массе, где была бы видна его индивидуальност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обходимость перехода к данной модели школы осознается обществ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186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665280" y="701640"/>
            <a:ext cx="8057880" cy="1749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85520" y="3357360"/>
            <a:ext cx="79009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algn="just">
              <a:spcBef>
                <a:spcPts val="10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амобытность ребён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73080" algn="just">
              <a:spcBef>
                <a:spcPts val="10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амоценность ребён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73080" algn="just">
              <a:spcBef>
                <a:spcPts val="10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убъективность процесса уче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92160" y="407880"/>
            <a:ext cx="8942400" cy="2036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57120" y="2508120"/>
            <a:ext cx="83296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0560" algn="just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оразвит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560" algn="just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ореализ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560" algn="just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дапт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560" algn="just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орегуля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560" algn="just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озащи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560" algn="just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овоспитания и другие, необходимые для становления самобытного личностного обра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1596960" y="603360"/>
            <a:ext cx="7309080" cy="1249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99840" y="2571840"/>
            <a:ext cx="70866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1199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гуманитарна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spcBef>
                <a:spcPts val="1199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ультуросозидательная</a:t>
            </a: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(культурообразующая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spcBef>
                <a:spcPts val="1199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социализаци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128520" y="-219240"/>
            <a:ext cx="10283760" cy="1706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99840" y="2286000"/>
            <a:ext cx="7086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algn="just">
              <a:lnSpc>
                <a:spcPct val="80000"/>
              </a:lnSpc>
              <a:spcBef>
                <a:spcPts val="1151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</a:rPr>
              <a:t>личность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marL="73080" algn="just">
              <a:lnSpc>
                <a:spcPct val="80000"/>
              </a:lnSpc>
              <a:spcBef>
                <a:spcPts val="1151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</a:rPr>
              <a:t>развитие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marL="73080" algn="just">
              <a:lnSpc>
                <a:spcPct val="80000"/>
              </a:lnSpc>
              <a:spcBef>
                <a:spcPts val="1151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</a:rPr>
              <a:t>индивидуальность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marL="73080" algn="just">
              <a:lnSpc>
                <a:spcPct val="80000"/>
              </a:lnSpc>
              <a:spcBef>
                <a:spcPts val="1151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</a:rPr>
              <a:t>самостоятельность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marL="73080" algn="just">
              <a:lnSpc>
                <a:spcPct val="80000"/>
              </a:lnSpc>
              <a:spcBef>
                <a:spcPts val="1151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</a:rPr>
              <a:t>творчество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marL="73080" algn="just">
              <a:lnSpc>
                <a:spcPct val="80000"/>
              </a:lnSpc>
              <a:spcBef>
                <a:spcPts val="1151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</a:rPr>
              <a:t>свобода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57120" y="142560"/>
            <a:ext cx="8329680" cy="64292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зличия между традиционным и                  личностно-ориентированным уроком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 целеполагани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 деятельности учите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отношению «учитель-ученик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деятельности учени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3" name="Прямая со стрелкой 4"/>
          <p:cNvCxnSpPr/>
          <p:nvPr/>
        </p:nvCxnSpPr>
        <p:spPr>
          <a:xfrm flipH="1">
            <a:off x="2428200" y="1570680"/>
            <a:ext cx="1429560" cy="929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4" name="Прямая со стрелкой 6"/>
          <p:cNvCxnSpPr/>
          <p:nvPr/>
        </p:nvCxnSpPr>
        <p:spPr>
          <a:xfrm flipH="1">
            <a:off x="2785320" y="1857240"/>
            <a:ext cx="1500840" cy="1858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5" name="Прямая со стрелкой 8"/>
          <p:cNvCxnSpPr/>
          <p:nvPr/>
        </p:nvCxnSpPr>
        <p:spPr>
          <a:xfrm>
            <a:off x="6071040" y="1642680"/>
            <a:ext cx="1786680" cy="2715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6" name="Прямая со стрелкой 10"/>
          <p:cNvCxnSpPr/>
          <p:nvPr/>
        </p:nvCxnSpPr>
        <p:spPr>
          <a:xfrm flipH="1">
            <a:off x="3357000" y="2071440"/>
            <a:ext cx="1929240" cy="3501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3170160" y="30240"/>
            <a:ext cx="2809800" cy="725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14200" y="428760"/>
            <a:ext cx="878688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Создание положительного эмоционального настроя на работу у всех ребят в ходе урок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Сообщение в начале урока не только темы, но и порядка организации учебной деятельност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аличие плана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 Использование субъектного опыта ученик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Создание условий для проявления познавательной активности учащихся и достижения успеха каждым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ком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Повышение степени самостоятельности в учебной деятельности, реализация стратегии сотрудничества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четание  фронтальной работы с классом с групповыми формами деятельност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 Создание атмосферы заинтересованности каждого ученика в работе класс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Применение на уроке специально разработанного дидактического материала, использование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ноуровневых  заданий, позволяющих ученику самому выбирать вид и форму материала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ловесную, графическую, условно-символическую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Ориентация деятельности учащихся на развитие интеллектуальных умений, на формирование учебно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ятельности(а не на передачу учебной информации), освоение компонентов учебной деятельност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учебной задачи, учебных действий, самоконтроля, самооценки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)Обсуждение в конце урока не только того, что нового узнали, но и того, что понравилось (не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равилось) и почему, что бы хотелось выполнить еще раз, что сделать по-другом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)Оценка определяется по ряду параметров, по конечному результату, пути его достижения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оятельности, оригинальност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28400" y="785520"/>
            <a:ext cx="81579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684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1" i="1" lang="ru-RU" sz="4200" spc="-1" strike="noStrike">
                <a:solidFill>
                  <a:srgbClr val="ffffff"/>
                </a:solidFill>
                <a:latin typeface="Times New Roman"/>
              </a:rPr>
              <a:t>Контрольная работа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по теме: « Умножение. Переместительное свойство            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умножения.»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Цели: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проверить усвоение: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68400">
              <a:lnSpc>
                <a:spcPct val="80000"/>
              </a:lnSpc>
              <a:spcBef>
                <a:spcPts val="8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смысла умножения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68400">
              <a:lnSpc>
                <a:spcPct val="80000"/>
              </a:lnSpc>
              <a:spcBef>
                <a:spcPts val="8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переместительного свойства умножения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68400">
              <a:lnSpc>
                <a:spcPct val="80000"/>
              </a:lnSpc>
              <a:spcBef>
                <a:spcPts val="8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математической терминологии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0" y="-360"/>
            <a:ext cx="4857840" cy="67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Первый уровен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. Запиши выражения и вычисли их значения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по 9 взять два раза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по 6 взять девять ра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8 умножить на 9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9 умножить на 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9 увеличить в 7 ра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. Вставь пропущенные числа, чтобы равенства были верные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7 · 4= 4 · □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0 · 15=15 · □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9 · 1=1 · □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3. Найди значения выражений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3 · 9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7 · 9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6 · 9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8 · 9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 · 9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5 · 9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4.Ломаная состоит из трех одинаковых звеньев по 4 см в каждом. Начерти эту ломаную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Второй уровен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. Вставьте знаки: &lt;, &gt;, =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9 · 2 □ 2+2+2+2+2+2+2+2+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7 · 2 □ 2+2+2+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3 · 9+9 □ 9 · 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7 · 6 □ 7 · 3+7+7+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. Запиши выражения и вычисли их значения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первый множитель 3, второй 9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произведение чисел 9 и 5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8 увеличить в 9 ра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8 увеличить на 9 ра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3.Длина ломаной линии записана выражением 2 · 3 (см). Начерти эту ломаную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Третий уровен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. Запиши выражения и вычисли их значения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произведение чисел 9 и 3 уменьшить на 8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сумму чисел 13 и 25 уменьшить на 9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произведение чисел 9 и 5 увеличить на 1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.Вставь пропущенные знаки действий, чтобы получились верные равенства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4 · 9=66 □ 30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7 · 9=70 □ 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9 · 5=51□ 6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9 · 8=60 □ 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3.Сумма длин сторон квадрата записана выражением 3 · 4 (см). Построй это квадрат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20:36:13Z</dcterms:created>
  <dc:creator>Герасимова</dc:creator>
  <dc:description/>
  <dc:language>en-US</dc:language>
  <cp:lastModifiedBy>Герасимова</cp:lastModifiedBy>
  <dcterms:modified xsi:type="dcterms:W3CDTF">2011-11-02T20:29:27Z</dcterms:modified>
  <cp:revision>73</cp:revision>
  <dc:subject/>
  <dc:title>ЛИЧНОСТНО-ОРИЕНТИРОВАННЫЙ   ПОДХОД-ПУТЬ К ПОВЫШЕНИЮ                 КАЧЕСТВА ЗНАНИЙ </dc:title>
</cp:coreProperties>
</file>