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0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7762-50A1-45C4-832C-CA599C7737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F259-3786-44CC-8F4A-7CD62E1974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 наблюд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один из наиболее древних. Он многое может сказать прежде всего опытному и грамотному педагогу о степени развития КС воспитанников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ом экспертных оценок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. е. мнений опытных, сведущих специали­стов, приглашенных для решения вопроса, который в силу своей сложности требует специальных знаний. Использова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ппаратурных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струментальных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­дов позволяет получить точные количественные оценки уровня развития КС и их отдельных компонентов (признаков). Это пре­имущественно методы таких наук, как биомеханика, физиология, психология физического воспитания и спорта, и методы их основ­ных ветвей: психофизиологии и психобиомеханики*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язи с вышесказанны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м методом диагностики К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нение специально отобранных двигательных тес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0ADF-E370-47AB-B070-81263F73D5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пециальные К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ятся к однородным по психофизиологическим механизмам группам двигательных действий, систематизированных по возрастающей сложности. В этой связи различают специальные КС: во всевозможных циклических (ходьба, бег, ползание, лазание, перелезание, плавание; локомоции на приспособлениях: коньки, велосипед, гребля и др.) и ациклических двигательных действиях (прыжки); в нелокомоторных движениях тела в пространстве (гимнастические и акробатические упражнения); в движениях манипулирования в пространстве отдельными частями тела (движения указывания, прикосновения, укола, обвода контура и т.п.); в движениях перемещения вещей в пространстве (перекладывание предметов, наматывание шнура на палку, подъем тяжестей); в баллистических (метательных) двигательных действиях с установкой на дальность и силу метания (толкание ядра, метание гранаты, диска, молота); в метательных движениях на меткость (метания или броски различных предметов в цель; теннис, городки, жонглирование); в движениях прицеливания; в подражательных и копирующих движениях; в атакующих и защитных двигательных действиях единоборств (борьба, бокс, фехтование, восточные единоборства); в нападающих и защитных технических и технико-тактических действиях подвижных и спортивных игр (баскетбол, волейбол, футбол, ручной мяч, хоккей с мячом и шайбой и др.). В приведенную систематизацию не вошел еще ряд групп КС, которые относятся к трудовым действиям и бытовым операциям. Это так называемая вертикальная классификация К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80C8-8719-4532-91CC-1F383B288A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ют качественные и количественные характери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7BFB-F345-4A34-A1ED-1B6005861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77A6-D4FE-4DBB-A448-89D3E7BD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08BC1-0EDB-4079-B54F-06147B91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973A9-8B21-4BC4-9853-F2765F3C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4C3AA-C7F5-463F-BA06-20B97B6F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DCBBC-A0E6-417E-970B-B590B6EC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C6802-FFE0-4018-958D-643C821F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B05F6-A1BF-40A0-9994-90AA7672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71895-BFE7-425F-84F2-D84C36F5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B47E9C-BEA1-4F54-B409-46F78D940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78AA4A-4B9B-4DFA-A6E6-512C4CB1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17E7-E608-466F-8976-89CFA3ADF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28BA-FFB2-4F51-9060-0050384A9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A508-25BF-473A-AEEF-702EB9FE5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A1B9-FB70-443D-B435-54A0A9D5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A5DE-9084-4123-AAEC-36A6489E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BE99-E47E-4A2F-BEA8-06F0DE56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3436-32F8-4981-BA7B-D666FD3D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8427-E149-4B4D-8C8A-95BCBE59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45F2-05C7-43EE-9769-1E702BC5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55ED-92C5-4F0B-B907-13576ABA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E569-2922-4D58-95CC-36B96062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14AC-EAEA-4CD9-8910-5AA8D28A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7CB6-97D0-4813-8FD7-6D8D0E5F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BB96-B520-47A2-A6F8-5422A9ECE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F7B7-CC66-445A-85A7-0EC43E921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0835E-F8AB-426A-9911-DC1A5F30A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AED00-42DB-42FC-8B5C-0B064919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B390A-4AAE-46F0-921E-446C1B99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E5039-BF8F-494E-A067-94320F80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34B02-D247-4546-8D12-9B8AAF36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8972-C7BA-4BCC-8FDD-324FF9BE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7285F-7463-4DC9-A134-325D6237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47AD9-22B6-458C-898D-D4BB49CF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F063A-BC8C-4FE6-808D-5750D00B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35152-1F22-460B-9B40-A5D0ADFD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422B8-A714-4C2E-8EB1-1D673877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069A4-3E4B-4676-A202-1BA036D6D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B661E-5720-4FBA-96A0-C561D06EA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5D270-8705-4E4A-89A7-A02F3E08D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67F92-A6B4-471D-B47B-2DCBD786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7A554-128B-4DCB-9209-A534ACBE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2FD3-65AB-4DFA-96BE-9495C67A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36D90-0009-450E-AED3-197F7378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87BE5-09F5-4889-ABED-95FE3971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19BBF-313D-4F90-AEBB-302177C3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1C5B3-F3B1-4948-B18A-6059083A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07BD2-2BDA-4FA1-9DD3-E6B7A657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066CF-E244-48C4-8E7A-F7B387E1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77D86-D427-4610-B672-A94EA8C6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F41E8-DE01-4730-948D-D086AF54E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B8904-A4CD-409B-A759-C8580697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3B192-EFF0-4A5A-A9BD-C4C709F45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CF2F-F74C-4794-8880-796A2C5B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A33EA-C295-4892-9C8A-5AC53A9C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6898A-1216-43E6-8603-DF67211A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8E50A-6273-45EF-A179-156066F8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00905-D526-4BE6-A0F5-8E311885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AA327-9041-4A3D-8B71-2BDE7873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4F49D-459B-4E91-923D-907D6113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388CA-8389-48F4-A382-F67A1878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53EE0-98B6-44D9-99CB-AF6FE446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84432-EE76-4F2D-9574-6A3AA384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D5300-D8B4-4E68-ADE5-534B55067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A35B-ED0B-4706-B081-C307F1BC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5B4A8-BF50-40C7-9281-7620F98F6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951FE-0C7F-41AA-8A84-2033B1A6D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81E97-95BC-4A6D-AB0C-63E3E548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F66AD-3760-4677-983F-216C2A85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F3E6E-A7E6-4E4F-BCDF-0D7668EE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0B427-CA47-4B63-A04B-48E69169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2492B-7F54-41C2-B9CB-89A610E7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A9962-9719-40FD-B72F-134C717B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CE2E5-559D-4D66-B39B-A3EE394E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FD436-C050-47F6-86AD-324812E8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BC09-5936-4704-AF51-21181B45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6F116-CDEB-4D05-94F2-65B63E2C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95909-AB21-4BA4-8AFF-BAB7F88B3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200C0-1C22-40D1-8D79-3486BAF97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90461-0122-47D5-AB01-D659FEEF5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9760B-EAF1-4DE0-89B5-F04254CA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9BF3B-CFB4-4C28-9378-DBDCEF44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AF720-6610-4B14-8D2B-D2A72082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260D4-B501-4093-A37F-A19F6E3E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70799-FFDA-45C7-B764-2A1056B0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6F322-2C26-4EE8-9E9A-6AC1123C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957D-A0FE-405C-838C-B3A5228A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4D990-092F-4064-8974-8A0D77D3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04BE0-B9A5-46FC-8CD2-3FE62294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BFDF3-8FBF-41BE-B69A-2B581BA9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D4776-3479-4AA4-9008-2DC38A13B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16B92-5012-45B3-8DAC-B23031B33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5FC93-E9D6-444B-B231-87E9763AE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739F5-DEAD-4AFF-975B-E4D76F53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72EA5-67C3-4073-952A-F0F46E7A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D1B48-7ABB-47C5-8260-F8703AF3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74815-592E-42FA-85ED-30D7B808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41AE-E43F-43AB-9767-B401EDBC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875BD-8F01-45CE-9B97-F252550D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676B5-7CD0-41FF-9874-82E4A3D9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7F660-BD85-45CC-BB3B-CEB558E4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F696B-2A36-4EAB-934C-36C46EFF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FE97E-B44C-4D0E-8DE3-13996BB3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4B294-E94C-4648-B8F9-2225540AF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D106F-8344-4118-B26F-33D3CFE74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A6185-8E88-4C76-B077-E610CB4C4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371F8-74E9-45F1-BDD7-943FFDB6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A05DB-B5E7-446F-ACA2-C24E39AF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48D9-6E6D-4234-AC2F-770A2D1B068B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3835-96C9-4E46-8FE3-EE55FABBF73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3A0C-2891-4F3C-92FD-C4FD656DD55A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83E8-EEC1-408F-90A3-C38CC217DE7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B5AB-82B6-416E-B68C-85D01B4F79B7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A881-4E5B-45F4-8DA0-0F6416105B8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5672-DAF6-4308-A1BA-5260BDCDB579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307A-CCD5-4ABE-9079-FA7285B81ED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B428-0AD7-4DE6-8172-595D2CE929EC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3739-C796-4253-A73D-8319EE7CB71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0E75-0C66-4038-ABDF-2120BF8158AF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B86E-7129-4AC1-9931-6A84A569BA1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EE7F-9104-479F-815A-DB5A52D19688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AB81-9193-4D7B-BA81-236E7695A4A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A035-4A62-4D8D-AFE8-E01BE30E6462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F411-F2B5-4BE1-A0DD-3C5816D9105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5E84-86CB-4FC5-AF05-A2B467272203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0075-DFB7-449F-9217-1A9CDB77F89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Физические качества -</a:t>
            </a:r>
            <a:endParaRPr b="0" lang="en-US" sz="5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рожденные 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генетически унаследованные)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рфофункциональные качества,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лагодаря которым возможна физическая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материально выраженная) 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ивность человека,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учающая свое полное проявление в целесообразной двигательной деятельности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-55440"/>
            <a:ext cx="915696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2" descr=""/>
          <p:cNvPicPr/>
          <p:nvPr/>
        </p:nvPicPr>
        <p:blipFill>
          <a:blip r:embed="rId1"/>
          <a:stretch/>
        </p:blipFill>
        <p:spPr>
          <a:xfrm>
            <a:off x="-219240" y="-23760"/>
            <a:ext cx="9369720" cy="367488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0" y="2214720"/>
            <a:ext cx="91440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00000"/>
                </a:solidFill>
                <a:uFillTx/>
                <a:latin typeface="Franklin Gothic Book"/>
              </a:rPr>
              <a:t>Сенситивный период развития КС-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0000"/>
                </a:solidFill>
                <a:latin typeface="Franklin Gothic Book"/>
              </a:rPr>
              <a:t>   </a:t>
            </a:r>
            <a:r>
              <a:rPr b="0" lang="ru-RU" sz="3600" spc="-1" strike="noStrike">
                <a:solidFill>
                  <a:srgbClr val="ff0000"/>
                </a:solidFill>
                <a:latin typeface="Franklin Gothic Book"/>
              </a:rPr>
              <a:t>возраст 11-12 лет, этот возрастной период определяется как особенно поддающийся целенаправленной тренировке.</a:t>
            </a:r>
            <a:br>
              <a:rPr sz="3600"/>
            </a:br>
            <a:r>
              <a:rPr b="0" lang="ru-RU" sz="3600" spc="-1" strike="noStrike">
                <a:solidFill>
                  <a:srgbClr val="3333ff"/>
                </a:solidFill>
                <a:latin typeface="Franklin Gothic Book"/>
              </a:rPr>
              <a:t>У мальчиков уровень развития КС с возрастом выше, чем у девочек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сты (контрольные упражнения) для оценки </a:t>
            </a: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ровня развития КС.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25600" indent="-525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644e"/>
                </a:solidFill>
                <a:latin typeface="Franklin Gothic Book"/>
              </a:rPr>
              <a:t>Для контроля за координационными способностями в условиях школы чаще всего применяют следующие тесты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25600" indent="-5256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25600" indent="-525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Franklin Gothic Book"/>
              </a:rPr>
              <a:t>варианты челночного бега Зх10мили4х10м из и.п. лицом и спиной вперед; учитывают время, а также разницу во времени выполнения этих вариантов; в первом случае оценивают абсолютный показатель КС применительно к бегу, во втором —относительный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25600" indent="-525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Franklin Gothic Book"/>
              </a:rPr>
              <a:t>прыжки в длину с места из и.п. спиной и боком (правым, левым) к месту приземления; определяют также частное от деления длины прыжка из</a:t>
            </a:r>
            <a:br>
              <a:rPr sz="2000"/>
            </a:br>
            <a:r>
              <a:rPr b="0" lang="ru-RU" sz="2000" spc="-1" strike="noStrike">
                <a:solidFill>
                  <a:srgbClr val="3333cc"/>
                </a:solidFill>
                <a:latin typeface="Franklin Gothic Book"/>
              </a:rPr>
              <a:t>и.п. спиной вперед к длине прыжка из и.п. лицом вперед; чем ближе это число к единице, тем выше КС применительно к прыжковым упражнениям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25600" indent="-525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Franklin Gothic Book"/>
              </a:rPr>
              <a:t>подскоки из и.п. стоя на возвышении (например, на скамейке высотой 50 см и шириной 20 см) и на полу; вычисляют разность высот подскоков из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Franklin Gothic Book"/>
              </a:rPr>
              <a:t>этих и.п.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25600" indent="-525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Franklin Gothic Book"/>
              </a:rPr>
              <a:t>три кувырка вперед из и.п. о.с. на время выполнения; определяют также точное время выполнения этого же теста с установкой сделать кувырки в два раза медленнее, учитывают допущенные при этом ошибки; для подготовленных детей, например, юных акробатов предусмотрены также три кувырка назад с подсчетом разницы во времени выполнения этих заданий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25600" indent="-5256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c00000"/>
                </a:solidFill>
                <a:uFillTx/>
                <a:latin typeface="Franklin Gothic Medium"/>
              </a:rPr>
              <a:t>Ссылки: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c00000"/>
                </a:solidFill>
                <a:latin typeface="Franklin Gothic Medium"/>
              </a:rPr>
              <a:t>.</a:t>
            </a:r>
            <a:r>
              <a:rPr b="0" lang="en-US" sz="1800" spc="-1" strike="noStrike">
                <a:solidFill>
                  <a:srgbClr val="c00000"/>
                </a:solidFill>
                <a:latin typeface="Franklin Gothic Medium"/>
              </a:rPr>
              <a:t>http://planeta.rambler.ru/community/gimnastki/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Franklin Gothic Medium"/>
              </a:rPr>
              <a:t>2.</a:t>
            </a:r>
            <a:r>
              <a:rPr b="0" lang="en-US" sz="1800" spc="-1" strike="noStrike">
                <a:solidFill>
                  <a:srgbClr val="c00000"/>
                </a:solidFill>
                <a:latin typeface="Franklin Gothic Medium"/>
              </a:rPr>
              <a:t>http://afisha.yuga.ru/afisha/chto_posmotret/sportivnye_sobytiya/legkaya_atletika/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Franklin Gothic Medium"/>
              </a:rPr>
              <a:t>3.</a:t>
            </a:r>
            <a:r>
              <a:rPr b="0" lang="en-US" sz="1800" spc="-1" strike="noStrike">
                <a:solidFill>
                  <a:srgbClr val="c00000"/>
                </a:solidFill>
                <a:latin typeface="Franklin Gothic Medium"/>
              </a:rPr>
              <a:t>http://fizkultschool-402008.narod.ru/sportigra.html</a:t>
            </a:r>
            <a:br>
              <a:rPr sz="1800"/>
            </a:br>
            <a:endParaRPr b="0" lang="en-US" sz="1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Прямоугольник 2"/>
          <p:cNvSpPr/>
          <p:nvPr/>
        </p:nvSpPr>
        <p:spPr>
          <a:xfrm>
            <a:off x="0" y="14288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Список использованной литерату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В.И.Лях; А.А.Зданевич -  ФИЗИЧЕСКАЯ КУЛЬТУРА  ДЛЯ 5-11 КЛА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Журналы - Физическая культура в шк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Прямоугольник 3"/>
          <p:cNvSpPr/>
          <p:nvPr/>
        </p:nvSpPr>
        <p:spPr>
          <a:xfrm>
            <a:off x="0" y="0"/>
            <a:ext cx="9144000" cy="69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К основным физическим качествам относят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c87d0e"/>
                </a:solidFill>
                <a:latin typeface="Times New Roman"/>
                <a:ea typeface="Times New Roman"/>
              </a:rPr>
              <a:t>силу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ыстроту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выносливость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гибкость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ловкост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Прямоугольник 1" descr=""/>
          <p:cNvPicPr/>
          <p:nvPr/>
        </p:nvPicPr>
        <p:blipFill>
          <a:blip r:embed="rId1"/>
          <a:stretch/>
        </p:blipFill>
        <p:spPr>
          <a:xfrm>
            <a:off x="-212760" y="3041640"/>
            <a:ext cx="9453600" cy="3706920"/>
          </a:xfrm>
          <a:prstGeom prst="rect">
            <a:avLst/>
          </a:prstGeom>
          <a:ln w="0">
            <a:noFill/>
          </a:ln>
        </p:spPr>
      </p:pic>
      <p:pic>
        <p:nvPicPr>
          <p:cNvPr id="410" name="Прямоугольник 3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5696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Прямоугольник 3" descr=""/>
          <p:cNvPicPr/>
          <p:nvPr/>
        </p:nvPicPr>
        <p:blipFill>
          <a:blip r:embed="rId1"/>
          <a:stretch/>
        </p:blipFill>
        <p:spPr>
          <a:xfrm>
            <a:off x="-171360" y="-182520"/>
            <a:ext cx="9388440" cy="36021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"/>
          <p:cNvPicPr/>
          <p:nvPr/>
        </p:nvPicPr>
        <p:blipFill>
          <a:blip r:embed="rId2"/>
          <a:stretch/>
        </p:blipFill>
        <p:spPr>
          <a:xfrm>
            <a:off x="4460760" y="3714840"/>
            <a:ext cx="46832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353880" y="281160"/>
            <a:ext cx="8577360" cy="2242800"/>
          </a:xfrm>
          <a:prstGeom prst="rect">
            <a:avLst/>
          </a:prstGeom>
          <a:ln w="0">
            <a:noFill/>
          </a:ln>
        </p:spPr>
      </p:pic>
      <p:pic>
        <p:nvPicPr>
          <p:cNvPr id="414" name="Rectangle 3" descr=""/>
          <p:cNvPicPr/>
          <p:nvPr/>
        </p:nvPicPr>
        <p:blipFill>
          <a:blip r:embed="rId2"/>
          <a:stretch/>
        </p:blipFill>
        <p:spPr>
          <a:xfrm>
            <a:off x="-6480" y="2212920"/>
            <a:ext cx="915696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-281160" y="-317520"/>
            <a:ext cx="9491760" cy="2249640"/>
          </a:xfrm>
          <a:prstGeom prst="rect">
            <a:avLst/>
          </a:prstGeom>
          <a:ln w="0">
            <a:noFill/>
          </a:ln>
        </p:spPr>
      </p:pic>
      <p:pic>
        <p:nvPicPr>
          <p:cNvPr id="416" name="Прямоугольник 6" descr=""/>
          <p:cNvPicPr/>
          <p:nvPr/>
        </p:nvPicPr>
        <p:blipFill>
          <a:blip r:embed="rId2"/>
          <a:stretch/>
        </p:blipFill>
        <p:spPr>
          <a:xfrm>
            <a:off x="-281160" y="1292400"/>
            <a:ext cx="9517320" cy="3833640"/>
          </a:xfrm>
          <a:prstGeom prst="rect">
            <a:avLst/>
          </a:prstGeom>
          <a:ln w="0">
            <a:noFill/>
          </a:ln>
        </p:spPr>
      </p:pic>
      <p:pic>
        <p:nvPicPr>
          <p:cNvPr id="417" name="Прямоугольник 9" descr=""/>
          <p:cNvPicPr/>
          <p:nvPr/>
        </p:nvPicPr>
        <p:blipFill>
          <a:blip r:embed="rId3"/>
          <a:stretch/>
        </p:blipFill>
        <p:spPr>
          <a:xfrm>
            <a:off x="-281160" y="4352760"/>
            <a:ext cx="943164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-158760" y="2004840"/>
            <a:ext cx="9809280" cy="1646280"/>
          </a:xfrm>
          <a:prstGeom prst="rect">
            <a:avLst/>
          </a:prstGeom>
          <a:ln w="0">
            <a:noFill/>
          </a:ln>
        </p:spPr>
      </p:pic>
      <p:pic>
        <p:nvPicPr>
          <p:cNvPr id="419" name="Подзаголовок 2" descr=""/>
          <p:cNvPicPr/>
          <p:nvPr/>
        </p:nvPicPr>
        <p:blipFill>
          <a:blip r:embed="rId2"/>
          <a:stretch/>
        </p:blipFill>
        <p:spPr>
          <a:xfrm>
            <a:off x="-371520" y="-6480"/>
            <a:ext cx="9522000" cy="1225800"/>
          </a:xfrm>
          <a:prstGeom prst="rect">
            <a:avLst/>
          </a:prstGeom>
          <a:ln w="0">
            <a:noFill/>
          </a:ln>
        </p:spPr>
      </p:pic>
      <p:sp>
        <p:nvSpPr>
          <p:cNvPr id="420" name="Выгнутая вправо стрелка 10"/>
          <p:cNvSpPr/>
          <p:nvPr/>
        </p:nvSpPr>
        <p:spPr>
          <a:xfrm>
            <a:off x="2286000" y="1143000"/>
            <a:ext cx="500040" cy="1214280"/>
          </a:xfrm>
          <a:custGeom>
            <a:avLst/>
            <a:gdLst>
              <a:gd name="textAreaLeft" fmla="*/ 66960 w 500040"/>
              <a:gd name="textAreaRight" fmla="*/ 433080 w 500040"/>
              <a:gd name="textAreaTop" fmla="*/ 256680 h 1214280"/>
              <a:gd name="textAreaBottom" fmla="*/ 89532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133" stAng="-5400000" swAng="5400000"/>
                <a:lnTo>
                  <a:pt x="21600" y="11356"/>
                </a:lnTo>
                <a:arcTo wR="21600" hR="9133" stAng="0" swAng="3778364"/>
                <a:lnTo>
                  <a:pt x="4554" y="21395"/>
                </a:lnTo>
                <a:lnTo>
                  <a:pt x="0" y="19377"/>
                </a:lnTo>
                <a:lnTo>
                  <a:pt x="4554" y="16948"/>
                </a:lnTo>
                <a:lnTo>
                  <a:pt x="4554" y="18060"/>
                </a:lnTo>
                <a:arcTo wR="21600" hR="9133" stAng="3778364" swAng="-3600297"/>
                <a:lnTo>
                  <a:pt x="21439" y="10244"/>
                </a:lnTo>
                <a:arcTo wR="21600" hR="9133" stAng="-178066" swAng="-5221934"/>
                <a:close/>
              </a:path>
              <a:path fill="darkenLess" w="21600" h="21600">
                <a:moveTo>
                  <a:pt x="0" y="0"/>
                </a:moveTo>
                <a:arcTo wR="21600" hR="9133" stAng="-5400000" swAng="5400000"/>
                <a:lnTo>
                  <a:pt x="21600" y="11356"/>
                </a:lnTo>
                <a:arcTo wR="21600" hR="9133" stAng="0" swAng="-178066"/>
                <a:lnTo>
                  <a:pt x="21439" y="10244"/>
                </a:lnTo>
                <a:arcTo wR="21600" hR="9133" stAng="-178066" swAng="-5221934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Выгнутая влево стрелка 11"/>
          <p:cNvSpPr/>
          <p:nvPr/>
        </p:nvSpPr>
        <p:spPr>
          <a:xfrm>
            <a:off x="6000840" y="1143000"/>
            <a:ext cx="571320" cy="1214280"/>
          </a:xfrm>
          <a:custGeom>
            <a:avLst/>
            <a:gdLst>
              <a:gd name="textAreaLeft" fmla="*/ 76320 w 571320"/>
              <a:gd name="textAreaRight" fmla="*/ 495000 w 571320"/>
              <a:gd name="textAreaTop" fmla="*/ 249840 h 1214280"/>
              <a:gd name="textAreaBottom" fmla="*/ 89280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894" stAng="-5400000" swAng="-5400000"/>
                <a:lnTo>
                  <a:pt x="0" y="11436"/>
                </a:lnTo>
                <a:arcTo wR="21600" hR="8894" stAng="10800000" swAng="-3474582"/>
                <a:lnTo>
                  <a:pt x="16200" y="21318"/>
                </a:lnTo>
                <a:lnTo>
                  <a:pt x="21600" y="19059"/>
                </a:lnTo>
                <a:lnTo>
                  <a:pt x="16200" y="16236"/>
                </a:lnTo>
                <a:lnTo>
                  <a:pt x="16200" y="17506"/>
                </a:lnTo>
                <a:arcTo wR="21600" hR="8894" stAng="7325418" swAng="3270439"/>
                <a:lnTo>
                  <a:pt x="222" y="10165"/>
                </a:lnTo>
                <a:arcTo wR="21600" hR="8894" stAng="-10595857" swAng="5195857"/>
                <a:close/>
              </a:path>
              <a:path fill="darkenLess" w="21600" h="21600">
                <a:moveTo>
                  <a:pt x="21600" y="0"/>
                </a:moveTo>
                <a:arcTo wR="21600" hR="8894" stAng="-5400000" swAng="-5400000"/>
                <a:lnTo>
                  <a:pt x="0" y="8894"/>
                </a:lnTo>
                <a:arcTo wR="21600" hR="8894" stAng="10800000" swAng="-204143"/>
                <a:lnTo>
                  <a:pt x="222" y="10165"/>
                </a:lnTo>
                <a:arcTo wR="21600" hR="8894" stAng="-10595857" swAng="5195857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7"/>
          <p:cNvSpPr/>
          <p:nvPr/>
        </p:nvSpPr>
        <p:spPr>
          <a:xfrm>
            <a:off x="0" y="38577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проявляются, наприме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в ходьбе и бег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Стрелка вниз 8"/>
          <p:cNvSpPr/>
          <p:nvPr/>
        </p:nvSpPr>
        <p:spPr>
          <a:xfrm>
            <a:off x="1857240" y="2928960"/>
            <a:ext cx="142920" cy="100008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оугольник 9"/>
          <p:cNvSpPr/>
          <p:nvPr/>
        </p:nvSpPr>
        <p:spPr>
          <a:xfrm>
            <a:off x="5357880" y="3786120"/>
            <a:ext cx="378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в единоборствах      и спортивных играх</a:t>
            </a:r>
            <a:r>
              <a:rPr b="0" lang="ru-RU" sz="1800" spc="-1" strike="noStrike">
                <a:solidFill>
                  <a:srgbClr val="c00000"/>
                </a:solidFill>
                <a:latin typeface="Arial Blac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Стрелка вниз 12"/>
          <p:cNvSpPr/>
          <p:nvPr/>
        </p:nvSpPr>
        <p:spPr>
          <a:xfrm>
            <a:off x="6357960" y="2928960"/>
            <a:ext cx="142920" cy="100008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3"/>
          <a:stretch/>
        </p:blipFill>
        <p:spPr>
          <a:xfrm>
            <a:off x="928800" y="4721400"/>
            <a:ext cx="1643040" cy="21366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"/>
          <p:cNvPicPr/>
          <p:nvPr/>
        </p:nvPicPr>
        <p:blipFill>
          <a:blip r:embed="rId4"/>
          <a:stretch/>
        </p:blipFill>
        <p:spPr>
          <a:xfrm>
            <a:off x="5786280" y="4707000"/>
            <a:ext cx="24289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7559640" cy="25844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457200" y="191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0000"/>
                </a:solidFill>
                <a:uFillTx/>
                <a:latin typeface="Franklin Gothic Book"/>
              </a:rPr>
              <a:t>1)стандартно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Franklin Gothic Book"/>
              </a:rPr>
              <a:t>-повторного упражнения;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3333ff"/>
                </a:solidFill>
                <a:uFillTx/>
                <a:latin typeface="Franklin Gothic Book"/>
              </a:rPr>
              <a:t>2) вариативного упражнения;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1dd30f"/>
                </a:solidFill>
                <a:uFillTx/>
                <a:latin typeface="Franklin Gothic Book"/>
              </a:rPr>
              <a:t>3)игровой;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9900"/>
                </a:solidFill>
                <a:uFillTx/>
                <a:latin typeface="Franklin Gothic Book"/>
              </a:rPr>
              <a:t>4) соревновательный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Rectangle 2" descr=""/>
          <p:cNvPicPr/>
          <p:nvPr/>
        </p:nvPicPr>
        <p:blipFill>
          <a:blip r:embed="rId1"/>
          <a:stretch/>
        </p:blipFill>
        <p:spPr>
          <a:xfrm>
            <a:off x="-274680" y="-103320"/>
            <a:ext cx="9686880" cy="173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1" name=""/>
          <p:cNvGraphicFramePr/>
          <p:nvPr/>
        </p:nvGraphicFramePr>
        <p:xfrm>
          <a:off x="0" y="1714680"/>
          <a:ext cx="9144000" cy="5072040"/>
        </p:xfrm>
        <a:graphic>
          <a:graphicData uri="http://schemas.openxmlformats.org/drawingml/2006/table">
            <a:tbl>
              <a:tblPr/>
              <a:tblGrid>
                <a:gridCol w="2960640"/>
                <a:gridCol w="3208320"/>
                <a:gridCol w="2975040"/>
              </a:tblGrid>
              <a:tr h="103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f0a22e"/>
                          </a:solidFill>
                          <a:uFillTx/>
                          <a:latin typeface="Arial"/>
                        </a:rPr>
                        <a:t>Качественны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Критери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 u="sng">
                          <a:solidFill>
                            <a:srgbClr val="3333ff"/>
                          </a:solidFill>
                          <a:uFillTx/>
                          <a:latin typeface="Arial"/>
                        </a:rPr>
                        <a:t>Количествен-ны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0a22e"/>
                          </a:solidFill>
                          <a:latin typeface="Arial"/>
                        </a:rPr>
                        <a:t>АДЕКВА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АВИ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0a22e"/>
                          </a:solidFill>
                          <a:latin typeface="Arial"/>
                        </a:rPr>
                        <a:t>СВОЕВРЕМЕН-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ЫСТР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СКОР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0a22e"/>
                          </a:solidFill>
                          <a:latin typeface="Arial"/>
                        </a:rPr>
                        <a:t>ЦЕЛЕСООБРАЗ-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ЦИОНАЛЬ-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ЭКОНОМИЧ-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0a22e"/>
                          </a:solidFill>
                          <a:latin typeface="Arial"/>
                        </a:rPr>
                        <a:t>ИНИЦИАТИВ-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ХОДЧИВ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СТАБИ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5:22:36Z</dcterms:created>
  <dc:creator>александра.</dc:creator>
  <dc:description/>
  <dc:language>en-US</dc:language>
  <cp:lastModifiedBy>admin</cp:lastModifiedBy>
  <dcterms:modified xsi:type="dcterms:W3CDTF">2011-11-14T15:24:48Z</dcterms:modified>
  <cp:revision>150</cp:revision>
  <dc:subject/>
  <dc:title>Слайд 1</dc:title>
</cp:coreProperties>
</file>