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F8BC-3367-46A6-A80D-F59FD816AE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7E10-2BD7-475D-8D24-6A31FA4CEB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дин из наиболее древних. Он многое может сказать прежде всего опытному и грамотному педагогу о степени развития КС воспитанников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ом экспертных оценок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е. мнений опытных, сведущих специали­стов, приглашенных для решения вопроса, который в силу своей сложности требует специальных знаний. Использов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ппаратурных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рументальных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­дов позволяет получить точные количественные оценки уровня развития КС и их отдельных компонентов (признаков). Это пре­имущественно методы таких наук, как биомеханика, физиология, психология физического воспитания и спорта, и методы их основ­ных ветвей: психофизиологии и психобиомеханики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язи с вышесказанны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м методом диагностики К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специально отобранных двигательных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10B8-19E7-4A7A-8FFD-32C76CF72E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ециальные К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ятся к однородным по психофизиологическим механизмам группам двигательных действий, систематизированных по возрастающей сложности. В этой связи различают специальные КС: во всевозможных циклических (ходьба, бег, ползание, лазание, перелезание, плавание; локомоции на приспособлениях: коньки, велосипед, гребля и др.) и ациклических двигательных действиях (прыжки); в нелокомоторных движениях тела в пространстве (гимнастические и акробатические упражнения); в движениях манипулирования в пространстве отдельными частями тела (движения указывания, прикосновения, укола, обвода контура и т.п.); в движениях перемещения вещей в пространстве (перекладывание предметов, наматывание шнура на палку, подъем тяжестей); в баллистических (метательных) двигательных действиях с установкой на дальность и силу метания (толкание ядра, метание гранаты, диска, молота); в метательных движениях на меткость (метания или броски различных предметов в цель; теннис, городки, жонглирование); в движениях прицеливания; в подражательных и копирующих движениях; в атакующих и защитных двигательных действиях единоборств (борьба, бокс, фехтование, восточные единоборства); в нападающих и защитных технических и технико-тактических действиях подвижных и спортивных игр (баскетбол, волейбол, футбол, ручной мяч, хоккей с мячом и шайбой и др.). В приведенную систематизацию не вошел еще ряд групп КС, которые относятся к трудовым действиям и бытовым операциям. Это так называемая вертикальная классификация К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CE0A-882E-4330-8252-A0FB63BD43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т качественные и количественн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8D3-2B57-4E8F-AE93-ACEA66DB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49E-A7E1-404F-A47C-F5E6DF7F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53CFD-CB0F-427B-A799-F05B577A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6ED30-B78E-40A7-90C4-81DD0CAF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A52D2-9EAD-43BF-8C3D-1A8D0430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AD557-325E-4F55-B4DC-B81B2865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FB7E3-AD72-4E1E-80E8-13BB63C1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3CB02-67BE-48F1-A4D9-816A3417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04A70-98F3-4D4D-BB61-D6F74324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6ADC5-D455-4B63-ADDC-C36DC9A1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3FEE2-50A2-4C33-8F4C-49F59E82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734-4BE7-4F0F-BA8B-97382054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62D-DEF4-456F-B624-E54DE70F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433C-4299-4192-8FA4-04CCEE20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2565-9B17-4F50-A0BC-D7421A1A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07CD-AA92-49A9-9EA9-AED7EF98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5134-B78B-4301-8B93-B1CADEB9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DCD1-F3B7-4B22-B0F1-55FB4990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AF0A-4A74-4D26-994B-0BD644CE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8944-DEEA-483B-A909-F4DE3A19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F39-6FF1-4A09-93DB-F2ECDE87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2205-15A3-4B69-A148-3107684C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1131-BE67-4B1E-BBF6-1E446EC3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EDA7-54FB-4B97-B2A5-F01D9728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AB78-0D39-43E5-8198-6E36966D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1AA3-052B-4963-9CFE-0D6B221E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1EFE7-2825-44DD-B10E-E575A47C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F3781-DADC-45A4-BD55-56EA593A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9ED5F-0415-40AA-8423-44A46CCC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215B8-1FC7-4F39-98C0-9095FD46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C7B4E-341E-46F3-933C-671A7405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B7C-E1D1-495F-A5A3-4A0F48D1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962B-BEC4-4583-B76D-F73378DE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7A042-31FB-45FC-B654-036BADAC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06758-B384-4F46-B876-C9309ABB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49BDB-831D-4B1A-BE93-CBD1982F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4E25-096B-4F43-A8EA-E54F83EE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D45FE-BB44-472A-B09A-9D9DADFE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06AFF-C151-4F64-93DC-8B885907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6D27F-2D22-42F8-BE82-DDDE0E66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3BB9F-6433-4B59-AE93-9411CB2E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78E5A-B6CB-4C14-B733-0BFE5B63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086-DCA9-4062-B7B3-DCBC4093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FEEA9-4F14-4441-BA1C-5A2E1EC1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A0366-6ABF-4CEB-AA6A-BBF54AFC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83E30-0CCE-47C3-B085-9DDD26C7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875A0-2EEC-4CFD-8708-0E86F0CB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F8634-138F-45A0-8AF7-F4B48132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CF69B-114E-4A3D-B261-FFDA3117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E4610-7C9F-4AC6-BA75-BCB6F112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CA4A1-505B-4C96-9985-76FE8747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3847D-A162-4CE8-98B1-59EB59BB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4198D-5F28-4A8D-BD62-E7D71096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14C-8149-4E59-956A-24E5346D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8B37E-E915-4B2F-8EEE-11C9D856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1C85F-8518-497D-9F58-93297E94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BCC80-A142-4957-B882-E79B9370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B4EE5-A97D-462F-BE1C-3F5543D2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BC331-8495-4E96-A2DD-C8A10D52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4BE1C-39DF-4BC0-B776-532BF6FF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6668A-5257-465B-9B96-602D700B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F4C66-7483-40B0-8368-FF5648FF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B902D-7CBA-4CED-AC71-30138673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D2AE0-A3E3-486B-B6B1-38A33B6E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B61-065C-4738-B042-F548A1B4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FED59-EE24-4E9F-A318-1E0923FB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4B7BA-5B3C-4AD7-B3C6-2A1C628B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95F21-FD49-494C-9249-CBECA907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E38AC-EB7A-4566-A3EA-574E8601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16FD8-BEBE-4C35-922A-8211AEA8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8B7E4-5929-4E52-A59F-C1E1B5EA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40104-7858-41E9-B512-EC0D2329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17594-38C3-4CF5-A052-214DEE0D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14F75-39A3-4E29-B4FF-97CA3149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340E6-F164-4A30-A5A3-BAAF31F8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482-0739-49C5-B035-DD867A75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853DC-2B20-47A1-A186-AF7E2B61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80481-B35D-4E41-A45C-7FDC0573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143E3-E779-41D4-9D45-37853B1E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0FA1C-BB62-4D18-B2FE-7EAAE1A3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50434-A2BF-443A-8970-F3B1EE6D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48E29-512B-425A-8287-0AC00921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4CF71-1639-4B82-BCA3-09482E08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6AE51-20BD-4E98-9073-BF0D1D35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2524A-6C58-439E-BE48-3226EACB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6C534-041F-408A-A73A-A70762CD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B51-4442-4F41-8A2F-FAAD721B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C85A2-FAB7-4061-9418-6049BFC8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F9931-04FE-4A6A-8E0C-223C4024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12D59-47E1-4136-B06D-E0006011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2BE1B-5815-4A63-BE8B-8175FD08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5EF94-2230-4BCA-A324-AFB8F9FA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67457-B69F-4BDC-85B6-6E1EF704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16656-C54E-46C5-8E10-E4242AD7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F4638-A178-447F-87D6-030F71B6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618F1-4BD9-4D21-B514-0D606FC7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5041D-C818-4681-A495-980998C3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B96-C872-47CC-8747-5DA631D9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7D9F3-FA12-4F0F-B703-E8DD9650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E7F58-58D2-4383-B57C-89907BDF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5D194-3266-4128-A00C-8F36C503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1E0A8-39F0-4BEC-B74E-9F36C65C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F5AA4-A06C-43F0-A228-35B61B71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433D7-34DD-48C3-9755-A1D1971F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316A6-2A0E-488D-A867-A81A827E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7B430-48F5-4D27-A95C-296BD190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35864-1F45-4A07-9D64-C788DC6C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C9FB0-8576-41F1-8564-64989AFD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6E56-AC06-48ED-9DDE-56C7EB3B88CA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918F-FC38-4B2C-9165-311A21689E0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DBA8-A914-4256-99AE-A4AC02DFFBEF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BB99-C70C-420B-A3AD-46584A27BB5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B08A-BA88-45D7-B3A8-6B067ED59B3C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34C0-00D0-420E-ACB1-E6509C9D8C0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FCBB-1FCA-42DA-A3E7-6C999817CA88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333D-7AEE-42DD-9DE4-D44DEE90D6E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0355-1F44-4219-B73C-038DCD3FF8AF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E493-AEBE-4A7C-A7BE-4E461BF4210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B2BE-2583-49BE-8360-3C89B8D443AA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350A-033C-400B-B637-82592BEF09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1AD7-3665-4B6F-BE8C-293F16D0F7DA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0203-E0FF-4D48-936F-406B4083C90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C3BD-DC69-4BB9-B318-AAB5FFD4789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279F-3AA0-4EB0-830A-AD730F1ACEB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C423-F3B6-4D95-A4D8-2FEEF5DE330F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1736-495F-421F-BC9D-668615D77A5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изические качества -</a:t>
            </a:r>
            <a:endParaRPr b="0" lang="en-US" sz="5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ожденные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генетически унаследованные)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рфофункциональные качеств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я которым возможна физическая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материально выраженная)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сть человек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учающая свое полное проявление в целесообразной двигательной деятельности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55440"/>
            <a:ext cx="915696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-219240" y="-23760"/>
            <a:ext cx="9369720" cy="36748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0" y="2214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00000"/>
                </a:solidFill>
                <a:uFillTx/>
                <a:latin typeface="Franklin Gothic Book"/>
              </a:rPr>
              <a:t>Сенситивный период развития КС-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возраст 11-12 лет, этот возрастной период определяется как особенно поддающийся целенаправленной тренировке.</a:t>
            </a:r>
            <a:br>
              <a:rPr sz="3600"/>
            </a:br>
            <a:r>
              <a:rPr b="0" lang="ru-RU" sz="3600" spc="-1" strike="noStrike">
                <a:solidFill>
                  <a:srgbClr val="3333ff"/>
                </a:solidFill>
                <a:latin typeface="Franklin Gothic Book"/>
              </a:rPr>
              <a:t>У мальчиков уровень развития КС с возрастом выше, чем у девочек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сты (контрольные упражнения) для оценки 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ня развития КС.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25600" indent="-525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644e"/>
                </a:solidFill>
                <a:latin typeface="Franklin Gothic Book"/>
              </a:rPr>
              <a:t>Для контроля за координационными способностями в условиях школы чаще всего применяют следующие тесты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25600" indent="-525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25600" indent="-52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варианты челночного бега Зх10мили4х10м из и.п. лицом и спиной вперед; учитывают время, а также разницу во времени выполнения этих вариантов; в первом случае оценивают абсолютный показатель КС применительно к бегу, во втором —относительны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25600" indent="-52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Franklin Gothic Book"/>
              </a:rPr>
              <a:t>прыжки в длину с места из и.п. спиной и боком (правым, левым) к месту приземления; определяют также частное от деления длины прыжка из</a:t>
            </a:r>
            <a:br>
              <a:rPr sz="2000"/>
            </a:br>
            <a:r>
              <a:rPr b="0" lang="ru-RU" sz="2000" spc="-1" strike="noStrike">
                <a:solidFill>
                  <a:srgbClr val="3333cc"/>
                </a:solidFill>
                <a:latin typeface="Franklin Gothic Book"/>
              </a:rPr>
              <a:t>и.п. спиной вперед к длине прыжка из и.п. лицом вперед; чем ближе это число к единице, тем выше КС применительно к прыжковым упражнения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25600" indent="-52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подскоки из и.п. стоя на возвышении (например, на скамейке высотой 50 см и шириной 20 см) и на полу; вычисляют разность высот подскоков из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этих и.п.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25600" indent="-52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Franklin Gothic Book"/>
              </a:rPr>
              <a:t>три кувырка вперед из и.п. о.с. на время выполнения; определяют также точное время выполнения этого же теста с установкой сделать кувырки в два раза медленнее, учитывают допущенные при этом ошибки; для подготовленных детей, например, юных акробатов предусмотрены также три кувырка назад с подсчетом разницы во времени выполнения этих задани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25600" indent="-525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c00000"/>
                </a:solidFill>
                <a:uFillTx/>
                <a:latin typeface="Franklin Gothic Medium"/>
              </a:rPr>
              <a:t>Ссылки: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c00000"/>
                </a:solidFill>
                <a:latin typeface="Franklin Gothic Medium"/>
              </a:rPr>
              <a:t>.</a:t>
            </a:r>
            <a:r>
              <a:rPr b="0" lang="en-US" sz="1800" spc="-1" strike="noStrike">
                <a:solidFill>
                  <a:srgbClr val="c00000"/>
                </a:solidFill>
                <a:latin typeface="Franklin Gothic Medium"/>
              </a:rPr>
              <a:t>http://planeta.rambler.ru/community/gimnastki/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Franklin Gothic Medium"/>
              </a:rPr>
              <a:t>2.</a:t>
            </a:r>
            <a:r>
              <a:rPr b="0" lang="en-US" sz="1800" spc="-1" strike="noStrike">
                <a:solidFill>
                  <a:srgbClr val="c00000"/>
                </a:solidFill>
                <a:latin typeface="Franklin Gothic Medium"/>
              </a:rPr>
              <a:t>http://afisha.yuga.ru/afisha/chto_posmotret/sportivnye_sobytiya/legkaya_atletika/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Franklin Gothic Medium"/>
              </a:rPr>
              <a:t>3.</a:t>
            </a:r>
            <a:r>
              <a:rPr b="0" lang="en-US" sz="1800" spc="-1" strike="noStrike">
                <a:solidFill>
                  <a:srgbClr val="c00000"/>
                </a:solidFill>
                <a:latin typeface="Franklin Gothic Medium"/>
              </a:rPr>
              <a:t>http://fizkultschool-402008.narod.ru/sportigra.html</a:t>
            </a:r>
            <a:br>
              <a:rPr sz="1800"/>
            </a:br>
            <a:endParaRPr b="0" lang="en-US" sz="1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Прямоугольник 2"/>
          <p:cNvSpPr/>
          <p:nvPr/>
        </p:nvSpPr>
        <p:spPr>
          <a:xfrm>
            <a:off x="0" y="14288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Список использованной литер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.И.Лях; А.А.Зданевич -  ФИЗИЧЕСКАЯ КУЛЬТУРА  ДЛЯ 5-11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Журналы - Физическая культура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3"/>
          <p:cNvSpPr/>
          <p:nvPr/>
        </p:nvSpPr>
        <p:spPr>
          <a:xfrm>
            <a:off x="0" y="0"/>
            <a:ext cx="9144000" cy="69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 основным физическим качествам относя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сил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строт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ынослив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гибк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ловкос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Прямоугольник 1" descr=""/>
          <p:cNvPicPr/>
          <p:nvPr/>
        </p:nvPicPr>
        <p:blipFill>
          <a:blip r:embed="rId1"/>
          <a:stretch/>
        </p:blipFill>
        <p:spPr>
          <a:xfrm>
            <a:off x="-212760" y="3041640"/>
            <a:ext cx="9453600" cy="370692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569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3" descr=""/>
          <p:cNvPicPr/>
          <p:nvPr/>
        </p:nvPicPr>
        <p:blipFill>
          <a:blip r:embed="rId1"/>
          <a:stretch/>
        </p:blipFill>
        <p:spPr>
          <a:xfrm>
            <a:off x="-171360" y="-182520"/>
            <a:ext cx="9388440" cy="3602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4460760" y="3714840"/>
            <a:ext cx="4683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8577360" cy="2242800"/>
          </a:xfrm>
          <a:prstGeom prst="rect">
            <a:avLst/>
          </a:prstGeom>
          <a:ln w="0">
            <a:noFill/>
          </a:ln>
        </p:spPr>
      </p:pic>
      <p:pic>
        <p:nvPicPr>
          <p:cNvPr id="414" name="Rectangle 3" descr=""/>
          <p:cNvPicPr/>
          <p:nvPr/>
        </p:nvPicPr>
        <p:blipFill>
          <a:blip r:embed="rId2"/>
          <a:stretch/>
        </p:blipFill>
        <p:spPr>
          <a:xfrm>
            <a:off x="-6480" y="2212920"/>
            <a:ext cx="91569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-281160" y="-317520"/>
            <a:ext cx="9491760" cy="224964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6" descr=""/>
          <p:cNvPicPr/>
          <p:nvPr/>
        </p:nvPicPr>
        <p:blipFill>
          <a:blip r:embed="rId2"/>
          <a:stretch/>
        </p:blipFill>
        <p:spPr>
          <a:xfrm>
            <a:off x="-281160" y="1292400"/>
            <a:ext cx="9517320" cy="383364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9" descr=""/>
          <p:cNvPicPr/>
          <p:nvPr/>
        </p:nvPicPr>
        <p:blipFill>
          <a:blip r:embed="rId3"/>
          <a:stretch/>
        </p:blipFill>
        <p:spPr>
          <a:xfrm>
            <a:off x="-281160" y="4352760"/>
            <a:ext cx="94316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-158760" y="2004840"/>
            <a:ext cx="9809280" cy="1646280"/>
          </a:xfrm>
          <a:prstGeom prst="rect">
            <a:avLst/>
          </a:prstGeom>
          <a:ln w="0">
            <a:noFill/>
          </a:ln>
        </p:spPr>
      </p:pic>
      <p:pic>
        <p:nvPicPr>
          <p:cNvPr id="419" name="Подзаголовок 2" descr=""/>
          <p:cNvPicPr/>
          <p:nvPr/>
        </p:nvPicPr>
        <p:blipFill>
          <a:blip r:embed="rId2"/>
          <a:stretch/>
        </p:blipFill>
        <p:spPr>
          <a:xfrm>
            <a:off x="-371520" y="-6480"/>
            <a:ext cx="9522000" cy="1225800"/>
          </a:xfrm>
          <a:prstGeom prst="rect">
            <a:avLst/>
          </a:prstGeom>
          <a:ln w="0">
            <a:noFill/>
          </a:ln>
        </p:spPr>
      </p:pic>
      <p:sp>
        <p:nvSpPr>
          <p:cNvPr id="420" name="Выгнутая вправо стрелка 10"/>
          <p:cNvSpPr/>
          <p:nvPr/>
        </p:nvSpPr>
        <p:spPr>
          <a:xfrm>
            <a:off x="2286000" y="1143000"/>
            <a:ext cx="500040" cy="1214280"/>
          </a:xfrm>
          <a:custGeom>
            <a:avLst/>
            <a:gdLst>
              <a:gd name="textAreaLeft" fmla="*/ 66960 w 500040"/>
              <a:gd name="textAreaRight" fmla="*/ 433080 w 500040"/>
              <a:gd name="textAreaTop" fmla="*/ 256680 h 1214280"/>
              <a:gd name="textAreaBottom" fmla="*/ 89532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33" stAng="-5400000" swAng="5400000"/>
                <a:lnTo>
                  <a:pt x="21600" y="11356"/>
                </a:lnTo>
                <a:arcTo wR="21600" hR="9133" stAng="0" swAng="3778364"/>
                <a:lnTo>
                  <a:pt x="4554" y="21395"/>
                </a:lnTo>
                <a:lnTo>
                  <a:pt x="0" y="19377"/>
                </a:lnTo>
                <a:lnTo>
                  <a:pt x="4554" y="16948"/>
                </a:lnTo>
                <a:lnTo>
                  <a:pt x="4554" y="18060"/>
                </a:lnTo>
                <a:arcTo wR="21600" hR="9133" stAng="3778364" swAng="-3600297"/>
                <a:lnTo>
                  <a:pt x="21439" y="10244"/>
                </a:lnTo>
                <a:arcTo wR="21600" hR="9133" stAng="-178066" swAng="-5221934"/>
                <a:close/>
              </a:path>
              <a:path fill="darkenLess" w="21600" h="21600">
                <a:moveTo>
                  <a:pt x="0" y="0"/>
                </a:moveTo>
                <a:arcTo wR="21600" hR="9133" stAng="-5400000" swAng="5400000"/>
                <a:lnTo>
                  <a:pt x="21600" y="11356"/>
                </a:lnTo>
                <a:arcTo wR="21600" hR="9133" stAng="0" swAng="-178066"/>
                <a:lnTo>
                  <a:pt x="21439" y="10244"/>
                </a:lnTo>
                <a:arcTo wR="21600" hR="9133" stAng="-178066" swAng="-5221934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Выгнутая влево стрелка 11"/>
          <p:cNvSpPr/>
          <p:nvPr/>
        </p:nvSpPr>
        <p:spPr>
          <a:xfrm>
            <a:off x="6000840" y="1143000"/>
            <a:ext cx="571320" cy="1214280"/>
          </a:xfrm>
          <a:custGeom>
            <a:avLst/>
            <a:gdLst>
              <a:gd name="textAreaLeft" fmla="*/ 76320 w 571320"/>
              <a:gd name="textAreaRight" fmla="*/ 495000 w 571320"/>
              <a:gd name="textAreaTop" fmla="*/ 249840 h 1214280"/>
              <a:gd name="textAreaBottom" fmla="*/ 89280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94" stAng="-5400000" swAng="-5400000"/>
                <a:lnTo>
                  <a:pt x="0" y="11436"/>
                </a:lnTo>
                <a:arcTo wR="21600" hR="8894" stAng="10800000" swAng="-3474582"/>
                <a:lnTo>
                  <a:pt x="16200" y="21318"/>
                </a:lnTo>
                <a:lnTo>
                  <a:pt x="21600" y="19059"/>
                </a:lnTo>
                <a:lnTo>
                  <a:pt x="16200" y="16236"/>
                </a:lnTo>
                <a:lnTo>
                  <a:pt x="16200" y="17506"/>
                </a:lnTo>
                <a:arcTo wR="21600" hR="8894" stAng="7325418" swAng="3270439"/>
                <a:lnTo>
                  <a:pt x="222" y="10165"/>
                </a:lnTo>
                <a:arcTo wR="21600" hR="8894" stAng="-10595857" swAng="5195857"/>
                <a:close/>
              </a:path>
              <a:path fill="darkenLess" w="21600" h="21600">
                <a:moveTo>
                  <a:pt x="21600" y="0"/>
                </a:moveTo>
                <a:arcTo wR="21600" hR="8894" stAng="-5400000" swAng="-5400000"/>
                <a:lnTo>
                  <a:pt x="0" y="8894"/>
                </a:lnTo>
                <a:arcTo wR="21600" hR="8894" stAng="10800000" swAng="-204143"/>
                <a:lnTo>
                  <a:pt x="222" y="10165"/>
                </a:lnTo>
                <a:arcTo wR="21600" hR="8894" stAng="-10595857" swAng="5195857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7"/>
          <p:cNvSpPr/>
          <p:nvPr/>
        </p:nvSpPr>
        <p:spPr>
          <a:xfrm>
            <a:off x="0" y="3857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роявляются, наприм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в ходьбе и бе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трелка вниз 8"/>
          <p:cNvSpPr/>
          <p:nvPr/>
        </p:nvSpPr>
        <p:spPr>
          <a:xfrm>
            <a:off x="1857240" y="2928960"/>
            <a:ext cx="14292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9"/>
          <p:cNvSpPr/>
          <p:nvPr/>
        </p:nvSpPr>
        <p:spPr>
          <a:xfrm>
            <a:off x="5357880" y="378612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в единоборствах      и спортивных играх</a:t>
            </a: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низ 12"/>
          <p:cNvSpPr/>
          <p:nvPr/>
        </p:nvSpPr>
        <p:spPr>
          <a:xfrm>
            <a:off x="6357960" y="2928960"/>
            <a:ext cx="14292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3"/>
          <a:stretch/>
        </p:blipFill>
        <p:spPr>
          <a:xfrm>
            <a:off x="928800" y="4721400"/>
            <a:ext cx="1643040" cy="21366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"/>
          <p:cNvPicPr/>
          <p:nvPr/>
        </p:nvPicPr>
        <p:blipFill>
          <a:blip r:embed="rId4"/>
          <a:stretch/>
        </p:blipFill>
        <p:spPr>
          <a:xfrm>
            <a:off x="5786280" y="4707000"/>
            <a:ext cx="24289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559640" cy="2584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Franklin Gothic Book"/>
              </a:rPr>
              <a:t>1)стандартно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Franklin Gothic Book"/>
              </a:rPr>
              <a:t>-повторного упражнения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333ff"/>
                </a:solidFill>
                <a:uFillTx/>
                <a:latin typeface="Franklin Gothic Book"/>
              </a:rPr>
              <a:t>2) вариативного упражнения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dd30f"/>
                </a:solidFill>
                <a:uFillTx/>
                <a:latin typeface="Franklin Gothic Book"/>
              </a:rPr>
              <a:t>3)игровой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9900"/>
                </a:solidFill>
                <a:uFillTx/>
                <a:latin typeface="Franklin Gothic Book"/>
              </a:rPr>
              <a:t>4) соревновательный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-274680" y="-103320"/>
            <a:ext cx="9686880" cy="173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"/>
          <p:cNvGraphicFramePr/>
          <p:nvPr/>
        </p:nvGraphicFramePr>
        <p:xfrm>
          <a:off x="0" y="1714680"/>
          <a:ext cx="9144000" cy="5072040"/>
        </p:xfrm>
        <a:graphic>
          <a:graphicData uri="http://schemas.openxmlformats.org/drawingml/2006/table">
            <a:tbl>
              <a:tblPr/>
              <a:tblGrid>
                <a:gridCol w="2960640"/>
                <a:gridCol w="3208320"/>
                <a:gridCol w="2975040"/>
              </a:tblGrid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f0a22e"/>
                          </a:solidFill>
                          <a:uFillTx/>
                          <a:latin typeface="Arial"/>
                        </a:rPr>
                        <a:t>Качествен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Критер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</a:rPr>
                        <a:t>Количествен-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0a22e"/>
                          </a:solidFill>
                          <a:latin typeface="Arial"/>
                        </a:rPr>
                        <a:t>АДЕКВА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АВИ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0a22e"/>
                          </a:solidFill>
                          <a:latin typeface="Arial"/>
                        </a:rPr>
                        <a:t>СВОЕВРЕМЕН-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ЫСТР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КО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0a22e"/>
                          </a:solidFill>
                          <a:latin typeface="Arial"/>
                        </a:rPr>
                        <a:t>ЦЕЛЕСООБРАЗ-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ЦИОНАЛЬ-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ЭКОНОМИЧ-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0a22e"/>
                          </a:solidFill>
                          <a:latin typeface="Arial"/>
                        </a:rPr>
                        <a:t>ИНИЦИАТИВ-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ХОДЧИВ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ТАБИ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5:22:36Z</dcterms:created>
  <dc:creator>александра.</dc:creator>
  <dc:description/>
  <dc:language>en-US</dc:language>
  <cp:lastModifiedBy>admin</cp:lastModifiedBy>
  <dcterms:modified xsi:type="dcterms:W3CDTF">2011-11-14T15:24:48Z</dcterms:modified>
  <cp:revision>150</cp:revision>
  <dc:subject/>
  <dc:title>Слайд 1</dc:title>
</cp:coreProperties>
</file>