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9.gif" ContentType="image/gif"/>
  <Override PartName="/ppt/media/image18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14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7E9-1BBF-475B-8FEB-E1BBA9EE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986-DFE6-4001-B6AD-4499CDA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C50-B739-42F1-8B66-6F0F621C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852-620C-49B2-B6E2-AB641B1F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7EC1B-9415-4718-A194-D2F35D57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495A-171E-49D6-B9F8-85754B5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C53D2-D7DB-4B15-973A-44051936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1A604-CDBC-4ACA-9A67-1E4FEF8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E428-5BC0-4312-BC8D-65951B32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76BA-5144-4717-9354-D63C6501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B2CFF-A70C-44EF-86E0-E96662F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508-5F00-4616-AF5A-88B59842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B5BB2-3EB7-4597-9763-C5B96CB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46C60-0EF4-40C1-A982-AB9A2BB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F1361-8619-44B9-A6BB-08820F3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E61DD-466A-4E8A-B35D-20B59F27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3FBFF-D3C9-4E2B-B6F9-7F7627C8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675-F99D-4225-A44E-9067E2E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2A2-1C76-4231-B3E0-F0FE8505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928-939F-4AFF-A973-E7A5C2D4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7F3-1D84-47EC-81E6-4B9A322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447-CB10-4C61-82D0-5AA5578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2C2-CF09-4D1D-918D-2A7609A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6C3-C05E-4072-9476-59F8165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0BD8-BEAF-42A3-B937-6EEC99FB0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C98C-4B70-42BE-A61C-25641DC9F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ffff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3300"/>
                </a:solidFill>
                <a:latin typeface="Arial"/>
              </a:rPr>
              <a:t>Медлительные в неволе, удивительные в природ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6720" y="4648320"/>
            <a:ext cx="4876920" cy="1828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р: Андреева Арина Александровна, ученица 3 клас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ководитель: Ефимова Галина Николаевна-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Большебикших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нашского района Чувашской Республ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E:\анима\Коллекция картинок (Microsoft)\j0198742.wmf"/>
          <p:cNvPicPr/>
          <p:nvPr/>
        </p:nvPicPr>
        <p:blipFill>
          <a:blip r:embed="rId2"/>
          <a:stretch/>
        </p:blipFill>
        <p:spPr>
          <a:xfrm>
            <a:off x="942840" y="228600"/>
            <a:ext cx="150336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520" y="304920"/>
            <a:ext cx="83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Узнать о правилах ухода за н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2938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беспечить ее мес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азнообразным рационом пит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57400" y="3106800"/>
            <a:ext cx="533412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4520" y="457200"/>
            <a:ext cx="8821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ahoma"/>
              </a:rPr>
              <a:t>Что надо знать перед приобретение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248120"/>
            <a:ext cx="84582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одные черепахи страдают из-за глазных болезней, что иногда бывает, вызвано с загрязнением в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 черепах могут быть механические повреждения панциря, например при па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867280" cy="395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458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Доказать родителям, что могу быть ответственной за того, кого прируч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65960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 в неделю меняю воду в аквариу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тром и вечером кормлю разнообразным корм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2886120" cy="4267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89548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762120"/>
            <a:ext cx="84582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Я получила много информации, благодаря  журналам, брошюрам, книга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Черепахи – это животное трудно спутать с каким-либо другим, так как черепаха обладает характерной особенностью, ее тело покрыто панцырем. Первые черепахи появились 200 млн. лет назад и за последние 150 млн. лет они практически не изменили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 настоящее время на Земле существует около 7000 видов рептилий, разделяемых на четыре отряда. Это – черепахи, представленные  230 видами; самые многочисленные, около 6500 видов, чешуйчатые, к которым относятся ящериц и змей, а также не совсем ясных в систематическом  отношении амфисбен; крокодилы – 22 вида и представленные единственным видом – гаттерией, обитающей в Новой Зеландии, - клювоголовы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90720"/>
            <a:ext cx="8458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Я рассмотрела несколько видов черепах и решила завести аквариумную черепа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89680" y="304920"/>
            <a:ext cx="2262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E:\анима\анима\vbn.gif"/>
          <p:cNvPicPr/>
          <p:nvPr/>
        </p:nvPicPr>
        <p:blipFill>
          <a:blip r:embed="rId2"/>
          <a:stretch/>
        </p:blipFill>
        <p:spPr>
          <a:xfrm>
            <a:off x="1295280" y="3808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90920" y="3276720"/>
            <a:ext cx="377172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066680"/>
            <a:ext cx="84582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ы с родителями решили поехать в зоомагазин. Я долго стояла и глядела в витрину, а за стеклом «мини – джунгли», но только подводные. И вот из этих зарослей выплывает настоящее чудо – крохотная черепашка. Она, загребая лапками, всплывает на поверхность, заглатывает воздух, ныряет и исчез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восхищена, расплываюсь в улыбке и тут же цепляюсь за руки родителей: «Пап, мам, купите черепашку!» Родители, конечно, тоже были удивлены. У них в детстве не было такого чуда. Они сдержали свое слово и купили мне двух замечательных красноухих черепах! Я сама выбрала нужный мне аквариум и ко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3040" y="457200"/>
            <a:ext cx="3628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E:\анима\анима\vbn.gif"/>
          <p:cNvPicPr/>
          <p:nvPr/>
        </p:nvPicPr>
        <p:blipFill>
          <a:blip r:embed="rId2"/>
          <a:stretch/>
        </p:blipFill>
        <p:spPr>
          <a:xfrm>
            <a:off x="1295280" y="3808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238880" y="304920"/>
            <a:ext cx="1552680" cy="142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643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хочу завести у себя дома экзотических животных: аквариумных рыбок, змею, черепа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64724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знать больше об аквариумных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12408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E:\анима\Office\PUB60COR\BD00146_.WMF"/>
          <p:cNvPicPr/>
          <p:nvPr/>
        </p:nvPicPr>
        <p:blipFill>
          <a:blip r:embed="rId2"/>
          <a:stretch/>
        </p:blipFill>
        <p:spPr>
          <a:xfrm>
            <a:off x="6629400" y="2971800"/>
            <a:ext cx="1708200" cy="168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2188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ие аквариумные живот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егче уживаются в домашни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знать о правилах ухода за н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то надо знать перед приобрет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оказать родителям, что могу бы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ственной за того, кого прируч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E:\анима\Office\PUB60COR\AG00021_.GIF"/>
          <p:cNvPicPr/>
          <p:nvPr/>
        </p:nvPicPr>
        <p:blipFill>
          <a:blip r:embed="rId2"/>
          <a:stretch/>
        </p:blipFill>
        <p:spPr>
          <a:xfrm>
            <a:off x="7543800" y="228600"/>
            <a:ext cx="138420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91080"/>
            <a:ext cx="83822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Я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хочу завести у себя дома экзотических животных: аквариумных рыбок, змею, черепа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104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 детства мне нравились экзотические животные. Я никогда не пропускала телепередачи, где  показывали этих питомцев. А потом появилась мечта – заиметь дома этих экзотических животных: кошек, рыбок, змей, черепах. И вот папа купил мне сиамскую кошку. Но тут не сбыться моей мечте. Мо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естренка Виктория заболе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ллергией. Но я не оста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вою мечту. С библиоте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аще и чаще начала бр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ниги о рыбах, о зме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 череп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419112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7612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Узнать больше об аквариумных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294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лище для питомцев должно быть просторным, чем больше, тем лучше. А воду можно заливать из-под крана, но использовать специальные препараты, известные как кондиционеры в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296040" cy="37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952880" y="668520"/>
            <a:ext cx="41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рм для питомцев покупать комбинированный. Можно даже вырастить живые аквариумные растения. А для аквариума можно выбрать достаточно большое количество ры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4724280" cy="3181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" y="76320"/>
            <a:ext cx="22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a"/>
                </a:solidFill>
                <a:latin typeface="Tahoma"/>
              </a:rPr>
              <a:t>Цихлиды-попуга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81280" y="3662280"/>
            <a:ext cx="5486400" cy="311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0" y="6400800"/>
            <a:ext cx="22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1a"/>
                </a:solidFill>
                <a:latin typeface="Tahoma"/>
              </a:rPr>
              <a:t>«Крашеные»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Я получила много информации, благодаря  журналам, брошюрам, книгам. Но больше всего мне понравилась информация о черепах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19120" y="2362320"/>
            <a:ext cx="6429600" cy="423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49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Какие аквариумные животные легче уживаются в  домашни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311480"/>
            <a:ext cx="487692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казывается черепахи  - старейшины  животного мира, пережившие многих своих родственников. Черепахи фантастически живучи. Сто пятьдесят лет – обыкновенный возраст для больших сухопутных черепах. Они появляются на свет древнейшим способом – из яйца, согретого теплом зем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424160"/>
            <a:ext cx="3505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сть черепахи, котор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колько бы не росли, больше дециметра не вырастут. А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яжеловесы – поч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полтон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4572000" cy="274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48360" y="3733920"/>
            <a:ext cx="2562120" cy="29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81440"/>
            <a:ext cx="8534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репашек можно содержать в домашних акватеррариум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6058080" cy="297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racuda</cp:lastModifiedBy>
  <dcterms:modified xsi:type="dcterms:W3CDTF">2011-12-11T11:26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