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9.gif" ContentType="image/gif"/>
  <Override PartName="/ppt/media/image18.jpeg" ContentType="image/jpeg"/>
  <Override PartName="/ppt/media/image17.gif" ContentType="image/gif"/>
  <Override PartName="/ppt/media/image2.wmf" ContentType="image/x-wmf"/>
  <Override PartName="/ppt/media/image16.jpeg" ContentType="image/jpeg"/>
  <Override PartName="/ppt/media/image14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530-66A4-44FF-A95B-322A6CF9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B41-AEB2-4DD2-8E01-50B684EF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00F-ED8D-4E35-96CD-EECE94F0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DF0-56DE-431D-883E-B697EC3B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F4971-0873-4B60-A82C-76096E76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AB922-59EE-440B-87E2-BDC1D0E2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E3AF7-4E32-4D32-B226-A569B68E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36879-D68B-4571-AB47-B21BB763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B3F58-4173-4BAF-83A9-3FE83A3C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FCF76-552A-4BBF-99D4-F6AA8D15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616A1-4E35-4990-A7CE-AAD3881D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171-1369-4404-9F11-311F31D0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73869-8CA4-4E4C-A69F-7A80829A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04545-5BF4-4A75-B25D-19E8AB47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01826-69A9-4AA2-B616-67EDE084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34AA4-CF25-4215-8D15-FFEE87FE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E60B7-6885-4ABF-88D7-7C30F28A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095-8524-4966-80CA-245AD538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75A-D7FD-4606-9C7B-88FBC64D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B36-790F-41D7-92F1-BBF7B3F7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4DD-B794-4690-A23E-A45D312B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85A-08C1-484D-B2AE-81454465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CE7-3325-4C36-A460-1B42D463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B28-B209-4A3E-A564-3AFE33FF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8E3F-CFA4-416C-9EFE-5D6DD658D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B6B6-8242-468F-B1A6-57CAB7801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ffff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3300"/>
                </a:solidFill>
                <a:latin typeface="Arial"/>
              </a:rPr>
              <a:t>Медлительные в неволе, удивительные в природ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6720" y="4648320"/>
            <a:ext cx="4876920" cy="1828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втор: Андреева Арина Александровна, ученица 3 класс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ководитель: Ефимова Галина Николаевна-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Большебикших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нашского района Чувашской Республ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E:\анима\Коллекция картинок (Microsoft)\j0198742.wmf"/>
          <p:cNvPicPr/>
          <p:nvPr/>
        </p:nvPicPr>
        <p:blipFill>
          <a:blip r:embed="rId2"/>
          <a:stretch/>
        </p:blipFill>
        <p:spPr>
          <a:xfrm>
            <a:off x="942840" y="228600"/>
            <a:ext cx="150336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520" y="304920"/>
            <a:ext cx="830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Узнать о правилах ухода за ни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29384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беспечить ее мес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азнообразным рационом пит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57400" y="3106800"/>
            <a:ext cx="5334120" cy="36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4520" y="457200"/>
            <a:ext cx="88218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ahoma"/>
              </a:rPr>
              <a:t>Что надо знать перед приобретением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248120"/>
            <a:ext cx="84582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одные черепахи страдают из-за глазных болезней, что иногда бывает, вызвано с загрязнением во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 черепах могут быть механические повреждения панциря, например при пад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867280" cy="395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4920"/>
            <a:ext cx="8458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Доказать родителям, что могу быть ответственной за того, кого прируч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659600"/>
            <a:ext cx="723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з в неделю меняю воду в аквариу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тром и вечером кормлю разнообразным корм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2886120" cy="4267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257800" y="2514600"/>
            <a:ext cx="289548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762120"/>
            <a:ext cx="84582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Я получила много информации, благодаря  журналам, брошюрам, книга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Черепахи – это животное трудно спутать с каким-либо другим, так как черепаха обладает характерной особенностью, ее тело покрыто панцырем. Первые черепахи появились 200 млн. лет назад и за последние 150 млн. лет они практически не изменилис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 настоящее время на Земле существует около 7000 видов рептилий, разделяемых на четыре отряда. Это – черепахи, представленные  230 видами; самые многочисленные, около 6500 видов, чешуйчатые, к которым относятся ящериц и змей, а также не совсем ясных в систематическом  отношении амфисбен; крокодилы – 22 вида и представленные единственным видом – гаттерией, обитающей в Новой Зеландии, - клювоголовы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990720"/>
            <a:ext cx="84582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Я рассмотрела несколько видов черепах и решила завести аквариумную черепа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89680" y="304920"/>
            <a:ext cx="2262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E:\анима\анима\vbn.gif"/>
          <p:cNvPicPr/>
          <p:nvPr/>
        </p:nvPicPr>
        <p:blipFill>
          <a:blip r:embed="rId2"/>
          <a:stretch/>
        </p:blipFill>
        <p:spPr>
          <a:xfrm>
            <a:off x="1295280" y="3808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90920" y="3276720"/>
            <a:ext cx="3771720" cy="24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066680"/>
            <a:ext cx="84582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ы с родителями решили поехать в зоомагазин. Я долго стояла и глядела в витрину, а за стеклом «мини – джунгли», но только подводные. И вот из этих зарослей выплывает настоящее чудо – крохотная черепашка. Она, загребая лапками, всплывает на поверхность, заглатывает воздух, ныряет и исчезае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восхищена, расплываюсь в улыбке и тут же цепляюсь за руки родителей: «Пап, мам, купите черепашку!» Родители, конечно, тоже были удивлены. У них в детстве не было такого чуда. Они сдержали свое слово и купили мне двух замечательных красноухих черепах! Я сама выбрала нужный мне аквариум и ко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3040" y="457200"/>
            <a:ext cx="3628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9" descr="E:\анима\анима\vbn.gif"/>
          <p:cNvPicPr/>
          <p:nvPr/>
        </p:nvPicPr>
        <p:blipFill>
          <a:blip r:embed="rId2"/>
          <a:stretch/>
        </p:blipFill>
        <p:spPr>
          <a:xfrm>
            <a:off x="1295280" y="3808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238880" y="304920"/>
            <a:ext cx="1552680" cy="142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643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хочу завести у себя дома экзотических животных: аквариумных рыбок, змею, черепа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64724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знать больше об аквариумных живот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12408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E:\анима\Office\PUB60COR\BD00146_.WMF"/>
          <p:cNvPicPr/>
          <p:nvPr/>
        </p:nvPicPr>
        <p:blipFill>
          <a:blip r:embed="rId2"/>
          <a:stretch/>
        </p:blipFill>
        <p:spPr>
          <a:xfrm>
            <a:off x="6629400" y="2971800"/>
            <a:ext cx="1708200" cy="168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Задачи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721880"/>
            <a:ext cx="85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кие аквариумные живот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егче уживаются в домашни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знать о правилах ухода за ни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то надо знать перед приобрет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оказать родителям, что могу бы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ветственной за того, кого прируч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E:\анима\Office\PUB60COR\AG00021_.GIF"/>
          <p:cNvPicPr/>
          <p:nvPr/>
        </p:nvPicPr>
        <p:blipFill>
          <a:blip r:embed="rId2"/>
          <a:stretch/>
        </p:blipFill>
        <p:spPr>
          <a:xfrm>
            <a:off x="7543800" y="228600"/>
            <a:ext cx="138420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91080"/>
            <a:ext cx="83822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Я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хочу завести у себя дома экзотических животных: аквариумных рыбок, змею, черепа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104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 детства мне нравились экзотические животные. Я никогда не пропускала телепередачи, где  показывали этих питомцев. А потом появилась мечта – заиметь дома этих экзотических животных: кошек, рыбок, змей, черепах. И вот папа купил мне сиамскую кошку. Но тут не сбыться моей мечте. Мо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естренка Виктория заболе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ллергией. Но я не оста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вою мечту. С библиоте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чаще и чаще начала бра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ниги о рыбах, о зме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 череп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5680" y="3886200"/>
            <a:ext cx="419112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27612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Узнать больше об аквариумных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2942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Жилище для питомцев должно быть просторным, чем больше, тем лучше. А воду можно заливать из-под крана, но использовать специальные препараты, известные как кондиционеры во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6296040" cy="37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952880" y="668520"/>
            <a:ext cx="419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рм для питомцев покупать комбинированный. Можно даже вырастить живые аквариумные растения. А для аквариума можно выбрать достаточно большое количество ры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4724280" cy="3181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" y="76320"/>
            <a:ext cx="22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a"/>
                </a:solidFill>
                <a:latin typeface="Tahoma"/>
              </a:rPr>
              <a:t>Цихлиды-попуга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81280" y="3662280"/>
            <a:ext cx="5486400" cy="3119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0" y="6400800"/>
            <a:ext cx="22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1a"/>
                </a:solidFill>
                <a:latin typeface="Tahoma"/>
              </a:rPr>
              <a:t>«Крашеные»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8088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Я получила много информации, благодаря  журналам, брошюрам, книгам. Но больше всего мне понравилась информация о черепах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19120" y="2362320"/>
            <a:ext cx="6429600" cy="423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049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Какие аквариумные животные легче уживаются в  домашни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311480"/>
            <a:ext cx="487692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казывается черепахи  - старейшины  животного мира, пережившие многих своих родственников. Черепахи фантастически живучи. Сто пятьдесят лет – обыкновенный возраст для больших сухопутных черепах. Они появляются на свет древнейшим способом – из яйца, согретого теплом зем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1424160"/>
            <a:ext cx="3505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Есть черепахи, котор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колько бы не росли, больше дециметра не вырастут. А 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яжеловесы – поч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полтон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4572000" cy="2747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48360" y="3733920"/>
            <a:ext cx="2562120" cy="29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81440"/>
            <a:ext cx="8534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репашек можно содержать в домашних акватеррариум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6058080" cy="297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racuda</cp:lastModifiedBy>
  <dcterms:modified xsi:type="dcterms:W3CDTF">2011-12-11T11:26:4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