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5F2-E0B2-439C-B91B-5144EBB4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E42-6927-48F7-BB4D-EE20E7E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A43-9D04-4F0E-A54F-84331DAA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7D8-FBDC-4C39-ABBA-D804B14A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0C01-DDF6-4558-8676-97E12B79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D2AC-8781-47C5-AA02-0FA703D6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177-D679-4835-B9E9-DCD8F34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662-CA32-4EC6-BD27-BD2EE0B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23D9-3B7E-4259-945E-ED41085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D2B-B5B4-4EF1-A228-F85E979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6E5-FF01-4745-AA3C-66519C0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D68-49B4-42D8-AB87-429B47D2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5155-08B1-466C-9A4C-6056A33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D16-AD08-4FB1-B623-491D2D4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2AB-503C-4603-B00C-067C040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F9E5-281D-4A12-BFF1-CB8974B2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9EF1-2A50-426C-B7AE-E272448A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2DE-29BC-46A7-9BCE-B624E0EC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358-8163-4AE2-BF5D-E7B6B6C8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876-E17A-4577-8AD7-16A04132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264-EDCD-44E6-B814-F0918E8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4CB-30A9-4911-8359-C944DA8B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7F1-E579-4538-A425-64F8CF22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1B2-044B-42EE-815F-190E8E2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04C-956D-471A-879B-BD574BFFB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B8C-C1E8-401D-817E-BF68FEEE5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браз Бабы- Яги в русском фольклор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06064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mg_0" descr=""/>
          <p:cNvPicPr/>
          <p:nvPr/>
        </p:nvPicPr>
        <p:blipFill>
          <a:blip r:embed="rId1"/>
          <a:stretch/>
        </p:blipFill>
        <p:spPr>
          <a:xfrm>
            <a:off x="2181240" y="2103480"/>
            <a:ext cx="3200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21320" cy="6350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51240" y="47628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1052640"/>
            <a:ext cx="4246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роисхождение Бабы- Яги связано с образом хозяйки зверей и мира мерт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Она может выступать и в функции вредителя, и в функции дарителя, волшебного помощ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Такие атрибуты, как избушка на курьих ножках. ступа, лопата, которой она забрасывает в печь детей, согласуются с языческими дохристианскими верованиями, представлениями и обряд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ерсонажи, сходные с Бабой-Ягой,известны в германской, греческой 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других  мифолог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29360" y="549360"/>
            <a:ext cx="61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Список использованной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413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6a03"/>
                </a:solidFill>
                <a:latin typeface="Times New Roman"/>
              </a:rPr>
              <a:t>Mythologyblog./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220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Stencil"/>
              </a:rPr>
              <a:t>Б. А. Рыбаков «Язычество древних славян»-м.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Русское слово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2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В. Калашников «Боги   древних славян»,М.: Белый город,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92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5f03"/>
                </a:solidFill>
                <a:latin typeface="Times New Roman"/>
              </a:rPr>
              <a:t>Sueverija/. narod.ru/muz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157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b5f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5f03"/>
                </a:solidFill>
                <a:latin typeface="Times New Roman"/>
              </a:rPr>
              <a:t>Д.Гаврилов, А. Ноговицын «Боги древних славян. Язычество. Традиция»,-М.:Рефл- Бук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765000"/>
            <a:ext cx="799308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скрыть образ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Бабы- Яги как мистического персонажа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охристианской  Ру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84464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997360"/>
            <a:ext cx="7561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Задачи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смотреть разные версии исследователей о происхождении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нимании обр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казать двойственную природу происхождения персонажа на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имерах сказ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mg_7" descr=""/>
          <p:cNvPicPr/>
          <p:nvPr/>
        </p:nvPicPr>
        <p:blipFill>
          <a:blip r:embed="rId1"/>
          <a:stretch/>
        </p:blipFill>
        <p:spPr>
          <a:xfrm rot="20943000">
            <a:off x="611280" y="836280"/>
            <a:ext cx="3808440" cy="492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59280" y="83664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иболее древнейшая из славянских Баб – это Баба Яга. У многих возникают вопросы: что означает Яга? Почему она такая страшная? И уж тем более никто не верит, что страшная Баба Яга - изначально заботливая берегин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лово «Яга» - огрубленное «Яшка». Яша в славянских песнях называли ящура - некогда жившего на земле и исчезнувшего прародителя всего живого; отсюда наше более понятное - пращур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981000"/>
            <a:ext cx="79218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Баба Яга изначально - прародительница, очень древнее положительное божество славянского пантеона, хранительница (если надо - воинственная) рода и традиций, детей и околодомашнего (часто лесного) пространств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В разных славянских племенах были позже и другие прародительницы, получившие имена собственные: Златая Баба, Златая Мать, Макошь и т.д.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62064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Действительный член Русского географического общества А.Н. Афанасьев осмысливал русские сказки в понятиях так называемой "мифологической школы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349360"/>
            <a:ext cx="820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ожно предположить, что сказочный образ Яги возник в русском народном творчестве как результат многовекового взаимодействия на общем индоиранском фоне славянской и финно–угорской культур. Несомненно, что проникновение русских на Север, в Югру и Сибирь, знакомство с бытом местного населения и последующие рассказы о нем оказали заметное влияние на формирование образа Яги в русских, а затем и зырянских сказках. Именно новгородские ушкуйники, казаки–первопроходцы, воины, ямщики и солдаты принесли на Русь те необыкновенные сведения о жизненном укладе, обычаях и верованиях Югры, которые, перемешавшись с древнеславянской мифологией и фольклором, наложили отпечаток на волшебные сказки о Бабе Яг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рсия В. Я . Пропп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9120" y="2562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8353440" cy="53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Рассуждая о связи Яги с образом смерти, Пропп утверждает, что она "никогда не ходит. Она или летает, или лежит, то есть и внешне проявляет себя как мертвец". ("Исторические корни волшебной сказки". М. 1998. С.164). Это абсолютная неправда. Из этой статичной начальной позы Яга встаёт и кормит героя, она приходит и уходит точить зубы, оставляя пойманных детей одних, бегает от богатырей, лазает в норы под камнем, катается-валяется на костях, и т. д, и т. п. Например в белорусской сказке "Хортки" рассказывается: "Назавтра Баба Юга сказала девке кросны ткать, а мальцу дрова сечь, а сама пошла, а коту велела их стеречь. Походит, походит, да подойдёт под окно и спрашивает: - Девка - девица, русая косица! Ткёшь ли ты? - Тку, бабушка, тку! Она и ушла". Далее благодарный кот отпускает детей. И только когда Баба Юга обнаруживает пропажу она садится на ступу, но не летит на ней, а бежит. (Чарадзейныя казкi. Мiнск. 2003. С.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dbe2d78db5801941638fd16a701bea94" descr=""/>
          <p:cNvPicPr/>
          <p:nvPr/>
        </p:nvPicPr>
        <p:blipFill>
          <a:blip r:embed="rId1"/>
          <a:stretch/>
        </p:blipFill>
        <p:spPr>
          <a:xfrm>
            <a:off x="0" y="1047600"/>
            <a:ext cx="3591000" cy="4762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08360" y="333360"/>
            <a:ext cx="504036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Поскольку Баба Яга выступает как представительница мира мертвых (хотя это напрямую ниоткуда не следует) или проводник в оный, многие исследователи делают из этого выводы о том, что Бабу Ягу нужно непременно связывать с погребальными культами древних славян.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Древние славяне кремировали своих предков, а после кремации помещали прах в особые могильные домики на высоких столбиках. Вот такие могильные домики, по мнению исследователей, и являются прообразом сказочной избушк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Times New Roman"/>
              </a:rPr>
              <a:t>И в ступе - не менее чудном чем домик транспортном средстве бабы Яги - тоже видят связи с погребальным культом. У индусов так вообще ступа - культовое погребально-мемориальное сооружение. Ну так тож у индусов!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333360"/>
            <a:ext cx="84247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76a03"/>
                </a:solidFill>
                <a:latin typeface="Times New Roman"/>
              </a:rPr>
              <a:t>Зачем Яга детей в печку саж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ерепекание Ребёнка</a:t>
            </a: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 - обряд, совершаемый над младенцами, больными рахитом или атрофией (по народной терминологии — собачьей старостью или сухотами): грудного ребенка кладут на хлебную лопату и триждзны всовывают в теплую печь. Ритуал осуществлялся иногда и при других болеях, например при грыже; во Владимирской губернии «перепекали» всех детей непосредственно после род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В России обряд был известен преимущественно в Поволжье, центрально - и южнорусских губерниях, а также в Сибири, на Украине — на Подолье, в волынском Полесье, в Киевской, Черниговской и Харьковской областях. Украинская баба - знахарка на рассвете приносила из трех колодцев воды, замешивала тесто, пекла хлеб и, вынув хлеб из печи, всовывала туда на лопате ребенка. Как и повсюду у восточных славян, обряд мог сопровождаться диалогом. Когда знахарка сажала ребенка в печь, его мать трижды обходила вокруг хаты, каждый раз заглядывая в окно и спрашивая: «Што ты, бабусю, робышь?» Знахарка отвечала: «Хлиб гнитю!»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620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95680" cy="380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59280" y="0"/>
            <a:ext cx="576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Согласно большинству описаний, главной целью обряда было сжигание болезни, а сопровождался он приговорами типа: «Собачья старость, припекись в печи!», «Как хлеб печется, так и собачья старость пекись!» Смысл обряда определяется символическим отождествлением ребенка и хлеба, выпечки хлеба и появления ребенка на свет: его как бы возвращают в материнское чрево (печь), чтобы он родился заново. По сообщению из Пензенской губернии, «иногда ребенок родится слишком слабым и сухощавым. Такого младенца, который, по выражению народному, „не допекся в утробе матерней", старухи-знахарки „перепекают" в обыкновенной печке, чтобы сделать его полным и здоровым». По-видимому, печь символизировала также и загробный мир, отправление в нее — временную смерть (ср. действия Бабы Яги и т.п.)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7:34:16Z</dcterms:created>
  <dc:creator>user</dc:creator>
  <dc:description/>
  <dc:language>en-US</dc:language>
  <cp:lastModifiedBy>user</cp:lastModifiedBy>
  <dcterms:modified xsi:type="dcterms:W3CDTF">2008-11-07T10:09:14Z</dcterms:modified>
  <cp:revision>21</cp:revision>
  <dc:subject/>
  <dc:title>Слайд 1</dc:title>
</cp:coreProperties>
</file>