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A21-B9DA-40DF-8C5A-B2780988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AEB-30B0-45D6-A2A2-FBC8A860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ECF-AAB1-4822-8FC9-6A105500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334-49C9-4AFB-9519-4EFC0A3F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AD226-6139-45BF-A897-397EC347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FCB48-A37A-4ACA-8A61-3268C99D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3CA52-A978-4EA8-9A50-785D5B27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D7F33-119C-4D3D-A66F-936202B7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3A0DF-042F-495D-BE3D-507F115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E6D58-BF87-4A44-9FC1-A9114BF0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BA56C-1891-4267-A2D3-27A547A9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A46-1A23-4A8C-9067-E0D12CB1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51DB7-846E-422F-83E8-A4FAF47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054F6-3AF7-4A4B-8ABA-7450EC1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56F2A-EC23-462B-AC46-C1ED7E52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79238-6BE8-4152-90EF-2B3DEF06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E695D-B6DE-498D-B0EA-45E9FFBE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CDF-B06C-48E6-A511-CDCB5E56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EC4-1B1E-43AD-ACBA-E131A4BC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04A-79BD-4C33-A884-39A4BD83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666-4EAE-408B-94DA-9F1BA64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0E6-DA57-449E-B2BF-0624399E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CB5-B52F-4142-BAC3-5DA1048D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1F2-067F-4AED-B529-C4F94FE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E7AD-B972-45AB-AAC9-BDDAF6E70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2563-38D3-4BDB-8B41-F5B43ACEE2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ание Санкт-Петербурга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етропавловская креп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 мая 1703 года русские войска в ходе боевых действий Северной войны взяли шведскую крепость Ниеншанц и с того момента было начато строение СП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ая постройка – Петропавловская креп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064a4468ae66"/>
          <p:cNvPicPr/>
          <p:nvPr/>
        </p:nvPicPr>
        <p:blipFill>
          <a:blip r:embed="rId1"/>
          <a:stretch/>
        </p:blipFill>
        <p:spPr>
          <a:xfrm>
            <a:off x="2071800" y="0"/>
            <a:ext cx="4535280" cy="2276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dn_85_main_front_2s"/>
          <p:cNvPicPr/>
          <p:nvPr/>
        </p:nvPicPr>
        <p:blipFill>
          <a:blip r:embed="rId1"/>
          <a:stretch/>
        </p:blipFill>
        <p:spPr>
          <a:xfrm>
            <a:off x="0" y="0"/>
            <a:ext cx="374796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240739"/>
          <p:cNvPicPr/>
          <p:nvPr/>
        </p:nvPicPr>
        <p:blipFill>
          <a:blip r:embed="rId2"/>
          <a:stretch/>
        </p:blipFill>
        <p:spPr>
          <a:xfrm>
            <a:off x="5148360" y="189000"/>
            <a:ext cx="3995640" cy="2185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0" y="2565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й план Петербур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13" descr="pic-peter"/>
          <p:cNvPicPr/>
          <p:nvPr/>
        </p:nvPicPr>
        <p:blipFill>
          <a:blip r:embed="rId3"/>
          <a:stretch/>
        </p:blipFill>
        <p:spPr>
          <a:xfrm>
            <a:off x="6588000" y="4005360"/>
            <a:ext cx="2160720" cy="285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0024-024-Kak-jav-vpilis-v-tvoi-tumany-Videnja-trekhsotletnikh-snov-O-samyj"/>
          <p:cNvPicPr/>
          <p:nvPr/>
        </p:nvPicPr>
        <p:blipFill>
          <a:blip r:embed="rId4"/>
          <a:stretch/>
        </p:blipFill>
        <p:spPr>
          <a:xfrm>
            <a:off x="0" y="3357720"/>
            <a:ext cx="6012000" cy="3500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5003640" y="2708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ник основател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164360" y="357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т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7000"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4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84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6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600"/>
                            </p:stCondLst>
                            <p:childTnLst>
                              <p:par>
                                <p:cTn id="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ш город самый лучший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ое название города – Санкт-Петербур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ая крепость – Петропавлов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т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идумал план креп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8" descr="5"/>
          <p:cNvPicPr/>
          <p:nvPr/>
        </p:nvPicPr>
        <p:blipFill>
          <a:blip r:embed="rId1"/>
          <a:stretch/>
        </p:blipFill>
        <p:spPr>
          <a:xfrm>
            <a:off x="4356000" y="1341360"/>
            <a:ext cx="3095640" cy="165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64a4468ae66"/>
          <p:cNvPicPr/>
          <p:nvPr/>
        </p:nvPicPr>
        <p:blipFill>
          <a:blip r:embed="rId2"/>
          <a:stretch/>
        </p:blipFill>
        <p:spPr>
          <a:xfrm>
            <a:off x="5148360" y="3141720"/>
            <a:ext cx="273672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petropkrsverhu"/>
          <p:cNvPicPr/>
          <p:nvPr/>
        </p:nvPicPr>
        <p:blipFill>
          <a:blip r:embed="rId3"/>
          <a:stretch/>
        </p:blipFill>
        <p:spPr>
          <a:xfrm>
            <a:off x="3492360" y="4869000"/>
            <a:ext cx="3097440" cy="1989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98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22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26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26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260"/>
                            </p:stCondLst>
                            <p:childTnLst>
                              <p:par>
                                <p:cTn id="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тик Петр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721 г. Ботик был перевезен в Петербург, а в 1761 г.ботик Петра перенесли в Ботный 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pereslavl_bot"/>
          <p:cNvPicPr/>
          <p:nvPr/>
        </p:nvPicPr>
        <p:blipFill>
          <a:blip r:embed="rId1"/>
          <a:stretch/>
        </p:blipFill>
        <p:spPr>
          <a:xfrm>
            <a:off x="0" y="0"/>
            <a:ext cx="3708360" cy="263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2492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4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9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ик Петр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был построен в 1703 г.с 24-26 мая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ая жилая постройка Петербур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104-4_wmark"/>
          <p:cNvPicPr/>
          <p:nvPr/>
        </p:nvPicPr>
        <p:blipFill>
          <a:blip r:embed="rId1"/>
          <a:stretch/>
        </p:blipFill>
        <p:spPr>
          <a:xfrm>
            <a:off x="0" y="0"/>
            <a:ext cx="4356000" cy="256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omik_petr1"/>
          <p:cNvPicPr/>
          <p:nvPr/>
        </p:nvPicPr>
        <p:blipFill>
          <a:blip r:embed="rId2"/>
          <a:stretch/>
        </p:blipFill>
        <p:spPr>
          <a:xfrm>
            <a:off x="4886280" y="0"/>
            <a:ext cx="4257720" cy="2565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8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920"/>
                            </p:stCondLst>
                            <p:childTnLst>
                              <p:par>
                                <p:cTn id="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92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Петербурге много разных достопримечательн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8" descr="1240739"/>
          <p:cNvPicPr/>
          <p:nvPr/>
        </p:nvPicPr>
        <p:blipFill>
          <a:blip r:embed="rId1"/>
          <a:stretch/>
        </p:blipFill>
        <p:spPr>
          <a:xfrm>
            <a:off x="1019160" y="1905120"/>
            <a:ext cx="2914560" cy="198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gerbpiter"/>
          <p:cNvPicPr/>
          <p:nvPr/>
        </p:nvPicPr>
        <p:blipFill>
          <a:blip r:embed="rId2"/>
          <a:stretch/>
        </p:blipFill>
        <p:spPr>
          <a:xfrm>
            <a:off x="5664240" y="1905120"/>
            <a:ext cx="2004840" cy="198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1e17f8c850a909b1f59b6d0648c9c89b"/>
          <p:cNvPicPr/>
          <p:nvPr/>
        </p:nvPicPr>
        <p:blipFill>
          <a:blip r:embed="rId3"/>
          <a:stretch/>
        </p:blipFill>
        <p:spPr>
          <a:xfrm>
            <a:off x="1015920" y="4029120"/>
            <a:ext cx="291960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omik_petr1"/>
          <p:cNvPicPr/>
          <p:nvPr/>
        </p:nvPicPr>
        <p:blipFill>
          <a:blip r:embed="rId4"/>
          <a:stretch/>
        </p:blipFill>
        <p:spPr>
          <a:xfrm>
            <a:off x="4964040" y="4029120"/>
            <a:ext cx="3406680" cy="1990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2"/>
          <p:cNvSpPr/>
          <p:nvPr/>
        </p:nvSpPr>
        <p:spPr>
          <a:xfrm>
            <a:off x="1979640" y="6308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делано Александрой Плужниковой 6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7000">
    <p:plus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00"/>
                            </p:stCondLst>
                            <p:childTnLst>
                              <p:par>
                                <p:cTn id="18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8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300"/>
                            </p:stCondLst>
                            <p:childTnLst>
                              <p:par>
                                <p:cTn id="1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300"/>
                            </p:stCondLst>
                            <p:childTnLst>
                              <p:par>
                                <p:cTn id="1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5:51:06Z</dcterms:created>
  <dc:creator>COMP</dc:creator>
  <dc:description/>
  <dc:language>en-US</dc:language>
  <cp:lastModifiedBy>Тёма</cp:lastModifiedBy>
  <dcterms:modified xsi:type="dcterms:W3CDTF">2010-12-03T16:59:40Z</dcterms:modified>
  <cp:revision>8</cp:revision>
  <dc:subject/>
  <dc:title>Основание Санкт-Петербурга. Петропавловская крепость</dc:title>
</cp:coreProperties>
</file>