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470B-B967-4797-B3E5-9B4576C52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F823-63BB-43F6-8627-73EFB91635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BE2-9FD1-494F-86E2-DDADBC30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BD6-B45C-495D-9E84-D0C8BE3D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685-9F4F-447C-8653-500461D9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CD6-95FA-47D3-8430-2848283F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F90-41A1-4C48-B657-9699375D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9BD-1324-4125-B3E1-F4066D2A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A6D-6CA5-4092-91E4-FD58406F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A3E-7EFB-49B3-893B-D71AF8B8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826-F10C-476C-9E42-2ED01459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3B9-039E-40AF-9914-9B1B40EF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0BA-B8D4-4DF9-8F3D-DF24054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D21-5A40-4437-8F25-27E33562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8008-E9B3-4F7D-8B7A-8B1E7AF86F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еобразование формул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49640" y="459000"/>
            <a:ext cx="78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формулы второго закона Ньютона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2057400" y="1523880"/>
          <a:ext cx="4572000" cy="22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57200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2057400" y="3888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 силу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2400" y="916200"/>
            <a:ext cx="813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площади треугольник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2895480" y="2057400"/>
          <a:ext cx="2971800" cy="15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29718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3"/>
          <p:cNvSpPr/>
          <p:nvPr/>
        </p:nvSpPr>
        <p:spPr>
          <a:xfrm>
            <a:off x="380880" y="373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высоту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3657600" y="1436760"/>
          <a:ext cx="182880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436760"/>
                    <a:ext cx="18288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"/>
          <p:cNvGraphicFramePr/>
          <p:nvPr/>
        </p:nvGraphicFramePr>
        <p:xfrm>
          <a:off x="5867280" y="4952880"/>
          <a:ext cx="106704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952880"/>
                    <a:ext cx="10670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3"/>
          <p:cNvSpPr/>
          <p:nvPr/>
        </p:nvSpPr>
        <p:spPr>
          <a:xfrm>
            <a:off x="28800" y="144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пути равноускоренного движ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842840" y="487800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ускор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2514600" y="1676520"/>
          <a:ext cx="2639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76520"/>
                    <a:ext cx="263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"/>
          <p:cNvGraphicFramePr/>
          <p:nvPr/>
        </p:nvGraphicFramePr>
        <p:xfrm>
          <a:off x="4572000" y="3352680"/>
          <a:ext cx="60948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352680"/>
                    <a:ext cx="609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"/>
          <p:cNvSpPr/>
          <p:nvPr/>
        </p:nvSpPr>
        <p:spPr>
          <a:xfrm>
            <a:off x="22680" y="1440"/>
            <a:ext cx="63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длины окруж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93360" y="3354120"/>
            <a:ext cx="35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радиу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2209680" y="3276720"/>
          <a:ext cx="4332240" cy="13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76720"/>
                    <a:ext cx="433224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"/>
          <p:cNvGraphicFramePr/>
          <p:nvPr/>
        </p:nvGraphicFramePr>
        <p:xfrm>
          <a:off x="6324480" y="5105520"/>
          <a:ext cx="76212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1055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3"/>
          <p:cNvSpPr/>
          <p:nvPr/>
        </p:nvSpPr>
        <p:spPr>
          <a:xfrm>
            <a:off x="932400" y="1223640"/>
            <a:ext cx="57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авноускоренного движ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42840" y="510660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ускор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1523880" y="1523880"/>
          <a:ext cx="3733920" cy="10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37339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"/>
          <p:cNvGraphicFramePr/>
          <p:nvPr/>
        </p:nvGraphicFramePr>
        <p:xfrm>
          <a:off x="4038480" y="4191120"/>
          <a:ext cx="1219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19112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3"/>
          <p:cNvSpPr/>
          <p:nvPr/>
        </p:nvSpPr>
        <p:spPr>
          <a:xfrm>
            <a:off x="546840" y="763200"/>
            <a:ext cx="64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з формулы перемещения те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80880" y="4268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разите врем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997200" y="1144440"/>
            <a:ext cx="59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формулы частоты обращ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Object 1"/>
          <p:cNvGraphicFramePr/>
          <p:nvPr/>
        </p:nvGraphicFramePr>
        <p:xfrm>
          <a:off x="3276720" y="2174760"/>
          <a:ext cx="2743200" cy="11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74760"/>
                    <a:ext cx="274320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"/>
          <p:cNvSpPr/>
          <p:nvPr/>
        </p:nvSpPr>
        <p:spPr>
          <a:xfrm>
            <a:off x="1395720" y="4726080"/>
            <a:ext cx="58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е число полных оборотов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842400" y="1220400"/>
            <a:ext cx="59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формулы периода обращ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Object 1"/>
          <p:cNvGraphicFramePr/>
          <p:nvPr/>
        </p:nvGraphicFramePr>
        <p:xfrm>
          <a:off x="1143000" y="2819520"/>
          <a:ext cx="38098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38098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"/>
          <p:cNvSpPr/>
          <p:nvPr/>
        </p:nvSpPr>
        <p:spPr>
          <a:xfrm>
            <a:off x="1011600" y="487800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зите время вращения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04T17:00:05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