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1357-879E-4188-8745-94DB73C4F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F29B-2DA0-4CD5-9E86-584FC2DB8A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48B-1B6F-439F-95A5-36ED2B5A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456-8670-4352-80E7-606AE644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FCB-2E24-45B5-AD1D-BE53F09A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879-66D7-498C-B4BF-4F7A4BF2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D6C-E2E2-44C5-8FCD-C7130871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760-6A97-4BF7-A466-15B4BF3B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153-22DB-4BE8-967F-E0E20E9F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4D4-F960-448B-B16C-96899A61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FC9-15C6-435F-B7DB-4226B88E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EEA-0A95-479F-BE5A-6B237202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215-0DFC-4BA1-BC0C-D401568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A44-2DA9-4FD8-A006-E12CA69E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0D3C-E2A1-427C-B8FD-5EF6D9850C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еобразование формул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49640" y="459000"/>
            <a:ext cx="78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формулы второго закона Ньютона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2057400" y="1523880"/>
          <a:ext cx="4572000" cy="22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572000" cy="22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3"/>
          <p:cNvSpPr/>
          <p:nvPr/>
        </p:nvSpPr>
        <p:spPr>
          <a:xfrm>
            <a:off x="2057400" y="3888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 силу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2400" y="916200"/>
            <a:ext cx="81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формулы площади треугольник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1"/>
          <p:cNvGraphicFramePr/>
          <p:nvPr/>
        </p:nvGraphicFramePr>
        <p:xfrm>
          <a:off x="2895480" y="2057400"/>
          <a:ext cx="2971800" cy="15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29718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3"/>
          <p:cNvSpPr/>
          <p:nvPr/>
        </p:nvSpPr>
        <p:spPr>
          <a:xfrm>
            <a:off x="380880" y="373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ыразите высоту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3657600" y="1436760"/>
          <a:ext cx="182880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436760"/>
                    <a:ext cx="18288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"/>
          <p:cNvGraphicFramePr/>
          <p:nvPr/>
        </p:nvGraphicFramePr>
        <p:xfrm>
          <a:off x="5867280" y="4952880"/>
          <a:ext cx="106704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0670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3"/>
          <p:cNvSpPr/>
          <p:nvPr/>
        </p:nvSpPr>
        <p:spPr>
          <a:xfrm>
            <a:off x="28800" y="144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формулы пути равноускоренного движ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842840" y="487800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разите ускор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2514600" y="1676520"/>
          <a:ext cx="2639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76520"/>
                    <a:ext cx="263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"/>
          <p:cNvGraphicFramePr/>
          <p:nvPr/>
        </p:nvGraphicFramePr>
        <p:xfrm>
          <a:off x="4572000" y="3352680"/>
          <a:ext cx="60948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352680"/>
                    <a:ext cx="609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3"/>
          <p:cNvSpPr/>
          <p:nvPr/>
        </p:nvSpPr>
        <p:spPr>
          <a:xfrm>
            <a:off x="22680" y="1440"/>
            <a:ext cx="63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формулы длины окруж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93360" y="3354120"/>
            <a:ext cx="35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разите радиу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2209680" y="3276720"/>
          <a:ext cx="4332240" cy="13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76720"/>
                    <a:ext cx="433224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"/>
          <p:cNvGraphicFramePr/>
          <p:nvPr/>
        </p:nvGraphicFramePr>
        <p:xfrm>
          <a:off x="6324480" y="5105520"/>
          <a:ext cx="76212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1055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3"/>
          <p:cNvSpPr/>
          <p:nvPr/>
        </p:nvSpPr>
        <p:spPr>
          <a:xfrm>
            <a:off x="932400" y="1223640"/>
            <a:ext cx="579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формулы ско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авноускоренного движ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42840" y="510660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разите ускор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1523880" y="1523880"/>
          <a:ext cx="3733920" cy="10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37339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"/>
          <p:cNvGraphicFramePr/>
          <p:nvPr/>
        </p:nvGraphicFramePr>
        <p:xfrm>
          <a:off x="4038480" y="4191120"/>
          <a:ext cx="1219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19112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3"/>
          <p:cNvSpPr/>
          <p:nvPr/>
        </p:nvSpPr>
        <p:spPr>
          <a:xfrm>
            <a:off x="546840" y="763200"/>
            <a:ext cx="64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формулы перемещения те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0880" y="4268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разите врем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997200" y="1144440"/>
            <a:ext cx="59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формулы частоты обращ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Object 1"/>
          <p:cNvGraphicFramePr/>
          <p:nvPr/>
        </p:nvGraphicFramePr>
        <p:xfrm>
          <a:off x="3276720" y="2174760"/>
          <a:ext cx="2743200" cy="11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74760"/>
                    <a:ext cx="274320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"/>
          <p:cNvSpPr/>
          <p:nvPr/>
        </p:nvSpPr>
        <p:spPr>
          <a:xfrm>
            <a:off x="1395720" y="4726080"/>
            <a:ext cx="58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е число полных оборотов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842400" y="1220400"/>
            <a:ext cx="59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формулы периода обращ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Object 1"/>
          <p:cNvGraphicFramePr/>
          <p:nvPr/>
        </p:nvGraphicFramePr>
        <p:xfrm>
          <a:off x="1143000" y="2819520"/>
          <a:ext cx="38098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38098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"/>
          <p:cNvSpPr/>
          <p:nvPr/>
        </p:nvSpPr>
        <p:spPr>
          <a:xfrm>
            <a:off x="1011600" y="487800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разите время вращения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04T17:00:05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