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5B5-132E-415A-AE21-17BBEB5D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678-5D18-4A5B-8A9C-5AEB22A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889-4EFB-4BF2-98C8-651A1187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FE0-F199-496F-864A-81A697F4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F58B-5874-438D-BC25-B09BD579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6EB5-EA0D-4A50-9C7B-8695F180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C297-4AE5-4AC4-AE6F-7F03DD9C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556F-9EA6-4FF6-8E52-E1A72227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E06C-E022-4131-BD77-B548D39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988A-F1F0-432E-9D20-2FFFA41F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3AC1-D9C2-49F7-BA1E-E1F5433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DEA-74D2-4D66-85A1-B1CE437A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68A-D31A-4E87-A76B-488412F4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F914-75C6-450D-AAC2-62451CB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97BD-C2B7-4DFB-9B43-AAA95B29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ED70-D1DD-4DE1-B1D5-E85722ED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1C9F-6CB8-424D-BEE9-4B023DBF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0A3-2407-4EA3-98CF-BFDE3BB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576-B96F-45D4-8FB0-8E980D12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CC9-FED4-4123-AFA2-C2DA1D69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50B-E802-478E-BF7C-4170E05A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AD8-FD24-4099-8FA5-B47F710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E3E-ADAA-4D5C-9587-5C30EB6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ED8-09C4-40B9-A169-1959733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16FF-D44F-4ABD-B69F-D9BE81D29F7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E005-8ECA-4D36-8AB3-FBE8E7DD6C1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 пустыне.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кружающий мир,4 клас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убакова Н.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ст «Пустын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1. Пустыни занимают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  огромную территорию в центральной части Росси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небольшую территорию по берегам северных морей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небольшую территорию на юго-западе стран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. В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устыне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жаркое продолжительное лето и прохладная короткая зим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короткое прохладное лето и длинная суровая зим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ярко выделяются все четыре времени год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. Пустын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Росси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 каменны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песчаны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глиняны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4. В пустыне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а)  выпадает большое количество осадков в виде дождя и снег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б) выпадает малое количество осадко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в) чаще всего осадков не бывает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90720" y="225360"/>
            <a:ext cx="716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5. Растения пустыни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 высокие, широколиственны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невысокие, с узкими листьями и корнями-луковицам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невысокие, с узкими тонкими листьями и длинными корням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6. Животные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устын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 в основном, некрупные, низкорослые, имеют защитный желтый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крас, быстро передвигаются, чаще ведут ночной образ жизни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крупные, имеют подкожный слой жира и густой, длинный мех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в основном, низкорослые (грызуны), и птиц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7. К растениям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устыни относятс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  ковыль, полынь, тюльпан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морошка, брусника, черника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колосняк, солянка, джузгун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8. К животным пустыни относятся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)  корсак, сайгак, тушканчик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) рысь, лев, тигр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) морж, тюлень, медвед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.Крамской «Христос в пустын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430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стыня – мёртвая местность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счаная пусты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44760" y="1598760"/>
            <a:ext cx="6046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линистая пусты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828800" y="1801800"/>
            <a:ext cx="5479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менистая пусты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828800" y="1801800"/>
            <a:ext cx="54799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счаная бу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стения пусты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724280" y="4495680"/>
            <a:ext cx="15433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Животные пусты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198440"/>
            <a:ext cx="2743200" cy="2060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3429000" cy="3038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4648320" y="3235320"/>
            <a:ext cx="3657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554040"/>
            <a:ext cx="3657600" cy="2473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257800" y="46656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81952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1-12-11T10:34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