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BF7-4295-4949-AA51-D9CEF636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F24-AF5E-4C47-98CD-6A4952AE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C64-DA8B-4F47-9F74-D9D92E65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D15-D2E2-4F93-AA8C-8A491F8D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C318-3EB7-4944-87B0-842B77F5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5754-9DCD-49E4-978D-8C828373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F706-A28A-443C-B5AA-DEE0A31D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BD49-AE76-436B-97D9-A8691766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3D0E-87E1-44B7-9E85-64BD9D67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63D3-E878-4DAE-B2C0-E170303C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DAF0-9A8A-424A-B88F-FFA7DCED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B07-EE16-45E9-816D-D7F130CC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3EFA-FA63-4A13-8698-8711577A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AD95-B034-4DBA-AAA0-FE3E9E17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0E29-FF20-4483-9800-5754B013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BB81-6839-4B39-A8D6-781CCA98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11EB-BCDC-49D4-9C22-F6E68B7B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AAA-5A6C-4F94-A4CE-DD2B0FE0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BA5-5A7A-4677-9297-5A336A24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623-D7AA-41FA-903C-A1724285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24A-E7B2-41EE-84A5-73226CB1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57E-785D-46ED-8C0D-1575EFA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DE4-62BD-4290-AB8F-EC06895F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01D-0F57-403A-A72B-664A51B9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6B4E-0805-4208-8283-69B8B16DFD0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F300-E26A-404C-BE50-F8254AD95B0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 пустыне.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кружающий мир,4 клас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убакова Н.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ст «Пустын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1. Пустыни занимают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  огромную территорию в центральной части России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б) небольшую территорию по берегам северных морей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в) небольшую территорию на юго-западе стран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. В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пустыне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 жаркое продолжительное лето и прохладная короткая зима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б) короткое прохладное лето и длинная суровая зима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в) ярко выделяются все четыре времени год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3. Пустыни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России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 каменны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б) песчаны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в) глиняны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4. В пустыне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  выпадает большое количество осадков в виде дождя и снега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б) выпадает малое количество осадков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в) чаще всего осадков не бывает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90720" y="225360"/>
            <a:ext cx="7162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5. Растения пустыни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) высокие, широколиственны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) невысокие, с узкими листьями и корнями-луковицами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) невысокие, с узкими тонкими листьями и длинными корням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6. Животные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устыни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) в основном, некрупные, низкорослые, имеют защитный желтый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окрас, быстро передвигаются, чаще ведут ночной образ жизни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) крупные, имеют подкожный слой жира и густой, длинный мех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) в основном, низкорослые (грызуны), и птиц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7. К растениям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устыни относятся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)  ковыль, полынь, тюльпан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) морошка, брусника, черника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) колосняк, солянка, джузгун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8. К животным пустыни относятся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)  корсак, сайгак, тушканчик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) рысь, лев, тигр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) морж, тюлень, медвед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.Крамской «Христос в пустыне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430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устыня – мёртвая местность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есчаная пусты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44760" y="1598760"/>
            <a:ext cx="6046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линистая пусты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828800" y="1801800"/>
            <a:ext cx="54799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менистая пусты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828800" y="1801800"/>
            <a:ext cx="54799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стения пусты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724280" y="4495680"/>
            <a:ext cx="15433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Животные пусты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1198440"/>
            <a:ext cx="2743200" cy="2060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3429000" cy="3038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4648320" y="3235320"/>
            <a:ext cx="36576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554040"/>
            <a:ext cx="3657600" cy="2473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257800" y="46656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819520" y="3505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1-12-11T10:34:2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