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3255-04C5-4191-B3B3-CEFFA810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4267-DE70-4342-A70E-59E1A7CF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2999-3EDB-49B2-A394-FF445A29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4DA-356F-452D-8B5A-E9AA5954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B97A-805E-450C-8263-2F1D56B2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4723-8951-47C6-BCD4-FE1B60F3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A5A3-D4F0-4DBA-851F-141BF5A2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8140-8602-4C31-ACED-8988D360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8305-AFF8-40D7-B9DA-CD07C22E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2248-3077-4BA4-B28D-070D390A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0BB0-972F-49D9-8766-774730D1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857-C83F-4C20-BB92-DFCE33F9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7898-62BC-40B1-817F-E03B7EB7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7301-342D-4466-A5AF-F52EB37D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0FBB-B736-4B17-9D72-5E261F3A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463A-46CC-40C7-B637-854A9D51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32FE-25BD-4A73-8B15-AB1626C0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A7448-C3AA-4022-8BD7-8FBD3D10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654D7-F298-44E3-BEFA-45A5CBDB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A659F-2E2D-426D-B614-1E62C7B1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9E852-FA43-4B2F-9E95-DC56D167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0D9B8-2675-4EDA-AB09-626083F3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97ED-864F-40C0-A2DA-ECADF24F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C64D0-CD9C-4DAA-B36D-9500C901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79EC5-A7EB-444F-86C2-7ADD05D4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EC429-B894-42E1-B151-8E6D7F47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7659F-395D-4914-A9E5-6DA07E48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4B5D7-3001-4A33-AABA-54F2EAD1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A4B84-D307-485F-B2D3-1B43D3CC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97BAF0-39BB-475A-98A0-4DBC3BB5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F7FF3-73D7-4284-8CF5-65686979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01243-37E0-4F88-92E8-57CECE5C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81539-1235-4558-9044-ABDEFDDA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C3C3-881D-4A38-BD95-CF69BD25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3EAFB-A150-43B1-86C3-477B5B7E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D6D60-8F3C-4FEA-B406-71FBA547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BBF27-96AC-40E4-B3A1-399F6BC4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A7CD8-0097-4ABA-A4F4-F214E8D9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E1CDE-E6C7-4623-AD0D-42B56550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23E60-AF73-4A1B-B2D6-301B0328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B3E29-2233-4F68-A6CF-000F73E1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A2220-068D-4211-B7A7-3D31E7A9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B48C9-0E69-4749-B429-C602A8E8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4182C3-9AD2-4B71-A6C2-8466B0AA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20EB-1EC3-43D8-AE82-26BF41D8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66B0B4-8E12-4635-88A9-E3770ACB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F2D6E-8F10-4E7F-8C20-4D31F907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3A2A2D-9F3B-4779-85D2-E270F571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F94AD2-01B0-4E5A-A38B-64C59718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D5E16-E080-411D-988C-54B6E997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1AC993-9F1D-4CE5-86B6-136892D6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9CB985-F285-472D-AE7B-C1BC6204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3D5E58-ED43-438C-AEA0-5FC0F622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F400F8-D5D9-40C6-9C50-56BFCFAD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6E5EBF-4EB2-4FC0-9DAB-56B1B9CF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D6CE-FA85-4C59-BD7B-AAEBE099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3FBCBC-1C73-43C1-BC5A-A56B123A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C1CCF0-7AEF-4486-B2A8-AA418D94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AEF73A-F7AB-45D8-B04C-8D37FBC2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1C7EB5-D5BA-4B4E-BA61-2F545C1A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CC3E17-6C12-4938-A741-5DB8F6F0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D22E11-BE2E-451C-9C8F-F25D1CB5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D6F102-76FA-40BD-9E17-6602F9C3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5B54DB-5295-411E-B44C-1DB4DB87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D2399-CD4B-49A0-9690-8FA4935F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8BE2DD-419C-4DF5-ADF9-1F402C7B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9424-679E-4210-8E91-83BA4D24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D2D1AB-4741-4FC0-8EAE-AC44FA83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88FB1F-A521-4D49-B27D-95E249C5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D370C4-7FBA-4999-B18A-E4A520C1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A90223-491A-4A0A-A47B-5682DE05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AA3D82-A52A-487B-8FE6-7529210A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663E1F-2418-48B9-948F-F8733EA2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858FB3-C0EE-49AD-90D4-BB22E1E8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91DFA3-DAD3-40F4-9FF9-CCB91639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FBB754-FFDA-438D-BE07-3E5E882C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691D0B-94E1-47A7-A55B-75246C86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3988-02D4-4FE1-9132-87228E7E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26AB91-F965-4BFD-8928-D7977D05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D9DC8C-8DE5-4666-8661-D40ABB59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F0D227-BD94-4C0D-9A51-17C17289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AB0701-75C0-4B8C-8992-CE6360F7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F2AAB3-2A34-4C77-9558-77A843BD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727-F53E-4F9F-8C55-13E421B6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1C73-80A0-4FC3-AAB6-A747CB08CA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0AD9-B43A-4DC3-9F54-127EBEFB51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6A8C-83C5-444E-9815-9ED3069FBD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5E3A-D898-42F7-B7F3-FD1C550118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2143-EE36-429B-9DE8-4B3772A55F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70B4-ECC2-4F18-916C-FE225CE696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CCA4-2854-4EAD-9C7D-963EDE4D08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2285640" y="404280"/>
            <a:ext cx="61722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Говори и пиши грамотно.</a:t>
            </a:r>
            <a:endParaRPr b="0" lang="en-US" sz="48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Звонкие и глухие парные согласные.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2" name=""/>
          <p:cNvSpPr/>
          <p:nvPr/>
        </p:nvSpPr>
        <p:spPr>
          <a:xfrm>
            <a:off x="3348000" y="692280"/>
            <a:ext cx="117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364000" y="3573360"/>
            <a:ext cx="2660760" cy="28083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2484360" y="4221000"/>
            <a:ext cx="2086200" cy="2154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6172200" cy="1096920"/>
          </a:xfrm>
          <a:prstGeom prst="rect">
            <a:avLst/>
          </a:prstGeom>
          <a:ln w="0">
            <a:noFill/>
          </a:ln>
        </p:spPr>
      </p:pic>
      <p:pic>
        <p:nvPicPr>
          <p:cNvPr id="384" name="Содержимое 3" descr="IMG_0003.jpg"/>
          <p:cNvPicPr/>
          <p:nvPr/>
        </p:nvPicPr>
        <p:blipFill>
          <a:blip r:embed="rId2"/>
          <a:stretch/>
        </p:blipFill>
        <p:spPr>
          <a:xfrm>
            <a:off x="4067280" y="1773360"/>
            <a:ext cx="3097080" cy="4535280"/>
          </a:xfrm>
          <a:prstGeom prst="rect">
            <a:avLst/>
          </a:prstGeom>
          <a:ln w="0">
            <a:noFill/>
          </a:ln>
        </p:spPr>
      </p:pic>
      <p:sp>
        <p:nvSpPr>
          <p:cNvPr id="385" name="Овальная выноска 4"/>
          <p:cNvSpPr/>
          <p:nvPr/>
        </p:nvSpPr>
        <p:spPr>
          <a:xfrm>
            <a:off x="1908000" y="1341360"/>
            <a:ext cx="2214720" cy="1500120"/>
          </a:xfrm>
          <a:prstGeom prst="wedgeEllipseCallout">
            <a:avLst>
              <a:gd name="adj1" fmla="val 98374"/>
              <a:gd name="adj2" fmla="val 67416"/>
            </a:avLst>
          </a:prstGeom>
          <a:solidFill>
            <a:srgbClr val="fe8637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99ff"/>
                </a:solidFill>
                <a:latin typeface="Times New Roman"/>
              </a:rPr>
              <a:t>УДАЧИ ВАМ!!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advTm="8000">
    <p:strips dir="r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39d"/>
                </a:solidFill>
                <a:latin typeface="Century Schoolbook"/>
              </a:rPr>
              <a:t>Задачи проекта:</a:t>
            </a:r>
            <a:endParaRPr b="0" lang="en-US" sz="54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Исправить недостатки письма и чтения у младших школьников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Научить устанавливать связи между произнесенным звуком и его графическим изображением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Развить культуру письменной речи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Обогатить словарный запас учащихся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908000" y="260280"/>
            <a:ext cx="6950160" cy="61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2611c"/>
                </a:solidFill>
                <a:latin typeface="Arial"/>
              </a:rPr>
              <a:t>Почему пишем не так, как слышим?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Содержимое 3" descr="IMG_0002.jpg"/>
          <p:cNvPicPr/>
          <p:nvPr/>
        </p:nvPicPr>
        <p:blipFill>
          <a:blip r:embed="rId1"/>
          <a:stretch/>
        </p:blipFill>
        <p:spPr>
          <a:xfrm>
            <a:off x="2700360" y="3645000"/>
            <a:ext cx="4324320" cy="3024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2285640" y="333000"/>
            <a:ext cx="61722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39d"/>
                </a:solidFill>
                <a:latin typeface="Arial"/>
              </a:rPr>
              <a:t>Давайте обсудим!</a:t>
            </a:r>
            <a:endParaRPr b="0" lang="en-US" sz="54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9d"/>
                </a:solidFill>
                <a:latin typeface="Arial"/>
              </a:rPr>
              <a:t>Почему при написании звонких и глухих согласных нормы произношения не совпадают с нормами правописания?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9d"/>
                </a:solidFill>
                <a:latin typeface="Arial"/>
              </a:rPr>
              <a:t>С любым ли из парных звонких согласных может происходить оглушение?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9d"/>
                </a:solidFill>
                <a:latin typeface="Arial"/>
              </a:rPr>
              <a:t>Как можно проверить сомнительный согласный?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9d"/>
                </a:solidFill>
                <a:latin typeface="Arial"/>
              </a:rPr>
              <a:t>Что произойдет, если писать так, как слышишь?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7236000" y="4005360"/>
            <a:ext cx="1742760" cy="1355760"/>
          </a:xfrm>
          <a:prstGeom prst="rect">
            <a:avLst/>
          </a:prstGeom>
          <a:ln w="0">
            <a:noFill/>
          </a:ln>
        </p:spPr>
      </p:pic>
    </p:spTree>
  </p:cSld>
  <p:transition advTm="17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2285640" y="620280"/>
            <a:ext cx="6172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39d"/>
                </a:solidFill>
                <a:latin typeface="Arial"/>
              </a:rPr>
              <a:t>Вопросы для исследования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39d"/>
                </a:solidFill>
                <a:latin typeface="Arial"/>
              </a:rPr>
              <a:t>Какие парные согласные по звонкости-глухости вы знаете?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39d"/>
                </a:solidFill>
                <a:latin typeface="Arial"/>
              </a:rPr>
              <a:t>В чем их особенность?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39d"/>
                </a:solidFill>
                <a:latin typeface="Arial"/>
              </a:rPr>
              <a:t>Какие правила написания звонких и глухих согласных вы знаете?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39d"/>
                </a:solidFill>
                <a:latin typeface="Arial"/>
              </a:rPr>
              <a:t>Как мы можем себя проверить, чтобы не допустить ошибку?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48360" y="4941720"/>
            <a:ext cx="1656000" cy="1700280"/>
            <a:chOff x="6948360" y="4941720"/>
            <a:chExt cx="1656000" cy="1700280"/>
          </a:xfrm>
        </p:grpSpPr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6948360" y="4941720"/>
              <a:ext cx="1656000" cy="170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4" name=""/>
            <p:cNvGrpSpPr/>
            <p:nvPr/>
          </p:nvGrpSpPr>
          <p:grpSpPr>
            <a:xfrm>
              <a:off x="7268760" y="5144400"/>
              <a:ext cx="967680" cy="505800"/>
              <a:chOff x="7268760" y="5144400"/>
              <a:chExt cx="967680" cy="505800"/>
            </a:xfrm>
          </p:grpSpPr>
          <p:sp>
            <p:nvSpPr>
              <p:cNvPr id="365" name=""/>
              <p:cNvSpPr txBox="1"/>
              <p:nvPr/>
            </p:nvSpPr>
            <p:spPr>
              <a:xfrm rot="181800">
                <a:off x="7729200" y="5148720"/>
                <a:ext cx="181800" cy="213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Rounded MT Bold"/>
                  </a:rPr>
                  <a:t>?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  <a:ea typeface="Arial Rounded MT Bold"/>
                </a:endParaRPr>
              </a:p>
            </p:txBody>
          </p:sp>
          <p:sp>
            <p:nvSpPr>
              <p:cNvPr id="366" name=""/>
              <p:cNvSpPr txBox="1"/>
              <p:nvPr/>
            </p:nvSpPr>
            <p:spPr>
              <a:xfrm rot="181800">
                <a:off x="7273800" y="5431680"/>
                <a:ext cx="181800" cy="213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Rounded MT Bold"/>
                  </a:rPr>
                  <a:t>?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  <a:ea typeface="Arial Rounded MT Bold"/>
                </a:endParaRPr>
              </a:p>
            </p:txBody>
          </p:sp>
          <p:sp>
            <p:nvSpPr>
              <p:cNvPr id="367" name=""/>
              <p:cNvSpPr txBox="1"/>
              <p:nvPr/>
            </p:nvSpPr>
            <p:spPr>
              <a:xfrm rot="181800">
                <a:off x="8048880" y="5325480"/>
                <a:ext cx="181800" cy="213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Rounded MT Bold"/>
                  </a:rPr>
                  <a:t>?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  <a:ea typeface="Arial Rounded MT Bold"/>
                </a:endParaRPr>
              </a:p>
            </p:txBody>
          </p:sp>
        </p:grpSp>
      </p:grpSp>
    </p:spTree>
  </p:cSld>
  <p:transition advTm="18000">
    <p:strips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50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500"/>
                            </p:stCondLst>
                            <p:childTnLst>
                              <p:par>
                                <p:cTn id="6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6500"/>
                            </p:stCondLst>
                            <p:childTnLst>
                              <p:par>
                                <p:cTn id="14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6500"/>
                            </p:stCondLst>
                            <p:childTnLst>
                              <p:par>
                                <p:cTn id="18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9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2500"/>
                            </p:stCondLst>
                            <p:childTnLst>
                              <p:par>
                                <p:cTn id="20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45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6500"/>
                            </p:stCondLst>
                            <p:childTnLst>
                              <p:par>
                                <p:cTn id="22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8500"/>
                            </p:stCondLst>
                            <p:childTnLst>
                              <p:par>
                                <p:cTn id="22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500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2500"/>
                            </p:stCondLst>
                            <p:childTnLst>
                              <p:par>
                                <p:cTn id="24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500"/>
                            </p:stCondLst>
                            <p:childTnLst>
                              <p:par>
                                <p:cTn id="25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6500"/>
                            </p:stCondLst>
                            <p:childTnLst>
                              <p:par>
                                <p:cTn id="26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8500"/>
                            </p:stCondLst>
                            <p:childTnLst>
                              <p:par>
                                <p:cTn id="26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0500"/>
                            </p:stCondLst>
                            <p:childTnLst>
                              <p:par>
                                <p:cTn id="27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2500"/>
                            </p:stCondLst>
                            <p:childTnLst>
                              <p:par>
                                <p:cTn id="28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4500"/>
                            </p:stCondLst>
                            <p:childTnLst>
                              <p:par>
                                <p:cTn id="29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6500"/>
                            </p:stCondLst>
                            <p:childTnLst>
                              <p:par>
                                <p:cTn id="30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285640" y="404280"/>
            <a:ext cx="61722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2611c"/>
                </a:solidFill>
                <a:latin typeface="Arial"/>
              </a:rPr>
              <a:t>Действуем: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0" y="1197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39d"/>
                </a:solidFill>
                <a:latin typeface="Arial"/>
              </a:rPr>
              <a:t>-Обсужда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39d"/>
                </a:solidFill>
                <a:latin typeface="Arial"/>
              </a:rPr>
              <a:t>-Планиру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39d"/>
                </a:solidFill>
                <a:latin typeface="Arial"/>
              </a:rPr>
              <a:t>-Исследу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39d"/>
                </a:solidFill>
                <a:latin typeface="Arial"/>
              </a:rPr>
              <a:t>-Анализиру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39d"/>
                </a:solidFill>
                <a:latin typeface="Arial"/>
              </a:rPr>
              <a:t>-Сравнива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39d"/>
                </a:solidFill>
                <a:latin typeface="Arial"/>
              </a:rPr>
              <a:t>-Систематизиру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39d"/>
                </a:solidFill>
                <a:latin typeface="Arial"/>
              </a:rPr>
              <a:t>-Обобща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39d"/>
                </a:solidFill>
                <a:latin typeface="Arial"/>
              </a:rPr>
              <a:t>-Делаем выводы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39d"/>
                </a:solidFill>
                <a:latin typeface="Arial"/>
              </a:rPr>
              <a:t>-Оцениваем результат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13" descr="49325d970553"/>
          <p:cNvPicPr/>
          <p:nvPr/>
        </p:nvPicPr>
        <p:blipFill>
          <a:blip r:embed="rId1">
            <a:grayscl/>
            <a:lum contrast="30000"/>
          </a:blip>
          <a:stretch/>
        </p:blipFill>
        <p:spPr>
          <a:xfrm>
            <a:off x="6588000" y="4149720"/>
            <a:ext cx="2374920" cy="1512720"/>
          </a:xfrm>
          <a:prstGeom prst="rect">
            <a:avLst/>
          </a:prstGeom>
          <a:ln w="0">
            <a:noFill/>
          </a:ln>
        </p:spPr>
      </p:pic>
    </p:spTree>
  </p:cSld>
  <p:transition advTm="23000">
    <p:strips dir="r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2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339640" y="333360"/>
            <a:ext cx="61722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611c"/>
                </a:solidFill>
                <a:latin typeface="Arial"/>
              </a:rPr>
              <a:t>Как будем работать?</a:t>
            </a:r>
            <a:endParaRPr b="0" lang="en-US" sz="4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656560" y="6499080"/>
            <a:ext cx="163440" cy="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39d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6012000" y="4869000"/>
            <a:ext cx="2019240" cy="126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2124000" y="1773360"/>
          <a:ext cx="6216480" cy="2663640"/>
        </p:xfrm>
        <a:graphic>
          <a:graphicData uri="http://schemas.openxmlformats.org/drawingml/2006/table">
            <a:tbl>
              <a:tblPr/>
              <a:tblGrid>
                <a:gridCol w="2071440"/>
                <a:gridCol w="2073600"/>
                <a:gridCol w="2071440"/>
              </a:tblGrid>
              <a:tr h="26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бейтесь по группам, распределите темы для исследования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шите, как будете обсуждать полученную информа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ите, в каком виде представите полученные рабо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40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331640" y="333360"/>
            <a:ext cx="74674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Выбор вопроса исследования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3780000" y="1341360"/>
          <a:ext cx="3384360" cy="5234040"/>
        </p:xfrm>
        <a:graphic>
          <a:graphicData uri="http://schemas.openxmlformats.org/drawingml/2006/table">
            <a:tbl>
              <a:tblPr/>
              <a:tblGrid>
                <a:gridCol w="1512720"/>
                <a:gridCol w="1871640"/>
              </a:tblGrid>
              <a:tr h="101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 для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едопы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произойдет, если писать то, что слышишь?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исков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чем особенность парных согласных по звонкости-глухост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л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ему правило не меняетс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2285640" y="620280"/>
            <a:ext cx="617220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611c"/>
                </a:solidFill>
                <a:latin typeface="Arial"/>
              </a:rPr>
              <a:t>Прогнозы результатов проект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"/>
          <p:cNvSpPr/>
          <p:nvPr/>
        </p:nvSpPr>
        <p:spPr>
          <a:xfrm>
            <a:off x="1908000" y="2205000"/>
            <a:ext cx="2303640" cy="1303200"/>
          </a:xfrm>
          <a:prstGeom prst="flowChartPunchedTap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убликац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2276640"/>
            <a:ext cx="2282760" cy="1223640"/>
          </a:xfrm>
          <a:prstGeom prst="flowChartPunchedTap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льбом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"/>
          <p:cNvSpPr/>
          <p:nvPr/>
        </p:nvSpPr>
        <p:spPr>
          <a:xfrm>
            <a:off x="2124000" y="5084640"/>
            <a:ext cx="2303640" cy="1297080"/>
          </a:xfrm>
          <a:prstGeom prst="flowChartPunchedTap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азет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"/>
          <p:cNvSpPr/>
          <p:nvPr/>
        </p:nvSpPr>
        <p:spPr>
          <a:xfrm>
            <a:off x="6659640" y="5013360"/>
            <a:ext cx="2138400" cy="1231920"/>
          </a:xfrm>
          <a:prstGeom prst="flowChartPunchedTap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клад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"/>
          <p:cNvSpPr/>
          <p:nvPr/>
        </p:nvSpPr>
        <p:spPr>
          <a:xfrm>
            <a:off x="4211640" y="3716280"/>
            <a:ext cx="2303640" cy="1008000"/>
          </a:xfrm>
          <a:prstGeom prst="flowChartPunchedTap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mb dir="horz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7:15:52Z</dcterms:created>
  <dc:creator>зинченко</dc:creator>
  <dc:description/>
  <dc:language>en-US</dc:language>
  <cp:lastModifiedBy>Admin</cp:lastModifiedBy>
  <dcterms:modified xsi:type="dcterms:W3CDTF">2010-10-25T05:41:03Z</dcterms:modified>
  <cp:revision>40</cp:revision>
  <dc:subject/>
  <dc:title>Речедвигательная ритмика</dc:title>
</cp:coreProperties>
</file>