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5AE0-C507-422C-8509-264A9EF8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328-518C-4169-A1BC-6FED4CB2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734B-481E-474E-B85C-A8F62377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677C-AAC3-4C5F-94CC-E4E577BF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7C48-D155-43BE-BD32-98A0673E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3B59-24C4-4DF2-AA59-E93833C3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75A7-68C5-45CA-B49E-C0605428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6743-A318-47FD-B4D1-A858F1D9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7469-CBC8-4700-9CB9-7A31CFF5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4B8A-99BC-4F0B-A24C-BD4B4507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B2AA-CE74-4C68-8DA9-C7547341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1484-569F-4E83-A115-3610779F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8864-FF62-4EFB-89E0-9D3728F6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F09A-58E2-4E14-88BA-31CEC4F0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BFC1-98BC-488B-A491-085EF24D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B8AF-6442-4044-822E-94DF9CF5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08AE-0D14-4A1C-906C-1B1EF480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D0A605-E12D-4CB2-978D-AE26EF67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5C8FEF-181A-42F7-947C-4EAF1C02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EA8E0-38E7-482C-BACF-CD568579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B1B1E-E62E-40F1-89D6-91845ADD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A0220-3605-4F7B-B476-6DD69BAC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443A-710B-4C2B-A291-C0EC5CEA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3487F-9489-4BAB-8A0C-229F6387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CCCBF-F55A-465D-95BD-10E94C10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974C3B-4C8F-4C43-9194-82FFAD0B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462EE6-5FCD-41AE-A1FC-FD2F475A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F9EDD8-9C17-4D68-8257-B001FB95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80B6B-A2C2-4B32-953A-B0BF8CCD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7C369-C870-4CE5-9C2E-1923D54E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ED590-D977-4280-B091-26ADB81D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C14A4-29EB-47A8-922B-FA5A2ABC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587BC-60B8-4CE6-9C77-3C469F8E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6B3-9DA7-4A1D-BF87-5E4BFA8C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5446F-28F7-4F95-ACBA-23AA2B1D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BB137-81EE-4ADB-93EE-91CDD9EA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A571B-90A1-424F-9F47-8825F461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9A070-290A-4D7F-95A0-0FAD89AC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4419C-2D2C-4577-9194-2AD2681E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E9AE6-6860-4423-BE9B-81E41E92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D7F58-B9EE-4B58-AE3D-0E51E6A6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4E1B2-CF6B-4619-8B09-4B02F144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F63BD-2779-41F4-B5BC-CFD12EB7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65F56F-8552-4BEF-B714-239142DD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7BAE-3CD1-47B2-AEA2-DBF20709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27CE0-E1E5-40A1-90B0-0CE68787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157505-B8A0-47F1-8F54-0BA1F42B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990657-52EA-44C4-9C22-95136ECC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0CDA77-1F7A-44D2-BF86-021AEED5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937398-F9F7-4240-B95E-C125D6B4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77D581-6CEE-42C0-B9E7-5DBD74EB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D64D3-A4D6-4D37-9BE3-B8A264C5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04561B-1790-4B1A-B451-2FF61AC2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85346E-ACE1-4888-8A41-57C0B5FA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4BAB48-0363-44D1-BA93-7D71005D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F41-D267-4415-9768-88BE6255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02174B-B265-4987-B10E-4E62C091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C491DA-1EC7-410E-AFD2-A6FC57C4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474289-B64A-45E3-9E92-8B58DA55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569F59-D74F-4BC3-9819-2DDF0F01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09271A-6544-4F90-AA72-9502303C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65A1A2-09F8-4742-A13F-9C7A9106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23FCA-E7B7-483A-A752-1B48EBD3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8CF7DA-68AA-4836-8BEB-11D701D5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ED87DE-B239-472F-8CE4-04B5FBB3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E26AA6-8495-4821-8093-8B680F26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396B-525F-46A5-8E3A-79879F8E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DEA71D-9741-46B4-A920-C62813E7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E3F175-B2F3-46EE-9164-F5A6CF20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5B511D-07A4-4D8F-A364-848EA2B2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39D6A2-6FB5-4F6C-912A-B4686466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39C366-1575-4900-9687-91340F08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85F413-37D6-4044-9F7D-8B5E9CAC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83E9AC-138A-489B-A016-82A3AA01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D64845-055D-4C80-918C-2DEFCF34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E87A37-41E4-4423-9EFD-045E762E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001B4B-F217-480A-8D1C-4CBBE6FF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D3C7-0F5B-41AB-AA49-66A32BE6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533F13-1675-47C6-85E8-795B8CCB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F0C15B-15B0-4AA6-9654-CA82100F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FD07A4-DF2B-40AE-ACB2-7E19D6CA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A87ED7-451F-4B25-865D-FCEDD3F5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8A85F8-DCD7-4FFF-8A32-A4CE4AE4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83BB-ED08-4708-B59A-F77C39C0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F712-310A-418D-B88C-8E81D2CCA57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5583-6170-4514-AA21-CFFD6FE912F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7FC4-79B1-49FF-BDB5-98B3A195DCF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7527-D9D6-4BF7-A3CF-5B7A02398D6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6FCC-4239-40BB-B59C-D86ABF320B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40B0-A165-46E2-96B4-97E1DFE4597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5802-AA13-465E-9E53-912FC5232E1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2285640" y="404280"/>
            <a:ext cx="61722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Говори и пиши грамотно.</a:t>
            </a:r>
            <a:endParaRPr b="0" lang="en-US" sz="48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Звонкие и глухие парные согласные.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2" name=""/>
          <p:cNvSpPr/>
          <p:nvPr/>
        </p:nvSpPr>
        <p:spPr>
          <a:xfrm>
            <a:off x="3348000" y="692280"/>
            <a:ext cx="117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364000" y="3573360"/>
            <a:ext cx="2660760" cy="28083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2484360" y="4221000"/>
            <a:ext cx="2086200" cy="2154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6172200" cy="1096920"/>
          </a:xfrm>
          <a:prstGeom prst="rect">
            <a:avLst/>
          </a:prstGeom>
          <a:ln w="0">
            <a:noFill/>
          </a:ln>
        </p:spPr>
      </p:pic>
      <p:pic>
        <p:nvPicPr>
          <p:cNvPr id="384" name="Содержимое 3" descr="IMG_0003.jpg"/>
          <p:cNvPicPr/>
          <p:nvPr/>
        </p:nvPicPr>
        <p:blipFill>
          <a:blip r:embed="rId2"/>
          <a:stretch/>
        </p:blipFill>
        <p:spPr>
          <a:xfrm>
            <a:off x="4067280" y="1773360"/>
            <a:ext cx="3097080" cy="4535280"/>
          </a:xfrm>
          <a:prstGeom prst="rect">
            <a:avLst/>
          </a:prstGeom>
          <a:ln w="0">
            <a:noFill/>
          </a:ln>
        </p:spPr>
      </p:pic>
      <p:sp>
        <p:nvSpPr>
          <p:cNvPr id="385" name="Овальная выноска 4"/>
          <p:cNvSpPr/>
          <p:nvPr/>
        </p:nvSpPr>
        <p:spPr>
          <a:xfrm>
            <a:off x="1908000" y="1341360"/>
            <a:ext cx="2214720" cy="1500120"/>
          </a:xfrm>
          <a:prstGeom prst="wedgeEllipseCallout">
            <a:avLst>
              <a:gd name="adj1" fmla="val 98374"/>
              <a:gd name="adj2" fmla="val 67416"/>
            </a:avLst>
          </a:prstGeom>
          <a:solidFill>
            <a:srgbClr val="fe8637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99ff"/>
                </a:solidFill>
                <a:latin typeface="Times New Roman"/>
              </a:rPr>
              <a:t>УДАЧИ ВАМ!!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advTm="8000">
    <p:strips dir="r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39d"/>
                </a:solidFill>
                <a:latin typeface="Century Schoolbook"/>
              </a:rPr>
              <a:t>Задачи проекта:</a:t>
            </a:r>
            <a:endParaRPr b="0" lang="en-US" sz="54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Исправить недостатки письма и чтения у младших школьников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Научить устанавливать связи между произнесенным звуком и его графическим изображением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Развить культуру письменной речи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Обогатить словарный запас учащихся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908000" y="260280"/>
            <a:ext cx="6950160" cy="61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2611c"/>
                </a:solidFill>
                <a:latin typeface="Arial"/>
              </a:rPr>
              <a:t>Почему пишем не так, как слышим?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Содержимое 3" descr="IMG_0002.jpg"/>
          <p:cNvPicPr/>
          <p:nvPr/>
        </p:nvPicPr>
        <p:blipFill>
          <a:blip r:embed="rId1"/>
          <a:stretch/>
        </p:blipFill>
        <p:spPr>
          <a:xfrm>
            <a:off x="2700360" y="3645000"/>
            <a:ext cx="4324320" cy="3024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2285640" y="333000"/>
            <a:ext cx="61722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39d"/>
                </a:solidFill>
                <a:latin typeface="Arial"/>
              </a:rPr>
              <a:t>Давайте обсудим!</a:t>
            </a:r>
            <a:endParaRPr b="0" lang="en-US" sz="54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9d"/>
                </a:solidFill>
                <a:latin typeface="Arial"/>
              </a:rPr>
              <a:t>Почему при написании звонких и глухих согласных нормы произношения не совпадают с нормами правописания?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9d"/>
                </a:solidFill>
                <a:latin typeface="Arial"/>
              </a:rPr>
              <a:t>С любым ли из парных звонких согласных может происходить оглушение?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9d"/>
                </a:solidFill>
                <a:latin typeface="Arial"/>
              </a:rPr>
              <a:t>Как можно проверить сомнительный согласный?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9d"/>
                </a:solidFill>
                <a:latin typeface="Arial"/>
              </a:rPr>
              <a:t>Что произойдет, если писать так, как слышишь?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7236000" y="4005360"/>
            <a:ext cx="1742760" cy="1355760"/>
          </a:xfrm>
          <a:prstGeom prst="rect">
            <a:avLst/>
          </a:prstGeom>
          <a:ln w="0">
            <a:noFill/>
          </a:ln>
        </p:spPr>
      </p:pic>
    </p:spTree>
  </p:cSld>
  <p:transition advTm="17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2285640" y="620280"/>
            <a:ext cx="6172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39d"/>
                </a:solidFill>
                <a:latin typeface="Arial"/>
              </a:rPr>
              <a:t>Вопросы для исследования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39d"/>
                </a:solidFill>
                <a:latin typeface="Arial"/>
              </a:rPr>
              <a:t>Какие парные согласные по звонкости-глухости вы знаете?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39d"/>
                </a:solidFill>
                <a:latin typeface="Arial"/>
              </a:rPr>
              <a:t>В чем их особенность?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39d"/>
                </a:solidFill>
                <a:latin typeface="Arial"/>
              </a:rPr>
              <a:t>Какие правила написания звонких и глухих согласных вы знаете?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39d"/>
                </a:solidFill>
                <a:latin typeface="Arial"/>
              </a:rPr>
              <a:t>Как мы можем себя проверить, чтобы не допустить ошибку?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48360" y="4941720"/>
            <a:ext cx="1656000" cy="1700280"/>
            <a:chOff x="6948360" y="4941720"/>
            <a:chExt cx="1656000" cy="1700280"/>
          </a:xfrm>
        </p:grpSpPr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6948360" y="4941720"/>
              <a:ext cx="1656000" cy="1700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4" name=""/>
            <p:cNvGrpSpPr/>
            <p:nvPr/>
          </p:nvGrpSpPr>
          <p:grpSpPr>
            <a:xfrm>
              <a:off x="7268760" y="5144400"/>
              <a:ext cx="967680" cy="505800"/>
              <a:chOff x="7268760" y="5144400"/>
              <a:chExt cx="967680" cy="505800"/>
            </a:xfrm>
          </p:grpSpPr>
          <p:sp>
            <p:nvSpPr>
              <p:cNvPr id="365" name=""/>
              <p:cNvSpPr txBox="1"/>
              <p:nvPr/>
            </p:nvSpPr>
            <p:spPr>
              <a:xfrm rot="181800">
                <a:off x="7729200" y="5148720"/>
                <a:ext cx="181800" cy="213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Rounded MT Bold"/>
                  </a:rPr>
                  <a:t>?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  <a:ea typeface="Arial Rounded MT Bold"/>
                </a:endParaRPr>
              </a:p>
            </p:txBody>
          </p:sp>
          <p:sp>
            <p:nvSpPr>
              <p:cNvPr id="366" name=""/>
              <p:cNvSpPr txBox="1"/>
              <p:nvPr/>
            </p:nvSpPr>
            <p:spPr>
              <a:xfrm rot="181800">
                <a:off x="7273800" y="5431680"/>
                <a:ext cx="181800" cy="213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Rounded MT Bold"/>
                  </a:rPr>
                  <a:t>?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  <a:ea typeface="Arial Rounded MT Bold"/>
                </a:endParaRPr>
              </a:p>
            </p:txBody>
          </p:sp>
          <p:sp>
            <p:nvSpPr>
              <p:cNvPr id="367" name=""/>
              <p:cNvSpPr txBox="1"/>
              <p:nvPr/>
            </p:nvSpPr>
            <p:spPr>
              <a:xfrm rot="181800">
                <a:off x="8048880" y="5325480"/>
                <a:ext cx="181800" cy="213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Rounded MT Bold"/>
                  </a:rPr>
                  <a:t>?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  <a:ea typeface="Arial Rounded MT Bold"/>
                </a:endParaRPr>
              </a:p>
            </p:txBody>
          </p:sp>
        </p:grpSp>
      </p:grpSp>
    </p:spTree>
  </p:cSld>
  <p:transition advTm="18000">
    <p:strips dir="r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500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500"/>
                            </p:stCondLst>
                            <p:childTnLst>
                              <p:par>
                                <p:cTn id="6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6500"/>
                            </p:stCondLst>
                            <p:childTnLst>
                              <p:par>
                                <p:cTn id="14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4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500"/>
                            </p:stCondLst>
                            <p:childTnLst>
                              <p:par>
                                <p:cTn id="15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6500"/>
                            </p:stCondLst>
                            <p:childTnLst>
                              <p:par>
                                <p:cTn id="18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9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2500"/>
                            </p:stCondLst>
                            <p:childTnLst>
                              <p:par>
                                <p:cTn id="20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4500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6500"/>
                            </p:stCondLst>
                            <p:childTnLst>
                              <p:par>
                                <p:cTn id="22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8500"/>
                            </p:stCondLst>
                            <p:childTnLst>
                              <p:par>
                                <p:cTn id="22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500"/>
                            </p:stCondLst>
                            <p:childTnLst>
                              <p:par>
                                <p:cTn id="23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2500"/>
                            </p:stCondLst>
                            <p:childTnLst>
                              <p:par>
                                <p:cTn id="24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500"/>
                            </p:stCondLst>
                            <p:childTnLst>
                              <p:par>
                                <p:cTn id="25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6500"/>
                            </p:stCondLst>
                            <p:childTnLst>
                              <p:par>
                                <p:cTn id="26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8500"/>
                            </p:stCondLst>
                            <p:childTnLst>
                              <p:par>
                                <p:cTn id="26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0500"/>
                            </p:stCondLst>
                            <p:childTnLst>
                              <p:par>
                                <p:cTn id="27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2500"/>
                            </p:stCondLst>
                            <p:childTnLst>
                              <p:par>
                                <p:cTn id="28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4500"/>
                            </p:stCondLst>
                            <p:childTnLst>
                              <p:par>
                                <p:cTn id="29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6500"/>
                            </p:stCondLst>
                            <p:childTnLst>
                              <p:par>
                                <p:cTn id="30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2285640" y="404280"/>
            <a:ext cx="61722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2611c"/>
                </a:solidFill>
                <a:latin typeface="Arial"/>
              </a:rPr>
              <a:t>Действуем: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9" name=""/>
          <p:cNvSpPr/>
          <p:nvPr/>
        </p:nvSpPr>
        <p:spPr>
          <a:xfrm>
            <a:off x="2286000" y="1197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39d"/>
                </a:solidFill>
                <a:latin typeface="Arial"/>
              </a:rPr>
              <a:t>-Обсужда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39d"/>
                </a:solidFill>
                <a:latin typeface="Arial"/>
              </a:rPr>
              <a:t>-Планиру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39d"/>
                </a:solidFill>
                <a:latin typeface="Arial"/>
              </a:rPr>
              <a:t>-Исследу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39d"/>
                </a:solidFill>
                <a:latin typeface="Arial"/>
              </a:rPr>
              <a:t>-Анализиру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39d"/>
                </a:solidFill>
                <a:latin typeface="Arial"/>
              </a:rPr>
              <a:t>-Сравнива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39d"/>
                </a:solidFill>
                <a:latin typeface="Arial"/>
              </a:rPr>
              <a:t>-Систематизиру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39d"/>
                </a:solidFill>
                <a:latin typeface="Arial"/>
              </a:rPr>
              <a:t>-Обобща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39d"/>
                </a:solidFill>
                <a:latin typeface="Arial"/>
              </a:rPr>
              <a:t>-Делаем выводы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39d"/>
                </a:solidFill>
                <a:latin typeface="Arial"/>
              </a:rPr>
              <a:t>-Оцениваем результат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13" descr="49325d970553"/>
          <p:cNvPicPr/>
          <p:nvPr/>
        </p:nvPicPr>
        <p:blipFill>
          <a:blip r:embed="rId1">
            <a:grayscl/>
            <a:lum contrast="30000"/>
          </a:blip>
          <a:stretch/>
        </p:blipFill>
        <p:spPr>
          <a:xfrm>
            <a:off x="6588000" y="4149720"/>
            <a:ext cx="2374920" cy="1512720"/>
          </a:xfrm>
          <a:prstGeom prst="rect">
            <a:avLst/>
          </a:prstGeom>
          <a:ln w="0">
            <a:noFill/>
          </a:ln>
        </p:spPr>
      </p:pic>
    </p:spTree>
  </p:cSld>
  <p:transition advTm="23000">
    <p:strips dir="r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2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339640" y="333360"/>
            <a:ext cx="61722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611c"/>
                </a:solidFill>
                <a:latin typeface="Arial"/>
              </a:rPr>
              <a:t>Как будем работать?</a:t>
            </a:r>
            <a:endParaRPr b="0" lang="en-US" sz="4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656560" y="6499080"/>
            <a:ext cx="163440" cy="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39d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6012000" y="4869000"/>
            <a:ext cx="2019240" cy="126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2124000" y="1773360"/>
          <a:ext cx="6216480" cy="2663640"/>
        </p:xfrm>
        <a:graphic>
          <a:graphicData uri="http://schemas.openxmlformats.org/drawingml/2006/table">
            <a:tbl>
              <a:tblPr/>
              <a:tblGrid>
                <a:gridCol w="2071440"/>
                <a:gridCol w="2073600"/>
                <a:gridCol w="2071440"/>
              </a:tblGrid>
              <a:tr h="26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бейтесь по группам, распределите темы для исследования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шите, как будете обсуждать полученную информа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ите, в каком виде представите полученные рабо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40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1331640" y="333360"/>
            <a:ext cx="74674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Выбор вопроса исследования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3780000" y="1341360"/>
          <a:ext cx="3384360" cy="5234040"/>
        </p:xfrm>
        <a:graphic>
          <a:graphicData uri="http://schemas.openxmlformats.org/drawingml/2006/table">
            <a:tbl>
              <a:tblPr/>
              <a:tblGrid>
                <a:gridCol w="1512720"/>
                <a:gridCol w="1871640"/>
              </a:tblGrid>
              <a:tr h="101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 для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едопы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 произойдет, если писать то, что слышишь?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исков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чем особенность парных согласных по звонкости-глухост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л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ему правило не меняетс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2285640" y="620280"/>
            <a:ext cx="6172200" cy="57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611c"/>
                </a:solidFill>
                <a:latin typeface="Arial"/>
              </a:rPr>
              <a:t>Прогнозы результатов проект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"/>
          <p:cNvSpPr/>
          <p:nvPr/>
        </p:nvSpPr>
        <p:spPr>
          <a:xfrm>
            <a:off x="1908000" y="2205000"/>
            <a:ext cx="2303640" cy="1303200"/>
          </a:xfrm>
          <a:prstGeom prst="flowChartPunchedTap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убликац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"/>
          <p:cNvSpPr/>
          <p:nvPr/>
        </p:nvSpPr>
        <p:spPr>
          <a:xfrm>
            <a:off x="6659640" y="2276640"/>
            <a:ext cx="2282760" cy="1223640"/>
          </a:xfrm>
          <a:prstGeom prst="flowChartPunchedTap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льбом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"/>
          <p:cNvSpPr/>
          <p:nvPr/>
        </p:nvSpPr>
        <p:spPr>
          <a:xfrm>
            <a:off x="2124000" y="5084640"/>
            <a:ext cx="2303640" cy="1297080"/>
          </a:xfrm>
          <a:prstGeom prst="flowChartPunchedTap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азет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"/>
          <p:cNvSpPr/>
          <p:nvPr/>
        </p:nvSpPr>
        <p:spPr>
          <a:xfrm>
            <a:off x="6659640" y="5013360"/>
            <a:ext cx="2138400" cy="1231920"/>
          </a:xfrm>
          <a:prstGeom prst="flowChartPunchedTap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клад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"/>
          <p:cNvSpPr/>
          <p:nvPr/>
        </p:nvSpPr>
        <p:spPr>
          <a:xfrm>
            <a:off x="4211640" y="3716280"/>
            <a:ext cx="2303640" cy="1008000"/>
          </a:xfrm>
          <a:prstGeom prst="flowChartPunchedTap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mb dir="horz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7:15:52Z</dcterms:created>
  <dc:creator>зинченко</dc:creator>
  <dc:description/>
  <dc:language>en-US</dc:language>
  <cp:lastModifiedBy>Admin</cp:lastModifiedBy>
  <dcterms:modified xsi:type="dcterms:W3CDTF">2010-10-25T05:41:03Z</dcterms:modified>
  <cp:revision>40</cp:revision>
  <dc:subject/>
  <dc:title>Речедвигательная ритмика</dc:title>
</cp:coreProperties>
</file>