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7.jpeg" ContentType="image/jpeg"/>
  <Override PartName="/ppt/media/image38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32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44.png" ContentType="image/png"/>
  <Override PartName="/ppt/media/image40.jpeg" ContentType="image/jpeg"/>
  <Override PartName="/ppt/media/image36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5.jpeg" ContentType="image/jpeg"/>
  <Override PartName="/ppt/media/image45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6.gif" ContentType="image/gif"/>
  <Override PartName="/ppt/media/image29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31.jpeg" ContentType="image/jpeg"/>
  <Override PartName="/ppt/media/image14.gif" ContentType="image/gif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3B0-8838-4D46-A03E-0F626CF1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4E8-4280-4E15-8CE3-8738D35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F51-DB15-47A8-AC3F-C2DCB007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6C7-4D1B-4B1C-A05A-48B6B237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070F-32E0-4D1B-B8E2-FD5B10A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AE42-047E-4977-943E-5A390FD9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2F5D-404A-48DC-9F8C-00B87B8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7886-F641-4198-8FC9-F11F45B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50DB-C4D8-44A3-9EEC-BB3F0DB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7E39-A16B-444D-A293-606746A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75F-F2B7-49B5-A90D-146F718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13C-0681-467B-A2B6-68F409A5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8A99-097B-40E0-966C-EF3B0D2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801-8F09-4DF2-BDDD-292212D7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D9EA-9BB7-41B4-A561-F7398881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34D7-F291-40DE-B0B6-0D1C84C4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0E0C-D3BF-4E57-9A3F-226FBBEB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2E1-99C3-40A7-995F-49242CC4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BE8-5006-435A-A9DC-207CD241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372-7A51-4888-AEEE-AABDF739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B8C-007B-4389-BC3C-4341B59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E55-E094-419B-A77A-5E9E4F3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407-2096-46B4-BD5C-13E3315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FB2-8FF3-4D03-9424-F8A3D83C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053-F280-4257-ABD9-5E63C7DFABE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3BB8-11E3-4046-B19C-6BC92C1816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0508-408E-4127-BB0A-0953A6D5141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2DA-7E0C-495B-B8E6-C802E54B4E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audio" Target="file:///tmp/home/.config/libreoffice/4/user/gallery/&#1089;&#1080;&#1085;&#1080;&#1094;&#1072;.wav" TargetMode="External"/><Relationship Id="rId4" Type="http://schemas.microsoft.com/office/2007/relationships/media" Target="file:///tmp/home/.config/libreoffice/4/user/gallery/&#1089;&#1080;&#1085;&#1080;&#1094;&#1072;.wav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F:\урок\кормушка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745320"/>
          </a:xfrm>
          <a:prstGeom prst="rect">
            <a:avLst/>
          </a:prstGeom>
          <a:ln w="0">
            <a:noFill/>
          </a:ln>
        </p:spPr>
      </p:pic>
      <p:pic>
        <p:nvPicPr>
          <p:cNvPr id="98" name="Text Box 3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619680" cy="256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ani-bird_blue"/>
          <p:cNvPicPr/>
          <p:nvPr/>
        </p:nvPicPr>
        <p:blipFill>
          <a:blip r:embed="rId3"/>
          <a:stretch/>
        </p:blipFill>
        <p:spPr>
          <a:xfrm>
            <a:off x="4857840" y="928800"/>
            <a:ext cx="1238040" cy="99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i-bird_red"/>
          <p:cNvPicPr/>
          <p:nvPr/>
        </p:nvPicPr>
        <p:blipFill>
          <a:blip r:embed="rId4"/>
          <a:stretch/>
        </p:blipFill>
        <p:spPr>
          <a:xfrm>
            <a:off x="3286080" y="385776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i-bird_yellow"/>
          <p:cNvPicPr/>
          <p:nvPr/>
        </p:nvPicPr>
        <p:blipFill>
          <a:blip r:embed="rId5"/>
          <a:stretch/>
        </p:blipFill>
        <p:spPr>
          <a:xfrm>
            <a:off x="7905600" y="28584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392"/>
          <p:cNvPicPr/>
          <p:nvPr/>
        </p:nvPicPr>
        <p:blipFill>
          <a:blip r:embed="rId6"/>
          <a:stretch/>
        </p:blipFill>
        <p:spPr>
          <a:xfrm>
            <a:off x="571680" y="5284800"/>
            <a:ext cx="2490480" cy="15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ani-bird_red"/>
          <p:cNvPicPr/>
          <p:nvPr/>
        </p:nvPicPr>
        <p:blipFill>
          <a:blip r:embed="rId7"/>
          <a:stretch/>
        </p:blipFill>
        <p:spPr>
          <a:xfrm flipH="1">
            <a:off x="7571880" y="4929120"/>
            <a:ext cx="107172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i-bird_yellow"/>
          <p:cNvPicPr/>
          <p:nvPr/>
        </p:nvPicPr>
        <p:blipFill>
          <a:blip r:embed="rId8"/>
          <a:stretch/>
        </p:blipFill>
        <p:spPr>
          <a:xfrm flipH="1">
            <a:off x="356760" y="3357720"/>
            <a:ext cx="1047960" cy="99036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9"/>
          <p:cNvSpPr/>
          <p:nvPr/>
        </p:nvSpPr>
        <p:spPr>
          <a:xfrm>
            <a:off x="5786280" y="6492960"/>
            <a:ext cx="335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3" descr=""/>
          <p:cNvPicPr/>
          <p:nvPr/>
        </p:nvPicPr>
        <p:blipFill>
          <a:blip r:embed="rId2"/>
          <a:stretch/>
        </p:blipFill>
        <p:spPr>
          <a:xfrm>
            <a:off x="-49320" y="298440"/>
            <a:ext cx="6175440" cy="11286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4" descr=""/>
          <p:cNvPicPr/>
          <p:nvPr/>
        </p:nvPicPr>
        <p:blipFill>
          <a:blip r:embed="rId3"/>
          <a:stretch/>
        </p:blipFill>
        <p:spPr>
          <a:xfrm>
            <a:off x="96840" y="1225440"/>
            <a:ext cx="6035760" cy="11336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5" descr=""/>
          <p:cNvPicPr/>
          <p:nvPr/>
        </p:nvPicPr>
        <p:blipFill>
          <a:blip r:embed="rId4"/>
          <a:stretch/>
        </p:blipFill>
        <p:spPr>
          <a:xfrm>
            <a:off x="122400" y="2157480"/>
            <a:ext cx="570528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6" descr=""/>
          <p:cNvPicPr/>
          <p:nvPr/>
        </p:nvPicPr>
        <p:blipFill>
          <a:blip r:embed="rId5"/>
          <a:stretch/>
        </p:blipFill>
        <p:spPr>
          <a:xfrm>
            <a:off x="49320" y="3297240"/>
            <a:ext cx="6716520" cy="11350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" descr=""/>
          <p:cNvPicPr/>
          <p:nvPr/>
        </p:nvPicPr>
        <p:blipFill>
          <a:blip r:embed="rId6"/>
          <a:stretch/>
        </p:blipFill>
        <p:spPr>
          <a:xfrm>
            <a:off x="79200" y="4511520"/>
            <a:ext cx="6066000" cy="1133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сорока.jpg"/>
          <p:cNvPicPr/>
          <p:nvPr/>
        </p:nvPicPr>
        <p:blipFill>
          <a:blip r:embed="rId7"/>
          <a:srcRect l="11761" t="17235" r="2753" b="9522"/>
          <a:stretch/>
        </p:blipFill>
        <p:spPr>
          <a:xfrm>
            <a:off x="6286680" y="214200"/>
            <a:ext cx="2214360" cy="15004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0" name="Рисунок 9" descr="с3.jpg"/>
          <p:cNvPicPr/>
          <p:nvPr/>
        </p:nvPicPr>
        <p:blipFill>
          <a:blip r:embed="rId8"/>
          <a:stretch/>
        </p:blipFill>
        <p:spPr>
          <a:xfrm>
            <a:off x="6357960" y="785880"/>
            <a:ext cx="1785960" cy="2674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1" name="Рисунок 10" descr="воробей.jpg"/>
          <p:cNvPicPr/>
          <p:nvPr/>
        </p:nvPicPr>
        <p:blipFill>
          <a:blip r:embed="rId9"/>
          <a:srcRect l="7857" t="22517" r="26143" b="22910"/>
          <a:stretch/>
        </p:blipFill>
        <p:spPr>
          <a:xfrm>
            <a:off x="5572080" y="2000160"/>
            <a:ext cx="3000600" cy="18576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2" name="Рисунок 11" descr="indjuk.jpg"/>
          <p:cNvPicPr/>
          <p:nvPr/>
        </p:nvPicPr>
        <p:blipFill>
          <a:blip r:embed="rId10"/>
          <a:srcRect l="37503" t="6250" r="6250" b="4167"/>
          <a:stretch/>
        </p:blipFill>
        <p:spPr>
          <a:xfrm>
            <a:off x="6215040" y="2714760"/>
            <a:ext cx="2571840" cy="30715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3" name="Рисунок 12" descr="сокол.jpg"/>
          <p:cNvPicPr/>
          <p:nvPr/>
        </p:nvPicPr>
        <p:blipFill>
          <a:blip r:embed="rId11"/>
          <a:srcRect l="9012" t="5233" r="4443" b="31993"/>
          <a:stretch/>
        </p:blipFill>
        <p:spPr>
          <a:xfrm>
            <a:off x="5715000" y="4857840"/>
            <a:ext cx="2928960" cy="17143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54" name="Нижний колонтитул 13"/>
          <p:cNvSpPr/>
          <p:nvPr/>
        </p:nvSpPr>
        <p:spPr>
          <a:xfrm>
            <a:off x="5572080" y="6492960"/>
            <a:ext cx="332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261 -0.0081 L -0.55261 -0.0081 E">
                                      <p:cBhvr>
                                        <p:cTn id="26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0.09352 L -0.5132 0.17963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0.02037 L -0.09236 -0.21064 E">
                                      <p:cBhvr>
                                        <p:cTn id="27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865 0.02361 L -0.49358 0.02361 E">
                                      <p:cBhvr>
                                        <p:cTn id="27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User\Рабочий стол\птицы\дрофа.jpg"/>
          <p:cNvPicPr/>
          <p:nvPr/>
        </p:nvPicPr>
        <p:blipFill>
          <a:blip r:embed="rId1"/>
          <a:stretch/>
        </p:blipFill>
        <p:spPr>
          <a:xfrm>
            <a:off x="4716360" y="1484280"/>
            <a:ext cx="4105440" cy="2871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56" name="Прямоугольник 2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1189080" cy="5396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3"/>
          <p:cNvSpPr/>
          <p:nvPr/>
        </p:nvSpPr>
        <p:spPr>
          <a:xfrm>
            <a:off x="5857920" y="649296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49400" y="303480"/>
            <a:ext cx="505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ологическая минутка. Охрана птиц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66600"/>
            <a:ext cx="4032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Люди всего мира поняли, что природа нашей планеты в опасности. Поэтому ведётся большая работа по охране природы. Наша страна серьёзно относится к проблеме охраны птиц. Создаются специальные заповедники, где запрещено собирать редкие растения, охотиться на исчезающих животных и птиц. Очень редких и исчезнувших животных и птиц занесли в “Красную книгу”. Это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белая сова, беркут, куропатка бела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рябчик, фил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 д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В результате вырубки лесов, загрязнения водоемов и полей исчезли многие виды птиц. В Башкирии перестали гнездиться пеликан, пеганка, стрепет, степной орёл, дроф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Дрофа – самая крупная птица в России. Масса тела до 8–12кг., а длина 95–102см. Размах крыльев до 2-х. метров. С наступлением холодов дрофы откочёвывают на юг России. У дроф отсутствует железа, выделяющая жировую смазку для перьев, поэтому в дождливую погоду они сильно намокают и могут терять способность к полёту. Особенно губительно для дрофы осенние гололедицы – тогда беспомощные великаны становятся легкой добычей хищников и браконьер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067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Courier New"/>
              </a:rPr>
              <a:t>Орлан-белохвост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837240" cy="2467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64000" y="1404360"/>
            <a:ext cx="331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расные книги Башкирии, России и Международного союза охраны природы занесен и орлан-белохвост, который является самой крупной хищной птицей нашего региона. По сведениям, почерпнутым из республиканской Красной книги, у нас обитает всего 5 — 6 пар орл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5098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вайте же стараться жить так, чтобы земля вокруг нас оставалась щедрой и прекрасной, чтобы цвели цветы и пели пт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User\Рабочий стол\птицы\дятел.jpg"/>
          <p:cNvPicPr/>
          <p:nvPr/>
        </p:nvPicPr>
        <p:blipFill>
          <a:blip r:embed="rId1"/>
          <a:srcRect l="21209" t="0" r="20466" b="0"/>
          <a:stretch/>
        </p:blipFill>
        <p:spPr>
          <a:xfrm>
            <a:off x="714240" y="428760"/>
            <a:ext cx="2633760" cy="3195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5" name="Picture 3" descr="C:\Documents and Settings\User\Рабочий стол\птицы\3f8ce2f4c0d2.jpg"/>
          <p:cNvPicPr/>
          <p:nvPr/>
        </p:nvPicPr>
        <p:blipFill>
          <a:blip r:embed="rId2"/>
          <a:stretch/>
        </p:blipFill>
        <p:spPr>
          <a:xfrm>
            <a:off x="4857840" y="3462480"/>
            <a:ext cx="3976560" cy="3109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6" name="Picture 4" descr="C:\Documents and Settings\User\Рабочий стол\птицы\16298546_2.jpg"/>
          <p:cNvPicPr/>
          <p:nvPr/>
        </p:nvPicPr>
        <p:blipFill>
          <a:blip r:embed="rId3"/>
          <a:stretch/>
        </p:blipFill>
        <p:spPr>
          <a:xfrm>
            <a:off x="214200" y="3929040"/>
            <a:ext cx="3988080" cy="25671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167" name="Picture 5" descr="C:\Documents and Settings\User\Рабочий стол\птицы\swallow.gif"/>
          <p:cNvPicPr/>
          <p:nvPr/>
        </p:nvPicPr>
        <p:blipFill>
          <a:blip r:embed="rId4"/>
          <a:stretch/>
        </p:blipFill>
        <p:spPr>
          <a:xfrm>
            <a:off x="4214880" y="500040"/>
            <a:ext cx="4013280" cy="241452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8" descr=""/>
          <p:cNvPicPr/>
          <p:nvPr/>
        </p:nvPicPr>
        <p:blipFill>
          <a:blip r:embed="rId5"/>
          <a:stretch/>
        </p:blipFill>
        <p:spPr>
          <a:xfrm>
            <a:off x="2419200" y="2505240"/>
            <a:ext cx="1335240" cy="113976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9" descr=""/>
          <p:cNvPicPr/>
          <p:nvPr/>
        </p:nvPicPr>
        <p:blipFill>
          <a:blip r:embed="rId6"/>
          <a:stretch/>
        </p:blipFill>
        <p:spPr>
          <a:xfrm>
            <a:off x="5419800" y="2004840"/>
            <a:ext cx="1334880" cy="114012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0" descr=""/>
          <p:cNvPicPr/>
          <p:nvPr/>
        </p:nvPicPr>
        <p:blipFill>
          <a:blip r:embed="rId7"/>
          <a:stretch/>
        </p:blipFill>
        <p:spPr>
          <a:xfrm>
            <a:off x="7851600" y="5430960"/>
            <a:ext cx="1335240" cy="11412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1" descr=""/>
          <p:cNvPicPr/>
          <p:nvPr/>
        </p:nvPicPr>
        <p:blipFill>
          <a:blip r:embed="rId8"/>
          <a:stretch/>
        </p:blipFill>
        <p:spPr>
          <a:xfrm>
            <a:off x="-152280" y="5364000"/>
            <a:ext cx="1334880" cy="1140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12"/>
          <p:cNvSpPr/>
          <p:nvPr/>
        </p:nvSpPr>
        <p:spPr>
          <a:xfrm>
            <a:off x="5508720" y="6492960"/>
            <a:ext cx="332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WordArt 2" descr=""/>
          <p:cNvPicPr/>
          <p:nvPr/>
        </p:nvPicPr>
        <p:blipFill>
          <a:blip r:embed="rId2"/>
          <a:stretch/>
        </p:blipFill>
        <p:spPr>
          <a:xfrm>
            <a:off x="676440" y="182520"/>
            <a:ext cx="7974000" cy="12445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22"/>
          <p:cNvSpPr txBox="1"/>
          <p:nvPr/>
        </p:nvSpPr>
        <p:spPr>
          <a:xfrm>
            <a:off x="357120" y="4500720"/>
            <a:ext cx="273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ЕНА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34" descr="D_315"/>
          <p:cNvPicPr/>
          <p:nvPr/>
        </p:nvPicPr>
        <p:blipFill>
          <a:blip r:embed="rId3"/>
          <a:stretch/>
        </p:blipFill>
        <p:spPr>
          <a:xfrm>
            <a:off x="357120" y="1571760"/>
            <a:ext cx="2808360" cy="1873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09" name="WordArt 22"/>
          <p:cNvSpPr txBox="1"/>
          <p:nvPr/>
        </p:nvSpPr>
        <p:spPr>
          <a:xfrm>
            <a:off x="3143160" y="5500800"/>
            <a:ext cx="273708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ШКИ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ЛЕБА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22"/>
          <p:cNvSpPr txBox="1"/>
          <p:nvPr/>
        </p:nvSpPr>
        <p:spPr>
          <a:xfrm>
            <a:off x="6072120" y="3857760"/>
            <a:ext cx="273708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ГОДЫ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ЯБИНЫ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2785680" y="1928880"/>
            <a:ext cx="1584360" cy="20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4857480" y="1785960"/>
            <a:ext cx="142920" cy="2714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786280" y="1857240"/>
            <a:ext cx="1214640" cy="185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ani-bird_blue"/>
          <p:cNvPicPr/>
          <p:nvPr/>
        </p:nvPicPr>
        <p:blipFill>
          <a:blip r:embed="rId4"/>
          <a:stretch/>
        </p:blipFill>
        <p:spPr>
          <a:xfrm flipH="1">
            <a:off x="7572240" y="1500120"/>
            <a:ext cx="157176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ni-bird_yellow"/>
          <p:cNvPicPr/>
          <p:nvPr/>
        </p:nvPicPr>
        <p:blipFill>
          <a:blip r:embed="rId5"/>
          <a:stretch/>
        </p:blipFill>
        <p:spPr>
          <a:xfrm>
            <a:off x="6357960" y="1428840"/>
            <a:ext cx="138096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ani-bird_red"/>
          <p:cNvPicPr/>
          <p:nvPr/>
        </p:nvPicPr>
        <p:blipFill>
          <a:blip r:embed="rId6"/>
          <a:stretch/>
        </p:blipFill>
        <p:spPr>
          <a:xfrm flipH="1">
            <a:off x="7000920" y="2500200"/>
            <a:ext cx="1285920" cy="121464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12"/>
          <p:cNvSpPr/>
          <p:nvPr/>
        </p:nvSpPr>
        <p:spPr>
          <a:xfrm>
            <a:off x="5857920" y="6492960"/>
            <a:ext cx="311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500280" y="785880"/>
            <a:ext cx="4929480" cy="36972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низ 3"/>
          <p:cNvSpPr/>
          <p:nvPr/>
        </p:nvSpPr>
        <p:spPr>
          <a:xfrm>
            <a:off x="1500120" y="378612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99cc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Прямоугольник 5" descr=""/>
          <p:cNvPicPr/>
          <p:nvPr/>
        </p:nvPicPr>
        <p:blipFill>
          <a:blip r:embed="rId2"/>
          <a:stretch/>
        </p:blipFill>
        <p:spPr>
          <a:xfrm>
            <a:off x="208080" y="2305080"/>
            <a:ext cx="3224160" cy="14558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" descr=""/>
          <p:cNvPicPr/>
          <p:nvPr/>
        </p:nvPicPr>
        <p:blipFill>
          <a:blip r:embed="rId3"/>
          <a:stretch/>
        </p:blipFill>
        <p:spPr>
          <a:xfrm>
            <a:off x="60480" y="4876920"/>
            <a:ext cx="83088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833400" y="1903320"/>
            <a:ext cx="728208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71680" y="428760"/>
            <a:ext cx="7858080" cy="521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en-US" sz="4800" spc="-1" strike="noStrike">
                <a:solidFill>
                  <a:srgbClr val="008000"/>
                </a:solidFill>
                <a:latin typeface="Century Schoolbook"/>
                <a:ea typeface="Arial"/>
              </a:rPr>
              <a:t>Птицам нельзя давать чёрный хлеб, жареные семечки и орехи, жареное и солёное сало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4500720" y="2997360"/>
            <a:ext cx="464328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Чернокрылый, красногрудый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И зимой найдёт прию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Не боится он простуды –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С первым снегом тут как тут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4000680" y="476280"/>
            <a:ext cx="4500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70c0"/>
                  </a:solidFill>
                  <a:miter/>
                </a:ln>
                <a:gradFill rotWithShape="0">
                  <a:gsLst>
                    <a:gs pos="0">
                      <a:srgbClr val="292929"/>
                    </a:gs>
                    <a:gs pos="100000">
                      <a:srgbClr val="ff6743"/>
                    </a:gs>
                  </a:gsLst>
                  <a:lin ang="1836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ЕГИРЬ</a:t>
            </a:r>
            <a:endParaRPr b="1" lang="en-US" sz="1800" spc="1" strike="noStrike">
              <a:ln w="9360">
                <a:solidFill>
                  <a:srgbClr val="0070c0"/>
                </a:solidFill>
                <a:miter/>
              </a:ln>
              <a:gradFill rotWithShape="0">
                <a:gsLst>
                  <a:gs pos="0">
                    <a:srgbClr val="292929"/>
                  </a:gs>
                  <a:gs pos="100000">
                    <a:srgbClr val="ff6743"/>
                  </a:gs>
                </a:gsLst>
                <a:lin ang="1836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s1"/>
          <p:cNvPicPr/>
          <p:nvPr/>
        </p:nvPicPr>
        <p:blipFill>
          <a:blip r:embed="rId1"/>
          <a:stretch/>
        </p:blipFill>
        <p:spPr>
          <a:xfrm>
            <a:off x="582480" y="0"/>
            <a:ext cx="2275200" cy="232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User\Рабочий стол\птицы\снегирь3.jpg"/>
          <p:cNvPicPr/>
          <p:nvPr/>
        </p:nvPicPr>
        <p:blipFill>
          <a:blip r:embed="rId2"/>
          <a:srcRect l="0" t="7669" r="0" b="22066"/>
          <a:stretch/>
        </p:blipFill>
        <p:spPr>
          <a:xfrm>
            <a:off x="214200" y="2428920"/>
            <a:ext cx="4141800" cy="4137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5857920" y="6492960"/>
            <a:ext cx="311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244000" y="23652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584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156b13">
                <a:alpha val="7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жаворонок.jpg"/>
          <p:cNvPicPr/>
          <p:nvPr/>
        </p:nvPicPr>
        <p:blipFill>
          <a:blip r:embed="rId1"/>
          <a:stretch/>
        </p:blipFill>
        <p:spPr>
          <a:xfrm>
            <a:off x="523800" y="262080"/>
            <a:ext cx="8096400" cy="63338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31" name="Прямоугольник 4" descr=""/>
          <p:cNvPicPr/>
          <p:nvPr/>
        </p:nvPicPr>
        <p:blipFill>
          <a:blip r:embed="rId2"/>
          <a:stretch/>
        </p:blipFill>
        <p:spPr>
          <a:xfrm>
            <a:off x="237960" y="55440"/>
            <a:ext cx="4894560" cy="115740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5"/>
          <p:cNvSpPr/>
          <p:nvPr/>
        </p:nvSpPr>
        <p:spPr>
          <a:xfrm>
            <a:off x="5929200" y="6492960"/>
            <a:ext cx="32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308720" y="43099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74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4" descr=""/>
          <p:cNvPicPr/>
          <p:nvPr/>
        </p:nvPicPr>
        <p:blipFill>
          <a:blip r:embed="rId2"/>
          <a:stretch/>
        </p:blipFill>
        <p:spPr>
          <a:xfrm>
            <a:off x="6504120" y="6480"/>
            <a:ext cx="2682720" cy="113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F_016"/>
          <p:cNvPicPr/>
          <p:nvPr/>
        </p:nvPicPr>
        <p:blipFill>
          <a:blip r:embed="rId3"/>
          <a:stretch/>
        </p:blipFill>
        <p:spPr>
          <a:xfrm>
            <a:off x="2357280" y="214200"/>
            <a:ext cx="4286520" cy="6431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5786280" y="6492960"/>
            <a:ext cx="318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812000" y="272412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87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Courier New"/>
              </a:rPr>
              <a:t>Дятел – лесной доктор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2" descr="C:\Documents and Settings\User\Рабочий стол\птицы\дятел.jpg"/>
          <p:cNvPicPr/>
          <p:nvPr/>
        </p:nvPicPr>
        <p:blipFill>
          <a:blip r:embed="rId1"/>
          <a:srcRect l="21209" t="0" r="20466" b="0"/>
          <a:stretch/>
        </p:blipFill>
        <p:spPr>
          <a:xfrm>
            <a:off x="2867040" y="1628640"/>
            <a:ext cx="4130640" cy="4969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56720" y="256536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53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ни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38320" y="1628640"/>
            <a:ext cx="3665520" cy="468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101080" y="22939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04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37Z</dcterms:created>
  <dc:creator>User</dc:creator>
  <dc:description/>
  <dc:language>en-US</dc:language>
  <cp:lastModifiedBy>1</cp:lastModifiedBy>
  <dcterms:modified xsi:type="dcterms:W3CDTF">2011-12-10T18:22:58Z</dcterms:modified>
  <cp:revision>53</cp:revision>
  <dc:subject/>
  <dc:title>Слайд 1</dc:title>
</cp:coreProperties>
</file>