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F732-39AE-4025-B81C-592525737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34F0-9810-45C0-BD96-435B7793E1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5D4-2E48-4A2A-AF36-47C4BB2B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D55-82FA-4E7D-8BC3-FA084EC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04D-DF99-4133-93FA-8DFF0F7A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955-8E90-4701-81B8-89F3A21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CEB-AE01-4205-A332-06AECB0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FF4-3AF9-425C-A72D-44A83F65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4F7-C9E2-4E96-9DAA-0DFEFB6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C9F-C091-4DF8-8116-B877CF7F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695-E028-4F1B-9C65-1CE90FD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A3F-2DB2-4CD4-9C98-846C660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A56-EB90-4852-8D63-84520C0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630-48B7-4D65-8B0D-2FF92F2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AE23-6937-47A6-A939-30EB623864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зложение квадратного трехчлена на множители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763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2080" y="1447920"/>
            <a:ext cx="8653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1741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342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71600" y="762120"/>
            <a:ext cx="849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9240" y="838080"/>
            <a:ext cx="8467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8438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зложите на линейные множители квадратный трехчлен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990720" y="2286000"/>
          <a:ext cx="59864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5986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14400" y="4597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азложите квадратный трехчлен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1143000" y="1676520"/>
          <a:ext cx="56386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5638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380880" y="381276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  линейные множ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295280" y="10836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едставьте квадратный трехчле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1"/>
          <p:cNvGraphicFramePr/>
          <p:nvPr/>
        </p:nvGraphicFramePr>
        <p:xfrm>
          <a:off x="2209680" y="2286000"/>
          <a:ext cx="38862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3886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1219320" y="36630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 виде произведения линейных множителе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14040" y="2880"/>
            <a:ext cx="94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ставьте квадратный трехчле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1"/>
          <p:cNvGraphicFramePr/>
          <p:nvPr/>
        </p:nvGraphicFramePr>
        <p:xfrm>
          <a:off x="2133720" y="1600200"/>
          <a:ext cx="44654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4654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3"/>
          <p:cNvSpPr/>
          <p:nvPr/>
        </p:nvSpPr>
        <p:spPr>
          <a:xfrm>
            <a:off x="228600" y="34347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в виде произведения линейных множителе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371600" y="92016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ложите  квадратный трехчлен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Object 1"/>
          <p:cNvGraphicFramePr/>
          <p:nvPr/>
        </p:nvGraphicFramePr>
        <p:xfrm>
          <a:off x="2438280" y="2743200"/>
          <a:ext cx="39196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3919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"/>
          <p:cNvSpPr/>
          <p:nvPr/>
        </p:nvSpPr>
        <p:spPr>
          <a:xfrm>
            <a:off x="0" y="442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на множ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33520" y="313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ой из следующих  квадратных трехчленов  нельзя разлож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а  линейные множите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438280" y="4952880"/>
          <a:ext cx="26672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952880"/>
                    <a:ext cx="2667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4"/>
          <p:cNvGraphicFramePr/>
          <p:nvPr/>
        </p:nvGraphicFramePr>
        <p:xfrm>
          <a:off x="2438280" y="4038480"/>
          <a:ext cx="25146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038480"/>
                    <a:ext cx="2514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2362320" y="2971800"/>
          <a:ext cx="23619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971800"/>
                    <a:ext cx="23619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2"/>
          <p:cNvGraphicFramePr/>
          <p:nvPr/>
        </p:nvGraphicFramePr>
        <p:xfrm>
          <a:off x="2286000" y="2057400"/>
          <a:ext cx="24382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057400"/>
                    <a:ext cx="2438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9390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04T18:11:32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