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AC42-3ACA-4086-B596-9330A41A6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A588-52DA-4A4D-9ADA-3985B4B332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3B9-6481-4A7C-87AE-EDF9BFCE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23A-417D-45CF-847C-EE3F9753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C3D-9EE2-46FC-8885-2B21843A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1FE-B5E8-4635-B5EC-C87EC8E9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A66-CCE1-4511-A906-C6DCF70C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D02-5D0C-4990-96A0-02C7F0F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F00-0731-43EF-8CF1-7414FD7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11E-C486-40D1-8B20-6F6A4B37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25D-9E76-4044-8FBA-652D01E0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849-37DE-4C4D-BD83-7D0A4DE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813-B1E6-41B1-9670-818615BE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209-A311-46DE-AB76-116498F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8080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1C7A-B066-4730-BCAB-C760E7D648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3"/>
          <p:cNvSpPr txBox="1"/>
          <p:nvPr/>
        </p:nvSpPr>
        <p:spPr>
          <a:xfrm>
            <a:off x="1066680" y="4572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ВТОРЕНИЕ 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нировочные задани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16"/>
          <p:cNvSpPr txBox="1"/>
          <p:nvPr/>
        </p:nvSpPr>
        <p:spPr>
          <a:xfrm>
            <a:off x="380880" y="1600200"/>
            <a:ext cx="8229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зложение квадратного трехчлена на множители</a:t>
            </a:r>
            <a:endParaRPr b="1" lang="en-US" sz="6600" spc="1" strike="noStrike">
              <a:ln w="32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18"/>
          <p:cNvSpPr txBox="1"/>
          <p:nvPr/>
        </p:nvSpPr>
        <p:spPr>
          <a:xfrm>
            <a:off x="914400" y="41911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дготовила учитель математик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БОУСОШ № 43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.Северская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раснодарский край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Шкребий Ирина Александровн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763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2080" y="1447920"/>
            <a:ext cx="8653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1741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342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71600" y="762120"/>
            <a:ext cx="8494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19240" y="838080"/>
            <a:ext cx="8467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8438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азложите на линейные множители квадратный трехчлен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990720" y="2286000"/>
          <a:ext cx="59864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5986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14400" y="4597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азложите квадратный трехчлен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1143000" y="1676520"/>
          <a:ext cx="563868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56386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380880" y="381276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а  линейные множ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295280" y="10836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едставьте квадратный трехчле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1"/>
          <p:cNvGraphicFramePr/>
          <p:nvPr/>
        </p:nvGraphicFramePr>
        <p:xfrm>
          <a:off x="2209680" y="2286000"/>
          <a:ext cx="38862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3886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1219320" y="36630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 виде произведения линейных множителе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-14040" y="2880"/>
            <a:ext cx="947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ставьте квадратный трехчле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1"/>
          <p:cNvGraphicFramePr/>
          <p:nvPr/>
        </p:nvGraphicFramePr>
        <p:xfrm>
          <a:off x="2133720" y="1600200"/>
          <a:ext cx="44654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4654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3"/>
          <p:cNvSpPr/>
          <p:nvPr/>
        </p:nvSpPr>
        <p:spPr>
          <a:xfrm>
            <a:off x="228600" y="34347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в виде произведения линейных множителе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371600" y="92016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ложите  квадратный трехчлен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Object 1"/>
          <p:cNvGraphicFramePr/>
          <p:nvPr/>
        </p:nvGraphicFramePr>
        <p:xfrm>
          <a:off x="2438280" y="2743200"/>
          <a:ext cx="39196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743200"/>
                    <a:ext cx="3919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3"/>
          <p:cNvSpPr/>
          <p:nvPr/>
        </p:nvSpPr>
        <p:spPr>
          <a:xfrm>
            <a:off x="0" y="442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на множ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33520" y="313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ой из следующих  квадратных трехчленов  нельзя разлож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а  линейные множите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438280" y="4952880"/>
          <a:ext cx="26672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952880"/>
                    <a:ext cx="2667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4"/>
          <p:cNvGraphicFramePr/>
          <p:nvPr/>
        </p:nvGraphicFramePr>
        <p:xfrm>
          <a:off x="2438280" y="4038480"/>
          <a:ext cx="25146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038480"/>
                    <a:ext cx="2514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2362320" y="2971800"/>
          <a:ext cx="23619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971800"/>
                    <a:ext cx="23619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2"/>
          <p:cNvGraphicFramePr/>
          <p:nvPr/>
        </p:nvGraphicFramePr>
        <p:xfrm>
          <a:off x="2286000" y="2057400"/>
          <a:ext cx="243828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057400"/>
                    <a:ext cx="2438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229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9390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лбесина</cp:lastModifiedBy>
  <dcterms:modified xsi:type="dcterms:W3CDTF">2011-12-04T18:11:32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