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552-5197-4229-A1DB-DE4863F4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37F-5E58-468B-90DD-69215948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E33-826D-49ED-8C5F-5090156B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132-6194-4156-818D-8673FED3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B47A-9070-470F-8BBC-3C8AD9E2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311-64C7-472C-BCF7-9F31F81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E61-AE4E-4B21-811D-AC63CB1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69A-82B7-4423-8719-AA75EC2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A77-8421-4F85-91FE-C06F2134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657-57A7-4E4C-9B27-99F977C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21DE-7113-4CCB-ACD6-905985F7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68A-777A-4763-9834-AAC12487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0FEE-FFFF-4432-8C5F-7CE7194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05A-200C-4776-AB18-DA449D2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D15-AF87-4A6A-B462-A0F9C9C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03C-17FA-43E4-8336-DB1BC738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992B-136E-4CA3-93A8-6F8ECCC6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BAD-597D-4C5B-89BB-FA697D1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76-3919-4A8B-9490-29AFFF4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164-73E4-4885-BDD9-3285CC0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3C0-FB12-4808-AFC1-3574397E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D72-5CAB-4A4C-B095-63B4571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198-A13E-40B0-B433-A708253E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D4B-D75A-41AD-AF90-ABE14A4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6B2-164C-4BE6-B7BD-33573681B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E2A-530A-4840-BAEC-5D00B6533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5280" y="836640"/>
            <a:ext cx="68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1700280"/>
            <a:ext cx="9068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 помочь ребёнку научиться читать"                                   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052960" cy="260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1691640" y="765000"/>
            <a:ext cx="266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692280"/>
            <a:ext cx="5286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ительское собран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64000" y="1125360"/>
            <a:ext cx="224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1 класс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640" y="6165720"/>
            <a:ext cx="4095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ельникова Н.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24000" y="333360"/>
            <a:ext cx="532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"Ребрихинская сош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5400000">
            <a:off x="-1409400" y="293364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советы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7160" y="5335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33520"/>
            <a:ext cx="77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тение должно быть совмест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читесь читать в иг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еседуйте с ребёнком о прочитан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азвивайте интерес к чтению собственным приме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нига выбирается исходя из интереса чит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12408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887480"/>
            <a:ext cx="73152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ниг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великий учитель и друг, без  неё  немыслимо  гармоничное развитие человека, потому  что она формирует  не  только  память  и  интеллект,   но   и   воображение, нравственное  и  духовное   лицо каждого из  на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04920"/>
            <a:ext cx="174038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« Скажи мне, что ты читаешь, и я скаж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кто ты»,-так можно перефразиро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мудрое изр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Чтение – это двигатель познания жизни, без него она лишается чего-то  очень  важного,  тускнеет, мертвеет   и   наполняется пустот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</a:rPr>
              <a:t>Книга, особенно умная и добрая, добавляет  оптимизма  и  учит размышлять, изменяет жизнь и преобразовывает простран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Игры с книг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жные ребя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йди близне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бракадаб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гра в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думай риф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48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Дружные ребя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уквы  одушевляются, одна буковка «Д» словно бежит навстречу другой.Звук тянется, пока не достигнет нового звука «А». И вместе они заговорят и скажут нам коротенькое слово «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19400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10280" y="1600200"/>
            <a:ext cx="1143000" cy="152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4876920"/>
            <a:ext cx="1447920" cy="1447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Найди близнец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fefd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гра заключается в том, что уже прочитанный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 ребёнок ищет в печатном тексте.Хорошо, если это люби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 книга или просто газета, журнал. Ребёнок пони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т, что книги бывают разные, не только с красивыми иллюстрациями.Постепенно визуальное привыкание к виду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в приведёт к авт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ческому соединению букв в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и и с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7621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АБРАКАДАБР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252520"/>
            <a:ext cx="7467480" cy="277668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Ж У Н А 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У К А Ш 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5486400"/>
            <a:ext cx="65530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(НУЖНА ПУШК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23880" y="7621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ГРА В СЛОВ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8288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Переставь буквы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КАРП – ПАР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Убери букву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ГОРСТЬ – Г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Из букв этого слова составь новые слова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ВЛАДИМИРЦЕ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Дима,  мир, Рим, лад, дар, вера, Вера, Влад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 Тю                               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нь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но         с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ва                               б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                                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54097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572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94360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1992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4800600"/>
            <a:ext cx="838080" cy="609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е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800600"/>
            <a:ext cx="762120" cy="5335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47920" y="762120"/>
            <a:ext cx="6858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думай рифм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133720"/>
            <a:ext cx="7010640" cy="19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209680"/>
            <a:ext cx="7238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етро-кино,    чудак-пятак, шило-мыло,    индюк-сундук, удочка-дудочка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ы поехали в метро                       Шел чуд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 приехали в кино.                           Нашёл пят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упил шил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менял на мы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17:46Z</dcterms:created>
  <dc:creator>User</dc:creator>
  <dc:description/>
  <dc:language>en-US</dc:language>
  <cp:lastModifiedBy>Loner-XP</cp:lastModifiedBy>
  <dcterms:modified xsi:type="dcterms:W3CDTF">2002-01-02T13:48:48Z</dcterms:modified>
  <cp:revision>11</cp:revision>
  <dc:subject/>
  <dc:title>    а · (b+c) = ab + ac  -a (b+c) = -ab –ac a (-b+c) = -ab +ac a (-b –c) = -ab –ac - a (-b + c) = ab –ac -a (b – c) = -ab +ac -a (-b –c) = ab +ac      </dc:title>
</cp:coreProperties>
</file>