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5A8-0404-4DBE-9D93-805410AF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8FC-D55A-48BE-B4BD-EFA30958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033-2D2E-4CA5-844C-207E6BDF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6E1-6594-429C-8351-6FDC39C9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8687-7501-4DB3-BAA8-0C05D588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7536-EBAE-4EA2-8034-A937FF5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CAB-38EA-4ED7-962D-F2C8639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4D2-8CB8-4AA3-BC74-269E8FEE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F0A-47D2-4672-A740-607D33F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3641-5C40-4D42-BA90-A92849E1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531C-147E-4D9E-BE8A-2C6C097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C87-6EBB-441C-B06C-9B1CE56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CE8-5D16-41D9-B3B5-B058C34D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1BF-7D5C-4A90-A812-6AA8B92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A6E2-699F-432B-B85B-B11AE772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F1AA-3060-41FC-BF1D-6C354568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C5F0-98F0-4DDA-9DB1-56383B77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73C-18C3-43A1-9E86-EA2AF36D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946-5902-419D-83ED-55BC3C7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7D2-976E-4F09-BBAB-35465CD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1F2-CAD5-4EAA-87B6-95FC6549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B0A-3EA0-40BD-96FA-691B8BA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587-FE9E-4B3D-B58F-C116AB5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6A0-220C-4C61-8082-02C197C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705D-7846-4B63-B0B0-533B25F6A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9803-8BC3-4E61-9A13-98EC69277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5280" y="836640"/>
            <a:ext cx="68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0920" y="1700280"/>
            <a:ext cx="9068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 помочь ребёнку научиться читать"                                   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5052960" cy="260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1691640" y="765000"/>
            <a:ext cx="266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692280"/>
            <a:ext cx="528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дительское собран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4000" y="1125360"/>
            <a:ext cx="2247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1 клас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640" y="6165720"/>
            <a:ext cx="4095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ельникова Н.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24000" y="333360"/>
            <a:ext cx="532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У"Ребрихинская сош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 rot="5400000">
            <a:off x="-1409400" y="2933640"/>
            <a:ext cx="5562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советы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7160" y="5335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33520"/>
            <a:ext cx="77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ение должно быть совмест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читесь читать в иг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еседуйте с ребёнком о прочитан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звивайте интерес к чтению собственным приме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нига выбирается исходя из интереса чит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12408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887480"/>
            <a:ext cx="731520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ниг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великий учитель и друг, без  неё  немыслимо  гармоничное развитие человека, потому  что она формирует  не  только  память  и  интеллект,   но   и   воображение, нравственное  и  духовное   лицо каждого из  на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04920"/>
            <a:ext cx="174038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« Скажи мне, что ты читаешь, и я скажу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кто ты»,-так можно перефразиро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мудрое изре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53352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Чтение – это двигатель познания жизни, без него она лишается чего-то  очень  важного,  тускнеет, мертвеет   и   наполняется пустот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Книга, особенно умная и добрая, добавляет  оптимизма  и  учит размышлять, изменяет жизнь и преобразовывает простран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Игры с книг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жные ребя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йди близне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бракадаб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гра в сл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думай риф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48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Дружные ребя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уквы  одушевляются, одна буковка «Д» словно бежит навстречу другой.Звук тянется, пока не достигнет нового звука «А». И вместе они заговорят и скажут нам коротенькое слово «д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194004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10280" y="1600200"/>
            <a:ext cx="1143000" cy="1523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876920"/>
            <a:ext cx="1447920" cy="1447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Найди близнец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9360">
            <a:solidFill>
              <a:srgbClr val="fefd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гра заключается в том, что уже прочитанный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 ребёнок ищет в печатном тексте.Хорошо, если это люби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 книга или просто газета, журнал. Ребёнок пони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т, что книги бывают разные, не только с красивыми иллюстрациями.Постепенно визуальное привыкание к виду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в приведёт к авт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ческому соединению букв в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 и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76212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АБРАКАДАБР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252520"/>
            <a:ext cx="7467480" cy="277668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Ж У Н А 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У К А Ш 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5486400"/>
            <a:ext cx="65530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НУЖНА ПУШК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3880" y="7621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ГРА В СЛОВ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8288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Переставь буквы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КАРП – ПАР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Убери букву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ГОРСТЬ – Г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Из букв этого слова составь новые слова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ВЛАДИМИРЦЕВ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Дима,  мир, Рим, лад, дар, вера, Вера, Влад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 Тю                               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нь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но         с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ва                               б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                                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54097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572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94360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1992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4800600"/>
            <a:ext cx="838080" cy="6094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800600"/>
            <a:ext cx="762120" cy="5335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47920" y="762120"/>
            <a:ext cx="6858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думай рифм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133720"/>
            <a:ext cx="7010640" cy="190476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209680"/>
            <a:ext cx="72388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етро-кино,    чудак-пятак, шило-мыло,    индюк-сундук, удочка-дудочка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ы поехали в метро                       Шел чуд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 приехали в кино.                           Нашёл пят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упил шил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менял на мы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17:46Z</dcterms:created>
  <dc:creator>User</dc:creator>
  <dc:description/>
  <dc:language>en-US</dc:language>
  <cp:lastModifiedBy>Loner-XP</cp:lastModifiedBy>
  <dcterms:modified xsi:type="dcterms:W3CDTF">2002-01-02T13:48:48Z</dcterms:modified>
  <cp:revision>11</cp:revision>
  <dc:subject/>
  <dc:title>    а · (b+c) = ab + ac  -a (b+c) = -ab –ac a (-b+c) = -ab +ac a (-b –c) = -ab –ac - a (-b + c) = ab –ac -a (b – c) = -ab +ac -a (-b –c) = ab +ac      </dc:title>
</cp:coreProperties>
</file>