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0A66-9C46-49B6-9D29-9233B4E9A0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Лях; А.А.Зданевич -  ФИЗИЧЕСКАЯ КУЛЬТУРА  ДЛЯ 10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ы - Физическая культура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B912-8F3E-46D4-A8A3-F61A9FE4FB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Лях; А.А.Зданевич -  ФИЗИЧЕСКАЯ КУЛЬТУРА  ДЛЯ 10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ы - Физическая культура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4C64-6A2B-43B7-B1CA-15615BB839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Лях; А.А.Зданевич -  ФИЗИЧЕСКАЯ КУЛЬТУРА  ДЛЯ 10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ы - Физическая культура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AA3B-448E-4F2D-A66E-48F8ACCCCB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Лях; А.А.Зданевич -  ФИЗИЧЕСКАЯ КУЛЬТУРА  ДЛЯ 10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ы - Физическая культура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7F57-6CB5-4E51-B5B0-A1F22AF7A3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Лях; А.А.Зданевич -  ФИЗИЧЕСКАЯ КУЛЬТУРА  ДЛЯ 10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ы - Физическая культура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B88B-755B-4DA3-87EF-BC0582423E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DBC-288C-46C0-A266-107A13A3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E63-FC53-4195-8620-4E89D7C8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C6B1E-A33B-48A5-B1F9-ABE27964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4C827-9796-4378-91A8-C05FE94D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CDC7F-6F7B-45B6-901D-807FBCCF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A6171-8135-4832-AA80-39409007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53B05-631D-4C74-8D06-CDC4DFA1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2B4D0-81E7-46E2-8B29-2CC632BE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F974C-E562-4611-89B9-CEF2D5EB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EB5FE-FEFE-470A-9750-6F011156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8822A-84DF-406A-A200-AB5EE771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8DB-8D5D-41F2-A5D0-32627B93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12F-20EA-4E32-843A-15BB6A04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C3D9-F9A4-40D0-B91A-20733D69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3089-F137-4F3E-9646-BCBD118E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2074-A01F-4B3A-B159-BF206A1E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1CB2-B0CD-4448-88A0-8343D169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6C79-8437-4104-B9A4-F7106A58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88D8-72E7-4747-89A8-40E133E0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F747-B988-4F7F-928D-C32991D9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F68-868D-473D-B6F1-0756DACE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AF5E-DEEB-4384-BF5C-02A11F06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85E1-F898-4013-B46F-45E7DE95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F0FE-35DB-4F53-AF4A-F09B5E30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529C-7730-4F5C-97AD-58124C36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ABF4-4336-4D92-A14A-EE4AD99B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5A56B-7160-4F76-B650-08A6C1CD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6DA45-865F-43DC-A8E6-31897A3A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982BE-171B-4E16-9C51-886A6A93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1817-1C18-4A8B-A89A-91DE78C0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C8A0-5F40-4FDE-95DE-03E4811D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650-1482-4D79-99B9-72D55F49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27515-FD34-451F-B0A1-621F4773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0A999-29FD-45AD-B885-5B616935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0D867-A6A0-4AA6-9E70-54BB61A7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455A3-F3F5-409F-8734-56CB99B5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CF52-8C7C-475F-A7D5-381958C7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BE27F-2687-4B96-B4A3-C17CFD47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6A3C-57D1-4E10-88DC-A993D785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87978-9D7F-48FA-AC3C-B37E791B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FE63E-06EA-44B9-90D9-9318B000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556F8-AD3B-454B-B8E7-EA880819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74B-EB04-4AAD-B1B6-93A03F49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DF9E3-D95D-404E-B20E-4D99C307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7254B-71B0-46EF-BD24-FDAED263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C911D-BA28-483B-8F51-5BE0980A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67F38-B3D6-453F-8CC0-82C1C4E2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E703D-87E2-4E63-98BF-FB4829C8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9BDA7-0A23-4476-A24C-6E1E6FE4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3D40-E54C-492D-B9F4-5367B3BF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52FD9-F1C5-4AEC-82A1-1709976A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33B06-7446-4642-8FE8-7A5F9158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BC0AF-0CFF-4502-9EFE-837D63DC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B5C-824B-4B0C-BFFC-B07F26E5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E1363-551E-40EC-BD9C-4E8B14B6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22BC2-049D-4789-A7AC-AD886284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C1C30-3EA6-4CF4-9113-3E19B32B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88157-691B-4E99-B9E8-53B48C6B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D831F-C127-49C7-B603-70F115E1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4E1A9-3513-4A9A-936B-2A2277CC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C76C1-C602-4002-8D19-4E4D95E7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32C50-DAB8-496E-98B1-C20CBA80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FE962-17CC-41A2-98C7-E6D32D56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88BCB-63F8-4C63-9672-18E581B2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0DD-08B2-4D92-905B-6BB80124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3C7FA-F1B1-423E-91BC-7E0C8026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4D585-B1DB-49A9-9D69-65A47FEE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FBAF9-AFC5-4CFD-AE2B-5C49BF8B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4EC00-528B-494A-899A-24663AB3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E6D5A-F304-4DA5-862D-BBA88920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67FE2-D7C2-4DC8-A387-3A36C7C3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CFC52-7997-45B1-90C9-F1C1324A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6346D-0BEC-4313-AD7D-FCC1721F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C3B57-0398-436B-A06C-FFD55044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8C0EB-5F2C-481C-BC10-1C7D92B6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60E-C492-4296-9CBA-6D94E5D4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96420-3364-4744-9834-AA3D026A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E241C-7980-4020-A522-73193D82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C1DFB-ED89-48B9-8438-5B53BA20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11B9C-6B13-4FFF-ACA1-318985E0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A497D-DD39-45E4-9DB9-907C5DED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57889-DF5C-4D2C-91BF-200AF59C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B4A53-7B6B-45FC-9E5E-720ECA7C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13055-F913-4D1C-85FB-5B573F82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7EBF2-0153-4381-91BE-6526A366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344C2-1D82-48D8-BAC1-1409AD4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CD9-1C2D-413E-B9F9-28B37692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5D71E-B5B3-432C-A160-75BC7EEF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3ED61-ABC9-4D24-8536-A098ACB1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58484-95B7-4C3F-B228-9E1C3F27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48A5A-9FC1-409E-8597-CCFDB058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47200-EBDF-4C9B-A355-F8EF71D6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72EF4-888E-44B1-BC64-0A14F2ED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DBEB7-1A77-46DD-AD10-2A457616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16474-428A-4ADE-8DF0-340F0C1C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D59CF-481B-4829-8131-CAB7A81B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7F44F-0D47-4FCA-888B-B9DE2F42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849-24DD-4056-9D5A-FBC2934B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757A0-A849-4F12-8344-6CE2666F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270E7-B402-4F50-BC24-4A98F8FD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F3550-3200-4F24-9E7D-AB75F443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C3BA1-E21B-4CC7-AF64-52E2C990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96873-CD5B-4278-8657-2C19CB36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66529-1B68-422E-AA75-D9B10218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E206F-8FDB-4FD4-8782-20094F66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06EC0-607F-452F-8B24-B73F625A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60D5B-45FC-4191-81FE-6F6E2351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3ADC2-B678-4927-8A43-A98EE6E4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5442-1921-4686-BFAE-A88BAB6F5A1B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8BBE-5955-473A-A9EA-12B8B8D4277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6113-60EC-4E5A-8445-E3892E391441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3DEB-CD98-441B-8E8E-5D192839C18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4283-DCB7-4166-9B58-0C4278600907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873F-FEE9-4E3D-B979-3C6D8DA81D1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6931-4371-4B6C-8F4E-297A0C6E2F8F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A0FD-2661-4AA9-BCB5-191A40B08D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0C0F-1E17-4294-A0D1-53E7CC6B5C6A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E0D1-710E-4354-B687-4A57FBF9123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C8C0-5FBC-4EA8-9AAA-693785336092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FC6B-3390-46E1-A2D2-C5DE8B31FF3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D372-4664-4D9A-8606-47B06013AEF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8FCA-C352-4051-B7F2-5DF08E326A8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BF9E-7563-41DF-B2EB-F212720EDFF1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351D-B2DC-4C07-8133-D7B135A3301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3373-228C-40F7-B1A8-32CE99DB8025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8FE0-9F3F-4045-BB43-06E7F3FE73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dtl-spb.ru/pictures/osport/atlet/osport_atlet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school16.edu.tomsk.ru/files/Image/sport/f191109-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изические качества -</a:t>
            </a:r>
            <a:endParaRPr b="0" lang="en-US" sz="5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ожденные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генетически унаследованные)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рфофункциональные качеств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я которым возможна физическая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материально выраженная)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сть человек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учающая свое полное проявление в целесообразной двигательной деятельности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3"/>
          <p:cNvSpPr/>
          <p:nvPr/>
        </p:nvSpPr>
        <p:spPr>
          <a:xfrm flipH="1">
            <a:off x="2357280" y="1643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3"/>
          <p:cNvSpPr/>
          <p:nvPr/>
        </p:nvSpPr>
        <p:spPr>
          <a:xfrm>
            <a:off x="0" y="0"/>
            <a:ext cx="93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Franklin Gothic Medium"/>
              </a:rPr>
              <a:t>Задачи развития силовых способн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0" y="85716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00000"/>
                </a:solidFill>
                <a:uFillTx/>
                <a:latin typeface="Franklin Gothic Medium"/>
              </a:rPr>
              <a:t>Первая задача </a:t>
            </a:r>
            <a:r>
              <a:rPr b="0" lang="ru-RU" sz="2400" spc="-1" strike="noStrike">
                <a:solidFill>
                  <a:srgbClr val="c00000"/>
                </a:solidFill>
                <a:latin typeface="Franklin Gothic Medium"/>
              </a:rPr>
              <a:t>– общее гармоническое развитие всех мышечных групп опорно- двигательного аппарата человека. Она решается путем использования избирательных силовых упраж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00000"/>
                </a:solidFill>
                <a:uFillTx/>
                <a:latin typeface="Franklin Gothic Medium"/>
              </a:rPr>
              <a:t>Вторая задача </a:t>
            </a:r>
            <a:r>
              <a:rPr b="0" lang="ru-RU" sz="2400" spc="-1" strike="noStrike">
                <a:solidFill>
                  <a:srgbClr val="c00000"/>
                </a:solidFill>
                <a:latin typeface="Franklin Gothic Medium"/>
              </a:rPr>
              <a:t>-  разностороннее развитие силовых способностей в единстве с освоением жизненно важных двигательных действий( умений и навы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Franklin Gothic Medium"/>
              </a:rPr>
              <a:t>Данная задача предполагает развитие силовых способностей всех основных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00000"/>
                </a:solidFill>
                <a:uFillTx/>
                <a:latin typeface="Franklin Gothic Medium"/>
              </a:rPr>
              <a:t>Третья задача </a:t>
            </a:r>
            <a:r>
              <a:rPr b="0" lang="ru-RU" sz="2400" spc="-1" strike="noStrike">
                <a:solidFill>
                  <a:srgbClr val="c00000"/>
                </a:solidFill>
                <a:latin typeface="Franklin Gothic Medium"/>
              </a:rPr>
              <a:t>-  создание условий и возможностей (базы)  для дальнейшего совершенствования силовых способностей в рамках занятий конкретным видом спорта или в плане профессионально – прикладной физической подготовки. Решение этой задачи позволяет удовлетворить личный интерес в развитии силы с учетом двигательной одаренности, вида спорта или выбранной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142920" y="0"/>
          <a:ext cx="9001080" cy="6858000"/>
        </p:xfrm>
        <a:graphic>
          <a:graphicData uri="http://schemas.openxmlformats.org/drawingml/2006/table">
            <a:tbl>
              <a:tblPr/>
              <a:tblGrid>
                <a:gridCol w="3225600"/>
                <a:gridCol w="2625840"/>
                <a:gridCol w="3149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ОСНОВНЫ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Сре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развит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силов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способнос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ДОПОЛНИТЕЛЬНЫ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.Упражнения, отягощённые весом  собственного 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.Упражнения с использованием внешней ср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.Упражнения с весом внешних предм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.Упражнения с использованием сопротивления упругих предм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.Упражнения с использованием тренажёрных устройств общего ти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.Упражнения с противодействием партнё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.Рывково-тормозные упра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.Изометрические упра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0" name="Rectangle 91"/>
          <p:cNvSpPr/>
          <p:nvPr/>
        </p:nvSpPr>
        <p:spPr>
          <a:xfrm>
            <a:off x="-122400" y="598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0" y="-163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Franklin Gothic Medium"/>
              </a:rPr>
              <a:t>Методы развития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2"/>
          <p:cNvSpPr/>
          <p:nvPr/>
        </p:nvSpPr>
        <p:spPr>
          <a:xfrm>
            <a:off x="0" y="714240"/>
            <a:ext cx="91440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Medium"/>
              </a:rPr>
              <a:t>Метод статических (изометрических) уси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Medium"/>
              </a:rPr>
              <a:t>Статодинамический мет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Medium"/>
              </a:rPr>
              <a:t>Метод круговой тренир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Medium"/>
              </a:rPr>
              <a:t>Игровой мет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Контрольные упражнения (тесты) для определения уровня развития силовых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 практике физического воспитания количественно-силовые возможности оцениваются двумя способа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 помощью измерительных устройс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2) с помощью специальных контрольных упражнений, тестов на с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Прямоугольник 1" descr=""/>
          <p:cNvPicPr/>
          <p:nvPr/>
        </p:nvPicPr>
        <p:blipFill>
          <a:blip r:embed="rId1"/>
          <a:stretch/>
        </p:blipFill>
        <p:spPr>
          <a:xfrm>
            <a:off x="-60480" y="-42840"/>
            <a:ext cx="921096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3"/>
          <p:cNvSpPr/>
          <p:nvPr/>
        </p:nvSpPr>
        <p:spPr>
          <a:xfrm>
            <a:off x="0" y="0"/>
            <a:ext cx="9144000" cy="69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 основным физическим качествам относя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сил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строт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ынослив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гибк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ловкос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70c0"/>
                </a:solidFill>
                <a:latin typeface="Franklin Gothic Medium"/>
              </a:rPr>
              <a:t>СИЛА-</a:t>
            </a:r>
            <a:endParaRPr b="0" lang="en-US" sz="6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214560" y="1071360"/>
            <a:ext cx="93582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Franklin Gothic Book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способность человека преодолевать внешнее сопротивление или противостоять ему за счет мышечных усилий (напряжений)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http://900igr.net/datai/fizkultura/Gimnastika/0015-026-Atleticheskaja-gimnastika.jpg"/>
          <p:cNvPicPr/>
          <p:nvPr/>
        </p:nvPicPr>
        <p:blipFill>
          <a:blip r:embed="rId1"/>
          <a:stretch/>
        </p:blipFill>
        <p:spPr>
          <a:xfrm>
            <a:off x="4643280" y="364320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Franklin Gothic Medium"/>
              </a:rPr>
              <a:t>Абсолютная сила —</a:t>
            </a:r>
            <a:endParaRPr b="0" lang="en-US" sz="5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0" y="100008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это максимальная сила, проявляемая человеком в каком-либо движении, независимо от массы его тел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7" descr="Картинка 162 из 23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4968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4"/>
          <p:cNvSpPr/>
          <p:nvPr/>
        </p:nvSpPr>
        <p:spPr>
          <a:xfrm>
            <a:off x="0" y="2928960"/>
            <a:ext cx="914400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Franklin Gothic Medium"/>
              </a:rPr>
              <a:t>Относительная сила 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это сила, проявляемая человеком в пересчете на 1 кг собственного веса. Она выражается отношением максимальной силы к массе тела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http://coleman.kiev.ua/shared/userfiles/images/KidsFitness2.jpg"/>
          <p:cNvPicPr/>
          <p:nvPr/>
        </p:nvPicPr>
        <p:blipFill>
          <a:blip r:embed="rId3"/>
          <a:stretch/>
        </p:blipFill>
        <p:spPr>
          <a:xfrm>
            <a:off x="7107120" y="5429160"/>
            <a:ext cx="2036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-420840" y="-231840"/>
            <a:ext cx="9571320" cy="13114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-22320" y="1285560"/>
            <a:ext cx="916632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Franklin Gothic Medium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Franklin Gothic Medium"/>
              </a:rPr>
              <a:t>это комплекс различных проявлений человека в определенной двигательной деятельности, в основе которых лежит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Franklin Gothic Medium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Franklin Gothic Medium"/>
              </a:rPr>
              <a:t>понятие «сила»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5" descr="Картинка 273 из 81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3549600"/>
            <a:ext cx="4643280" cy="33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Franklin Gothic Medium"/>
              </a:rPr>
              <a:t>Факторы, влияющие на проявление силовых способностей: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0" y="785880"/>
            <a:ext cx="91440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1) собственно мышеч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2) центрально-нерв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3) личностно психическ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4) физиологические факто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5) биохимиче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6) биомеханическ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Medium"/>
              </a:rPr>
              <a:t>а также различные условия внешней среды, в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Medium"/>
              </a:rPr>
              <a:t>осуществляется двигательн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Схема 4" descr=""/>
          <p:cNvPicPr/>
          <p:nvPr/>
        </p:nvPicPr>
        <p:blipFill>
          <a:blip r:embed="rId1"/>
          <a:stretch/>
        </p:blipFill>
        <p:spPr>
          <a:xfrm>
            <a:off x="-12600" y="-19080"/>
            <a:ext cx="932796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Схема 2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684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0" y="10868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Medium"/>
              </a:rPr>
              <a:t>Самыми благоприятными пери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Medium"/>
              </a:rPr>
              <a:t>( сенситивным периодом) развития си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Franklin Gothic Medium"/>
              </a:rPr>
              <a:t>у мальчиков и юношей считается возраст от 13—14 до 17—18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Franklin Gothic Medium"/>
              </a:rPr>
              <a:t>а у девочек и девушек — от 11—12 до 15—16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чему в немалой степени соответствует доля мышечной массы к общей массе те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(к 10— 11 годам она составляет примерно 23%, к 14—15 годам — 33%, а к 17—18 годам — 45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Наиболее значительные темпы возрастания относительной силы различных мышечных групп наблюдаются в младшем школьном возрасте, особенно у детей от 9 до 11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Medium"/>
              </a:rPr>
              <a:t>Развитие силы - </a:t>
            </a: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это процесс повышения максимально возможного напряжения мыш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5:01:34Z</dcterms:created>
  <dc:creator>Admin</dc:creator>
  <dc:description/>
  <dc:language>en-US</dc:language>
  <cp:lastModifiedBy>admin</cp:lastModifiedBy>
  <dcterms:modified xsi:type="dcterms:W3CDTF">2011-11-13T06:59:24Z</dcterms:modified>
  <cp:revision>67</cp:revision>
  <dc:subject/>
  <dc:title>Слайд 1</dc:title>
</cp:coreProperties>
</file>