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ECC-0AB0-44DA-B453-F45C7490B2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57F-44D6-49B3-A11D-9FAD6DB3B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604-1EB7-4594-A993-C5E22352E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7F27-AABF-4DC5-B41C-0E471A0D9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493-4BC7-4A62-B78A-1BF64E1FA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2588-4491-4681-B996-8AF46986A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30B-FDCF-4448-872E-96C1348C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216-6EEA-4C5A-AEA9-69C2A20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3698-2E7A-480A-AF28-4BEC6DD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03A39-A2DD-4B09-871E-B7E2AA41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EA147-01F3-4292-951C-9020C81C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0ADC0-D5BA-4500-823E-06323DB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81605-9519-4D39-B91D-D1D4FCC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4821F-98E6-4C54-A136-56484AA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F1085-38FE-4CC6-8BF6-1A655D8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C4876-0E62-4C0B-9D6D-F118B3E8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E0672-09C4-4A50-A059-4072032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51A-684D-4D06-8AE5-BC4445B7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9CF-1273-49B8-BBC8-F7AC307A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8D11-6FDB-4187-8BF8-C0C0A90B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AF7-3B73-41FA-A689-C212162F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8ACB-3786-4455-B19A-80FC850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EFDD-A4D8-4519-8B19-5F6F1EC5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C8F-1ECE-40B4-93B9-6BA51A1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B856-41F9-41F2-A4C8-6281189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1D1C-FA7A-489C-88E7-D337986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AD6-BFE2-4446-B219-DCC24A38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CD91-B438-442A-826D-D8B544F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5D0C-D503-4C61-AF8E-74AD56E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A1C-A1F8-4E59-9785-ADF5343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22F-9A3F-4900-B116-04910AF3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E37-88AF-400D-AF9C-979ADF24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4F16-591F-47DC-9EA6-215F585A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86E6-0557-4A90-AFCE-D2847DD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F683-1F85-4FEC-9B83-74019383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83A7-534C-4E5C-8652-1ED99DD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2B63-7B70-4075-83B2-4D3990E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A7F-360D-40CF-86E1-ED329892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FDB9-8253-4A94-882A-F7B7F4F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31E3-2600-48C1-98C9-57A1ED2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6DA5-4B45-4202-B475-82E9BE14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21E1-48FC-4B49-92D1-33AA226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FE04-763A-406F-91BA-F0E1F3D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9B60-4793-47E9-84E4-4CE29F7E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233A-77C6-4D48-BC23-EA9E7FA0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B733-D2BA-4956-B67B-652A7AD5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67F8-4A71-4568-8E0C-C1FAFB2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0104-616D-45CF-8FA6-36B97EE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FBF-6DEF-4E98-AF9B-4B82AB8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A1DE-EF60-434A-B26D-8EF64BCD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6544-E5C0-4C2E-9A45-E8FCECC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05BF-594E-44A5-9106-BD1E496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ECC1-F3D8-49C0-A64E-4280FB3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32F6-89C2-4F98-93C2-F07881F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066E-127D-4922-A0D1-E7C1DA2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85E5-0649-4711-B519-362AEF6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02EC-D482-4FB6-A6CA-9DBAEF19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CFFE-93FB-42FF-B9F3-C79731EA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4C90-8E29-487D-B383-96E5C367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AF9-5781-408D-90E2-A411CD8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471A6-1311-4AFF-8AD5-9276353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9B04-5915-4ED9-8A79-5DB775F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0FB8-DC43-4593-A5CA-9B2E95D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E78B-A467-4726-80DF-F4F0342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C9B2-56E8-41F4-B998-3DF81EE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7812-C17C-4653-9E9C-2117305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7B8A-B1DE-4B9A-B08C-27E0B01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DA48-DD04-4161-A59F-36E248C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D249-9C8D-4C94-82B2-01475E4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7B6E-E543-4CC1-8101-0542D105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A02-986D-4C10-A8F0-D06FE45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3837-8EC3-4E7A-ADC8-D1D61679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ACA0F-0B2E-4967-B4FA-BCE23CA2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6820-FB93-4F03-97DF-A3EBA5B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526E-AE82-4436-A3FE-2DEDC5FE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A2005-93D8-49D8-BC19-8F496DB8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F4B7-70B3-4260-9CD4-B75AC48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5247-FE04-487E-AFD3-42723A5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F205E-149D-4DE6-8D7F-ED3A852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69AE-0D70-487B-8004-05E80C0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4D65-0300-4BAB-B6E8-7D781C3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361-C52D-44FD-87E4-CDAE8CFE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D269-5206-4E1A-911D-AB5D9E74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BE0B-2425-4A9E-8F81-0AA69700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F132-890D-4CCF-8E0B-E55C1B9F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6D1D8-28FD-42CD-A459-59455840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3FC5-225C-41A0-BA84-388DB11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F1293-5C13-41E0-8C98-E32496D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84567-78F7-4BF4-A518-BCC6B58B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B8B7-6D29-41F6-B986-AC7A04B2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EE8C-8502-488A-81A1-C26FF7C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2EB6-C5FC-458E-878D-8C7AA1C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4D8-A985-4A81-B865-C7FFA30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08DE-90B0-4F3B-ACB9-D6EB8AF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A0BB-C7E9-4A48-8BEC-7EE2644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86D6-D055-49EA-B1B9-77ED7E1B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22AC-8E1D-4196-9043-DEA2F298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D94E4-0042-4B75-9FC5-7A99E03A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397D-455F-4296-BCE0-B706800F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4173-BF53-4D57-8B03-661C3C4A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B996-98C4-4DDB-8B57-D1E15D1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FBED-5061-42B7-BD02-E7157201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39807-AF76-4C6A-8569-1C14857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634-53BA-4D15-B0C6-5AD0868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78DE-2C0F-4590-83DB-9F0C64B8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BB1F-6533-4D9C-B9EA-6B3A871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3796-4182-432A-8C7A-A77724F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2444-8736-4526-AC6A-410E921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3B2B4-AE49-40A2-BCE4-6A0CF0F8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80F8-E230-477D-846D-58E39A6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F19B-12F3-41B5-BCF9-FC2A30C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9DFD-F8DF-4336-BE83-32D554A4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14E54-24F1-4CAB-828F-CD4138BA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6E945-2264-4488-BD02-7B1BCC6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486-EE8F-4896-9FC1-443EE4892C7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1105-C9B5-47B2-A857-AC43AD2F39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58D6-0743-4080-AC7B-C9E6C0CE8C5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8A6-24A2-4224-B1B4-CA56D856C7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9B4-34AF-40A7-9050-E6B5B5B0273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0F8-63FA-44B4-A8CF-28F1CE91F8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EF6-5F30-432B-8C19-7D27D646651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14E7-B383-4086-97DE-7FAFE029DC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445F-ADC8-4F4C-A43D-076C1FCF1B6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9FD-6AB5-49ED-A439-3DD91FF164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B84-13AF-43DF-BF5D-4AED80526C0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B313-3C13-401F-A21A-1350F7A6F9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859-3426-45C6-AF2B-3AEEA3E3132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B6B-C387-4A96-A863-627B8AA7E8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E5A-492D-4B84-BE9E-961B42D684D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869-E667-42FF-9172-9807726521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003-98B6-4C5C-BF6F-626BD3A0DF3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54DD-4939-4819-99D8-2D483A82FB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dtl-spb.ru/pictures/osport/atlet/osport_atlet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chool16.edu.tomsk.ru/files/Image/sport/f191109-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 flipH="1">
            <a:off x="2357280" y="1643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0" y="0"/>
            <a:ext cx="93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Задачи развития силовых способ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0" y="8571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Перва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– общее гармоническое развитие всех мышечных групп опорно- двигательного аппарата человека. Она решается путем использования избирательных силовы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Втора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-  разностороннее развитие силовых способностей в единстве с освоением жизненно важных двигательных действий( умений и навы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Данная задача предполагает развитие силовых способностей всех основных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Треть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-  создание условий и возможностей (базы)  для дальнейшего совершенствования силовых способностей в рамках занятий конкретным видом спорта или в плане профессионально – прикладной физической подготовки. Решение этой задачи позволяет удовлетворить личный интерес в развитии силы с учетом двигательной одаренности, вида спорта или выбранной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4292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225600"/>
                <a:gridCol w="2625840"/>
                <a:gridCol w="3149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ОСНОВ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ил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пособ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ДОПОЛНИТЕЛЬ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, отягощённые весом  собственного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 с использованием внешн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весом внешн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использованием сопротивления упруг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использованием тренажёрных устройств общего ти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противодействием партнё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Рывково-тормоз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Изометрически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0" name="Rectangle 91"/>
          <p:cNvSpPr/>
          <p:nvPr/>
        </p:nvSpPr>
        <p:spPr>
          <a:xfrm>
            <a:off x="-122400" y="59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0" y="-163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Методы развития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"/>
          <p:cNvSpPr/>
          <p:nvPr/>
        </p:nvSpPr>
        <p:spPr>
          <a:xfrm>
            <a:off x="0" y="71424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Метод статических (изометрических)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Статодинамически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Метод круговой трен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Игрово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онтрольные упражнения (тесты) для определения уровня развития силов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 практике физического воспитания количественно-силовые возможности оцениваются двумя способ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помощью измерительных устр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) с помощью специальных контрольных упражнений, тестов на 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21096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70c0"/>
                </a:solidFill>
                <a:latin typeface="Franklin Gothic Medium"/>
              </a:rPr>
              <a:t>СИЛА-</a:t>
            </a:r>
            <a:endParaRPr b="0" lang="en-US" sz="6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214560" y="1071360"/>
            <a:ext cx="935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900igr.net/datai/fizkultura/Gimnastika/0015-026-Atleticheskaja-gimnastika.jpg"/>
          <p:cNvPicPr/>
          <p:nvPr/>
        </p:nvPicPr>
        <p:blipFill>
          <a:blip r:embed="rId1"/>
          <a:stretch/>
        </p:blipFill>
        <p:spPr>
          <a:xfrm>
            <a:off x="4643280" y="36432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Абсолютная сила —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100008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максимальная сила, проявляемая человеком в каком-либо движении, независимо от массы его тел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7" descr="Картинка 162 из 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968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0" y="29289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Относительная сила 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сила, проявляемая человеком в пересчете на 1 кг собственного веса. Она выражается отношением максимальной силы к массе тела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http://coleman.kiev.ua/shared/userfiles/images/KidsFitness2.jpg"/>
          <p:cNvPicPr/>
          <p:nvPr/>
        </p:nvPicPr>
        <p:blipFill>
          <a:blip r:embed="rId3"/>
          <a:stretch/>
        </p:blipFill>
        <p:spPr>
          <a:xfrm>
            <a:off x="7107120" y="5429160"/>
            <a:ext cx="2036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-420840" y="-231840"/>
            <a:ext cx="9571320" cy="1311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22320" y="1285560"/>
            <a:ext cx="91663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это комплекс различных проявлений человека в определенной двигательной деятельности, в основе которых лежи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понятие «сила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5" descr="Картинка 273 из 81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549600"/>
            <a:ext cx="464328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Факторы, влияющие на проявление силовых способностей: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785880"/>
            <a:ext cx="9144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1) собственно мыше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2) центрально-нерв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3) личностно психическ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4) физиологические фак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5) биохим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6) биомехан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а также различные условия внешней среды, в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осуществляется двига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Схема 4" descr=""/>
          <p:cNvPicPr/>
          <p:nvPr/>
        </p:nvPicPr>
        <p:blipFill>
          <a:blip r:embed="rId1"/>
          <a:stretch/>
        </p:blipFill>
        <p:spPr>
          <a:xfrm>
            <a:off x="-12600" y="-19080"/>
            <a:ext cx="932796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хема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684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0" y="10868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Самыми благоприятными пери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( сенситивным периодом) развития си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у мальчиков и юношей считается возраст от 13—14 до 17—1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а у девочек и девушек — от 11—12 до 15—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чему в немалой степени соответствует доля мышечной массы к общей массе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(к 10— 11 годам она составляет примерно 23%, к 14—15 годам — 33%, а к 17—18 годам — 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Наиболее значительные темпы возрастания относительной силы различных мышечных групп наблюдаются в младшем школьном возрасте, особенно у детей от 9 до 11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е силы -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это процесс повышения максимально возможного напряжения мыш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4Z</dcterms:created>
  <dc:creator>Admin</dc:creator>
  <dc:description/>
  <dc:language>en-US</dc:language>
  <cp:lastModifiedBy>admin</cp:lastModifiedBy>
  <dcterms:modified xsi:type="dcterms:W3CDTF">2011-11-13T06:59:24Z</dcterms:modified>
  <cp:revision>67</cp:revision>
  <dc:subject/>
  <dc:title>Слайд 1</dc:title>
</cp:coreProperties>
</file>