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7.png" ContentType="image/png"/>
  <Override PartName="/ppt/media/image55.jpeg" ContentType="image/jpeg"/>
  <Override PartName="/ppt/media/image54.jpeg" ContentType="image/jpeg"/>
  <Override PartName="/ppt/media/image33.png" ContentType="image/png"/>
  <Override PartName="/ppt/media/image22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56.jpeg" ContentType="image/jpeg"/>
  <Override PartName="/ppt/media/image3.png" ContentType="image/png"/>
  <Override PartName="/ppt/media/image18.jpeg" ContentType="image/jpeg"/>
  <Override PartName="/ppt/media/image65.jpeg" ContentType="image/jpeg"/>
  <Override PartName="/ppt/media/image8.jpeg" ContentType="image/jpeg"/>
  <Override PartName="/ppt/media/image64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61.jpeg" ContentType="image/jpeg"/>
  <Override PartName="/ppt/media/image50.jpeg" ContentType="image/jpeg"/>
  <Override PartName="/ppt/media/image60.png" ContentType="image/png"/>
  <Override PartName="/ppt/media/image63.jpeg" ContentType="image/jpeg"/>
  <Override PartName="/ppt/media/image51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1.png" ContentType="image/png"/>
  <Override PartName="/ppt/media/image1.jpeg" ContentType="image/jpeg"/>
  <Override PartName="/ppt/media/image62.jpeg" ContentType="image/jpeg"/>
  <Override PartName="/ppt/media/image7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35.png" ContentType="image/pn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36.png" ContentType="image/png"/>
  <Override PartName="/ppt/media/image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7.jpeg" ContentType="image/jpeg"/>
  <Override PartName="/ppt/media/image44.jpeg" ContentType="image/jpeg"/>
  <Override PartName="/ppt/media/image45.jpeg" ContentType="image/jpeg"/>
  <Override PartName="/ppt/media/image58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1307-733D-4451-8A8E-1FA6E11A59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CD8B-2CA7-4E04-AC9B-836CA5DFE97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4816-D2D9-4AE2-BDDB-7C25D842B56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27A8-DCF3-4530-892A-D72CE42F8E7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4742-3F06-440D-A882-60FAA2F0E2E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6435-FCCB-4AFF-ADE3-FD7C44326D3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3036-A155-4D30-8B0F-488C5DA4784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15D5-AE8D-480D-9A3A-1328D346B78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078B-1C1A-4AE0-8FA7-F8D517D725E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3A53-7148-4056-AB78-420F15E0C28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552-0BCF-47C1-9526-7CC6464A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E41-88E2-43FB-AEF9-9E652F2E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AD21DB-8E52-4F8B-AB27-5B0D0626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FAC9DA-BABF-4EAB-814C-6FD2295F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C117DE-30D3-4072-86B2-C5CCDC4F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DBD2C2-5D01-47D8-9700-DC081955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DF7CFF-5D2A-4869-9CFD-58EBFF1C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DD817F-58E8-4CAD-AE5C-F89A2F9C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7CA810-36DF-4564-8672-28A26F37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1AAD27-F646-431F-9BCD-58CA5D23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FC34DC-98A4-4E21-B0EA-5D887E00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27BE-518D-48B7-94B2-FF5FC4CD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D4F-A85A-4101-87D7-F06E476F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873D3-B7E5-4838-89E7-19DCB5E0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A63C9-B6C5-4E4A-95B1-57701D21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CCBDC-1415-49E3-99A7-06952801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E60D4-B2EB-4A3B-88DA-F97E8F22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ADEE4-0355-476D-B0DC-C39A9F31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58FB6-1A5A-4578-9502-15039608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E033A-C512-415C-90E9-D7905A08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999-AC23-4623-BD07-C4A414A9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F47BB-B430-45AD-AEB3-2AEE27F2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86779-A8EB-4F7F-B324-4570D7CF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4FEF1-DFA4-4993-B8E1-EF13F18C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5F197-4656-4918-AC16-D3FBC988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3EA52-20BC-4E01-8D2F-56841E0F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6F0A5-921C-4CA9-8AC7-77DD8141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AFB26-24BE-429C-AC0A-EDBA47DB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B5C66-31F0-4B1B-B42C-6D90127F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0141C-DBBF-4F2C-B8E9-C185133E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8B252-FCE6-4E08-A76D-93ED8FC2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B563-951D-4492-B03E-FFBB1304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7E161-1416-40E4-8559-D28576DF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45950-3556-4F35-9D11-31A721C6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A8007-A879-436F-B306-50C71208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05097-68D2-4C49-96D5-DDAAD66E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48D44-0C42-4FAD-B511-ED3DF4F5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54471-2351-4B06-8A9A-98103973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A836D-0D96-40F6-9172-947E4F57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4180EB-961A-4DDA-B2AD-A29D6D7E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EDC23-4B20-4557-BEC6-57BC5D83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FE591D-AE50-4C25-AC4A-0929A386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E31-F449-4575-89BF-B43938E8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6248DF-E992-4244-9088-E957A48D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8ACF2E-BC96-4038-A348-D84307F2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AB8083-A384-4CC0-89A5-688C5B7D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DA9961-708F-4839-A304-32045F3C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0B53FA-52FA-4316-9734-1ED3BAB1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1E832C-B9FD-4F90-BAE6-B07D9D6D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020BFD-671A-4191-A5F9-7C52899E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DED45C-13F8-4C07-9129-CCBB8445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C13A00-5680-4700-BC46-B6591D20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E774E-310E-488F-ADEB-C9B00522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4905-2D66-47E1-809F-69EAAE91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70619-D684-49A8-8169-ECC9A292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BCBD1-21F4-4AA8-AE1C-34BFA44C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DA441-025C-48B5-ADBC-3B69612D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EB397-BC28-4B14-8647-E1662EB7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6D70B-DECE-4833-907B-76AAB90C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83942-EBF9-42AF-8B4F-7B2CC505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BF747-9AB0-4ACF-ABA1-AC6D03AB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35959-AD36-47C6-BCC5-D51564C7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C171D-DE80-4C46-8C5E-A0EFB7CB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6F3C4-6FF0-49FE-B0C3-54DBA1FB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6CD-E390-401A-BB56-B126B26D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43A61-9DB2-4F83-95B4-72C5275C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8CFA9-F1E7-4DEC-91E8-5D717E06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A4E91-6772-495E-8ED3-7D1F5EF9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F673E-AADB-4E44-9703-47952E2C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21538-AD3B-4222-8A56-BB48EB07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796C5-42FB-4027-AED5-4E1FE13C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2D04F-41D8-4D9B-9CFF-3E5266B7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03287-2C0E-404F-921A-0691DF9A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CCC89-2399-4B6E-82F1-0917D07C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6729A-979D-464C-AFDD-88E8C1C6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B5A-BE4D-4D3A-A0D2-04223D99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46362-1CD8-43BD-BEEC-A46FD787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93B78-99B0-4370-B56B-E04F1CC9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E72CF-EADA-4CC5-8104-AE35A800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3B0E2-DE87-4173-860C-7927FCA7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E1D46-738F-4ABB-B6B6-02F71558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1DFD9-D1CF-4836-A3DA-105459ED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ED217-DBC5-48D9-8F94-F8D6F561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12A86-E0C6-439E-ADF8-34942D0C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DE3A3-2C8C-4A2B-A795-49820AFA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323E0-5B8B-4119-A620-91C76D34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3EF9-E302-486E-BA4F-252CEAD9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B394B-20C2-4005-B168-E5DF0A04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43143-0F7E-4E7D-8150-92C6BF3A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DA441-387C-439F-AD46-5366325E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E2C68-6636-41A1-A7A9-2D636CF4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1E955-B6C8-4A37-87AF-B6A7E8F3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BE8028-CA46-43CF-B9AE-A26420A4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8FE0D0-C0C0-4A94-9FBC-852D8F62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139FAC-00BF-43C2-9024-655D5FF3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DBA925-77FF-400D-B241-95F7AB2A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AC734F-2F40-4C98-B3D5-DA414DFC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6E5-F648-45F9-9E3A-9DA9C5A9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351ACB-2CCE-4441-A065-EBD5D70F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D96E96-1763-4BE1-B431-FB28B1D3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239C8A-4928-40E5-9845-AD335CAC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65FCB9-4B05-4C03-8D87-B6A11264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83E6C1-230B-4854-9598-D24F8999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FB5457-7467-4B8A-A411-5D9239F8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2479E1-E6AD-4214-AF98-DC6498CD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E0D1C8-644B-44DE-80E8-07EE8086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28CBE2-0B61-4E14-B4BB-BDDD9E6C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6D1319-2901-42DB-A3C0-E940C14E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9261-3CFC-4725-B04B-03F22473E035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AC17-F4F6-43F9-A083-10AB033618B9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FDDF-C67F-4A1E-BA77-9C6E2E51A75F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453B-272F-41F6-B28C-95750C8FBC35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7196-B804-4AFC-8A4A-CCBE78E31B5C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84C0-371C-4D29-8A66-1C8C4DA5A27E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5097-F30E-4237-9D30-B31149A1DA30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C826-236C-4B0F-A55B-34B654D94649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E0EA-D302-4FBA-87A9-4983364A0427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png"/><Relationship Id="rId16" Type="http://schemas.openxmlformats.org/officeDocument/2006/relationships/image" Target="../media/image22.jpeg"/><Relationship Id="rId17" Type="http://schemas.openxmlformats.org/officeDocument/2006/relationships/image" Target="../media/image23.jpeg"/><Relationship Id="rId18" Type="http://schemas.openxmlformats.org/officeDocument/2006/relationships/image" Target="../media/image24.jpeg"/><Relationship Id="rId19" Type="http://schemas.openxmlformats.org/officeDocument/2006/relationships/image" Target="../media/image25.jpeg"/><Relationship Id="rId20" Type="http://schemas.openxmlformats.org/officeDocument/2006/relationships/image" Target="../media/image26.jpeg"/><Relationship Id="rId21" Type="http://schemas.openxmlformats.org/officeDocument/2006/relationships/image" Target="../media/image27.jpeg"/><Relationship Id="rId22" Type="http://schemas.openxmlformats.org/officeDocument/2006/relationships/image" Target="../media/image28.jpeg"/><Relationship Id="rId23" Type="http://schemas.openxmlformats.org/officeDocument/2006/relationships/image" Target="../media/image29.jpeg"/><Relationship Id="rId24" Type="http://schemas.openxmlformats.org/officeDocument/2006/relationships/image" Target="../media/image30.jpeg"/><Relationship Id="rId25" Type="http://schemas.openxmlformats.org/officeDocument/2006/relationships/image" Target="../media/image31.jpeg"/><Relationship Id="rId26" Type="http://schemas.openxmlformats.org/officeDocument/2006/relationships/image" Target="../media/image32.jpeg"/><Relationship Id="rId27" Type="http://schemas.openxmlformats.org/officeDocument/2006/relationships/image" Target="../media/image33.png"/><Relationship Id="rId28" Type="http://schemas.openxmlformats.org/officeDocument/2006/relationships/image" Target="../media/image34.png"/><Relationship Id="rId29" Type="http://schemas.openxmlformats.org/officeDocument/2006/relationships/slideLayout" Target="../slideLayouts/slideLayout25.xml"/><Relationship Id="rId3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image" Target="../media/image51.jpeg"/><Relationship Id="rId11" Type="http://schemas.openxmlformats.org/officeDocument/2006/relationships/image" Target="../media/image52.jpeg"/><Relationship Id="rId12" Type="http://schemas.openxmlformats.org/officeDocument/2006/relationships/image" Target="../media/image53.jpeg"/><Relationship Id="rId13" Type="http://schemas.openxmlformats.org/officeDocument/2006/relationships/image" Target="../media/image54.jpeg"/><Relationship Id="rId14" Type="http://schemas.openxmlformats.org/officeDocument/2006/relationships/image" Target="../media/image55.jpeg"/><Relationship Id="rId15" Type="http://schemas.openxmlformats.org/officeDocument/2006/relationships/image" Target="../media/image56.jpeg"/><Relationship Id="rId16" Type="http://schemas.openxmlformats.org/officeDocument/2006/relationships/slideLayout" Target="../slideLayouts/slideLayout2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643960" cy="22190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370512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mbria"/>
              </a:rPr>
              <a:t>С использованием лоскутных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mbria"/>
              </a:rPr>
              <a:t>техник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МО Ленинский район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Ватутинская СОШ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Учитель технологи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Иовенко Татьяна Юрьев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Рисунок 3" descr="Наука и жизнь // Иллюстрации"/>
          <p:cNvPicPr/>
          <p:nvPr/>
        </p:nvPicPr>
        <p:blipFill>
          <a:blip r:embed="rId2"/>
          <a:stretch/>
        </p:blipFill>
        <p:spPr>
          <a:xfrm>
            <a:off x="109440" y="3481560"/>
            <a:ext cx="5273640" cy="3035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1" descr=""/>
          <p:cNvPicPr/>
          <p:nvPr/>
        </p:nvPicPr>
        <p:blipFill>
          <a:blip r:embed="rId1"/>
          <a:stretch/>
        </p:blipFill>
        <p:spPr>
          <a:xfrm>
            <a:off x="1189080" y="128520"/>
            <a:ext cx="7845480" cy="13096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F:\DCIM\100CASIO\лоскутная тех курсы\CIMG1901.JPG"/>
          <p:cNvPicPr/>
          <p:nvPr/>
        </p:nvPicPr>
        <p:blipFill>
          <a:blip r:embed="rId2"/>
          <a:stretch/>
        </p:blipFill>
        <p:spPr>
          <a:xfrm>
            <a:off x="6286680" y="1785960"/>
            <a:ext cx="2143080" cy="25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63" name="Picture 5" descr="F:\DCIM\100CASIO\лоскутная тех курсы\CIMG1904.JPG"/>
          <p:cNvPicPr/>
          <p:nvPr/>
        </p:nvPicPr>
        <p:blipFill>
          <a:blip r:embed="rId3"/>
          <a:stretch/>
        </p:blipFill>
        <p:spPr>
          <a:xfrm>
            <a:off x="4214880" y="4572000"/>
            <a:ext cx="4286160" cy="1500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64" name="Picture 6" descr="F:\DCIM\100CASIO\лоскутная тех курсы\CIMG1911.JPG"/>
          <p:cNvPicPr/>
          <p:nvPr/>
        </p:nvPicPr>
        <p:blipFill>
          <a:blip r:embed="rId4"/>
          <a:stretch/>
        </p:blipFill>
        <p:spPr>
          <a:xfrm>
            <a:off x="642960" y="1785960"/>
            <a:ext cx="2859120" cy="223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65" name="Picture 7" descr="F:\DCIM\100CASIO\лоскутная тех курсы\CIMG1917.JPG"/>
          <p:cNvPicPr/>
          <p:nvPr/>
        </p:nvPicPr>
        <p:blipFill>
          <a:blip r:embed="rId5"/>
          <a:stretch/>
        </p:blipFill>
        <p:spPr>
          <a:xfrm>
            <a:off x="3857760" y="2071800"/>
            <a:ext cx="1857240" cy="214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66" name="fpGalleryMainImg_117" descr="http://tl-patchwork.narod.ru/SUMKI_PICTURES/Image11.jpg"/>
          <p:cNvPicPr/>
          <p:nvPr/>
        </p:nvPicPr>
        <p:blipFill>
          <a:blip r:embed="rId6"/>
          <a:stretch/>
        </p:blipFill>
        <p:spPr>
          <a:xfrm>
            <a:off x="857160" y="4429080"/>
            <a:ext cx="257184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5360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714680"/>
            <a:ext cx="822960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ambria"/>
              </a:rPr>
              <a:t>Принадлежность чего-нибудь</a:t>
            </a:r>
            <a:r>
              <a:rPr b="0" lang="en-US" sz="5400" spc="-1" strike="noStrike">
                <a:solidFill>
                  <a:srgbClr val="ffff00"/>
                </a:solidFill>
                <a:latin typeface="Rockwell"/>
              </a:rPr>
              <a:t>;</a:t>
            </a:r>
            <a:r>
              <a:rPr b="0" lang="ru-RU" sz="5400" spc="-1" strike="noStrike">
                <a:solidFill>
                  <a:srgbClr val="ffff00"/>
                </a:solidFill>
                <a:latin typeface="Cambria"/>
              </a:rPr>
              <a:t> сопутствующий чего-нибудь предмет </a:t>
            </a:r>
            <a:r>
              <a:rPr b="0" lang="ru-RU" sz="5400" spc="-1" strike="noStrike">
                <a:solidFill>
                  <a:srgbClr val="ffff00"/>
                </a:solidFill>
                <a:latin typeface="Cambria"/>
              </a:rPr>
              <a:t>	</a:t>
            </a:r>
            <a:r>
              <a:rPr b="0" lang="ru-RU" sz="5400" spc="-1" strike="noStrike">
                <a:solidFill>
                  <a:srgbClr val="ffff00"/>
                </a:solidFill>
                <a:latin typeface="Cambria"/>
              </a:rPr>
              <a:t>(Аксессуары одежды).</a:t>
            </a:r>
            <a:endParaRPr b="0" lang="en-US" sz="5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Толковый словарь. С. И. Ожегов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650440" cy="12380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Users\Татьяна\Documents\Мои результаты сканирования\2010-05 (май)\сканирование0015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743280" y="1500120"/>
            <a:ext cx="1614600" cy="30718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C:\Users\Татьяна\Documents\Мои результаты сканирования\2010-05 (май)\сканирование0018.jpg"/>
          <p:cNvPicPr/>
          <p:nvPr/>
        </p:nvPicPr>
        <p:blipFill>
          <a:blip r:embed="rId3"/>
          <a:stretch/>
        </p:blipFill>
        <p:spPr>
          <a:xfrm>
            <a:off x="5857920" y="5429160"/>
            <a:ext cx="792000" cy="10717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C:\Users\Татьяна\Documents\Мои результаты сканирования\2010-05 (май)\сканирование0018.jpg"/>
          <p:cNvPicPr/>
          <p:nvPr/>
        </p:nvPicPr>
        <p:blipFill>
          <a:blip r:embed="rId4"/>
          <a:stretch/>
        </p:blipFill>
        <p:spPr>
          <a:xfrm>
            <a:off x="1928880" y="4786200"/>
            <a:ext cx="1071360" cy="943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C:\Users\Татьяна\Documents\Мои результаты сканирования\2010-05 (май)\сканирование0019.jpg"/>
          <p:cNvPicPr/>
          <p:nvPr/>
        </p:nvPicPr>
        <p:blipFill>
          <a:blip r:embed="rId5"/>
          <a:stretch/>
        </p:blipFill>
        <p:spPr>
          <a:xfrm>
            <a:off x="500040" y="3214800"/>
            <a:ext cx="1042920" cy="869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C:\Users\Татьяна\Documents\Мои результаты сканирования\2010-05 (май)\сканирование0022.jpg"/>
          <p:cNvPicPr/>
          <p:nvPr/>
        </p:nvPicPr>
        <p:blipFill>
          <a:blip r:embed="rId6"/>
          <a:stretch/>
        </p:blipFill>
        <p:spPr>
          <a:xfrm>
            <a:off x="3429000" y="1928880"/>
            <a:ext cx="712800" cy="6429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4" descr="C:\Users\Татьяна\Documents\Мои результаты сканирования\2010-05 (май)\сканирование0023.jpg"/>
          <p:cNvPicPr/>
          <p:nvPr/>
        </p:nvPicPr>
        <p:blipFill>
          <a:blip r:embed="rId7"/>
          <a:stretch/>
        </p:blipFill>
        <p:spPr>
          <a:xfrm>
            <a:off x="428760" y="5357880"/>
            <a:ext cx="1422360" cy="1131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6" descr="C:\Users\Татьяна\Documents\Мои результаты сканирования\2010-05 (май)\сканирование0025.jpg"/>
          <p:cNvPicPr/>
          <p:nvPr/>
        </p:nvPicPr>
        <p:blipFill>
          <a:blip r:embed="rId8"/>
          <a:stretch/>
        </p:blipFill>
        <p:spPr>
          <a:xfrm>
            <a:off x="2571840" y="5857920"/>
            <a:ext cx="836640" cy="7905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7" descr="C:\Users\Татьяна\Documents\Мои результаты сканирования\2010-05 (май)\сканирование0026.jpg"/>
          <p:cNvPicPr/>
          <p:nvPr/>
        </p:nvPicPr>
        <p:blipFill>
          <a:blip r:embed="rId9"/>
          <a:stretch/>
        </p:blipFill>
        <p:spPr>
          <a:xfrm>
            <a:off x="285840" y="1500120"/>
            <a:ext cx="1341360" cy="1548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8" descr="C:\Users\Татьяна\Documents\Мои результаты сканирования\2010-05 (май)\сканирование0027.jpg"/>
          <p:cNvPicPr/>
          <p:nvPr/>
        </p:nvPicPr>
        <p:blipFill>
          <a:blip r:embed="rId10"/>
          <a:stretch/>
        </p:blipFill>
        <p:spPr>
          <a:xfrm>
            <a:off x="1928880" y="3000240"/>
            <a:ext cx="1062000" cy="13575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9" descr="C:\Users\Татьяна\Documents\Мои результаты сканирования\2010-05 (май)\сканирование0028.jpg"/>
          <p:cNvPicPr/>
          <p:nvPr/>
        </p:nvPicPr>
        <p:blipFill>
          <a:blip r:embed="rId11"/>
          <a:stretch/>
        </p:blipFill>
        <p:spPr>
          <a:xfrm>
            <a:off x="642960" y="421488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0" descr="C:\Users\Татьяна\Documents\Мои результаты сканирования\2010-05 (май)\сканирование0030.jpg"/>
          <p:cNvPicPr/>
          <p:nvPr/>
        </p:nvPicPr>
        <p:blipFill>
          <a:blip r:embed="rId12"/>
          <a:stretch/>
        </p:blipFill>
        <p:spPr>
          <a:xfrm>
            <a:off x="7572240" y="178596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1" descr="C:\Users\Татьяна\Documents\Мои результаты сканирования\2010-05 (май)\сканирование0029.jpg"/>
          <p:cNvPicPr/>
          <p:nvPr/>
        </p:nvPicPr>
        <p:blipFill>
          <a:blip r:embed="rId13"/>
          <a:stretch/>
        </p:blipFill>
        <p:spPr>
          <a:xfrm>
            <a:off x="2000160" y="1571760"/>
            <a:ext cx="1059120" cy="13572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2" descr="C:\Users\Татьяна\Documents\Мои результаты сканирования\2010-05 (май)\сканирование0031.jpg"/>
          <p:cNvPicPr/>
          <p:nvPr/>
        </p:nvPicPr>
        <p:blipFill>
          <a:blip r:embed="rId14"/>
          <a:stretch/>
        </p:blipFill>
        <p:spPr>
          <a:xfrm>
            <a:off x="2643120" y="4572000"/>
            <a:ext cx="860400" cy="714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0" descr="D:\Документы\Мои рисунки\Организатор клипов (Microsoft)\j0331473.wmf"/>
          <p:cNvPicPr/>
          <p:nvPr/>
        </p:nvPicPr>
        <p:blipFill>
          <a:blip r:embed="rId15"/>
          <a:stretch/>
        </p:blipFill>
        <p:spPr>
          <a:xfrm>
            <a:off x="7601040" y="3816360"/>
            <a:ext cx="1347840" cy="10843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4" descr="C:\Users\Татьяна\Documents\Мои результаты сканирования\2010-05 (май)\сканирование0040.jpg"/>
          <p:cNvPicPr/>
          <p:nvPr/>
        </p:nvPicPr>
        <p:blipFill>
          <a:blip r:embed="rId16"/>
          <a:stretch/>
        </p:blipFill>
        <p:spPr>
          <a:xfrm>
            <a:off x="5500800" y="1571760"/>
            <a:ext cx="1139760" cy="1285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5" descr="C:\Users\Татьяна\Documents\Мои результаты сканирования\2010-05 (май)\сканирование0039.jpg"/>
          <p:cNvPicPr/>
          <p:nvPr/>
        </p:nvPicPr>
        <p:blipFill>
          <a:blip r:embed="rId17"/>
          <a:stretch/>
        </p:blipFill>
        <p:spPr>
          <a:xfrm>
            <a:off x="6429240" y="3429000"/>
            <a:ext cx="1254240" cy="142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6" descr="C:\Users\Татьяна\Documents\Мои результаты сканирования\2010-05 (май)\сканирование0037.jpg"/>
          <p:cNvPicPr/>
          <p:nvPr/>
        </p:nvPicPr>
        <p:blipFill>
          <a:blip r:embed="rId18"/>
          <a:stretch/>
        </p:blipFill>
        <p:spPr>
          <a:xfrm>
            <a:off x="5357880" y="5072040"/>
            <a:ext cx="817560" cy="790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8" descr="C:\Users\Татьяна\Documents\Мои результаты сканирования\2010-05 (май)\сканирование0035.jpg"/>
          <p:cNvPicPr/>
          <p:nvPr/>
        </p:nvPicPr>
        <p:blipFill>
          <a:blip r:embed="rId19"/>
          <a:stretch/>
        </p:blipFill>
        <p:spPr>
          <a:xfrm>
            <a:off x="5857920" y="3429000"/>
            <a:ext cx="1071360" cy="612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9" descr="C:\Users\Татьяна\Documents\Мои результаты сканирования\2010-05 (май)\сканирование0034.jpg"/>
          <p:cNvPicPr/>
          <p:nvPr/>
        </p:nvPicPr>
        <p:blipFill>
          <a:blip r:embed="rId20"/>
          <a:stretch/>
        </p:blipFill>
        <p:spPr>
          <a:xfrm>
            <a:off x="3286080" y="3571920"/>
            <a:ext cx="1000080" cy="7621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3" descr="C:\Users\Татьяна\Documents\Мои результаты сканирования\2010-05 (май)\сканирование0044.jpg"/>
          <p:cNvPicPr/>
          <p:nvPr/>
        </p:nvPicPr>
        <p:blipFill>
          <a:blip r:embed="rId21"/>
          <a:stretch/>
        </p:blipFill>
        <p:spPr>
          <a:xfrm>
            <a:off x="4143240" y="5715000"/>
            <a:ext cx="1160640" cy="8571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7" descr="C:\Users\Татьяна\Documents\Мои результаты сканирования\2010-05 (май)\сканирование0036.jpg"/>
          <p:cNvPicPr/>
          <p:nvPr/>
        </p:nvPicPr>
        <p:blipFill>
          <a:blip r:embed="rId22"/>
          <a:stretch/>
        </p:blipFill>
        <p:spPr>
          <a:xfrm>
            <a:off x="3714840" y="4929120"/>
            <a:ext cx="888840" cy="10843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4" descr="C:\Users\Татьяна\Documents\Мои результаты сканирования\2010-05 (май)\сканирование0042.jpg"/>
          <p:cNvPicPr/>
          <p:nvPr/>
        </p:nvPicPr>
        <p:blipFill>
          <a:blip r:embed="rId23"/>
          <a:stretch/>
        </p:blipFill>
        <p:spPr>
          <a:xfrm>
            <a:off x="7429680" y="3000240"/>
            <a:ext cx="1147680" cy="1071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5" descr="C:\Users\Татьяна\Documents\Мои результаты сканирования\2010-05 (май)\сканирование0038.jpg"/>
          <p:cNvPicPr/>
          <p:nvPr/>
        </p:nvPicPr>
        <p:blipFill>
          <a:blip r:embed="rId24"/>
          <a:stretch/>
        </p:blipFill>
        <p:spPr>
          <a:xfrm>
            <a:off x="6786720" y="5500800"/>
            <a:ext cx="1676160" cy="9666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7" descr="C:\Users\Татьяна\Documents\Мои результаты сканирования\2010-05 (май)\сканирование0045.jpg"/>
          <p:cNvPicPr/>
          <p:nvPr/>
        </p:nvPicPr>
        <p:blipFill>
          <a:blip r:embed="rId25"/>
          <a:stretch/>
        </p:blipFill>
        <p:spPr>
          <a:xfrm>
            <a:off x="7715160" y="4929120"/>
            <a:ext cx="1003320" cy="9288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8" descr="C:\Users\Татьяна\Documents\Мои результаты сканирования\2010-05 (май)\сканирование0041.jpg"/>
          <p:cNvPicPr/>
          <p:nvPr/>
        </p:nvPicPr>
        <p:blipFill>
          <a:blip r:embed="rId26"/>
          <a:stretch/>
        </p:blipFill>
        <p:spPr>
          <a:xfrm>
            <a:off x="4786200" y="4000680"/>
            <a:ext cx="1025640" cy="10000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0" descr="D:\Документы\Мои рисунки\Организатор клипов (Microsoft)\j0113276.wmf"/>
          <p:cNvPicPr/>
          <p:nvPr/>
        </p:nvPicPr>
        <p:blipFill>
          <a:blip r:embed="rId27"/>
          <a:stretch/>
        </p:blipFill>
        <p:spPr>
          <a:xfrm>
            <a:off x="7215120" y="4786200"/>
            <a:ext cx="984240" cy="8780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2" descr="D:\Документы\Мои рисунки\Организатор клипов (Microsoft)\j0113470.wmf"/>
          <p:cNvPicPr/>
          <p:nvPr/>
        </p:nvPicPr>
        <p:blipFill>
          <a:blip r:embed="rId28"/>
          <a:stretch/>
        </p:blipFill>
        <p:spPr>
          <a:xfrm>
            <a:off x="8325000" y="5500800"/>
            <a:ext cx="81900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3" descr=""/>
          <p:cNvPicPr/>
          <p:nvPr/>
        </p:nvPicPr>
        <p:blipFill>
          <a:blip r:embed="rId1"/>
          <a:stretch/>
        </p:blipFill>
        <p:spPr>
          <a:xfrm>
            <a:off x="457200" y="-6480"/>
            <a:ext cx="8547120" cy="173844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3395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Сотворить буквально из нечего – кусочков ткани, обрезков меха, лент,  кружев, тесьмы, пуговиц и ещё из всякой всячины…  Самое главное – дать  волю своей фантазии!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C:\Users\Татьяна\Documents\Мои результаты сканирования\2010-05 (май)\сканирование0100.jpg"/>
          <p:cNvPicPr/>
          <p:nvPr/>
        </p:nvPicPr>
        <p:blipFill>
          <a:blip r:embed="rId2"/>
          <a:stretch/>
        </p:blipFill>
        <p:spPr>
          <a:xfrm>
            <a:off x="642960" y="1857240"/>
            <a:ext cx="1990800" cy="27860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438" name="Picture 5" descr="C:\Users\Татьяна\Documents\Мои результаты сканирования\2010-05 (май)\сканирование0101.jpg"/>
          <p:cNvPicPr/>
          <p:nvPr/>
        </p:nvPicPr>
        <p:blipFill>
          <a:blip r:embed="rId3"/>
          <a:stretch/>
        </p:blipFill>
        <p:spPr>
          <a:xfrm>
            <a:off x="5929200" y="2000160"/>
            <a:ext cx="2527560" cy="3500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439" name="Picture 6" descr="C:\Users\Татьяна\Documents\Мои результаты сканирования\2010-05 (май)\сканирование0102.jpg"/>
          <p:cNvPicPr/>
          <p:nvPr/>
        </p:nvPicPr>
        <p:blipFill>
          <a:blip r:embed="rId4"/>
          <a:stretch/>
        </p:blipFill>
        <p:spPr>
          <a:xfrm>
            <a:off x="3282840" y="1785960"/>
            <a:ext cx="2075040" cy="30002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440" name="Picture 3" descr="C:\Users\Татьяна\Documents\Мои результаты сканирования\2010-05 (май)\сканирование0099.jpg"/>
          <p:cNvPicPr/>
          <p:nvPr/>
        </p:nvPicPr>
        <p:blipFill>
          <a:blip r:embed="rId5"/>
          <a:stretch/>
        </p:blipFill>
        <p:spPr>
          <a:xfrm>
            <a:off x="5000760" y="4500720"/>
            <a:ext cx="1874880" cy="18572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C:\Users\Татьяна\Documents\Мои результаты сканирования\2010-05 (май)\сканирование0098.jpg"/>
          <p:cNvPicPr/>
          <p:nvPr/>
        </p:nvPicPr>
        <p:blipFill>
          <a:blip r:embed="rId6"/>
          <a:stretch/>
        </p:blipFill>
        <p:spPr>
          <a:xfrm>
            <a:off x="1714680" y="4286160"/>
            <a:ext cx="1984320" cy="207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353880" y="30240"/>
            <a:ext cx="7180560" cy="1481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C:\Users\Татьяна\Documents\Мои результаты сканирования\2010-05 (май)\сканирование0003.jpg"/>
          <p:cNvPicPr/>
          <p:nvPr/>
        </p:nvPicPr>
        <p:blipFill>
          <a:blip r:embed="rId2"/>
          <a:stretch/>
        </p:blipFill>
        <p:spPr>
          <a:xfrm>
            <a:off x="7500960" y="3429000"/>
            <a:ext cx="1413000" cy="1571760"/>
          </a:xfrm>
          <a:prstGeom prst="rect">
            <a:avLst/>
          </a:prstGeom>
          <a:ln w="28440">
            <a:solidFill>
              <a:srgbClr val="101022"/>
            </a:solidFill>
            <a:miter/>
          </a:ln>
        </p:spPr>
      </p:pic>
      <p:pic>
        <p:nvPicPr>
          <p:cNvPr id="444" name="Picture 3" descr="C:\Users\Татьяна\Documents\Мои результаты сканирования\2010-05 (май)\сканирование0004.jpg"/>
          <p:cNvPicPr/>
          <p:nvPr/>
        </p:nvPicPr>
        <p:blipFill>
          <a:blip r:embed="rId3"/>
          <a:stretch/>
        </p:blipFill>
        <p:spPr>
          <a:xfrm>
            <a:off x="363600" y="1643040"/>
            <a:ext cx="1351080" cy="1714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45" name="Рисунок 6" descr="http://content.foto.mail.ru/mail/yakimovaas/145/i-166.jpg"/>
          <p:cNvPicPr/>
          <p:nvPr/>
        </p:nvPicPr>
        <p:blipFill>
          <a:blip r:embed="rId4"/>
          <a:stretch/>
        </p:blipFill>
        <p:spPr>
          <a:xfrm>
            <a:off x="3786120" y="1857240"/>
            <a:ext cx="1928880" cy="1500480"/>
          </a:xfrm>
          <a:prstGeom prst="rect">
            <a:avLst/>
          </a:prstGeom>
          <a:ln w="28440">
            <a:solidFill>
              <a:srgbClr val="101022"/>
            </a:solidFill>
            <a:miter/>
          </a:ln>
        </p:spPr>
      </p:pic>
      <p:pic>
        <p:nvPicPr>
          <p:cNvPr id="446" name="Рисунок 7" descr="http://content.foto.mail.ru/mail/sw_tochka/1486/i-1553.jpg"/>
          <p:cNvPicPr/>
          <p:nvPr/>
        </p:nvPicPr>
        <p:blipFill>
          <a:blip r:embed="rId5"/>
          <a:stretch/>
        </p:blipFill>
        <p:spPr>
          <a:xfrm>
            <a:off x="2000160" y="4071960"/>
            <a:ext cx="1214640" cy="2428920"/>
          </a:xfrm>
          <a:prstGeom prst="rect">
            <a:avLst/>
          </a:prstGeom>
          <a:ln w="28440">
            <a:solidFill>
              <a:srgbClr val="101022"/>
            </a:solidFill>
            <a:miter/>
          </a:ln>
        </p:spPr>
      </p:pic>
      <p:pic>
        <p:nvPicPr>
          <p:cNvPr id="447" name="Рисунок 8" descr="http://www.quilters.ru/30web.jpg"/>
          <p:cNvPicPr/>
          <p:nvPr/>
        </p:nvPicPr>
        <p:blipFill>
          <a:blip r:embed="rId6"/>
          <a:stretch/>
        </p:blipFill>
        <p:spPr>
          <a:xfrm>
            <a:off x="2071800" y="1643040"/>
            <a:ext cx="1428480" cy="1714680"/>
          </a:xfrm>
          <a:prstGeom prst="rect">
            <a:avLst/>
          </a:prstGeom>
          <a:ln w="28440">
            <a:solidFill>
              <a:srgbClr val="101022"/>
            </a:solidFill>
            <a:miter/>
          </a:ln>
        </p:spPr>
      </p:pic>
      <p:pic>
        <p:nvPicPr>
          <p:cNvPr id="448" name="Рисунок 10" descr="http://www.quilters.ru/zs-13.jpg"/>
          <p:cNvPicPr/>
          <p:nvPr/>
        </p:nvPicPr>
        <p:blipFill>
          <a:blip r:embed="rId7"/>
          <a:stretch/>
        </p:blipFill>
        <p:spPr>
          <a:xfrm>
            <a:off x="5072040" y="3643200"/>
            <a:ext cx="857160" cy="1143000"/>
          </a:xfrm>
          <a:prstGeom prst="rect">
            <a:avLst/>
          </a:prstGeom>
          <a:ln w="28440">
            <a:solidFill>
              <a:srgbClr val="101022"/>
            </a:solidFill>
            <a:miter/>
          </a:ln>
        </p:spPr>
      </p:pic>
      <p:pic>
        <p:nvPicPr>
          <p:cNvPr id="449" name="Рисунок 9" descr="http://www.quilters.ru/img073-1w.jpg"/>
          <p:cNvPicPr/>
          <p:nvPr/>
        </p:nvPicPr>
        <p:blipFill>
          <a:blip r:embed="rId8"/>
          <a:stretch/>
        </p:blipFill>
        <p:spPr>
          <a:xfrm>
            <a:off x="6072120" y="3500280"/>
            <a:ext cx="1360440" cy="1214640"/>
          </a:xfrm>
          <a:prstGeom prst="rect">
            <a:avLst/>
          </a:prstGeom>
          <a:ln w="28440">
            <a:solidFill>
              <a:srgbClr val="101022"/>
            </a:solidFill>
            <a:miter/>
          </a:ln>
        </p:spPr>
      </p:pic>
      <p:pic>
        <p:nvPicPr>
          <p:cNvPr id="450" name="Picture 5" descr="C:\Users\Татьяна\Documents\Татьяна Лазарева - копия\татьяна Лазарева (25).jpg"/>
          <p:cNvPicPr/>
          <p:nvPr/>
        </p:nvPicPr>
        <p:blipFill>
          <a:blip r:embed="rId9"/>
          <a:stretch/>
        </p:blipFill>
        <p:spPr>
          <a:xfrm>
            <a:off x="7643880" y="1928880"/>
            <a:ext cx="1041480" cy="1285920"/>
          </a:xfrm>
          <a:prstGeom prst="rect">
            <a:avLst/>
          </a:prstGeom>
          <a:ln w="19080">
            <a:solidFill>
              <a:srgbClr val="101022"/>
            </a:solidFill>
            <a:miter/>
          </a:ln>
        </p:spPr>
      </p:pic>
      <p:pic>
        <p:nvPicPr>
          <p:cNvPr id="451" name="Picture 6" descr="C:\Users\Татьяна\Documents\Татьяна Лазарева - копия\татьяна Лазарева (21).jpg"/>
          <p:cNvPicPr/>
          <p:nvPr/>
        </p:nvPicPr>
        <p:blipFill>
          <a:blip r:embed="rId10"/>
          <a:stretch/>
        </p:blipFill>
        <p:spPr>
          <a:xfrm>
            <a:off x="6357960" y="2000160"/>
            <a:ext cx="1071720" cy="1273320"/>
          </a:xfrm>
          <a:prstGeom prst="rect">
            <a:avLst/>
          </a:prstGeom>
          <a:ln w="28440">
            <a:solidFill>
              <a:srgbClr val="101022"/>
            </a:solidFill>
            <a:miter/>
          </a:ln>
        </p:spPr>
      </p:pic>
      <p:pic>
        <p:nvPicPr>
          <p:cNvPr id="452" name="Picture 7" descr="C:\Users\Татьяна\Documents\Татьяна Лазарева - копия\татьяна Лазарева (4).jpg"/>
          <p:cNvPicPr/>
          <p:nvPr/>
        </p:nvPicPr>
        <p:blipFill>
          <a:blip r:embed="rId11"/>
          <a:stretch/>
        </p:blipFill>
        <p:spPr>
          <a:xfrm>
            <a:off x="3429000" y="4071960"/>
            <a:ext cx="1498680" cy="2428920"/>
          </a:xfrm>
          <a:prstGeom prst="rect">
            <a:avLst/>
          </a:prstGeom>
          <a:ln w="28440">
            <a:solidFill>
              <a:srgbClr val="101022"/>
            </a:solidFill>
            <a:miter/>
          </a:ln>
        </p:spPr>
      </p:pic>
      <p:pic>
        <p:nvPicPr>
          <p:cNvPr id="453" name="Picture 8" descr="C:\Users\Татьяна\Documents\Материал ТТР л+в\ЛОСКУТ\лоскут соврем\Волова.JPG"/>
          <p:cNvPicPr/>
          <p:nvPr/>
        </p:nvPicPr>
        <p:blipFill>
          <a:blip r:embed="rId12"/>
          <a:stretch/>
        </p:blipFill>
        <p:spPr>
          <a:xfrm>
            <a:off x="285840" y="4071960"/>
            <a:ext cx="1500120" cy="2428920"/>
          </a:xfrm>
          <a:prstGeom prst="rect">
            <a:avLst/>
          </a:prstGeom>
          <a:ln w="28440">
            <a:solidFill>
              <a:srgbClr val="101022"/>
            </a:solidFill>
            <a:miter/>
          </a:ln>
        </p:spPr>
      </p:pic>
      <p:pic>
        <p:nvPicPr>
          <p:cNvPr id="454" name="Picture 10" descr="C:\Users\Татьяна\Documents\Материал ТТР л+в\ЛОСКУТ\лоскут соврем\Сухова (2).JPG"/>
          <p:cNvPicPr/>
          <p:nvPr/>
        </p:nvPicPr>
        <p:blipFill>
          <a:blip r:embed="rId13"/>
          <a:stretch/>
        </p:blipFill>
        <p:spPr>
          <a:xfrm>
            <a:off x="7072200" y="5429160"/>
            <a:ext cx="1622520" cy="1000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55" name="Рисунок 18" descr="http://www.quilters.ru/_0_pictures/2006_2007/05w.jpg"/>
          <p:cNvPicPr/>
          <p:nvPr/>
        </p:nvPicPr>
        <p:blipFill>
          <a:blip r:embed="rId14"/>
          <a:stretch/>
        </p:blipFill>
        <p:spPr>
          <a:xfrm>
            <a:off x="7429680" y="285840"/>
            <a:ext cx="1380960" cy="150012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9" descr="http://www.quilters.ru/9web.jpg"/>
          <p:cNvPicPr/>
          <p:nvPr/>
        </p:nvPicPr>
        <p:blipFill>
          <a:blip r:embed="rId15"/>
          <a:stretch/>
        </p:blipFill>
        <p:spPr>
          <a:xfrm>
            <a:off x="5286240" y="5072040"/>
            <a:ext cx="1500480" cy="1214640"/>
          </a:xfrm>
          <a:prstGeom prst="rect">
            <a:avLst/>
          </a:prstGeom>
          <a:ln w="28440">
            <a:solidFill>
              <a:srgbClr val="10102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714240" y="642600"/>
            <a:ext cx="7786800" cy="5529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« Чтобы сделать что-нибудь, нужно не так уж много сил, вот чтобы решить, что именно сделать, нужно действительно огромная сила.»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К. Хаббард.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4992840" y="244440"/>
            <a:ext cx="3730320" cy="147492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3" descr="D:\труды\Scan0513201mm0_105336.bmp"/>
          <p:cNvPicPr/>
          <p:nvPr/>
        </p:nvPicPr>
        <p:blipFill>
          <a:blip r:embed="rId2"/>
          <a:stretch/>
        </p:blipFill>
        <p:spPr>
          <a:xfrm>
            <a:off x="539640" y="476280"/>
            <a:ext cx="4969080" cy="612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Рисунок 1" descr="D:\труды\Scan05102010_0630d2bb.JPG"/>
          <p:cNvPicPr/>
          <p:nvPr/>
        </p:nvPicPr>
        <p:blipFill>
          <a:blip r:embed="rId1"/>
          <a:stretch/>
        </p:blipFill>
        <p:spPr>
          <a:xfrm>
            <a:off x="2484360" y="476280"/>
            <a:ext cx="4608720" cy="6056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6:16:59Z</dcterms:created>
  <dc:creator>Татьяна</dc:creator>
  <dc:description/>
  <dc:language>en-US</dc:language>
  <cp:lastModifiedBy>Татьяна</cp:lastModifiedBy>
  <dcterms:modified xsi:type="dcterms:W3CDTF">2011-12-11T09:26:53Z</dcterms:modified>
  <cp:revision>204</cp:revision>
  <dc:subject/>
  <dc:title>Создание аксессуаров</dc:title>
</cp:coreProperties>
</file>