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7.png" ContentType="image/png"/>
  <Override PartName="/ppt/media/image55.jpeg" ContentType="image/jpeg"/>
  <Override PartName="/ppt/media/image54.jpeg" ContentType="image/jpeg"/>
  <Override PartName="/ppt/media/image33.png" ContentType="image/png"/>
  <Override PartName="/ppt/media/image22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65.jpeg" ContentType="image/jpeg"/>
  <Override PartName="/ppt/media/image8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60.png" ContentType="image/png"/>
  <Override PartName="/ppt/media/image63.jpeg" ContentType="image/jpeg"/>
  <Override PartName="/ppt/media/image51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png" ContentType="image/png"/>
  <Override PartName="/ppt/media/image1.jpeg" ContentType="image/jpeg"/>
  <Override PartName="/ppt/media/image62.jpeg" ContentType="image/jpeg"/>
  <Override PartName="/ppt/media/image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35.png" ContentType="image/pn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6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7.jpeg" ContentType="image/jpe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694E-FD28-4ABD-A101-151AE7249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4CE3-D2DE-42CE-A5CF-11605D594C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7DD6-8A49-4636-B2BE-B78A7AE90E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0614-9C25-4AF9-89C6-F5F1DE884E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4B11-7336-4804-84D6-9373734A8BF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547-62AF-40B7-945E-889D976DDDC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D38A-E16D-4526-A78A-9CA76E199F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5AAF-ECC1-4562-BAA8-6AF18CC538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D560-B178-416F-8883-63D6122FC5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0B43-AA6B-4447-93B4-A21012BA120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1F0-1291-496B-9173-240B18EC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DA8-DD02-4F20-A76B-B6CEB3A1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3BEFCE-8675-4085-8103-6721F276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C3B826-23C2-4410-99DF-7D855BF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EE0941-F942-44CE-8471-281EE8EB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E88B90-7E1F-4B58-8A71-C1965978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1C9608-A00D-46D7-97B0-C843561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82AE34-AF37-4ED8-B110-87D58187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6ECCF-471A-4CB0-8199-E77AB3AC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10CB01-AB01-4409-A001-BA18253D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818560-98AD-4660-9F42-4FE4A058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240-6D92-43CB-B4B2-6809692A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990-6139-47EA-8353-49D25848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E0A98-0C04-44DE-857F-C9FC7A4F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273F6-E027-4F39-91BB-DF04055A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0DCEF-3CFA-48A2-84D9-107A6167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9ACCF-10ED-4DCD-955A-75EC15F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AEB1-90E1-447C-AB4E-9D52816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7CEED-7B64-4BFC-9871-18973BC3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5C801-025E-4FB3-B075-ED707400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BB6-3130-4A4B-814F-7D8267DC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37A6A-0881-45B6-A329-EB9C6806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DA567-8ED1-463E-8047-9FE47F4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41953-8BB9-4E7E-8B6C-8B190583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977FF-3F6F-4D53-9AF1-89F6369E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2BD76-9A82-4235-AAF0-1B847670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A363-7765-48F9-91AB-684BCE27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B8B2-6E5D-4DED-949B-F490535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D663-CC33-4130-8B60-A3A1C32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2343-4ABE-4609-A62A-BEE50E52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5B14-90E9-448D-AE32-CFDEB520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6D7-5940-4565-A2EF-FE5B6E19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4A67-2CB4-4E3E-A5FA-8CFBCB19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0212-11D7-4E5B-9BC6-C3D6AFA1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2B54-2A79-48E2-8BA1-7DDA6F24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86CA-5045-4E14-8D29-54AD813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894F-BF36-48C4-ADF5-FECD2166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677B-FBBD-4F82-8EA5-C003716C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6D25-2BAC-4703-B3E1-DE2ACC6C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D5426-EBF9-4814-B38E-39BB16DD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ADFBE-FF56-48A0-9405-B9A8F9DD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D9C26-A9BB-49D9-96CE-18B5B39C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006-80E4-497F-BA45-3132B36B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2082F-D892-45DB-AA73-83EBACA4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EB08F-A21A-412E-AA22-E4C067E9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40D29-9CF2-49AB-90FA-FBE59336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C1A5D-3773-418B-838B-FB71682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7F8BB-EC9D-48B4-B45A-70AE824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592B5-9A6B-4458-89FF-A1BA36B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892E2-6719-4A63-B4F5-1C40D121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28E34-B35C-4642-9493-35BF2A68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7A3BB-8A11-419E-B562-BDEDC7B5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AF1D-A794-49B1-9845-555E1F55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BFE-C295-4765-9CD3-D1129F70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5FFD-B1A0-4A3C-8D7A-D7BFA32F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ED40D-99F0-43C0-9F38-5F016CCB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816F3-E07F-4F4E-BA8F-652152D8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CFCB6-5498-4DA8-9E0D-8140FA87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3EDF5-D10A-4168-A7A0-9FB39FE4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D7653-D20C-4FFC-89B7-118DBEF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73680-A9DF-44A8-8593-BFEE390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3959-692D-4BED-870E-7077C8E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6AB9C-488B-4CD4-B1F0-F0EF6BDA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4EE0-C8EA-482F-BD9B-AB863ADA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075-293A-48BC-BA68-CE00BEC1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CBC4-F7DE-4FF8-B55C-F607B7D6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4A07E-65A3-4D63-A557-7BF33652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672F4-38E4-4FD9-A3D3-C05D6560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9076-BC61-49A8-AC9B-2E34A4C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564E8-BDA0-4E9C-8B81-7DEE2560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24A91-2A18-4EA6-BFB8-43B9C7E6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4E299-B7F0-40AD-8A4D-A2FB9327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DDAFB-ACA1-4689-B66C-DA62087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9486F-C8E6-48A0-A78E-B698DE22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181D-933F-4F5F-BF31-97FD8E2B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0F6-7FF3-4CD4-9C2A-E0FBF1A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2002-4673-49C6-933B-351236F2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066D3-62E5-4B47-9A97-9A7DF96A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58E45-72E0-4676-9DB1-A6E8ADC4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18862-8076-457B-B19E-CD9B123B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C22F9-798E-4889-8E55-889F4038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CE9C-310D-4620-81F8-FAD5FBC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89131-81C5-4959-B752-92A00EB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EEB13-2058-4659-A0EB-86DFFACF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D6E80-F8CA-4E92-849D-C317DBDC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DF3E-5099-4E4D-8F6C-5D6F5EC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13D-D126-486C-AF50-5AC6306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7B1CB-8F1A-45F9-A5E5-058DF2A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41F2-1710-4BA2-83AF-75C3101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897F2-D72E-4E4C-93D7-9284D32C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484A5-D6D0-4C3E-A874-77743DB8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2529C-1D23-4969-9B74-A3774676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EA0C0-CD81-44D8-A915-31C0C652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2FDE7-40AB-4C27-9DDE-6284AC89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1FF71F-C776-4F22-9CD7-074B56DB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090492-B1E2-4432-AFBD-2F2DCE57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6378B-9368-4FF8-A88D-9A40878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939-78FF-4E9D-B55F-6B07F6E6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59DCE0-B0B3-49F1-BFFA-D0866B94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945B5-AE2C-4DC7-8035-EBB301D4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BAB925-2E0C-4057-AC2E-C431385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697D01-AF75-43BA-97C4-F07DE97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474786-B4ED-427B-9363-B07A1213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4387B-7B0B-4ED2-81C1-2BA0B276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DEFD1E-9C5C-469C-8074-73B6EDAC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609E0-7663-427E-8198-70AA2B11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93DE9-E8EA-4AB0-80C1-4549F90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91A379-0C75-4296-8157-7D92888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86A0-9835-4BDC-9D49-478C038785EA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B692-D960-4D9C-A790-A8BD2F4771DA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FC25-7FB7-4FDB-A9B4-DE22DB683977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8405-899E-4FEE-8356-3DD6E5DF5D75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C67D-ABA9-414E-B712-A4102BF152F1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85B-14DC-4035-9E26-99CC6A0CBC51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30B9-82E7-4526-8840-D693F0CBB4FD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53548a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F958-570E-4B80-BA95-51222D6D6498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4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4d4d4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438086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fafb5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fafb5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4d4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68D6-8027-47A0-A6C5-EE8AF3AC4E49}" type="slidenum">
              <a:rPr b="0" lang="ru-RU" sz="1600" spc="-1" strike="noStrike">
                <a:solidFill>
                  <a:srgbClr val="d4d4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image" Target="../media/image27.jpeg"/><Relationship Id="rId22" Type="http://schemas.openxmlformats.org/officeDocument/2006/relationships/image" Target="../media/image28.jpeg"/><Relationship Id="rId23" Type="http://schemas.openxmlformats.org/officeDocument/2006/relationships/image" Target="../media/image29.jpeg"/><Relationship Id="rId24" Type="http://schemas.openxmlformats.org/officeDocument/2006/relationships/image" Target="../media/image30.jpeg"/><Relationship Id="rId25" Type="http://schemas.openxmlformats.org/officeDocument/2006/relationships/image" Target="../media/image31.jpeg"/><Relationship Id="rId26" Type="http://schemas.openxmlformats.org/officeDocument/2006/relationships/image" Target="../media/image32.jpe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slideLayout" Target="../slideLayouts/slideLayout25.xml"/><Relationship Id="rId3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image" Target="../media/image52.jpeg"/><Relationship Id="rId12" Type="http://schemas.openxmlformats.org/officeDocument/2006/relationships/image" Target="../media/image53.jpeg"/><Relationship Id="rId13" Type="http://schemas.openxmlformats.org/officeDocument/2006/relationships/image" Target="../media/image54.jpeg"/><Relationship Id="rId14" Type="http://schemas.openxmlformats.org/officeDocument/2006/relationships/image" Target="../media/image55.jpeg"/><Relationship Id="rId15" Type="http://schemas.openxmlformats.org/officeDocument/2006/relationships/image" Target="../media/image56.jpe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43960" cy="221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370512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С использованием лоскутных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mbria"/>
              </a:rPr>
              <a:t>техник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О Ленинский район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Ватутинская СОШ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Иовенко Татьяна Юрье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Рисунок 3" descr="Наука и жизнь // Иллюстрации"/>
          <p:cNvPicPr/>
          <p:nvPr/>
        </p:nvPicPr>
        <p:blipFill>
          <a:blip r:embed="rId2"/>
          <a:stretch/>
        </p:blipFill>
        <p:spPr>
          <a:xfrm>
            <a:off x="109440" y="3481560"/>
            <a:ext cx="527364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1189080" y="128520"/>
            <a:ext cx="7845480" cy="1309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F:\DCIM\100CASIO\лоскутная тех курсы\CIMG1901.JPG"/>
          <p:cNvPicPr/>
          <p:nvPr/>
        </p:nvPicPr>
        <p:blipFill>
          <a:blip r:embed="rId2"/>
          <a:stretch/>
        </p:blipFill>
        <p:spPr>
          <a:xfrm>
            <a:off x="6286680" y="1785960"/>
            <a:ext cx="2143080" cy="25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3" name="Picture 5" descr="F:\DCIM\100CASIO\лоскутная тех курсы\CIMG1904.JPG"/>
          <p:cNvPicPr/>
          <p:nvPr/>
        </p:nvPicPr>
        <p:blipFill>
          <a:blip r:embed="rId3"/>
          <a:stretch/>
        </p:blipFill>
        <p:spPr>
          <a:xfrm>
            <a:off x="4214880" y="4572000"/>
            <a:ext cx="4286160" cy="1500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4" name="Picture 6" descr="F:\DCIM\100CASIO\лоскутная тех курсы\CIMG1911.JPG"/>
          <p:cNvPicPr/>
          <p:nvPr/>
        </p:nvPicPr>
        <p:blipFill>
          <a:blip r:embed="rId4"/>
          <a:stretch/>
        </p:blipFill>
        <p:spPr>
          <a:xfrm>
            <a:off x="642960" y="1785960"/>
            <a:ext cx="2859120" cy="223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5" name="Picture 7" descr="F:\DCIM\100CASIO\лоскутная тех курсы\CIMG1917.JPG"/>
          <p:cNvPicPr/>
          <p:nvPr/>
        </p:nvPicPr>
        <p:blipFill>
          <a:blip r:embed="rId5"/>
          <a:stretch/>
        </p:blipFill>
        <p:spPr>
          <a:xfrm>
            <a:off x="3857760" y="2071800"/>
            <a:ext cx="1857240" cy="214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66" name="fpGalleryMainImg_117" descr="http://tl-patchwork.narod.ru/SUMKI_PICTURES/Image11.jpg"/>
          <p:cNvPicPr/>
          <p:nvPr/>
        </p:nvPicPr>
        <p:blipFill>
          <a:blip r:embed="rId6"/>
          <a:stretch/>
        </p:blipFill>
        <p:spPr>
          <a:xfrm>
            <a:off x="857160" y="4429080"/>
            <a:ext cx="25718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536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714680"/>
            <a:ext cx="8229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mbria"/>
              </a:rPr>
              <a:t>Принадлежность чего-нибудь</a:t>
            </a:r>
            <a:r>
              <a:rPr b="0" lang="en-US" sz="5400" spc="-1" strike="noStrike">
                <a:solidFill>
                  <a:srgbClr val="ffff00"/>
                </a:solidFill>
                <a:latin typeface="Rockwell"/>
              </a:rPr>
              <a:t>;</a:t>
            </a:r>
            <a:r>
              <a:rPr b="0" lang="ru-RU" sz="5400" spc="-1" strike="noStrike">
                <a:solidFill>
                  <a:srgbClr val="ffff00"/>
                </a:solidFill>
                <a:latin typeface="Cambria"/>
              </a:rPr>
              <a:t> сопутствующий чего-нибудь предмет </a:t>
            </a:r>
            <a:r>
              <a:rPr b="0" lang="ru-RU" sz="5400" spc="-1" strike="noStrike">
                <a:solidFill>
                  <a:srgbClr val="ffff00"/>
                </a:solidFill>
                <a:latin typeface="Cambria"/>
              </a:rPr>
              <a:t>	</a:t>
            </a:r>
            <a:r>
              <a:rPr b="0" lang="ru-RU" sz="5400" spc="-1" strike="noStrike">
                <a:solidFill>
                  <a:srgbClr val="ffff00"/>
                </a:solidFill>
                <a:latin typeface="Cambria"/>
              </a:rPr>
              <a:t>(Аксессуары одежды).</a:t>
            </a:r>
            <a:endParaRPr b="0" lang="en-US" sz="5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лковый словарь. С. И. Ожегов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650440" cy="1238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Татьяна\Documents\Мои результаты сканирования\2010-05 (май)\сканирование0015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743280" y="1500120"/>
            <a:ext cx="1614600" cy="3071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C:\Users\Татьяна\Documents\Мои результаты сканирования\2010-05 (май)\сканирование0018.jpg"/>
          <p:cNvPicPr/>
          <p:nvPr/>
        </p:nvPicPr>
        <p:blipFill>
          <a:blip r:embed="rId3"/>
          <a:stretch/>
        </p:blipFill>
        <p:spPr>
          <a:xfrm>
            <a:off x="5857920" y="5429160"/>
            <a:ext cx="792000" cy="1071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C:\Users\Татьяна\Documents\Мои результаты сканирования\2010-05 (май)\сканирование0018.jpg"/>
          <p:cNvPicPr/>
          <p:nvPr/>
        </p:nvPicPr>
        <p:blipFill>
          <a:blip r:embed="rId4"/>
          <a:stretch/>
        </p:blipFill>
        <p:spPr>
          <a:xfrm>
            <a:off x="1928880" y="4786200"/>
            <a:ext cx="1071360" cy="943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C:\Users\Татьяна\Documents\Мои результаты сканирования\2010-05 (май)\сканирование0019.jpg"/>
          <p:cNvPicPr/>
          <p:nvPr/>
        </p:nvPicPr>
        <p:blipFill>
          <a:blip r:embed="rId5"/>
          <a:stretch/>
        </p:blipFill>
        <p:spPr>
          <a:xfrm>
            <a:off x="500040" y="3214800"/>
            <a:ext cx="1042920" cy="869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C:\Users\Татьяна\Documents\Мои результаты сканирования\2010-05 (май)\сканирование0022.jpg"/>
          <p:cNvPicPr/>
          <p:nvPr/>
        </p:nvPicPr>
        <p:blipFill>
          <a:blip r:embed="rId6"/>
          <a:stretch/>
        </p:blipFill>
        <p:spPr>
          <a:xfrm>
            <a:off x="3429000" y="1928880"/>
            <a:ext cx="712800" cy="642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" descr="C:\Users\Татьяна\Documents\Мои результаты сканирования\2010-05 (май)\сканирование0023.jpg"/>
          <p:cNvPicPr/>
          <p:nvPr/>
        </p:nvPicPr>
        <p:blipFill>
          <a:blip r:embed="rId7"/>
          <a:stretch/>
        </p:blipFill>
        <p:spPr>
          <a:xfrm>
            <a:off x="428760" y="5357880"/>
            <a:ext cx="1422360" cy="1131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6" descr="C:\Users\Татьяна\Documents\Мои результаты сканирования\2010-05 (май)\сканирование0025.jpg"/>
          <p:cNvPicPr/>
          <p:nvPr/>
        </p:nvPicPr>
        <p:blipFill>
          <a:blip r:embed="rId8"/>
          <a:stretch/>
        </p:blipFill>
        <p:spPr>
          <a:xfrm>
            <a:off x="2571840" y="5857920"/>
            <a:ext cx="836640" cy="790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7" descr="C:\Users\Татьяна\Documents\Мои результаты сканирования\2010-05 (май)\сканирование0026.jpg"/>
          <p:cNvPicPr/>
          <p:nvPr/>
        </p:nvPicPr>
        <p:blipFill>
          <a:blip r:embed="rId9"/>
          <a:stretch/>
        </p:blipFill>
        <p:spPr>
          <a:xfrm>
            <a:off x="285840" y="1500120"/>
            <a:ext cx="1341360" cy="154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8" descr="C:\Users\Татьяна\Documents\Мои результаты сканирования\2010-05 (май)\сканирование0027.jpg"/>
          <p:cNvPicPr/>
          <p:nvPr/>
        </p:nvPicPr>
        <p:blipFill>
          <a:blip r:embed="rId10"/>
          <a:stretch/>
        </p:blipFill>
        <p:spPr>
          <a:xfrm>
            <a:off x="1928880" y="3000240"/>
            <a:ext cx="1062000" cy="135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9" descr="C:\Users\Татьяна\Documents\Мои результаты сканирования\2010-05 (май)\сканирование0028.jpg"/>
          <p:cNvPicPr/>
          <p:nvPr/>
        </p:nvPicPr>
        <p:blipFill>
          <a:blip r:embed="rId11"/>
          <a:stretch/>
        </p:blipFill>
        <p:spPr>
          <a:xfrm>
            <a:off x="642960" y="42148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0" descr="C:\Users\Татьяна\Documents\Мои результаты сканирования\2010-05 (май)\сканирование0030.jpg"/>
          <p:cNvPicPr/>
          <p:nvPr/>
        </p:nvPicPr>
        <p:blipFill>
          <a:blip r:embed="rId12"/>
          <a:stretch/>
        </p:blipFill>
        <p:spPr>
          <a:xfrm>
            <a:off x="7572240" y="178596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1" descr="C:\Users\Татьяна\Documents\Мои результаты сканирования\2010-05 (май)\сканирование0029.jpg"/>
          <p:cNvPicPr/>
          <p:nvPr/>
        </p:nvPicPr>
        <p:blipFill>
          <a:blip r:embed="rId13"/>
          <a:stretch/>
        </p:blipFill>
        <p:spPr>
          <a:xfrm>
            <a:off x="2000160" y="1571760"/>
            <a:ext cx="1059120" cy="1357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2" descr="C:\Users\Татьяна\Documents\Мои результаты сканирования\2010-05 (май)\сканирование0031.jpg"/>
          <p:cNvPicPr/>
          <p:nvPr/>
        </p:nvPicPr>
        <p:blipFill>
          <a:blip r:embed="rId14"/>
          <a:stretch/>
        </p:blipFill>
        <p:spPr>
          <a:xfrm>
            <a:off x="2643120" y="4572000"/>
            <a:ext cx="860400" cy="714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D:\Документы\Мои рисунки\Организатор клипов (Microsoft)\j0331473.wmf"/>
          <p:cNvPicPr/>
          <p:nvPr/>
        </p:nvPicPr>
        <p:blipFill>
          <a:blip r:embed="rId15"/>
          <a:stretch/>
        </p:blipFill>
        <p:spPr>
          <a:xfrm>
            <a:off x="7601040" y="3816360"/>
            <a:ext cx="1347840" cy="1084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4" descr="C:\Users\Татьяна\Documents\Мои результаты сканирования\2010-05 (май)\сканирование0040.jpg"/>
          <p:cNvPicPr/>
          <p:nvPr/>
        </p:nvPicPr>
        <p:blipFill>
          <a:blip r:embed="rId16"/>
          <a:stretch/>
        </p:blipFill>
        <p:spPr>
          <a:xfrm>
            <a:off x="5500800" y="1571760"/>
            <a:ext cx="1139760" cy="1285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5" descr="C:\Users\Татьяна\Documents\Мои результаты сканирования\2010-05 (май)\сканирование0039.jpg"/>
          <p:cNvPicPr/>
          <p:nvPr/>
        </p:nvPicPr>
        <p:blipFill>
          <a:blip r:embed="rId17"/>
          <a:stretch/>
        </p:blipFill>
        <p:spPr>
          <a:xfrm>
            <a:off x="6429240" y="3429000"/>
            <a:ext cx="1254240" cy="142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6" descr="C:\Users\Татьяна\Documents\Мои результаты сканирования\2010-05 (май)\сканирование0037.jpg"/>
          <p:cNvPicPr/>
          <p:nvPr/>
        </p:nvPicPr>
        <p:blipFill>
          <a:blip r:embed="rId18"/>
          <a:stretch/>
        </p:blipFill>
        <p:spPr>
          <a:xfrm>
            <a:off x="5357880" y="5072040"/>
            <a:ext cx="817560" cy="790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8" descr="C:\Users\Татьяна\Documents\Мои результаты сканирования\2010-05 (май)\сканирование0035.jpg"/>
          <p:cNvPicPr/>
          <p:nvPr/>
        </p:nvPicPr>
        <p:blipFill>
          <a:blip r:embed="rId19"/>
          <a:stretch/>
        </p:blipFill>
        <p:spPr>
          <a:xfrm>
            <a:off x="5857920" y="3429000"/>
            <a:ext cx="1071360" cy="61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9" descr="C:\Users\Татьяна\Documents\Мои результаты сканирования\2010-05 (май)\сканирование0034.jpg"/>
          <p:cNvPicPr/>
          <p:nvPr/>
        </p:nvPicPr>
        <p:blipFill>
          <a:blip r:embed="rId20"/>
          <a:stretch/>
        </p:blipFill>
        <p:spPr>
          <a:xfrm>
            <a:off x="3286080" y="3571920"/>
            <a:ext cx="1000080" cy="762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3" descr="C:\Users\Татьяна\Documents\Мои результаты сканирования\2010-05 (май)\сканирование0044.jpg"/>
          <p:cNvPicPr/>
          <p:nvPr/>
        </p:nvPicPr>
        <p:blipFill>
          <a:blip r:embed="rId21"/>
          <a:stretch/>
        </p:blipFill>
        <p:spPr>
          <a:xfrm>
            <a:off x="4143240" y="5715000"/>
            <a:ext cx="1160640" cy="8571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7" descr="C:\Users\Татьяна\Documents\Мои результаты сканирования\2010-05 (май)\сканирование0036.jpg"/>
          <p:cNvPicPr/>
          <p:nvPr/>
        </p:nvPicPr>
        <p:blipFill>
          <a:blip r:embed="rId22"/>
          <a:stretch/>
        </p:blipFill>
        <p:spPr>
          <a:xfrm>
            <a:off x="3714840" y="4929120"/>
            <a:ext cx="888840" cy="1084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4" descr="C:\Users\Татьяна\Documents\Мои результаты сканирования\2010-05 (май)\сканирование0042.jpg"/>
          <p:cNvPicPr/>
          <p:nvPr/>
        </p:nvPicPr>
        <p:blipFill>
          <a:blip r:embed="rId23"/>
          <a:stretch/>
        </p:blipFill>
        <p:spPr>
          <a:xfrm>
            <a:off x="7429680" y="3000240"/>
            <a:ext cx="1147680" cy="1071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5" descr="C:\Users\Татьяна\Documents\Мои результаты сканирования\2010-05 (май)\сканирование0038.jpg"/>
          <p:cNvPicPr/>
          <p:nvPr/>
        </p:nvPicPr>
        <p:blipFill>
          <a:blip r:embed="rId24"/>
          <a:stretch/>
        </p:blipFill>
        <p:spPr>
          <a:xfrm>
            <a:off x="6786720" y="5500800"/>
            <a:ext cx="1676160" cy="966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7" descr="C:\Users\Татьяна\Documents\Мои результаты сканирования\2010-05 (май)\сканирование0045.jpg"/>
          <p:cNvPicPr/>
          <p:nvPr/>
        </p:nvPicPr>
        <p:blipFill>
          <a:blip r:embed="rId25"/>
          <a:stretch/>
        </p:blipFill>
        <p:spPr>
          <a:xfrm>
            <a:off x="7715160" y="4929120"/>
            <a:ext cx="1003320" cy="9288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8" descr="C:\Users\Татьяна\Documents\Мои результаты сканирования\2010-05 (май)\сканирование0041.jpg"/>
          <p:cNvPicPr/>
          <p:nvPr/>
        </p:nvPicPr>
        <p:blipFill>
          <a:blip r:embed="rId26"/>
          <a:stretch/>
        </p:blipFill>
        <p:spPr>
          <a:xfrm>
            <a:off x="4786200" y="4000680"/>
            <a:ext cx="1025640" cy="10000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0" descr="D:\Документы\Мои рисунки\Организатор клипов (Microsoft)\j0113276.wmf"/>
          <p:cNvPicPr/>
          <p:nvPr/>
        </p:nvPicPr>
        <p:blipFill>
          <a:blip r:embed="rId27"/>
          <a:stretch/>
        </p:blipFill>
        <p:spPr>
          <a:xfrm>
            <a:off x="7215120" y="4786200"/>
            <a:ext cx="984240" cy="878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2" descr="D:\Документы\Мои рисунки\Организатор клипов (Microsoft)\j0113470.wmf"/>
          <p:cNvPicPr/>
          <p:nvPr/>
        </p:nvPicPr>
        <p:blipFill>
          <a:blip r:embed="rId28"/>
          <a:stretch/>
        </p:blipFill>
        <p:spPr>
          <a:xfrm>
            <a:off x="8325000" y="5500800"/>
            <a:ext cx="81900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3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547120" cy="17384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3395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Сотворить буквально из нечего – кусочков ткани, обрезков меха, лент,  кружев, тесьмы, пуговиц и ещё из всякой всячины…  Самое главное – дать  волю своей фантазии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C:\Users\Татьяна\Documents\Мои результаты сканирования\2010-05 (май)\сканирование0100.jpg"/>
          <p:cNvPicPr/>
          <p:nvPr/>
        </p:nvPicPr>
        <p:blipFill>
          <a:blip r:embed="rId2"/>
          <a:stretch/>
        </p:blipFill>
        <p:spPr>
          <a:xfrm>
            <a:off x="642960" y="1857240"/>
            <a:ext cx="1990800" cy="2786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38" name="Picture 5" descr="C:\Users\Татьяна\Documents\Мои результаты сканирования\2010-05 (май)\сканирование0101.jpg"/>
          <p:cNvPicPr/>
          <p:nvPr/>
        </p:nvPicPr>
        <p:blipFill>
          <a:blip r:embed="rId3"/>
          <a:stretch/>
        </p:blipFill>
        <p:spPr>
          <a:xfrm>
            <a:off x="5929200" y="2000160"/>
            <a:ext cx="2527560" cy="3500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39" name="Picture 6" descr="C:\Users\Татьяна\Documents\Мои результаты сканирования\2010-05 (май)\сканирование0102.jpg"/>
          <p:cNvPicPr/>
          <p:nvPr/>
        </p:nvPicPr>
        <p:blipFill>
          <a:blip r:embed="rId4"/>
          <a:stretch/>
        </p:blipFill>
        <p:spPr>
          <a:xfrm>
            <a:off x="3282840" y="1785960"/>
            <a:ext cx="2075040" cy="3000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440" name="Picture 3" descr="C:\Users\Татьяна\Documents\Мои результаты сканирования\2010-05 (май)\сканирование0099.jpg"/>
          <p:cNvPicPr/>
          <p:nvPr/>
        </p:nvPicPr>
        <p:blipFill>
          <a:blip r:embed="rId5"/>
          <a:stretch/>
        </p:blipFill>
        <p:spPr>
          <a:xfrm>
            <a:off x="5000760" y="4500720"/>
            <a:ext cx="1874880" cy="1857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C:\Users\Татьяна\Documents\Мои результаты сканирования\2010-05 (май)\сканирование0098.jpg"/>
          <p:cNvPicPr/>
          <p:nvPr/>
        </p:nvPicPr>
        <p:blipFill>
          <a:blip r:embed="rId6"/>
          <a:stretch/>
        </p:blipFill>
        <p:spPr>
          <a:xfrm>
            <a:off x="1714680" y="4286160"/>
            <a:ext cx="198432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353880" y="30240"/>
            <a:ext cx="7180560" cy="1481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Users\Татьяна\Documents\Мои результаты сканирования\2010-05 (май)\сканирование0003.jpg"/>
          <p:cNvPicPr/>
          <p:nvPr/>
        </p:nvPicPr>
        <p:blipFill>
          <a:blip r:embed="rId2"/>
          <a:stretch/>
        </p:blipFill>
        <p:spPr>
          <a:xfrm>
            <a:off x="7500960" y="3429000"/>
            <a:ext cx="1413000" cy="157176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4" name="Picture 3" descr="C:\Users\Татьяна\Documents\Мои результаты сканирования\2010-05 (май)\сканирование0004.jpg"/>
          <p:cNvPicPr/>
          <p:nvPr/>
        </p:nvPicPr>
        <p:blipFill>
          <a:blip r:embed="rId3"/>
          <a:stretch/>
        </p:blipFill>
        <p:spPr>
          <a:xfrm>
            <a:off x="363600" y="1643040"/>
            <a:ext cx="1351080" cy="1714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45" name="Рисунок 6" descr="http://content.foto.mail.ru/mail/yakimovaas/145/i-166.jpg"/>
          <p:cNvPicPr/>
          <p:nvPr/>
        </p:nvPicPr>
        <p:blipFill>
          <a:blip r:embed="rId4"/>
          <a:stretch/>
        </p:blipFill>
        <p:spPr>
          <a:xfrm>
            <a:off x="3786120" y="1857240"/>
            <a:ext cx="1928880" cy="150048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6" name="Рисунок 7" descr="http://content.foto.mail.ru/mail/sw_tochka/1486/i-1553.jpg"/>
          <p:cNvPicPr/>
          <p:nvPr/>
        </p:nvPicPr>
        <p:blipFill>
          <a:blip r:embed="rId5"/>
          <a:stretch/>
        </p:blipFill>
        <p:spPr>
          <a:xfrm>
            <a:off x="2000160" y="4071960"/>
            <a:ext cx="1214640" cy="242892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7" name="Рисунок 8" descr="http://www.quilters.ru/30web.jpg"/>
          <p:cNvPicPr/>
          <p:nvPr/>
        </p:nvPicPr>
        <p:blipFill>
          <a:blip r:embed="rId6"/>
          <a:stretch/>
        </p:blipFill>
        <p:spPr>
          <a:xfrm>
            <a:off x="2071800" y="1643040"/>
            <a:ext cx="1428480" cy="171468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8" name="Рисунок 10" descr="http://www.quilters.ru/zs-13.jpg"/>
          <p:cNvPicPr/>
          <p:nvPr/>
        </p:nvPicPr>
        <p:blipFill>
          <a:blip r:embed="rId7"/>
          <a:stretch/>
        </p:blipFill>
        <p:spPr>
          <a:xfrm>
            <a:off x="5072040" y="3643200"/>
            <a:ext cx="857160" cy="114300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49" name="Рисунок 9" descr="http://www.quilters.ru/img073-1w.jpg"/>
          <p:cNvPicPr/>
          <p:nvPr/>
        </p:nvPicPr>
        <p:blipFill>
          <a:blip r:embed="rId8"/>
          <a:stretch/>
        </p:blipFill>
        <p:spPr>
          <a:xfrm>
            <a:off x="6072120" y="3500280"/>
            <a:ext cx="1360440" cy="121464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50" name="Picture 5" descr="C:\Users\Татьяна\Documents\Татьяна Лазарева - копия\татьяна Лазарева (25).jpg"/>
          <p:cNvPicPr/>
          <p:nvPr/>
        </p:nvPicPr>
        <p:blipFill>
          <a:blip r:embed="rId9"/>
          <a:stretch/>
        </p:blipFill>
        <p:spPr>
          <a:xfrm>
            <a:off x="7643880" y="1928880"/>
            <a:ext cx="1041480" cy="1285920"/>
          </a:xfrm>
          <a:prstGeom prst="rect">
            <a:avLst/>
          </a:prstGeom>
          <a:ln w="19080">
            <a:solidFill>
              <a:srgbClr val="101022"/>
            </a:solidFill>
            <a:miter/>
          </a:ln>
        </p:spPr>
      </p:pic>
      <p:pic>
        <p:nvPicPr>
          <p:cNvPr id="451" name="Picture 6" descr="C:\Users\Татьяна\Documents\Татьяна Лазарева - копия\татьяна Лазарева (21).jpg"/>
          <p:cNvPicPr/>
          <p:nvPr/>
        </p:nvPicPr>
        <p:blipFill>
          <a:blip r:embed="rId10"/>
          <a:stretch/>
        </p:blipFill>
        <p:spPr>
          <a:xfrm>
            <a:off x="6357960" y="2000160"/>
            <a:ext cx="1071720" cy="127332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52" name="Picture 7" descr="C:\Users\Татьяна\Documents\Татьяна Лазарева - копия\татьяна Лазарева (4).jpg"/>
          <p:cNvPicPr/>
          <p:nvPr/>
        </p:nvPicPr>
        <p:blipFill>
          <a:blip r:embed="rId11"/>
          <a:stretch/>
        </p:blipFill>
        <p:spPr>
          <a:xfrm>
            <a:off x="3429000" y="4071960"/>
            <a:ext cx="1498680" cy="242892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53" name="Picture 8" descr="C:\Users\Татьяна\Documents\Материал ТТР л+в\ЛОСКУТ\лоскут соврем\Волова.JPG"/>
          <p:cNvPicPr/>
          <p:nvPr/>
        </p:nvPicPr>
        <p:blipFill>
          <a:blip r:embed="rId12"/>
          <a:stretch/>
        </p:blipFill>
        <p:spPr>
          <a:xfrm>
            <a:off x="285840" y="4071960"/>
            <a:ext cx="1500120" cy="242892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  <p:pic>
        <p:nvPicPr>
          <p:cNvPr id="454" name="Picture 10" descr="C:\Users\Татьяна\Documents\Материал ТТР л+в\ЛОСКУТ\лоскут соврем\Сухова (2).JPG"/>
          <p:cNvPicPr/>
          <p:nvPr/>
        </p:nvPicPr>
        <p:blipFill>
          <a:blip r:embed="rId13"/>
          <a:stretch/>
        </p:blipFill>
        <p:spPr>
          <a:xfrm>
            <a:off x="7072200" y="5429160"/>
            <a:ext cx="1622520" cy="100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55" name="Рисунок 18" descr="http://www.quilters.ru/_0_pictures/2006_2007/05w.jpg"/>
          <p:cNvPicPr/>
          <p:nvPr/>
        </p:nvPicPr>
        <p:blipFill>
          <a:blip r:embed="rId14"/>
          <a:stretch/>
        </p:blipFill>
        <p:spPr>
          <a:xfrm>
            <a:off x="7429680" y="285840"/>
            <a:ext cx="1380960" cy="150012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9" descr="http://www.quilters.ru/9web.jpg"/>
          <p:cNvPicPr/>
          <p:nvPr/>
        </p:nvPicPr>
        <p:blipFill>
          <a:blip r:embed="rId15"/>
          <a:stretch/>
        </p:blipFill>
        <p:spPr>
          <a:xfrm>
            <a:off x="5286240" y="5072040"/>
            <a:ext cx="1500480" cy="1214640"/>
          </a:xfrm>
          <a:prstGeom prst="rect">
            <a:avLst/>
          </a:prstGeom>
          <a:ln w="28440">
            <a:solidFill>
              <a:srgbClr val="1010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714240" y="642600"/>
            <a:ext cx="7786800" cy="5529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« Чтобы сделать что-нибудь, нужно не так уж много сил, вот чтобы решить, что именно сделать, нужно действительно огромная сила.»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i="1" lang="ru-RU" sz="4000" spc="-1" strike="noStrike">
                <a:solidFill>
                  <a:srgbClr val="002060"/>
                </a:solidFill>
                <a:latin typeface="Cambria"/>
              </a:rPr>
              <a:t>К. Хаббард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53548a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4992840" y="244440"/>
            <a:ext cx="3730320" cy="147492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3" descr="D:\труды\Scan0513201mm0_105336.bmp"/>
          <p:cNvPicPr/>
          <p:nvPr/>
        </p:nvPicPr>
        <p:blipFill>
          <a:blip r:embed="rId2"/>
          <a:stretch/>
        </p:blipFill>
        <p:spPr>
          <a:xfrm>
            <a:off x="539640" y="476280"/>
            <a:ext cx="4969080" cy="612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1" descr="D:\труды\Scan05102010_0630d2bb.JPG"/>
          <p:cNvPicPr/>
          <p:nvPr/>
        </p:nvPicPr>
        <p:blipFill>
          <a:blip r:embed="rId1"/>
          <a:stretch/>
        </p:blipFill>
        <p:spPr>
          <a:xfrm>
            <a:off x="2484360" y="476280"/>
            <a:ext cx="4608720" cy="6056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16:59Z</dcterms:created>
  <dc:creator>Татьяна</dc:creator>
  <dc:description/>
  <dc:language>en-US</dc:language>
  <cp:lastModifiedBy>Татьяна</cp:lastModifiedBy>
  <dcterms:modified xsi:type="dcterms:W3CDTF">2011-12-11T09:26:53Z</dcterms:modified>
  <cp:revision>204</cp:revision>
  <dc:subject/>
  <dc:title>Создание аксессуаров</dc:title>
</cp:coreProperties>
</file>