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73.png" ContentType="image/png"/>
  <Override PartName="/ppt/media/image53.png" ContentType="image/png"/>
  <Override PartName="/ppt/media/image51.png" ContentType="image/png"/>
  <Override PartName="/ppt/media/image49.jpeg" ContentType="image/jpeg"/>
  <Override PartName="/ppt/media/image46.jpeg" ContentType="image/jpeg"/>
  <Override PartName="/ppt/media/image45.jpeg" ContentType="image/jpeg"/>
  <Override PartName="/ppt/media/image48.png" ContentType="image/png"/>
  <Override PartName="/ppt/media/image37.jpeg" ContentType="image/jpeg"/>
  <Override PartName="/ppt/media/image25.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3.jpeg" ContentType="image/jpeg"/>
  <Override PartName="/ppt/media/image71.jpeg" ContentType="image/jpeg"/>
  <Override PartName="/ppt/media/image65.jpeg" ContentType="image/jpeg"/>
  <Override PartName="/ppt/media/image8.jpeg" ContentType="image/jpeg"/>
  <Override PartName="/ppt/media/image69.jpeg" ContentType="image/jpeg"/>
  <Override PartName="/ppt/media/image24.png" ContentType="image/png"/>
  <Override PartName="/ppt/media/image68.jpeg" ContentType="image/jpeg"/>
  <Override PartName="/ppt/media/image67.jpeg" ContentType="image/jpeg"/>
  <Override PartName="/ppt/media/image64.jpeg" ContentType="image/jpeg"/>
  <Override PartName="/ppt/media/image38.jpeg" ContentType="image/jpeg"/>
  <Override PartName="/ppt/media/image19.jpeg" ContentType="image/jpeg"/>
  <Override PartName="/ppt/media/image63.jpeg" ContentType="image/jpeg"/>
  <Override PartName="/ppt/media/image18.jpeg" ContentType="image/jpeg"/>
  <Override PartName="/ppt/media/image62.jpeg" ContentType="image/jpeg"/>
  <Override PartName="/ppt/media/image61.jpeg" ContentType="image/jpeg"/>
  <Override PartName="/ppt/media/image50.jpeg" ContentType="image/jpeg"/>
  <Override PartName="/ppt/media/image16.jpeg" ContentType="image/jpeg"/>
  <Override PartName="/ppt/media/image60.jpeg" ContentType="image/jpeg"/>
  <Override PartName="/ppt/media/image70.jpeg" ContentType="image/jpeg"/>
  <Override PartName="/ppt/media/image43.jpeg" ContentType="image/jpeg"/>
  <Override PartName="/ppt/media/image39.jpeg" ContentType="image/jpeg"/>
  <Override PartName="/ppt/media/image5.png" ContentType="image/png"/>
  <Override PartName="/ppt/media/image26.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13.jpeg" ContentType="image/jpeg"/>
  <Override PartName="/ppt/media/image44.png" ContentType="image/png"/>
  <Override PartName="/ppt/media/image42.jpeg" ContentType="image/jpeg"/>
  <Override PartName="/ppt/media/image6.png" ContentType="image/png"/>
  <Override PartName="/ppt/media/image11.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5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move the slide</a:t>
            </a:r>
            <a:endParaRPr b="0" lang="en-US" sz="4600" spc="-1" strike="noStrike">
              <a:solidFill>
                <a:srgbClr val="d4d4d4"/>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6FA5-BE7A-4E80-A9CB-5F2695AA084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2159-E703-44D5-9E66-191456C66782}"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A6B1-2E93-4FFB-AB05-816B8E0AB0B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8FBF-44D1-4E17-BC33-E5C88B6DFCF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D824-213C-4F94-A502-25EC6CB5C57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F7E6-1B43-49F9-AB4B-135033ED20C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5765-342B-47D6-8378-38B7AD32200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E990-7B1D-4722-A8E8-56CEB357395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BCA1-1391-4F22-B533-0DC95C27F01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B5D7-33CC-4781-B98E-CCD7348632D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784A-B479-4253-9878-33B138FF9AC9}"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D7C-E067-4346-932D-0526B68A80D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57AA-8CF5-4411-A615-0A672A2AFB0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A0C2-A975-4F1E-A5EA-4C2C948671C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55D9-24AA-494E-828C-BE29717DA94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1416-030B-442E-AC25-15EFDA96265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1361-6B97-43F8-AD94-32717C1655E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CDCD-CF80-4F8D-94D3-5A53A289E7D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4FE7-FD1D-4DF0-AD44-F62D7B5A5E0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73FE-AE8A-47FE-B0CC-CF7DD1D4A23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F97E-D9BD-43BF-93E8-F3386ECDFE8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04FF-75F1-4E63-AED9-E83197BF099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9DF1-E82F-4C3E-ACDB-031F232877B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58A9-E940-4048-BC04-EB37409088D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B943-1F84-4511-9E7D-1026F812935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267-7735-450F-8C9F-68FDE136DB6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6B59-84CF-4AD3-BEE5-4FFE600C07E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2DBC-7F64-4413-A219-15BD2914EF6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9192-D33C-466F-8864-3C676AE135E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47A5-FBE1-4F36-B9B5-0FD805F0E74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D1B3-A76B-4296-B3AB-378CD5596CD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50B2-3BC1-4879-BF2B-A973595B93B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3FFC-D459-4D83-835A-AC983A3B253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0FBB9A2-4B76-45E1-8A36-104E9A5DDC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74F8EBA-326F-404A-9F6C-C40FBBF39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1A125C5-34EB-477F-A83D-452B6B4096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686A4AD-874D-4059-8F72-154A91B53D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DD839C3-FD57-4D2E-ACBD-F259E5A43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F3F3A36-0454-44E0-AEA2-43242C6F16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49CA706-C7A1-4FF9-8672-464A80156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39E3ED7-47A8-4BE7-BFFF-0F9130D55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46A2773-733E-4514-A384-CD1E5D7FFD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48CA7B5-EB9F-4DD1-A685-3E48EE5201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25C1A9F-8FA1-4035-B01F-80153D47CD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5884D7E-CDFE-47C1-B4D5-48D4B1676E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8B30731-3308-435D-946C-2E8C833573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7239295-5FC1-4BD7-9CC0-6F514A816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1C624E-5D81-4EBF-8154-C0910BB73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7B1759-4F38-4977-B54C-E68BB664C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77BFF7-385A-4EFF-9747-8176C172D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37F078-46A4-433B-BA1E-325BF8E1D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A9AE0A-9A04-49C9-8E6C-90EA17E9A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46B12B-E9F0-441B-9210-DDA9A766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072A69F-8D8C-4523-BBFF-D74A507CB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C78F7C-C59A-4DE1-8C0F-7FA89DC0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F8C3B9-D40C-4E6F-AB22-A90561AE7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CC02A3-24E1-4FCC-8259-84F98630C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C7A692-2141-49ED-A903-2AF7E3823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9D190E-3899-4EF0-AA24-B43DEA397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551E18-D3F5-4F48-B242-DEB084613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06389-9AAD-4184-B19C-51289DA51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C9A34-1F8B-4AD0-A37C-73351125C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31950-BE98-4EF7-9BAA-823D2169D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18B26-E860-47A5-99BC-1046EF9E4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5A679B2-442B-470D-8CF7-02BED0F06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89DE6-F4FB-47A8-90C0-637A2D4E2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EED5A-2DF1-4AC7-8F9C-D151695CB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ECB54-5CE8-44AB-9024-740B91435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6BA71-48D1-4A5E-8C81-5EEA4BB30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73480-4EA0-4D31-A38C-BF6FF65A7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5D2D3-19FF-4374-937B-C89B69B8C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B6E4B-0CAD-44B9-A070-20582A4FB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7F7346-9FC3-4DD1-89A0-29486B6CC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520A33-89D0-4EA8-BCFE-C519783C4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3A0E39-056A-4B51-BE71-00AAA2000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67EC612-2A4E-4457-A0EF-09A4DCC07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DE87D5-111B-4DDA-AF3D-8676BADCC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79E392-4D78-4598-BAEB-F33BAEB52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8CA68B-D28F-44D9-B937-852941AB5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8AC942-0584-4CBA-90D1-7B6CCB657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E28B60-4A8E-4C7F-8803-EF19BF83F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F4E725-3DA5-4AE1-8C87-CC4B000C0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45175C-44A1-433F-A42B-FB6BBA84C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9C62B69-16AA-4889-8101-6551881FB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5BEB316-2797-46C3-9A2A-7195914F13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DD5F8-6972-4BA8-9880-A2F87240C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8B0425F-A7B4-4F6A-96D0-75E29ED1D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DAD5C-63DC-40F0-BDB3-269D6EE53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2280B-8877-486E-B61D-5B3E00B9B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289E9-B710-471F-8738-450582051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D1195-947B-4EC9-93F5-A37289823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D8D9B-5B5E-4192-9DB8-C76722E1D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E10B9-7F48-4367-9F78-C8BC09088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08629-B226-4920-BA45-06203CA58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B0F6B-296F-4BFD-8AD4-F289AE7C0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CA870-93FC-47AF-97A2-32C6914D6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4D29DB-5CB0-4F36-881C-CCDABAD72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2607A5E-E69F-42EB-8EA9-9E50A874D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E8095-3BD8-4A6D-AC30-479B7B916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BDE6E0-3F29-42EC-9F73-153CA5E061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23D06-D489-4D95-9872-4CA699C577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AD2BD-2DA5-41EA-A9D4-AF797EB19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289A1-CCE4-4CBA-982C-8C32A97E5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5BBFC-5B57-4A93-BEA0-546F169C7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B4F17-5051-4C99-9243-E58155C07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E1F62-0812-4DC0-9529-0EA577D2F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22DE2-6ADE-45FD-BE97-0395CE083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E9A54-496A-47B6-8179-13A23352B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15AE42C-E067-4C73-AA64-E49EC76D2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8865F-3970-4E67-8756-1D31F5476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7CA15-5131-46E7-9DE4-24CE5ECCE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7CCCBA-61DC-49A1-880E-6399E759C3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4F40BE-EFDB-4186-AFA6-E5B2F5AE07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730FE-17C7-40BD-AF46-15CCCA390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BB5F4C-AC21-45DE-AEF0-0D720EB3D1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CD8DFB-082F-4AC2-B013-438233F49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26612-6764-45CC-A903-3C26C301B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662EA-58A2-451D-9B08-14C6781C3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945C0-1962-4A37-836A-C2F9A966B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CEB10AE-EC88-4ABA-97D1-5EC0CB060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CC53F-E2C2-487A-9F86-DC58DC9DD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00C64-F1B5-459A-B01C-AFB1F4FB3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C4138-9008-43DC-9DAF-9A09BC8226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64DA35-2E4A-42A9-8183-846BA93E7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E7DD1F-E4F3-4E24-B3FA-0397A4E6C1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75D9A15-E333-4053-BAC5-D4F9172876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EEE147F-0880-4DEA-A395-CD074C909E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2739EDD-D755-4C40-9DB9-454FD878E2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E6D4CCA-6641-4E0B-A3F5-45B71A5CB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168A371-89BF-47F7-9074-B13B06AFE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8FF4D6F-D26D-4686-9CCF-AFEE343C8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44B9755-406D-47EC-B41A-BE777B091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4DDE6B7-B976-4C0D-ADA7-76B89A2F3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6250684-67AC-4E75-BED3-E86A31215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6C012D9-6169-41C8-A707-63ACF87DF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5DF1005-97D3-49FC-9B95-BBB176A97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D63422D-7F97-45AC-82E0-89DA07C84D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FF1ED7A-C6FB-4188-B99B-BC3E559280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23D2987-1B5E-4D96-BEBB-0E1DD46F0D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91585DF-095D-4C11-89D2-4C447194E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CCAF5B2-F9F4-47A8-8FF5-C2DEFB873D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1242-32DF-4280-B909-2FF3E62A88F0}"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5A61-433A-4B6B-BA26-2CCE2590F51D}"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B901-262F-4EC0-80A1-EFFAD2CF2139}"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85D1-3C25-4FF8-BE07-669E59036929}"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0D42-2254-442E-B69C-2783AFE3EF77}"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06D8-5816-4157-9437-9A7AB38BDCB1}"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8A8F-9121-4874-810C-46F3250E7719}"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11AA-8991-4EB2-B470-9196DE9EA620}"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6AFC-412A-4C81-ACFD-C289663EEC98}"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7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7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7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quiltstudio.ru/wp-content/uploads/2008/11/1237667921.jpg" TargetMode="External"/><Relationship Id="rId3" Type="http://schemas.openxmlformats.org/officeDocument/2006/relationships/image" Target="../media/image17.jpeg"/><Relationship Id="rId4" Type="http://schemas.openxmlformats.org/officeDocument/2006/relationships/hyperlink" Target="http://quiltstudio.ru/wp-content/uploads/2008/11/2005-01-patchsac-a-dos.jpg" TargetMode="External"/><Relationship Id="rId5" Type="http://schemas.openxmlformats.org/officeDocument/2006/relationships/image" Target="../media/image18.jpeg"/><Relationship Id="rId6" Type="http://schemas.openxmlformats.org/officeDocument/2006/relationships/hyperlink" Target="http://quiltstudio.ru/wp-content/uploads/2008/11/2770276720786305398.JPG" TargetMode="External"/><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image" Target="../media/image64.jpeg"/><Relationship Id="rId7" Type="http://schemas.openxmlformats.org/officeDocument/2006/relationships/image" Target="../media/image65.jpeg"/><Relationship Id="rId8" Type="http://schemas.openxmlformats.org/officeDocument/2006/relationships/image" Target="../media/image66.jpeg"/><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image" Target="../media/image69.jpeg"/><Relationship Id="rId12" Type="http://schemas.openxmlformats.org/officeDocument/2006/relationships/image" Target="../media/image70.jpeg"/><Relationship Id="rId13" Type="http://schemas.openxmlformats.org/officeDocument/2006/relationships/image" Target="../media/image71.jpeg"/><Relationship Id="rId14" Type="http://schemas.openxmlformats.org/officeDocument/2006/relationships/image" Target="../media/image72.jpeg"/><Relationship Id="rId15" Type="http://schemas.openxmlformats.org/officeDocument/2006/relationships/slideLayout" Target="../slideLayouts/slideLayout25.xml"/><Relationship Id="rId1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pic>
        <p:nvPicPr>
          <p:cNvPr id="401" name="Заголовок 1" descr=""/>
          <p:cNvPicPr/>
          <p:nvPr/>
        </p:nvPicPr>
        <p:blipFill>
          <a:blip r:embed="rId1"/>
          <a:stretch/>
        </p:blipFill>
        <p:spPr>
          <a:xfrm>
            <a:off x="457200" y="378000"/>
            <a:ext cx="8643960" cy="2219040"/>
          </a:xfrm>
          <a:prstGeom prst="rect">
            <a:avLst/>
          </a:prstGeom>
          <a:ln w="0">
            <a:noFill/>
          </a:ln>
        </p:spPr>
      </p:pic>
      <p:sp>
        <p:nvSpPr>
          <p:cNvPr id="402" name="PlaceHolder 1"/>
          <p:cNvSpPr>
            <a:spLocks noGrp="1"/>
          </p:cNvSpPr>
          <p:nvPr>
            <p:ph type="subTitle"/>
          </p:nvPr>
        </p:nvSpPr>
        <p:spPr>
          <a:xfrm>
            <a:off x="2133360" y="2819520"/>
            <a:ext cx="6559560" cy="370512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mbria"/>
              </a:rPr>
              <a:t>С использованием лоскутных</a:t>
            </a:r>
            <a:endParaRPr b="0" lang="en-US" sz="40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mbria"/>
              </a:rPr>
              <a:t>техник</a:t>
            </a:r>
            <a:endParaRPr b="0" lang="en-US" sz="40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МО Ленинский район </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Ватутинская СОШ</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Учитель технологии</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Иовенко Татьяна Юрьевна</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4часть)</a:t>
            </a:r>
            <a:endParaRPr b="0" lang="en-US" sz="1800" spc="-1" strike="noStrike">
              <a:solidFill>
                <a:srgbClr val="ffffff"/>
              </a:solidFill>
              <a:latin typeface="Cambria"/>
            </a:endParaRPr>
          </a:p>
        </p:txBody>
      </p:sp>
      <p:pic>
        <p:nvPicPr>
          <p:cNvPr id="403" name="Рисунок 3" descr="Наука и жизнь // Иллюстрации"/>
          <p:cNvPicPr/>
          <p:nvPr/>
        </p:nvPicPr>
        <p:blipFill>
          <a:blip r:embed="rId2"/>
          <a:stretch/>
        </p:blipFill>
        <p:spPr>
          <a:xfrm>
            <a:off x="109440" y="3481560"/>
            <a:ext cx="5273640" cy="303516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28760" y="428760"/>
            <a:ext cx="371448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ак выглядит новая деталь, сшитая из двух деталей на предыдущем этапе работ. Хорошо видно, что прямые края этой детали стали гораздо длиннее. Значит, нужно сшить из лоскутов еще одну большую деталь</a:t>
            </a:r>
            <a:endParaRPr b="0" lang="en-US" sz="2000" spc="-1" strike="noStrike">
              <a:solidFill>
                <a:srgbClr val="ffffff"/>
              </a:solidFill>
              <a:latin typeface="Cambria"/>
            </a:endParaRPr>
          </a:p>
        </p:txBody>
      </p:sp>
      <p:sp>
        <p:nvSpPr>
          <p:cNvPr id="442" name=""/>
          <p:cNvSpPr txBox="1"/>
          <p:nvPr/>
        </p:nvSpPr>
        <p:spPr>
          <a:xfrm>
            <a:off x="4429080" y="428760"/>
            <a:ext cx="428616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На изображении показано, как пристрочена большая деталь из двух лоскутов (полосатая и голубая джинсовая ткань). Обрезать  так, чтобы сторона была ровной</a:t>
            </a:r>
            <a:endParaRPr b="0" lang="en-US" sz="2400" spc="-1" strike="noStrike">
              <a:solidFill>
                <a:srgbClr val="ffffff"/>
              </a:solidFill>
              <a:latin typeface="Cambria"/>
            </a:endParaRPr>
          </a:p>
        </p:txBody>
      </p:sp>
      <p:pic>
        <p:nvPicPr>
          <p:cNvPr id="443" name="Рисунок 3" descr="C:\Users\Татьяна\Documents\Мои результаты сканирования\2010-05 (май)\сканирование0109.jpg"/>
          <p:cNvPicPr/>
          <p:nvPr/>
        </p:nvPicPr>
        <p:blipFill>
          <a:blip r:embed="rId1"/>
          <a:stretch/>
        </p:blipFill>
        <p:spPr>
          <a:xfrm>
            <a:off x="1071720" y="3714840"/>
            <a:ext cx="2857320" cy="2390760"/>
          </a:xfrm>
          <a:prstGeom prst="rect">
            <a:avLst/>
          </a:prstGeom>
          <a:ln w="0">
            <a:noFill/>
          </a:ln>
        </p:spPr>
      </p:pic>
      <p:pic>
        <p:nvPicPr>
          <p:cNvPr id="444" name="Рисунок 6" descr="C:\Users\Татьяна\Documents\Мои результаты сканирования\2010-05 (май)\сканирование0110.jpg"/>
          <p:cNvPicPr/>
          <p:nvPr/>
        </p:nvPicPr>
        <p:blipFill>
          <a:blip r:embed="rId2"/>
          <a:stretch/>
        </p:blipFill>
        <p:spPr>
          <a:xfrm>
            <a:off x="4714920" y="3286080"/>
            <a:ext cx="3643200" cy="27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357120"/>
            <a:ext cx="3357720" cy="60976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Обратите внимание, как изменился  первоначальных вид  деталей</a:t>
            </a:r>
            <a:endParaRPr b="0" lang="en-US" sz="28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
        <p:nvSpPr>
          <p:cNvPr id="446" name=""/>
          <p:cNvSpPr txBox="1"/>
          <p:nvPr/>
        </p:nvSpPr>
        <p:spPr>
          <a:xfrm>
            <a:off x="3928680" y="356760"/>
            <a:ext cx="4714920" cy="60721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Если  заготовка для сумки все еще не достигла нужной величины, продолжить  работу. С увеличением размера деталей не обойтись без линейки. Чтобы выделить ровный прямой край, отметите его с помощью линейки, а затем обрезать  лишнюю ткань </a:t>
            </a:r>
            <a:endParaRPr b="0" lang="en-US" sz="2000" spc="-1" strike="noStrike">
              <a:solidFill>
                <a:srgbClr val="ffffff"/>
              </a:solidFill>
              <a:latin typeface="Cambria"/>
            </a:endParaRPr>
          </a:p>
        </p:txBody>
      </p:sp>
      <p:pic>
        <p:nvPicPr>
          <p:cNvPr id="447" name="Рисунок 6" descr="C:\Users\Татьяна\Documents\Мои результаты сканирования\2010-05 (май)\сканирование0110.jpg"/>
          <p:cNvPicPr/>
          <p:nvPr/>
        </p:nvPicPr>
        <p:blipFill>
          <a:blip r:embed="rId1"/>
          <a:stretch/>
        </p:blipFill>
        <p:spPr>
          <a:xfrm>
            <a:off x="642960" y="3071880"/>
            <a:ext cx="2786040" cy="3214800"/>
          </a:xfrm>
          <a:prstGeom prst="rect">
            <a:avLst/>
          </a:prstGeom>
          <a:ln w="0">
            <a:noFill/>
          </a:ln>
        </p:spPr>
      </p:pic>
      <p:pic>
        <p:nvPicPr>
          <p:cNvPr id="448" name="Рисунок 7" descr="C:\Users\Татьяна\Documents\Мои результаты сканирования\2010-05 (май)\сканирование0110.jpg"/>
          <p:cNvPicPr/>
          <p:nvPr/>
        </p:nvPicPr>
        <p:blipFill>
          <a:blip r:embed="rId2"/>
          <a:stretch/>
        </p:blipFill>
        <p:spPr>
          <a:xfrm>
            <a:off x="4286160" y="3071880"/>
            <a:ext cx="3990960" cy="32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28760" y="499680"/>
            <a:ext cx="8229600" cy="6000840"/>
          </a:xfrm>
          <a:prstGeom prst="rect">
            <a:avLst/>
          </a:prstGeom>
          <a:noFill/>
          <a:ln w="9360">
            <a:solidFill>
              <a:srgbClr val="ff0000"/>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осле окончания лоскутной части нужно заключить ее в рамку. В данном случае идеально подойдет рамка из джинсовой ткани. </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 результате лоскутная деталь приобретает завершенность и подчеркнутую красоту</a:t>
            </a:r>
            <a:endParaRPr b="0" lang="en-US" sz="2400" spc="-1" strike="noStrike">
              <a:solidFill>
                <a:srgbClr val="ffffff"/>
              </a:solidFill>
              <a:latin typeface="Cambria"/>
            </a:endParaRPr>
          </a:p>
        </p:txBody>
      </p:sp>
      <p:pic>
        <p:nvPicPr>
          <p:cNvPr id="450" name="Рисунок 3" descr="C:\Users\Татьяна\Documents\Мои результаты сканирования\2010-05 (май)\сканирование0111.jpg"/>
          <p:cNvPicPr/>
          <p:nvPr/>
        </p:nvPicPr>
        <p:blipFill>
          <a:blip r:embed="rId1"/>
          <a:stretch/>
        </p:blipFill>
        <p:spPr>
          <a:xfrm>
            <a:off x="714240" y="3429000"/>
            <a:ext cx="2657520" cy="2571840"/>
          </a:xfrm>
          <a:prstGeom prst="rect">
            <a:avLst/>
          </a:prstGeom>
          <a:ln w="0">
            <a:noFill/>
          </a:ln>
        </p:spPr>
      </p:pic>
      <p:pic>
        <p:nvPicPr>
          <p:cNvPr id="451" name="Рисунок 4" descr="C:\Users\Татьяна\Documents\Мои результаты сканирования\2010-05 (май)\сканирование0111.jpg"/>
          <p:cNvPicPr/>
          <p:nvPr/>
        </p:nvPicPr>
        <p:blipFill>
          <a:blip r:embed="rId2"/>
          <a:stretch/>
        </p:blipFill>
        <p:spPr>
          <a:xfrm>
            <a:off x="4071960" y="2643120"/>
            <a:ext cx="4214880" cy="364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28760" y="357120"/>
            <a:ext cx="4572000" cy="6215040"/>
          </a:xfrm>
          <a:prstGeom prst="rect">
            <a:avLst/>
          </a:prstGeom>
          <a:noFill/>
          <a:ln w="9360">
            <a:solidFill>
              <a:srgbClr val="ff0000"/>
            </a:solidFill>
            <a:miter/>
          </a:ln>
        </p:spPr>
        <p:txBody>
          <a:bodyPr anchor="t">
            <a:normAutofit fontScale="98000"/>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Cambria"/>
              </a:rPr>
              <a:t>Чтобы правильно простегать большую лоскутную деталь, не­обходимо тщательно сколоть булавками все слои. Начинать  скалывать детали по периметру. Если из-за растяжения ткани лоскутная деталь стала волнистой по краю, эту волну необходимо слегка присобрать.</a:t>
            </a:r>
            <a:endParaRPr b="0" lang="en-US" sz="18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Cambria"/>
              </a:rPr>
              <a:t>Сколоть детали в центре, затем расправить руками и дополнительно сколоть в центре каждого крупного лоскута, чтобы предотвратить  смещение слоев и перекос материала. Начинать стежку по лицевой части работы нитью подходящего цвета. Сначала прострочить  периметр, затем - периметр каждого лоскута начиная от центра детали. По окончании стежки  лоскутная деталь приобретет красивый рельеф</a:t>
            </a:r>
            <a:endParaRPr b="0" lang="en-US" sz="1800" spc="-1" strike="noStrike">
              <a:solidFill>
                <a:srgbClr val="ffffff"/>
              </a:solidFill>
              <a:latin typeface="Cambria"/>
            </a:endParaRPr>
          </a:p>
        </p:txBody>
      </p:sp>
      <p:pic>
        <p:nvPicPr>
          <p:cNvPr id="453" name="Содержимое 5" descr="C:\Users\Татьяна\Documents\Мои результаты сканирования\2010-05 (май)\сканирование0112.jpg"/>
          <p:cNvPicPr/>
          <p:nvPr/>
        </p:nvPicPr>
        <p:blipFill>
          <a:blip r:embed="rId1"/>
          <a:stretch/>
        </p:blipFill>
        <p:spPr>
          <a:xfrm>
            <a:off x="5286240" y="357120"/>
            <a:ext cx="3500640" cy="6143760"/>
          </a:xfrm>
          <a:prstGeom prst="rect">
            <a:avLst/>
          </a:prstGeom>
          <a:ln w="28440">
            <a:solidFill>
              <a:srgbClr val="101022"/>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571320" y="428760"/>
            <a:ext cx="807228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Иногда в процессе творчества мы можем </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ервоначальный замысел.</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ы можете с легкостью перегнуть ее пополам и сшить изящную плоскую сумочку в два раза меньшего размера. Обе ее стороны будут идеальной лоскутной работой в технике «крейзи», причем обе стороны будут разными</a:t>
            </a:r>
            <a:r>
              <a:rPr b="0" lang="ru-RU" sz="2000" spc="-1" strike="noStrike">
                <a:solidFill>
                  <a:srgbClr val="ffff00"/>
                </a:solidFill>
                <a:latin typeface="Cambria"/>
              </a:rPr>
              <a:t>.</a:t>
            </a:r>
            <a:endParaRPr b="0" lang="en-US" sz="2000" spc="-1" strike="noStrike">
              <a:solidFill>
                <a:srgbClr val="ffffff"/>
              </a:solidFill>
              <a:latin typeface="Cambria"/>
            </a:endParaRPr>
          </a:p>
        </p:txBody>
      </p:sp>
      <p:pic>
        <p:nvPicPr>
          <p:cNvPr id="455" name="Рисунок 3" descr="C:\Users\Татьяна\Documents\Мои результаты сканирования\2010-05 (май)\сканирование0112.jpg"/>
          <p:cNvPicPr/>
          <p:nvPr/>
        </p:nvPicPr>
        <p:blipFill>
          <a:blip r:embed="rId1"/>
          <a:stretch/>
        </p:blipFill>
        <p:spPr>
          <a:xfrm>
            <a:off x="928800" y="3500280"/>
            <a:ext cx="3500280" cy="2671920"/>
          </a:xfrm>
          <a:prstGeom prst="rect">
            <a:avLst/>
          </a:prstGeom>
          <a:ln w="0">
            <a:noFill/>
          </a:ln>
        </p:spPr>
      </p:pic>
      <p:pic>
        <p:nvPicPr>
          <p:cNvPr id="456" name="Рисунок 4" descr="C:\Users\Татьяна\Documents\Мои результаты сканирования\2010-05 (май)\сканирование0113.jpg"/>
          <p:cNvPicPr/>
          <p:nvPr/>
        </p:nvPicPr>
        <p:blipFill>
          <a:blip r:embed="rId2"/>
          <a:stretch/>
        </p:blipFill>
        <p:spPr>
          <a:xfrm>
            <a:off x="4857840" y="3500280"/>
            <a:ext cx="3357360" cy="26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Заголовок 1" descr=""/>
          <p:cNvPicPr/>
          <p:nvPr/>
        </p:nvPicPr>
        <p:blipFill>
          <a:blip r:embed="rId1"/>
          <a:stretch/>
        </p:blipFill>
        <p:spPr>
          <a:xfrm>
            <a:off x="450720" y="249120"/>
            <a:ext cx="8541000" cy="1165320"/>
          </a:xfrm>
          <a:prstGeom prst="rect">
            <a:avLst/>
          </a:prstGeom>
          <a:ln w="0">
            <a:noFill/>
          </a:ln>
        </p:spPr>
      </p:pic>
      <p:sp>
        <p:nvSpPr>
          <p:cNvPr id="458" name=""/>
          <p:cNvSpPr txBox="1"/>
          <p:nvPr/>
        </p:nvSpPr>
        <p:spPr>
          <a:xfrm>
            <a:off x="457200" y="1645920"/>
            <a:ext cx="8229600" cy="4854600"/>
          </a:xfrm>
          <a:prstGeom prst="rect">
            <a:avLst/>
          </a:prstGeom>
          <a:noFill/>
          <a:ln w="28440">
            <a:solidFill>
              <a:srgbClr val="101022"/>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Материалы</a:t>
            </a:r>
            <a:r>
              <a:rPr b="0" lang="en-US" sz="3200" spc="-1" strike="noStrike">
                <a:solidFill>
                  <a:srgbClr val="ffff00"/>
                </a:solidFill>
                <a:latin typeface="Rockwell"/>
              </a:rPr>
              <a:t>:</a:t>
            </a:r>
            <a:endParaRPr b="0" lang="en-US" sz="32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ый  кожезаменитель  </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70 х 14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Фиолетовая ткань (подкладочная,</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 </a:t>
            </a:r>
            <a:r>
              <a:rPr b="0" lang="ru-RU" sz="2000" spc="-1" strike="noStrike">
                <a:solidFill>
                  <a:srgbClr val="ffff00"/>
                </a:solidFill>
                <a:latin typeface="Cambria"/>
              </a:rPr>
              <a:t>шелковая)150 х 10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о-оранжевая ткань  (хлопок)</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150 х 5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Оранжевая верёвка 20 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ая пуговица 1 шт.</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олстая веревка для уплотнения </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ручек 120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леевая ткань или дублерин</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50 х 5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pic>
        <p:nvPicPr>
          <p:cNvPr id="459" name="Picture 4" descr="C:\Users\Татьяна\Documents\Мои результаты сканирования\2010-05 (май)\сканирование0085.jpg"/>
          <p:cNvPicPr/>
          <p:nvPr/>
        </p:nvPicPr>
        <p:blipFill>
          <a:blip r:embed="rId2"/>
          <a:stretch/>
        </p:blipFill>
        <p:spPr>
          <a:xfrm>
            <a:off x="5143680" y="1785960"/>
            <a:ext cx="3357360" cy="4572000"/>
          </a:xfrm>
          <a:prstGeom prst="rect">
            <a:avLst/>
          </a:prstGeom>
          <a:ln w="28440">
            <a:solidFill>
              <a:srgbClr val="000000"/>
            </a:solidFill>
            <a:miter/>
          </a:ln>
        </p:spPr>
      </p:pic>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71320" y="213840"/>
            <a:ext cx="8143560" cy="635796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mbria"/>
              </a:rPr>
              <a:t>    </a:t>
            </a:r>
            <a:r>
              <a:rPr b="0" lang="ru-RU" sz="2400" spc="-1" strike="noStrike">
                <a:solidFill>
                  <a:srgbClr val="ff0000"/>
                </a:solidFill>
                <a:latin typeface="Cambria"/>
              </a:rPr>
              <a:t>Ход работы:</a:t>
            </a:r>
            <a:endParaRPr b="0" lang="en-US" sz="2400" spc="-1" strike="noStrike">
              <a:solidFill>
                <a:srgbClr val="ffffff"/>
              </a:solidFill>
              <a:latin typeface="Cambria"/>
            </a:endParaRPr>
          </a:p>
          <a:p>
            <a:pPr marL="274320" indent="-27432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   </a:t>
            </a:r>
            <a:r>
              <a:rPr b="0" lang="ru-RU" sz="2800" spc="-1" strike="noStrike">
                <a:solidFill>
                  <a:srgbClr val="ffff00"/>
                </a:solidFill>
                <a:latin typeface="Cambria"/>
              </a:rPr>
              <a:t>Нарежьте из красно-оранжевой и фиолетовой тканей полоски шириной 2 см максимальной длины. В этой технике в ход могут пойти не нужные ткани или вещи. Сплетите две косички длиной 5 м, переплетая между собой полоски фи­ 0лeToBoй и красно-оранжевой ткани и оранжевую веревку. Выложите косичку от центра по кругу изнанкой вверх. По окончании накройте круг дублер ином и проутюжьте, тем самым закрепив косичку. Повторите этот же процесс со второй косичкой. Выполнены боковые части сумки.</a:t>
            </a:r>
            <a:endParaRPr b="0" lang="en-US" sz="28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   </a:t>
            </a: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Прямоугольник 1"/>
          <p:cNvSpPr/>
          <p:nvPr/>
        </p:nvSpPr>
        <p:spPr>
          <a:xfrm>
            <a:off x="971640" y="907920"/>
            <a:ext cx="7345440" cy="2653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Из красного кожзаменителя выкройте днище сумки в виде прямоугольника 65 х 8 см. По короткому краю прямоугольника выполните отвороты на изнанку на 1 см.</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Выкройте два прямоугольника 70 х 4 см для ручек, закруглите их короткие кра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3" descr="C:\Users\Татьяна\Documents\Мои результаты сканирования\2010-05 (май)\сканирование0086.jpg"/>
          <p:cNvPicPr/>
          <p:nvPr/>
        </p:nvPicPr>
        <p:blipFill>
          <a:blip r:embed="rId1"/>
          <a:stretch/>
        </p:blipFill>
        <p:spPr>
          <a:xfrm>
            <a:off x="571680" y="1714680"/>
            <a:ext cx="7929360" cy="4643280"/>
          </a:xfrm>
          <a:prstGeom prst="rect">
            <a:avLst/>
          </a:prstGeom>
          <a:ln w="0">
            <a:noFill/>
          </a:ln>
        </p:spPr>
      </p:pic>
      <p:pic>
        <p:nvPicPr>
          <p:cNvPr id="463" name="Заголовок 6" descr=""/>
          <p:cNvPicPr/>
          <p:nvPr/>
        </p:nvPicPr>
        <p:blipFill>
          <a:blip r:embed="rId2"/>
          <a:stretch/>
        </p:blipFill>
        <p:spPr>
          <a:xfrm>
            <a:off x="450720" y="249120"/>
            <a:ext cx="8541000" cy="116532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71320" y="500040"/>
            <a:ext cx="8001000" cy="5857920"/>
          </a:xfrm>
          <a:prstGeom prst="rect">
            <a:avLst/>
          </a:prstGeom>
          <a:noFill/>
          <a:ln w="9360">
            <a:solidFill>
              <a:srgbClr val="ff0000"/>
            </a:solidFill>
            <a:miter/>
          </a:ln>
        </p:spPr>
        <p:txBody>
          <a:bodyPr anchor="t">
            <a:normAutofit fontScale="98000"/>
          </a:bodyPr>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ыкройте два прямоугольника 70 х 4 см для ручек, закруглите их короткие края. Стачайте каждый из них с лицевой стороны по длине, не дотачивая до края 6 см. Вставьте в каждую ручку толстую веревку. Настрочите ручки на боковые стороны, выровняв их.</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На заднюю сторону настрочите петлю из красного кожзаменителя. Для этого выкройте полосу 22 х 2 см и стачайте с лицевой стороны, выровняв края. Сложите полосу пополам и пристрочите к задней части сумки на расстоянии 5 см от верха сумки. Шов можно спрятать за прямоугольником 5 х 4 см, нашив его на месте закрепления петли. С лицевой стороны сумки пришейте красную  пуговицу</a:t>
            </a:r>
            <a:r>
              <a:rPr b="0" lang="ru-RU" sz="1400" spc="-1" strike="noStrike">
                <a:solidFill>
                  <a:srgbClr val="ffffff"/>
                </a:solidFill>
                <a:latin typeface="Cambria"/>
              </a:rPr>
              <a:t>.</a:t>
            </a:r>
            <a:endParaRPr b="0" lang="en-US" sz="1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4" descr=""/>
          <p:cNvPicPr/>
          <p:nvPr/>
        </p:nvPicPr>
        <p:blipFill>
          <a:blip r:embed="rId1"/>
          <a:stretch/>
        </p:blipFill>
        <p:spPr>
          <a:xfrm>
            <a:off x="5694480" y="92160"/>
            <a:ext cx="3443040" cy="1334880"/>
          </a:xfrm>
          <a:prstGeom prst="rect">
            <a:avLst/>
          </a:prstGeom>
          <a:ln w="0">
            <a:noFill/>
          </a:ln>
        </p:spPr>
      </p:pic>
      <p:pic>
        <p:nvPicPr>
          <p:cNvPr id="405" name="Рисунок 5" descr="http://www.quilters.ru/_0_pic_quilters_2010/apr_2010/jap-quilt-festival--14-w.jpg"/>
          <p:cNvPicPr/>
          <p:nvPr/>
        </p:nvPicPr>
        <p:blipFill>
          <a:blip r:embed="rId2"/>
          <a:stretch/>
        </p:blipFill>
        <p:spPr>
          <a:xfrm>
            <a:off x="7215120" y="1643040"/>
            <a:ext cx="1571760" cy="2071800"/>
          </a:xfrm>
          <a:prstGeom prst="rect">
            <a:avLst/>
          </a:prstGeom>
          <a:ln w="28440">
            <a:solidFill>
              <a:srgbClr val="ffff00"/>
            </a:solidFill>
            <a:miter/>
          </a:ln>
        </p:spPr>
      </p:pic>
      <p:pic>
        <p:nvPicPr>
          <p:cNvPr id="406" name="Рисунок 7" descr="http://www.quilters.ru/_0_pic_quilters_2010/apr_2010/jap-quilt-festival--15-w.jpg"/>
          <p:cNvPicPr/>
          <p:nvPr/>
        </p:nvPicPr>
        <p:blipFill>
          <a:blip r:embed="rId3"/>
          <a:stretch/>
        </p:blipFill>
        <p:spPr>
          <a:xfrm>
            <a:off x="4572000" y="4786200"/>
            <a:ext cx="1500120" cy="1714680"/>
          </a:xfrm>
          <a:prstGeom prst="rect">
            <a:avLst/>
          </a:prstGeom>
          <a:ln w="28440">
            <a:solidFill>
              <a:srgbClr val="ffff00"/>
            </a:solidFill>
            <a:miter/>
          </a:ln>
        </p:spPr>
      </p:pic>
      <p:pic>
        <p:nvPicPr>
          <p:cNvPr id="407" name="Рисунок 11" descr="http://www.quilters.ru/_0_pic_quilters_2010/apr_2010/jap-quilt-festival--142w.jpg"/>
          <p:cNvPicPr/>
          <p:nvPr/>
        </p:nvPicPr>
        <p:blipFill>
          <a:blip r:embed="rId4"/>
          <a:stretch/>
        </p:blipFill>
        <p:spPr>
          <a:xfrm>
            <a:off x="642960" y="571680"/>
            <a:ext cx="2143080" cy="1857240"/>
          </a:xfrm>
          <a:prstGeom prst="rect">
            <a:avLst/>
          </a:prstGeom>
          <a:ln w="28440">
            <a:solidFill>
              <a:srgbClr val="ffff00"/>
            </a:solidFill>
            <a:miter/>
          </a:ln>
        </p:spPr>
      </p:pic>
      <p:pic>
        <p:nvPicPr>
          <p:cNvPr id="408" name="Рисунок 9" descr="http://www.quilters.ru/_0_pic_quilters_2010/apr_2010/jpp-049-w.jpg"/>
          <p:cNvPicPr/>
          <p:nvPr/>
        </p:nvPicPr>
        <p:blipFill>
          <a:blip r:embed="rId5"/>
          <a:stretch/>
        </p:blipFill>
        <p:spPr>
          <a:xfrm>
            <a:off x="6286680" y="4071960"/>
            <a:ext cx="2428560" cy="2000160"/>
          </a:xfrm>
          <a:prstGeom prst="rect">
            <a:avLst/>
          </a:prstGeom>
          <a:ln w="28440">
            <a:solidFill>
              <a:srgbClr val="ffff00"/>
            </a:solidFill>
            <a:miter/>
          </a:ln>
        </p:spPr>
      </p:pic>
      <p:pic>
        <p:nvPicPr>
          <p:cNvPr id="409" name="Рисунок 8" descr="http://www.quilters.ru/_0_pic_quilters_2010/apr_2010/jap-quilt-festival--79-w.-j.jpg"/>
          <p:cNvPicPr/>
          <p:nvPr/>
        </p:nvPicPr>
        <p:blipFill>
          <a:blip r:embed="rId6"/>
          <a:stretch/>
        </p:blipFill>
        <p:spPr>
          <a:xfrm>
            <a:off x="4500720" y="2143080"/>
            <a:ext cx="2361960" cy="2000160"/>
          </a:xfrm>
          <a:prstGeom prst="rect">
            <a:avLst/>
          </a:prstGeom>
          <a:ln w="28440">
            <a:solidFill>
              <a:srgbClr val="ffff00"/>
            </a:solidFill>
            <a:miter/>
          </a:ln>
        </p:spPr>
      </p:pic>
      <p:pic>
        <p:nvPicPr>
          <p:cNvPr id="410" name="Рисунок 10" descr="http://www.quilters.ru/_0_pic_quilters_2010/apr_2010/jpp-045w.jpg"/>
          <p:cNvPicPr/>
          <p:nvPr/>
        </p:nvPicPr>
        <p:blipFill>
          <a:blip r:embed="rId7"/>
          <a:stretch/>
        </p:blipFill>
        <p:spPr>
          <a:xfrm>
            <a:off x="3214800" y="357120"/>
            <a:ext cx="1738080" cy="2857680"/>
          </a:xfrm>
          <a:prstGeom prst="rect">
            <a:avLst/>
          </a:prstGeom>
          <a:ln w="28440">
            <a:solidFill>
              <a:srgbClr val="ffff00"/>
            </a:solidFill>
            <a:miter/>
          </a:ln>
        </p:spPr>
      </p:pic>
      <p:pic>
        <p:nvPicPr>
          <p:cNvPr id="411" name="Picture 2" descr="C:\Users\Татьяна\Documents\Мои результаты сканирования\2010-05 (май)\сканирование0085.jpg"/>
          <p:cNvPicPr/>
          <p:nvPr/>
        </p:nvPicPr>
        <p:blipFill>
          <a:blip r:embed="rId8"/>
          <a:stretch/>
        </p:blipFill>
        <p:spPr>
          <a:xfrm>
            <a:off x="500040" y="4572000"/>
            <a:ext cx="1643040" cy="1971720"/>
          </a:xfrm>
          <a:prstGeom prst="rect">
            <a:avLst/>
          </a:prstGeom>
          <a:ln w="28440">
            <a:solidFill>
              <a:srgbClr val="ffff00"/>
            </a:solidFill>
            <a:miter/>
          </a:ln>
        </p:spPr>
      </p:pic>
      <p:pic>
        <p:nvPicPr>
          <p:cNvPr id="412" name="Picture 3" descr="C:\Users\Татьяна\Documents\Мои результаты сканирования\2010-05 (май)\сканирование0090.jpg"/>
          <p:cNvPicPr/>
          <p:nvPr/>
        </p:nvPicPr>
        <p:blipFill>
          <a:blip r:embed="rId9"/>
          <a:stretch/>
        </p:blipFill>
        <p:spPr>
          <a:xfrm>
            <a:off x="2484360" y="4143240"/>
            <a:ext cx="1895400" cy="2143440"/>
          </a:xfrm>
          <a:prstGeom prst="rect">
            <a:avLst/>
          </a:prstGeom>
          <a:ln w="28440">
            <a:solidFill>
              <a:srgbClr val="ffff00"/>
            </a:solidFill>
            <a:miter/>
          </a:ln>
        </p:spPr>
      </p:pic>
      <p:pic>
        <p:nvPicPr>
          <p:cNvPr id="413" name="Рисунок 12" descr="http://www.quilters.ru/6web.jpg"/>
          <p:cNvPicPr/>
          <p:nvPr/>
        </p:nvPicPr>
        <p:blipFill>
          <a:blip r:embed="rId10"/>
          <a:stretch/>
        </p:blipFill>
        <p:spPr>
          <a:xfrm>
            <a:off x="357120" y="2714760"/>
            <a:ext cx="2500560" cy="1714320"/>
          </a:xfrm>
          <a:prstGeom prst="rect">
            <a:avLst/>
          </a:prstGeom>
          <a:ln w="28440">
            <a:solidFill>
              <a:srgbClr val="ffff00"/>
            </a:solidFill>
            <a:miter/>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500040" y="500040"/>
            <a:ext cx="8072640" cy="5572080"/>
          </a:xfrm>
          <a:prstGeom prst="rect">
            <a:avLst/>
          </a:prstGeom>
          <a:noFill/>
          <a:ln w="9360">
            <a:solidFill>
              <a:srgbClr val="ff0000"/>
            </a:solidFill>
            <a:miter/>
          </a:ln>
        </p:spPr>
        <p:txBody>
          <a:bodyPr anchor="t">
            <a:normAutofit fontScale="99000"/>
          </a:bodyPr>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Из фиолетовой ткани выкройте подкладку для сумки. Стачайте прямоугольное  днище подкладки с двумя боковыми сторонами подкладки.</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Стачайте прямоугольник из кожзаменителя с боковыми сторонами сумки.</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Вставьте подкладку в сумку и подшейте ее вручную.</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Обработайте боковые стороны сумки косичкой, сплетенной из оранжевой веревки, нашивая ее вручную по стыку днища и боковой стороны.</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4" descr=""/>
          <p:cNvPicPr/>
          <p:nvPr/>
        </p:nvPicPr>
        <p:blipFill>
          <a:blip r:embed="rId1"/>
          <a:stretch/>
        </p:blipFill>
        <p:spPr>
          <a:xfrm>
            <a:off x="450720" y="249120"/>
            <a:ext cx="8467920" cy="1158840"/>
          </a:xfrm>
          <a:prstGeom prst="rect">
            <a:avLst/>
          </a:prstGeom>
          <a:ln w="0">
            <a:noFill/>
          </a:ln>
        </p:spPr>
      </p:pic>
      <p:pic>
        <p:nvPicPr>
          <p:cNvPr id="467" name="Picture 3" descr="C:\Users\Татьяна\Documents\Мои результаты сканирования\2010-05 (май)\сканирование0090.jpg"/>
          <p:cNvPicPr/>
          <p:nvPr/>
        </p:nvPicPr>
        <p:blipFill>
          <a:blip r:embed="rId2"/>
          <a:stretch/>
        </p:blipFill>
        <p:spPr>
          <a:xfrm>
            <a:off x="500040" y="1646280"/>
            <a:ext cx="3786120" cy="4782960"/>
          </a:xfrm>
          <a:prstGeom prst="rect">
            <a:avLst/>
          </a:prstGeom>
          <a:ln w="28440">
            <a:solidFill>
              <a:srgbClr val="000000"/>
            </a:solidFill>
            <a:miter/>
          </a:ln>
        </p:spPr>
      </p:pic>
      <p:sp>
        <p:nvSpPr>
          <p:cNvPr id="468" name=""/>
          <p:cNvSpPr txBox="1"/>
          <p:nvPr/>
        </p:nvSpPr>
        <p:spPr>
          <a:xfrm>
            <a:off x="4648320" y="1646280"/>
            <a:ext cx="4038480" cy="4782960"/>
          </a:xfrm>
          <a:prstGeom prst="rect">
            <a:avLst/>
          </a:prstGeom>
          <a:noFill/>
          <a:ln w="28440">
            <a:solidFill>
              <a:srgbClr val="000000"/>
            </a:solidFill>
            <a:miter/>
          </a:ln>
        </p:spPr>
        <p:txBody>
          <a:bodyPr anchor="t">
            <a:normAutofit fontScale="98000"/>
          </a:bodyPr>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Материалы .</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тарые джинсы</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кань в полоску (подходящую по плотности)</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леевая ткань или дублерин</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Металлическая пуговица</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Белый или цветной шнурок</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Английская булавка для плетения</a:t>
            </a:r>
            <a:endParaRPr b="0" lang="en-US" sz="2400" spc="-1" strike="noStrike">
              <a:solidFill>
                <a:srgbClr val="ffffff"/>
              </a:solidFill>
              <a:latin typeface="Cambria"/>
            </a:endParaRPr>
          </a:p>
        </p:txBody>
      </p:sp>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C:\Users\Татьяна\Documents\Мои результаты сканирования\2010-05 (май)\сканирование0091.jpg"/>
          <p:cNvPicPr/>
          <p:nvPr/>
        </p:nvPicPr>
        <p:blipFill>
          <a:blip r:embed="rId1"/>
          <a:stretch/>
        </p:blipFill>
        <p:spPr>
          <a:xfrm>
            <a:off x="642960" y="1785960"/>
            <a:ext cx="8001000" cy="4500720"/>
          </a:xfrm>
          <a:prstGeom prst="rect">
            <a:avLst/>
          </a:prstGeom>
          <a:ln w="38160">
            <a:solidFill>
              <a:srgbClr val="000000"/>
            </a:solidFill>
            <a:miter/>
          </a:ln>
        </p:spPr>
      </p:pic>
      <p:pic>
        <p:nvPicPr>
          <p:cNvPr id="470" name="Заголовок 4" descr=""/>
          <p:cNvPicPr/>
          <p:nvPr/>
        </p:nvPicPr>
        <p:blipFill>
          <a:blip r:embed="rId2"/>
          <a:stretch/>
        </p:blipFill>
        <p:spPr>
          <a:xfrm>
            <a:off x="450720" y="249120"/>
            <a:ext cx="8541000" cy="116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571320" y="428760"/>
            <a:ext cx="8157960" cy="5929200"/>
          </a:xfrm>
          <a:prstGeom prst="rect">
            <a:avLst/>
          </a:prstGeom>
          <a:noFill/>
          <a:ln w="9360">
            <a:solidFill>
              <a:srgbClr val="ff0000"/>
            </a:solidFill>
            <a:miter/>
          </a:ln>
        </p:spPr>
        <p:txBody>
          <a:bodyPr anchor="t">
            <a:normAutofit fontScale="99000"/>
          </a:bodyPr>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Ход работы:</a:t>
            </a:r>
            <a:endParaRPr b="0" lang="en-US" sz="24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Распорите джинсы, можно просто вырезать швы. Сделайте выкройку и, распределив ткань, выкройте детали рюкзака по схеме 1. Части с карманами могут пойти на боковую часть рюкзака - это значительно облегчит работу и украсит рюкзак.</a:t>
            </a:r>
            <a:endParaRPr b="0" lang="en-US" sz="24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2 Приготовьте основу (это может быть даже стул), в которую можно вкалывать бу­лавки. Положите рыхлую ткань: на ней вы будете выполнять плетение. Нарежьте 1 3 полоски из синей джинсовой ткани длиной 40 см и шириной 2 см (можно сделать полоски уже, тогда плетение будет мельче). Полосы можно не обрабатывать – при </a:t>
            </a:r>
            <a:r>
              <a:rPr b="0" lang="ru-RU" sz="2400" spc="-1" strike="noStrike">
                <a:solidFill>
                  <a:srgbClr val="ffffff"/>
                </a:solidFill>
                <a:latin typeface="Cambria"/>
              </a:rPr>
              <a:t> </a:t>
            </a:r>
            <a:r>
              <a:rPr b="0" lang="ru-RU" sz="2400" spc="-1" strike="noStrike">
                <a:solidFill>
                  <a:srgbClr val="ffff00"/>
                </a:solidFill>
                <a:latin typeface="Cambria"/>
              </a:rPr>
              <a:t>ношении лохматые края придадут рюкзаку большую оригинальность.</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42960" y="500040"/>
            <a:ext cx="7858080" cy="5672160"/>
          </a:xfrm>
          <a:prstGeom prst="rect">
            <a:avLst/>
          </a:prstGeom>
          <a:noFill/>
          <a:ln w="9360">
            <a:solidFill>
              <a:srgbClr val="ff0000"/>
            </a:solidFill>
            <a:miter/>
          </a:ln>
        </p:spPr>
        <p:txBody>
          <a:bodyPr anchor="t">
            <a:normAutofit fontScale="94000"/>
          </a:bodyPr>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ыкройте полоски из полосатой джинсовой ткани длиной 24 см и шириной 2 см. Натяните достаточно близко друг к другу и закрепите шпильками синие полоски изнаночной стороной вверх. Старайтесь не оставлять просветы между полосками. Начи­найте переплетать короткие полоски (изнаночной стороной) под углом 450, прикалывая их в начале и в конце шпильками (см. схему  2).</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Закончив плетение, наложите на выполненную деталь клеевую ткань или дублерин, слегка смочите и проутюжьте, чтобы укрепить плетенку. Прострочите по периметру плетения для закрепления краев. Можно отстрочить и вдоль полос для придания прочности и декоративности.</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C:\Users\Татьяна\Documents\Мои результаты сканирования\2010-05 (май)\сканирование0088.jpg"/>
          <p:cNvPicPr/>
          <p:nvPr/>
        </p:nvPicPr>
        <p:blipFill>
          <a:blip r:embed="rId1"/>
          <a:stretch/>
        </p:blipFill>
        <p:spPr>
          <a:xfrm>
            <a:off x="571680" y="1785960"/>
            <a:ext cx="8015040" cy="4500720"/>
          </a:xfrm>
          <a:prstGeom prst="rect">
            <a:avLst/>
          </a:prstGeom>
          <a:ln w="38160">
            <a:solidFill>
              <a:srgbClr val="000000"/>
            </a:solidFill>
            <a:miter/>
          </a:ln>
        </p:spPr>
      </p:pic>
      <p:pic>
        <p:nvPicPr>
          <p:cNvPr id="474" name="Заголовок 2" descr=""/>
          <p:cNvPicPr/>
          <p:nvPr/>
        </p:nvPicPr>
        <p:blipFill>
          <a:blip r:embed="rId2"/>
          <a:stretch/>
        </p:blipFill>
        <p:spPr>
          <a:xfrm>
            <a:off x="450720" y="249120"/>
            <a:ext cx="8394840" cy="116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42960" y="285840"/>
            <a:ext cx="8143920" cy="628632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тачайте плетение и детали 1 и 2. Стачайте по низу с деталью 3. Со стороны задней части нашейте клапан рюкзака, сострочив его из двух половинок (деталь 4) и настрочив на него готовую, взятую с пояса джинсов  петлю.</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шейте боковые стороны - детали 5.</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о верху рюкзака сделайте отворот на изнанку высотой 3 см для вдевания  шнуpa. С лицевой стороны, там, где стыкуется плетение и детали 1 и 2, оставьте выход для шнура (можно подпороть и вручную наложить швы, закрепляющие отверстия.) Вставьте шнурок.  Пришейте пуговицу.</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 качестве лямок используйте пояса старых джинсов: их не надо уже выкраивать и сострачивать. Иногда они отделаны заклепками или змейками, что дополните -льно  украсит ваш рюкзак. Настрочите лямки вверху, у основания клапана, и внизу, у нижнего шва.</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Заголовок 1" descr=""/>
          <p:cNvPicPr/>
          <p:nvPr/>
        </p:nvPicPr>
        <p:blipFill>
          <a:blip r:embed="rId1"/>
          <a:stretch/>
        </p:blipFill>
        <p:spPr>
          <a:xfrm>
            <a:off x="633240" y="-19080"/>
            <a:ext cx="8461440" cy="1311480"/>
          </a:xfrm>
          <a:prstGeom prst="rect">
            <a:avLst/>
          </a:prstGeom>
          <a:ln w="0">
            <a:noFill/>
          </a:ln>
        </p:spPr>
      </p:pic>
      <p:sp>
        <p:nvSpPr>
          <p:cNvPr id="477" name=""/>
          <p:cNvSpPr txBox="1"/>
          <p:nvPr/>
        </p:nvSpPr>
        <p:spPr>
          <a:xfrm>
            <a:off x="3357360" y="1571760"/>
            <a:ext cx="5429160" cy="5000400"/>
          </a:xfrm>
          <a:prstGeom prst="rect">
            <a:avLst/>
          </a:prstGeom>
          <a:noFill/>
          <a:ln w="9360">
            <a:solidFill>
              <a:srgbClr val="ff0000"/>
            </a:solidFill>
            <a:miter/>
          </a:ln>
        </p:spPr>
        <p:txBody>
          <a:bodyPr anchor="t">
            <a:normAutofit fontScale="95000"/>
          </a:bodyPr>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Работа над мелкими вещами не требует больших усилий и времени. Но при этом оттачивается мастерство и отрабатываются новые приемы. Как сделать очечник, в котором декоративные швы и аппликация помещены под слой органзы?</a:t>
            </a:r>
            <a:endParaRPr b="0" lang="en-US" sz="24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Для многих очечник ­ вещь необходимая, но он может стать еще и        прекрас­ным дополнением  к туалету или  подарком.</a:t>
            </a:r>
            <a:endParaRPr b="0" lang="en-US" sz="24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pic>
        <p:nvPicPr>
          <p:cNvPr id="478" name="Picture 2" descr="C:\Users\Татьяна\Documents\Мои результаты сканирования\2010-05 (май)\сканирование0096.jpg"/>
          <p:cNvPicPr/>
          <p:nvPr/>
        </p:nvPicPr>
        <p:blipFill>
          <a:blip r:embed="rId2"/>
          <a:stretch/>
        </p:blipFill>
        <p:spPr>
          <a:xfrm>
            <a:off x="428760" y="1571760"/>
            <a:ext cx="2714400" cy="4978440"/>
          </a:xfrm>
          <a:prstGeom prst="rect">
            <a:avLst/>
          </a:prstGeom>
          <a:ln w="38160">
            <a:solidFill>
              <a:srgbClr val="000000"/>
            </a:solidFill>
            <a:miter/>
          </a:ln>
        </p:spPr>
      </p:pic>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Заголовок 1" descr=""/>
          <p:cNvPicPr/>
          <p:nvPr/>
        </p:nvPicPr>
        <p:blipFill>
          <a:blip r:embed="rId1"/>
          <a:stretch/>
        </p:blipFill>
        <p:spPr>
          <a:xfrm>
            <a:off x="450720" y="249120"/>
            <a:ext cx="8541000" cy="1165320"/>
          </a:xfrm>
          <a:prstGeom prst="rect">
            <a:avLst/>
          </a:prstGeom>
          <a:ln w="0">
            <a:noFill/>
          </a:ln>
        </p:spPr>
      </p:pic>
      <p:sp>
        <p:nvSpPr>
          <p:cNvPr id="480" name=""/>
          <p:cNvSpPr txBox="1"/>
          <p:nvPr/>
        </p:nvSpPr>
        <p:spPr>
          <a:xfrm>
            <a:off x="456840" y="1571760"/>
            <a:ext cx="4614840" cy="500040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Материалы </a:t>
            </a:r>
            <a:r>
              <a:rPr b="0" lang="en-US" sz="2800" spc="-1" strike="noStrike">
                <a:solidFill>
                  <a:srgbClr val="ffff00"/>
                </a:solidFill>
                <a:latin typeface="Rockwell"/>
              </a:rPr>
              <a:t>:</a:t>
            </a:r>
            <a:endParaRPr b="0" lang="en-US" sz="28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кань</a:t>
            </a:r>
            <a:r>
              <a:rPr b="0" lang="ru-RU" sz="2400" spc="-1" strike="noStrike">
                <a:solidFill>
                  <a:srgbClr val="ffff00"/>
                </a:solidFill>
                <a:latin typeface="Cambria"/>
              </a:rPr>
              <a:t> и набор лоскутов для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Лицевой</a:t>
            </a:r>
            <a:r>
              <a:rPr b="0" lang="en-US" sz="2400" spc="-1" strike="noStrike">
                <a:solidFill>
                  <a:srgbClr val="ffff00"/>
                </a:solidFill>
                <a:latin typeface="Rockwell"/>
              </a:rPr>
              <a:t> </a:t>
            </a:r>
            <a:r>
              <a:rPr b="0" lang="ru-RU" sz="2400" spc="-1" strike="noStrike">
                <a:solidFill>
                  <a:srgbClr val="ffff00"/>
                </a:solidFill>
                <a:latin typeface="Cambria"/>
              </a:rPr>
              <a:t> и оборотной сторон</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очечника</a:t>
            </a:r>
            <a:r>
              <a:rPr b="0" lang="en-US" sz="2400" spc="-1" strike="noStrike">
                <a:solidFill>
                  <a:srgbClr val="ffff00"/>
                </a:solidFill>
                <a:latin typeface="Rockwell"/>
              </a:rPr>
              <a:t> </a:t>
            </a:r>
            <a:r>
              <a:rPr b="0" lang="ru-RU" sz="2400" spc="-1" strike="noStrike">
                <a:solidFill>
                  <a:srgbClr val="ffff00"/>
                </a:solidFill>
                <a:latin typeface="Cambria"/>
              </a:rPr>
              <a:t> (особенно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нимательно надо подойти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 подбору  тканей, если обе</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стороны изделия лицевые,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 е. декоративные);  плотный  </a:t>
            </a:r>
            <a:r>
              <a:rPr b="0" lang="ru-RU" sz="2000" spc="-1" strike="noStrike">
                <a:solidFill>
                  <a:srgbClr val="ffff00"/>
                </a:solidFill>
                <a:latin typeface="Cambria"/>
              </a:rPr>
              <a:t>флизелин</a:t>
            </a:r>
            <a:r>
              <a:rPr b="0" lang="ru-RU" sz="2400" spc="-1" strike="noStrike">
                <a:solidFill>
                  <a:srgbClr val="ffff00"/>
                </a:solidFill>
                <a:latin typeface="Cambria"/>
              </a:rPr>
              <a:t>  для прокладок;</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кань для подкладки; </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осая бейка для  обработки краев;</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утаж или кожаный шнурок</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81" name=""/>
          <p:cNvSpPr txBox="1"/>
          <p:nvPr/>
        </p:nvSpPr>
        <p:spPr>
          <a:xfrm>
            <a:off x="5214600" y="1571760"/>
            <a:ext cx="3500280" cy="49291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Изготовление очечника, как и других бытовых предметов в лоскутной технике, сводится к трем этапам: рас­ крой, декоративная обработка лицевой поверхности и сборка.</a:t>
            </a:r>
            <a:endParaRPr b="0" lang="en-US" sz="24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4" descr=""/>
          <p:cNvPicPr/>
          <p:nvPr/>
        </p:nvPicPr>
        <p:blipFill>
          <a:blip r:embed="rId1"/>
          <a:stretch/>
        </p:blipFill>
        <p:spPr>
          <a:xfrm>
            <a:off x="450720" y="249120"/>
            <a:ext cx="9126720" cy="1165320"/>
          </a:xfrm>
          <a:prstGeom prst="rect">
            <a:avLst/>
          </a:prstGeom>
          <a:ln w="0">
            <a:noFill/>
          </a:ln>
        </p:spPr>
      </p:pic>
      <p:sp>
        <p:nvSpPr>
          <p:cNvPr id="483" name=""/>
          <p:cNvSpPr txBox="1"/>
          <p:nvPr/>
        </p:nvSpPr>
        <p:spPr>
          <a:xfrm>
            <a:off x="457200" y="1645920"/>
            <a:ext cx="8229600" cy="4854600"/>
          </a:xfrm>
          <a:prstGeom prst="rect">
            <a:avLst/>
          </a:prstGeom>
          <a:noFill/>
          <a:ln w="28440">
            <a:solidFill>
              <a:srgbClr val="c0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Вырежьте по одному</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r>
              <a:rPr b="0" lang="ru-RU" sz="3200" spc="-1" strike="noStrike">
                <a:solidFill>
                  <a:srgbClr val="ffff00"/>
                </a:solidFill>
                <a:latin typeface="Cambria"/>
              </a:rPr>
              <a:t>шаблону лицевую и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оборотную стороны,</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r>
              <a:rPr b="0" lang="ru-RU" sz="3200" spc="-1" strike="noStrike">
                <a:solidFill>
                  <a:srgbClr val="ffff00"/>
                </a:solidFill>
                <a:latin typeface="Cambria"/>
              </a:rPr>
              <a:t>две прокладки и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две подкладки.</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84" name="Picture 2" descr="C:\Users\Татьяна\Documents\Мои результаты сканирования\2010-05 (май)\сканирование0096.jpg"/>
          <p:cNvPicPr/>
          <p:nvPr/>
        </p:nvPicPr>
        <p:blipFill>
          <a:blip r:embed="rId2"/>
          <a:stretch/>
        </p:blipFill>
        <p:spPr>
          <a:xfrm>
            <a:off x="4643280" y="1857240"/>
            <a:ext cx="3857760" cy="42865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F:\DCIM\100CASIO\лоскутная тех курсы\CIMG1756.JPG"/>
          <p:cNvPicPr/>
          <p:nvPr/>
        </p:nvPicPr>
        <p:blipFill>
          <a:blip r:embed="rId1"/>
          <a:stretch/>
        </p:blipFill>
        <p:spPr>
          <a:xfrm>
            <a:off x="3786120" y="2357280"/>
            <a:ext cx="1928880" cy="1428840"/>
          </a:xfrm>
          <a:prstGeom prst="rect">
            <a:avLst/>
          </a:prstGeom>
          <a:ln w="28440">
            <a:solidFill>
              <a:srgbClr val="101022"/>
            </a:solidFill>
            <a:miter/>
          </a:ln>
        </p:spPr>
      </p:pic>
      <p:pic>
        <p:nvPicPr>
          <p:cNvPr id="415" name="Рисунок 2" descr="тот же квадрат над плоскостью">
            <a:hlinkClick r:id="rId2"/>
          </p:cNvPr>
          <p:cNvPicPr/>
          <p:nvPr/>
        </p:nvPicPr>
        <p:blipFill>
          <a:blip r:embed="rId3"/>
          <a:stretch/>
        </p:blipFill>
        <p:spPr>
          <a:xfrm>
            <a:off x="3643200" y="4429080"/>
            <a:ext cx="2286000" cy="1733760"/>
          </a:xfrm>
          <a:prstGeom prst="rect">
            <a:avLst/>
          </a:prstGeom>
          <a:ln w="0">
            <a:noFill/>
          </a:ln>
        </p:spPr>
      </p:pic>
      <p:pic>
        <p:nvPicPr>
          <p:cNvPr id="416" name="Рисунок 3" descr="и тут тоже секрет. если разгадать, то все очень просто ))">
            <a:hlinkClick r:id="rId4"/>
          </p:cNvPr>
          <p:cNvPicPr/>
          <p:nvPr/>
        </p:nvPicPr>
        <p:blipFill>
          <a:blip r:embed="rId5"/>
          <a:stretch/>
        </p:blipFill>
        <p:spPr>
          <a:xfrm>
            <a:off x="6072120" y="642960"/>
            <a:ext cx="1438200" cy="1714320"/>
          </a:xfrm>
          <a:prstGeom prst="rect">
            <a:avLst/>
          </a:prstGeom>
          <a:ln w="0">
            <a:noFill/>
          </a:ln>
        </p:spPr>
      </p:pic>
      <p:pic>
        <p:nvPicPr>
          <p:cNvPr id="417" name="Рисунок 4" descr="сборка знакомых  блоков">
            <a:hlinkClick r:id="rId6"/>
          </p:cNvPr>
          <p:cNvPicPr/>
          <p:nvPr/>
        </p:nvPicPr>
        <p:blipFill>
          <a:blip r:embed="rId7"/>
          <a:stretch/>
        </p:blipFill>
        <p:spPr>
          <a:xfrm>
            <a:off x="1000080" y="4214880"/>
            <a:ext cx="1785960" cy="1928880"/>
          </a:xfrm>
          <a:prstGeom prst="rect">
            <a:avLst/>
          </a:prstGeom>
          <a:ln w="0">
            <a:noFill/>
          </a:ln>
        </p:spPr>
      </p:pic>
      <p:pic>
        <p:nvPicPr>
          <p:cNvPr id="418" name="Рисунок 7" descr="F:\DCIM\100CASIO\лоскутная тех курсы\CIMG2017.JPG"/>
          <p:cNvPicPr/>
          <p:nvPr/>
        </p:nvPicPr>
        <p:blipFill>
          <a:blip r:embed="rId8"/>
          <a:stretch/>
        </p:blipFill>
        <p:spPr>
          <a:xfrm>
            <a:off x="7000920" y="2571840"/>
            <a:ext cx="1500120" cy="1857240"/>
          </a:xfrm>
          <a:prstGeom prst="rect">
            <a:avLst/>
          </a:prstGeom>
          <a:ln w="0">
            <a:noFill/>
          </a:ln>
        </p:spPr>
      </p:pic>
      <p:pic>
        <p:nvPicPr>
          <p:cNvPr id="419" name="Рисунок 13" descr="F:\DCIM\100CASIO\лоскутная тех курсы\CIMG1757.JPG"/>
          <p:cNvPicPr/>
          <p:nvPr/>
        </p:nvPicPr>
        <p:blipFill>
          <a:blip r:embed="rId9"/>
          <a:stretch/>
        </p:blipFill>
        <p:spPr>
          <a:xfrm>
            <a:off x="3071880" y="785880"/>
            <a:ext cx="1714320" cy="1214280"/>
          </a:xfrm>
          <a:prstGeom prst="rect">
            <a:avLst/>
          </a:prstGeom>
          <a:ln w="0">
            <a:noFill/>
          </a:ln>
        </p:spPr>
      </p:pic>
      <p:pic>
        <p:nvPicPr>
          <p:cNvPr id="420" name="Рисунок 14" descr="F:\DCIM\100CASIO\лоскутная тех курсы\CIMG1758.JPG"/>
          <p:cNvPicPr/>
          <p:nvPr/>
        </p:nvPicPr>
        <p:blipFill>
          <a:blip r:embed="rId10"/>
          <a:stretch/>
        </p:blipFill>
        <p:spPr>
          <a:xfrm>
            <a:off x="642960" y="857160"/>
            <a:ext cx="2011320" cy="2714760"/>
          </a:xfrm>
          <a:prstGeom prst="rect">
            <a:avLst/>
          </a:prstGeom>
          <a:ln w="0">
            <a:noFill/>
          </a:ln>
        </p:spPr>
      </p:pic>
      <p:pic>
        <p:nvPicPr>
          <p:cNvPr id="421" name="Рисунок 15" descr="F:\DCIM\100CASIO\лоскутная тех курсы\CIMG1996.JPG"/>
          <p:cNvPicPr/>
          <p:nvPr/>
        </p:nvPicPr>
        <p:blipFill>
          <a:blip r:embed="rId11"/>
          <a:stretch/>
        </p:blipFill>
        <p:spPr>
          <a:xfrm>
            <a:off x="6786720" y="4929120"/>
            <a:ext cx="1452240" cy="140976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71680" y="428760"/>
            <a:ext cx="8229600" cy="5929200"/>
          </a:xfrm>
          <a:prstGeom prst="rect">
            <a:avLst/>
          </a:prstGeom>
          <a:noFill/>
          <a:ln w="9360">
            <a:solidFill>
              <a:srgbClr val="ff0000"/>
            </a:solidFill>
            <a:miter/>
          </a:ln>
        </p:spPr>
        <p:txBody>
          <a:bodyPr anchor="t">
            <a:normAutofit fontScale="99000"/>
          </a:bodyPr>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Положите ткань на прокладку и выполните аппликацию для лицевой     поверхности очечника. Соедините эту заготовку с подкладкой портновскими булавками и обработайте верхний край (горло) косой бейкой ши­риной 3 см.</a:t>
            </a:r>
            <a:endParaRPr b="0" lang="en-US" sz="3200" spc="-1" strike="noStrike">
              <a:solidFill>
                <a:srgbClr val="ffffff"/>
              </a:solidFill>
              <a:latin typeface="Cambria"/>
            </a:endParaRPr>
          </a:p>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Сколите вместе ткань или лоскутный набор  оборотной стороны очечника, прокладку и подкладку. Обработайте бейкой  и эту часть горла очечника.</a:t>
            </a:r>
            <a:endParaRPr b="0" lang="en-US" sz="3200" spc="-1" strike="noStrike">
              <a:solidFill>
                <a:srgbClr val="ffffff"/>
              </a:solidFill>
              <a:latin typeface="Cambria"/>
            </a:endParaRPr>
          </a:p>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28760" y="571320"/>
            <a:ext cx="8229600" cy="5568840"/>
          </a:xfrm>
          <a:prstGeom prst="rect">
            <a:avLst/>
          </a:prstGeom>
          <a:noFill/>
          <a:ln w="9360">
            <a:solidFill>
              <a:srgbClr val="ff0000"/>
            </a:solidFill>
            <a:miter/>
          </a:ln>
        </p:spPr>
        <p:txBody>
          <a:bodyPr anchor="t">
            <a:normAutofit fontScale="96000"/>
          </a:bodyPr>
          <a:p>
            <a:pPr marL="280080" indent="-28008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Сколите булавками под­готовленные лицевую и оборотную части очечника. Сшейте их по краю стачным швом или швом зигзаг, чтобы они не смещались при дальнейшей обработке  края. Закрепите концы шнурка швом зигзаг по  бокам очечника. Шнурок  может быть кожаным, сшитым из узкой полоски ткани или сплетенным из сутажа,  де­коративной тесьмы или шнура. Длина его - 78-80 см.</a:t>
            </a:r>
            <a:endParaRPr b="0" lang="en-US" sz="3200" spc="-1" strike="noStrike">
              <a:solidFill>
                <a:srgbClr val="ffffff"/>
              </a:solidFill>
              <a:latin typeface="Cambria"/>
            </a:endParaRPr>
          </a:p>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14240" y="928440"/>
            <a:ext cx="7515360" cy="5243400"/>
          </a:xfrm>
          <a:prstGeom prst="rect">
            <a:avLst/>
          </a:prstGeom>
          <a:noFill/>
          <a:ln w="9360">
            <a:solidFill>
              <a:srgbClr val="ff0000"/>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Настрочите косую бейку по краю с оборотной  стороны очечника. Не забудьте по концам бейки сделать прибавку на подгиб 1 см. Отогните бейку на лицо и пристрочите, подогнув  край.</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Заголовок 1" descr=""/>
          <p:cNvPicPr/>
          <p:nvPr/>
        </p:nvPicPr>
        <p:blipFill>
          <a:blip r:embed="rId1"/>
          <a:stretch/>
        </p:blipFill>
        <p:spPr>
          <a:xfrm>
            <a:off x="2567160" y="281160"/>
            <a:ext cx="4821120" cy="1163520"/>
          </a:xfrm>
          <a:prstGeom prst="rect">
            <a:avLst/>
          </a:prstGeom>
          <a:ln w="0">
            <a:noFill/>
          </a:ln>
        </p:spPr>
      </p:pic>
      <p:pic>
        <p:nvPicPr>
          <p:cNvPr id="489" name="Рисунок 3" descr="http://www.quilters.ru/_0_pic_quilters_2010/may_2010/rt1-w.jpg"/>
          <p:cNvPicPr/>
          <p:nvPr/>
        </p:nvPicPr>
        <p:blipFill>
          <a:blip r:embed="rId2"/>
          <a:stretch/>
        </p:blipFill>
        <p:spPr>
          <a:xfrm>
            <a:off x="5929200" y="4857840"/>
            <a:ext cx="1357560" cy="1071360"/>
          </a:xfrm>
          <a:prstGeom prst="rect">
            <a:avLst/>
          </a:prstGeom>
          <a:ln w="0">
            <a:noFill/>
          </a:ln>
        </p:spPr>
      </p:pic>
      <p:pic>
        <p:nvPicPr>
          <p:cNvPr id="490" name="Содержимое 4" descr="http://www.quilters.ru/_0_pic_quilters_2010/may_2010/rt4w.jpg"/>
          <p:cNvPicPr/>
          <p:nvPr/>
        </p:nvPicPr>
        <p:blipFill>
          <a:blip r:embed="rId3"/>
          <a:stretch/>
        </p:blipFill>
        <p:spPr>
          <a:xfrm>
            <a:off x="1785960" y="5429160"/>
            <a:ext cx="1281240" cy="1143000"/>
          </a:xfrm>
          <a:prstGeom prst="rect">
            <a:avLst/>
          </a:prstGeom>
          <a:ln w="0">
            <a:noFill/>
          </a:ln>
        </p:spPr>
      </p:pic>
      <p:pic>
        <p:nvPicPr>
          <p:cNvPr id="491" name="Рисунок 5" descr="http://www.quilters.ru/_0_pic_quilters_2010/may_2010/rt6-w.jpg"/>
          <p:cNvPicPr/>
          <p:nvPr/>
        </p:nvPicPr>
        <p:blipFill>
          <a:blip r:embed="rId4"/>
          <a:stretch/>
        </p:blipFill>
        <p:spPr>
          <a:xfrm>
            <a:off x="5929200" y="2928960"/>
            <a:ext cx="1395360" cy="1285920"/>
          </a:xfrm>
          <a:prstGeom prst="rect">
            <a:avLst/>
          </a:prstGeom>
          <a:ln w="0">
            <a:noFill/>
          </a:ln>
        </p:spPr>
      </p:pic>
      <p:pic>
        <p:nvPicPr>
          <p:cNvPr id="492" name="Рисунок 7" descr="http://www.quilters.ru/_0_pic_quilters_2010/may_2010/rt94-w.jpg"/>
          <p:cNvPicPr/>
          <p:nvPr/>
        </p:nvPicPr>
        <p:blipFill>
          <a:blip r:embed="rId5"/>
          <a:stretch/>
        </p:blipFill>
        <p:spPr>
          <a:xfrm>
            <a:off x="2714760" y="1857240"/>
            <a:ext cx="1428480" cy="1357560"/>
          </a:xfrm>
          <a:prstGeom prst="rect">
            <a:avLst/>
          </a:prstGeom>
          <a:ln w="0">
            <a:noFill/>
          </a:ln>
        </p:spPr>
      </p:pic>
      <p:pic>
        <p:nvPicPr>
          <p:cNvPr id="493" name="Рисунок 6" descr="http://www.quilters.ru/_0_pic_quilters_2010/may_2010/rt7-w.jpg"/>
          <p:cNvPicPr/>
          <p:nvPr/>
        </p:nvPicPr>
        <p:blipFill>
          <a:blip r:embed="rId6"/>
          <a:stretch/>
        </p:blipFill>
        <p:spPr>
          <a:xfrm>
            <a:off x="3857760" y="4214880"/>
            <a:ext cx="1442880" cy="1214280"/>
          </a:xfrm>
          <a:prstGeom prst="rect">
            <a:avLst/>
          </a:prstGeom>
          <a:ln w="0">
            <a:noFill/>
          </a:ln>
        </p:spPr>
      </p:pic>
      <p:pic>
        <p:nvPicPr>
          <p:cNvPr id="494" name="Рисунок 8" descr="http://www.quilters.ru/_0_pic_quilters_2010/may_2010/rt97-w.jpg"/>
          <p:cNvPicPr/>
          <p:nvPr/>
        </p:nvPicPr>
        <p:blipFill>
          <a:blip r:embed="rId7"/>
          <a:stretch/>
        </p:blipFill>
        <p:spPr>
          <a:xfrm>
            <a:off x="1785960" y="3429000"/>
            <a:ext cx="1405080" cy="1357200"/>
          </a:xfrm>
          <a:prstGeom prst="rect">
            <a:avLst/>
          </a:prstGeom>
          <a:ln w="0">
            <a:noFill/>
          </a:ln>
        </p:spPr>
      </p:pic>
      <p:pic>
        <p:nvPicPr>
          <p:cNvPr id="495" name="Рисунок 9" descr="http://quilters.ru/_0_pic_quilters_2010/mar_2010/3bs-web.jpg"/>
          <p:cNvPicPr/>
          <p:nvPr/>
        </p:nvPicPr>
        <p:blipFill>
          <a:blip r:embed="rId8"/>
          <a:stretch/>
        </p:blipFill>
        <p:spPr>
          <a:xfrm>
            <a:off x="4857840" y="4500720"/>
            <a:ext cx="1428840" cy="1214280"/>
          </a:xfrm>
          <a:prstGeom prst="rect">
            <a:avLst/>
          </a:prstGeom>
          <a:ln w="0">
            <a:noFill/>
          </a:ln>
        </p:spPr>
      </p:pic>
      <p:pic>
        <p:nvPicPr>
          <p:cNvPr id="496" name="Рисунок 10" descr="http://quilters.ru/_0_pic_quilters_2010/mar_2010/2.bs-web.jpg"/>
          <p:cNvPicPr/>
          <p:nvPr/>
        </p:nvPicPr>
        <p:blipFill>
          <a:blip r:embed="rId9"/>
          <a:stretch/>
        </p:blipFill>
        <p:spPr>
          <a:xfrm>
            <a:off x="1785960" y="1500120"/>
            <a:ext cx="1428840" cy="1357560"/>
          </a:xfrm>
          <a:prstGeom prst="rect">
            <a:avLst/>
          </a:prstGeom>
          <a:ln w="0">
            <a:noFill/>
          </a:ln>
        </p:spPr>
      </p:pic>
      <p:pic>
        <p:nvPicPr>
          <p:cNvPr id="497" name="Рисунок 11" descr="http://quilters.ru/_0_pic_quilters_2010/mar_2010/muzey-web.jpg"/>
          <p:cNvPicPr/>
          <p:nvPr/>
        </p:nvPicPr>
        <p:blipFill>
          <a:blip r:embed="rId10"/>
          <a:stretch/>
        </p:blipFill>
        <p:spPr>
          <a:xfrm>
            <a:off x="4929120" y="2500200"/>
            <a:ext cx="1443240" cy="1285920"/>
          </a:xfrm>
          <a:prstGeom prst="rect">
            <a:avLst/>
          </a:prstGeom>
          <a:ln w="0">
            <a:noFill/>
          </a:ln>
        </p:spPr>
      </p:pic>
      <p:pic>
        <p:nvPicPr>
          <p:cNvPr id="498" name="Picture 2" descr="C:\Users\Татьяна\Documents\Мои результаты сканирования\2010-04 (апр)\сканирование0015.jpg"/>
          <p:cNvPicPr/>
          <p:nvPr/>
        </p:nvPicPr>
        <p:blipFill>
          <a:blip r:embed="rId11"/>
          <a:stretch/>
        </p:blipFill>
        <p:spPr>
          <a:xfrm>
            <a:off x="285840" y="714240"/>
            <a:ext cx="1357200" cy="5929560"/>
          </a:xfrm>
          <a:prstGeom prst="rect">
            <a:avLst/>
          </a:prstGeom>
          <a:ln w="0">
            <a:noFill/>
          </a:ln>
        </p:spPr>
      </p:pic>
      <p:pic>
        <p:nvPicPr>
          <p:cNvPr id="499" name="Picture 4" descr="C:\Users\Татьяна\Documents\Мои результаты сканирования\2010-05 (май)\сканирование0046.jpg"/>
          <p:cNvPicPr/>
          <p:nvPr/>
        </p:nvPicPr>
        <p:blipFill>
          <a:blip r:embed="rId12"/>
          <a:stretch/>
        </p:blipFill>
        <p:spPr>
          <a:xfrm>
            <a:off x="7500960" y="214200"/>
            <a:ext cx="1335240" cy="6143760"/>
          </a:xfrm>
          <a:prstGeom prst="rect">
            <a:avLst/>
          </a:prstGeom>
          <a:ln w="0">
            <a:noFill/>
          </a:ln>
        </p:spPr>
      </p:pic>
      <p:pic>
        <p:nvPicPr>
          <p:cNvPr id="500" name="Picture 5" descr="C:\Users\Татьяна\Documents\Мои результаты сканирования\2010-05 (май)\сканирование0047.jpg"/>
          <p:cNvPicPr/>
          <p:nvPr/>
        </p:nvPicPr>
        <p:blipFill>
          <a:blip r:embed="rId13"/>
          <a:stretch/>
        </p:blipFill>
        <p:spPr>
          <a:xfrm>
            <a:off x="3857760" y="2143080"/>
            <a:ext cx="1428480" cy="1285920"/>
          </a:xfrm>
          <a:prstGeom prst="rect">
            <a:avLst/>
          </a:prstGeom>
          <a:ln w="0">
            <a:noFill/>
          </a:ln>
        </p:spPr>
      </p:pic>
      <p:pic>
        <p:nvPicPr>
          <p:cNvPr id="501" name="Picture 6" descr="C:\Users\Татьяна\Documents\Мои результаты сканирования\2010-05 (май)\сканирование0047.jpg"/>
          <p:cNvPicPr/>
          <p:nvPr/>
        </p:nvPicPr>
        <p:blipFill>
          <a:blip r:embed="rId14"/>
          <a:stretch/>
        </p:blipFill>
        <p:spPr>
          <a:xfrm>
            <a:off x="2860560" y="3857760"/>
            <a:ext cx="1354320" cy="128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Заголовок 3" descr=""/>
          <p:cNvPicPr/>
          <p:nvPr/>
        </p:nvPicPr>
        <p:blipFill>
          <a:blip r:embed="rId1"/>
          <a:stretch/>
        </p:blipFill>
        <p:spPr>
          <a:xfrm>
            <a:off x="109440" y="2120760"/>
            <a:ext cx="891216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847800" y="85680"/>
            <a:ext cx="8223120" cy="1481040"/>
          </a:xfrm>
          <a:prstGeom prst="rect">
            <a:avLst/>
          </a:prstGeom>
          <a:ln w="0">
            <a:noFill/>
          </a:ln>
        </p:spPr>
      </p:pic>
      <p:pic>
        <p:nvPicPr>
          <p:cNvPr id="423" name="Picture 2" descr="C:\Users\Татьяна\Documents\Мои результаты сканирования\2010-05 (май)\сканирование0104.jpg"/>
          <p:cNvPicPr/>
          <p:nvPr/>
        </p:nvPicPr>
        <p:blipFill>
          <a:blip r:embed="rId2"/>
          <a:stretch/>
        </p:blipFill>
        <p:spPr>
          <a:xfrm>
            <a:off x="2214720" y="2071800"/>
            <a:ext cx="4500360" cy="4357440"/>
          </a:xfrm>
          <a:prstGeom prst="rect">
            <a:avLst/>
          </a:prstGeom>
          <a:ln w="9360">
            <a:solidFill>
              <a:srgbClr val="ff0000"/>
            </a:solidFill>
            <a:miter/>
          </a:ln>
        </p:spPr>
      </p:pic>
      <p:pic>
        <p:nvPicPr>
          <p:cNvPr id="424" name="Picture 3" descr="C:\Users\Татьяна\Documents\Мои результаты сканирования\2010-05 (май)\сканирование0113.jpg"/>
          <p:cNvPicPr/>
          <p:nvPr/>
        </p:nvPicPr>
        <p:blipFill>
          <a:blip r:embed="rId3"/>
          <a:stretch/>
        </p:blipFill>
        <p:spPr>
          <a:xfrm>
            <a:off x="5357880" y="1785960"/>
            <a:ext cx="2571840" cy="171432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56760" y="571320"/>
            <a:ext cx="4071960" cy="585756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ыкраиваем 1-й треугольник из ткани с рисунком и к  его основанию пристрачиваем прямую полосу произвольной формы</a:t>
            </a:r>
            <a:endParaRPr b="0" lang="en-US" sz="2400" spc="-1" strike="noStrike">
              <a:solidFill>
                <a:srgbClr val="ffffff"/>
              </a:solidFill>
              <a:latin typeface="Cambria"/>
            </a:endParaRPr>
          </a:p>
        </p:txBody>
      </p:sp>
      <p:sp>
        <p:nvSpPr>
          <p:cNvPr id="426" name=""/>
          <p:cNvSpPr txBox="1"/>
          <p:nvPr/>
        </p:nvSpPr>
        <p:spPr>
          <a:xfrm>
            <a:off x="4928760" y="571320"/>
            <a:ext cx="3714840" cy="585756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Заутюжить шов</a:t>
            </a:r>
            <a:endParaRPr b="0" lang="en-US" sz="3200" spc="-1" strike="noStrike">
              <a:solidFill>
                <a:srgbClr val="ffffff"/>
              </a:solidFill>
              <a:latin typeface="Cambria"/>
            </a:endParaRPr>
          </a:p>
        </p:txBody>
      </p:sp>
      <p:pic>
        <p:nvPicPr>
          <p:cNvPr id="427" name="Picture 3" descr="C:\Users\Татьяна\Documents\Мои результаты сканирования\2010-05 (май)\сканирование0105.jpg"/>
          <p:cNvPicPr/>
          <p:nvPr/>
        </p:nvPicPr>
        <p:blipFill>
          <a:blip r:embed="rId1"/>
          <a:stretch/>
        </p:blipFill>
        <p:spPr>
          <a:xfrm>
            <a:off x="5143680" y="3357720"/>
            <a:ext cx="3143160" cy="2857320"/>
          </a:xfrm>
          <a:prstGeom prst="rect">
            <a:avLst/>
          </a:prstGeom>
          <a:ln w="38160">
            <a:solidFill>
              <a:srgbClr val="000000"/>
            </a:solidFill>
            <a:miter/>
          </a:ln>
        </p:spPr>
      </p:pic>
      <p:pic>
        <p:nvPicPr>
          <p:cNvPr id="428" name="Picture 5" descr="C:\Users\Татьяна\Documents\Мои результаты сканирования\2010-05 (май)\сканирование0105.jpg"/>
          <p:cNvPicPr/>
          <p:nvPr/>
        </p:nvPicPr>
        <p:blipFill>
          <a:blip r:embed="rId2"/>
          <a:stretch/>
        </p:blipFill>
        <p:spPr>
          <a:xfrm>
            <a:off x="785880" y="3357720"/>
            <a:ext cx="3357360" cy="27860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71680" y="571320"/>
            <a:ext cx="328608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Отрезать лишнюю ткань, чтобы полоса продолжала сторону треугольника по прямой линии</a:t>
            </a:r>
            <a:endParaRPr b="0" lang="en-US" sz="2400" spc="-1" strike="noStrike">
              <a:solidFill>
                <a:srgbClr val="ffffff"/>
              </a:solidFill>
              <a:latin typeface="Cambria"/>
            </a:endParaRPr>
          </a:p>
        </p:txBody>
      </p:sp>
      <p:sp>
        <p:nvSpPr>
          <p:cNvPr id="430" name=""/>
          <p:cNvSpPr txBox="1"/>
          <p:nvPr/>
        </p:nvSpPr>
        <p:spPr>
          <a:xfrm>
            <a:off x="4071960" y="571320"/>
            <a:ext cx="4500720" cy="5786280"/>
          </a:xfrm>
          <a:prstGeom prst="rect">
            <a:avLst/>
          </a:prstGeom>
          <a:noFill/>
          <a:ln w="9360">
            <a:solidFill>
              <a:srgbClr val="ff0000"/>
            </a:solidFill>
            <a:miter/>
          </a:ln>
        </p:spPr>
        <p:txBody>
          <a:bodyPr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Можно кроить, опираясь на свой глазомер, или воспользоваться линейкой. К  другой стороне треугольника  пришить следующий лоскут.  Настрочить  нужный отрезок лоскута, оставшуюся часть обрезать</a:t>
            </a:r>
            <a:r>
              <a:rPr b="0" lang="ru-RU" sz="2000" spc="-1" strike="noStrike">
                <a:solidFill>
                  <a:srgbClr val="ffffff"/>
                </a:solidFill>
                <a:latin typeface="Cambria"/>
              </a:rPr>
              <a:t>.</a:t>
            </a:r>
            <a:endParaRPr b="0" lang="en-US" sz="2000" spc="-1" strike="noStrike">
              <a:solidFill>
                <a:srgbClr val="ffffff"/>
              </a:solidFill>
              <a:latin typeface="Cambri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pic>
        <p:nvPicPr>
          <p:cNvPr id="431" name="Рисунок 10" descr="C:\Users\Татьяна\Documents\Мои результаты сканирования\2010-05 (май)\сканирование0105.jpg"/>
          <p:cNvPicPr/>
          <p:nvPr/>
        </p:nvPicPr>
        <p:blipFill>
          <a:blip r:embed="rId1"/>
          <a:stretch/>
        </p:blipFill>
        <p:spPr>
          <a:xfrm>
            <a:off x="1000080" y="3429000"/>
            <a:ext cx="2428920" cy="2428920"/>
          </a:xfrm>
          <a:prstGeom prst="rect">
            <a:avLst/>
          </a:prstGeom>
          <a:ln w="0">
            <a:noFill/>
          </a:ln>
        </p:spPr>
      </p:pic>
      <p:pic>
        <p:nvPicPr>
          <p:cNvPr id="432" name="Рисунок 11" descr="C:\Users\Татьяна\Documents\Мои результаты сканирования\2010-05 (май)\сканирование0105.jpg"/>
          <p:cNvPicPr/>
          <p:nvPr/>
        </p:nvPicPr>
        <p:blipFill>
          <a:blip r:embed="rId2"/>
          <a:srcRect l="0" t="0" r="-3477" b="0"/>
          <a:stretch/>
        </p:blipFill>
        <p:spPr>
          <a:xfrm>
            <a:off x="4857840" y="3286080"/>
            <a:ext cx="307188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500040" y="571320"/>
            <a:ext cx="328608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Аналогично пристрочить  полосу  ткани к последней стороне треугольника, которая еще остается свободной.</a:t>
            </a:r>
            <a:endParaRPr b="0" lang="en-US" sz="24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34" name=""/>
          <p:cNvSpPr txBox="1"/>
          <p:nvPr/>
        </p:nvSpPr>
        <p:spPr>
          <a:xfrm>
            <a:off x="4071600" y="571320"/>
            <a:ext cx="471492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Не обрезая лишней ткани пришитой полосы, пристрочить к ней еще один треугольник. Если  составить компо­зицию только из полос, работа будет выглядеть несколько однообразно</a:t>
            </a:r>
            <a:r>
              <a:rPr b="0" lang="ru-RU" sz="3200" spc="-1" strike="noStrike">
                <a:solidFill>
                  <a:srgbClr val="ffffff"/>
                </a:solidFill>
                <a:latin typeface="Cambria"/>
              </a:rPr>
              <a:t>.</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35" name="Рисунок 4" descr="C:\Users\Татьяна\Documents\Мои результаты сканирования\2010-05 (май)\сканирование0109.jpg"/>
          <p:cNvPicPr/>
          <p:nvPr/>
        </p:nvPicPr>
        <p:blipFill>
          <a:blip r:embed="rId1"/>
          <a:stretch/>
        </p:blipFill>
        <p:spPr>
          <a:xfrm>
            <a:off x="857160" y="3643200"/>
            <a:ext cx="2617920" cy="2500560"/>
          </a:xfrm>
          <a:prstGeom prst="rect">
            <a:avLst/>
          </a:prstGeom>
          <a:ln w="0">
            <a:noFill/>
          </a:ln>
        </p:spPr>
      </p:pic>
      <p:pic>
        <p:nvPicPr>
          <p:cNvPr id="436" name="Рисунок 5" descr="C:\Users\Татьяна\Documents\Мои результаты сканирования\2010-05 (май)\сканирование0109.jpg"/>
          <p:cNvPicPr/>
          <p:nvPr/>
        </p:nvPicPr>
        <p:blipFill>
          <a:blip r:embed="rId2"/>
          <a:stretch/>
        </p:blipFill>
        <p:spPr>
          <a:xfrm>
            <a:off x="4929120" y="3643200"/>
            <a:ext cx="3117960" cy="24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71680" y="785880"/>
            <a:ext cx="7929360" cy="53863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После того как треуголь­ник пристрочен и заутюжен, отрезать лишнюю ткань так, чтобы получить деталь, по форме напоминающую ромб</a:t>
            </a:r>
            <a:endParaRPr b="0" lang="en-US" sz="28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pic>
        <p:nvPicPr>
          <p:cNvPr id="438" name="Рисунок 6" descr="C:\Users\Татьяна\Documents\Мои результаты сканирования\2010-05 (май)\сканирование0109.jpg"/>
          <p:cNvPicPr/>
          <p:nvPr/>
        </p:nvPicPr>
        <p:blipFill>
          <a:blip r:embed="rId1"/>
          <a:stretch/>
        </p:blipFill>
        <p:spPr>
          <a:xfrm>
            <a:off x="2286000" y="2714760"/>
            <a:ext cx="4786200" cy="30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99680" y="285840"/>
            <a:ext cx="8358120" cy="621504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Продолжать пристрачивать одну деталь за другой. В какой-то момент  можете обнаружить, что по прямой линии можно пристрочить только большую деталь. Ну, а поскольку большая  деталь из одного вида ткани смотрится неинте­ресно, ее можно сшить из нескольких лоскутов.</a:t>
            </a:r>
            <a:endParaRPr b="0" lang="en-US" sz="20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На рисунке показано, как сделать дополнительную деталь из нескольких лоскутов. Слева лежит основная деталь, с которой ведется работа. Деталь справа только что сшита в той же технике «крейзи» из двух  лоскутов</a:t>
            </a:r>
            <a:endParaRPr b="0" lang="en-US" sz="2000" spc="-1" strike="noStrike">
              <a:solidFill>
                <a:srgbClr val="ffffff"/>
              </a:solidFill>
              <a:latin typeface="Cambria"/>
            </a:endParaRPr>
          </a:p>
        </p:txBody>
      </p:sp>
      <p:pic>
        <p:nvPicPr>
          <p:cNvPr id="440" name="Рисунок 3" descr="C:\Users\Татьяна\Documents\Мои результаты сканирования\2010-05 (май)\сканирование0109.jpg"/>
          <p:cNvPicPr/>
          <p:nvPr/>
        </p:nvPicPr>
        <p:blipFill>
          <a:blip r:embed="rId1"/>
          <a:stretch/>
        </p:blipFill>
        <p:spPr>
          <a:xfrm>
            <a:off x="2500200" y="3214800"/>
            <a:ext cx="442908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6:16:59Z</dcterms:created>
  <dc:creator>Татьяна</dc:creator>
  <dc:description/>
  <dc:language>en-US</dc:language>
  <cp:lastModifiedBy>Татьяна</cp:lastModifiedBy>
  <dcterms:modified xsi:type="dcterms:W3CDTF">2011-12-11T09:42:13Z</dcterms:modified>
  <cp:revision>192</cp:revision>
  <dc:subject/>
  <dc:title>Создание аксессуаров</dc:title>
</cp:coreProperties>
</file>