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36.jpeg" ContentType="image/jpeg"/>
  <Override PartName="/ppt/media/image9.jpeg" ContentType="image/jpeg"/>
  <Override PartName="/ppt/media/image11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30.png" ContentType="image/png"/>
  <Override PartName="/ppt/media/image3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42.jpeg" ContentType="image/jpeg"/>
  <Override PartName="/ppt/media/image31.png" ContentType="image/png"/>
  <Override PartName="/ppt/media/image6.png" ContentType="image/png"/>
  <Override PartName="/ppt/media/image43.png" ContentType="image/png"/>
  <Override PartName="/ppt/media/image44.jpeg" ContentType="image/jpeg"/>
  <Override PartName="/ppt/media/image45.png" ContentType="image/png"/>
  <Override PartName="/ppt/media/image5.png" ContentType="image/png"/>
  <Override PartName="/ppt/media/image35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4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C577-43DB-4D18-AB08-EA08D02A3F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C927-4DBA-4FEA-B759-2A1226888A6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17BF-8221-40F2-86F3-F1A3E6451B4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5482-B516-4D13-AA9E-C9EC0DBCD5F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B18A-0BBC-40D7-B118-27F505F71FC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914A-6932-4A4C-9AB5-C2E02CAAC24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3B02-5CA6-4232-A8FD-0317503CFFE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0944-A444-4243-B4F4-FF64BF1C694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5841-89E3-4E10-B6B9-007D9BFFBF7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1DF7-EB8C-432C-8B46-72F3C462B1E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3AAC-95D2-4B24-9492-8D90F81192A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4863-4EEC-4C6B-B301-AE8D2F85A47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52D5-8C78-40B4-82BD-0AD8701C918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C02F-67D7-4CD0-B3A0-E372D652FC7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E531-FF9B-4B2F-A9E3-EEB14E2CA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8256-FCEF-4DB4-A726-1D8D74D6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DBB0E1-F6C2-484E-BAAA-3F29FFFF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8D6E2C-1959-42ED-9F38-3BA965DC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FF34C6-CF10-44CF-B183-9614BC5E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517DE8-3C8B-426E-A6B2-FFD6CE67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545C8F-7808-4117-BB27-5D900A7C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53B8B0-5397-4C35-A642-25B7DB32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743E37-583E-42C9-BF73-958534BD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BB8069-DE2A-474D-A738-A096BB056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0660F0-ECA4-4AE5-BBD9-8CBBB4090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0B14-9855-46CD-839A-4C614F509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38E3-A561-4EBF-8E1E-4BDA3815F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E6516-4D40-4BBB-BB66-DBC6ED9FF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2B602-DFA2-43C4-9250-FC4DAA08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349DB-6E10-4338-9B1E-22483F93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4115B2-65DD-4463-ACEE-C24F8C4D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3ED7D6-06EC-4559-930E-DD95E7C8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9A5CC5-AB0A-4D1D-9265-8D0CA55A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ACD6C-ED3C-4BBD-A51A-DADF3D5D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5DCB-0B11-4BF3-BA5D-6AF9D9B9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5F0B6-C375-4CE2-939C-43FF8DB0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6C868E-4D34-4841-8A36-3F305AAE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10024-1FC0-412E-8EB0-A7773961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B0B3F-B927-45A5-B6C8-C233BB6E1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25022-0F3F-476D-BAD5-CCDB67AA8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665B6-38E7-46DA-9266-98387D2D7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78BE8-84F1-48DC-987A-B87BD3AE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01494-C575-4F73-AC7D-F780B20A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D0641-5061-402E-A398-3FEEB8F2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831B3-40B2-4990-B779-A52CD378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50D1-016C-4838-A4A4-02E7AE92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8777C-B2B7-4D73-B234-29F7A141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2BFA2-DF7A-4F8A-BB58-5F823C98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E0AEE-7546-4AF6-BE0B-2329F923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4E89F-A081-4ACB-94BD-B8BDF0D2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5ADBE-CB70-497A-9CE3-9D1F54B5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16736-ED85-476C-ACA6-564F53BDE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90257-1284-4088-A240-C1E2EB78C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3DB9A1-2DD8-40CD-A145-6CC1DFC25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072D75-BC34-4B7F-90A2-5BBBE4EE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49229E-3E9B-47BF-AB7F-BF334B52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6A73-A01B-455D-8414-5A48A7B9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08465C-EFB0-456A-BAD1-96E34405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78CA79-9A2E-4D82-AA8F-B6E14C9D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056D41-9344-409C-99ED-8EE0F0FB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FC4C98-C8F8-441F-A69A-7A600B7A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3442D7-042A-4733-8D54-EAB644DF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F4F231-B148-475C-85CD-D6357602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82F066-5383-4A56-BDAE-28817714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5F0670-C88C-45CC-B5C8-D4B5B13C1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F5FC16-9366-4D17-AA1E-BEB6C690C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75B44-92BC-441D-9271-FC8526324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8391-2C92-4C8F-8F05-640F0DC1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9D360-B0CC-4475-A282-F519A39B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86221-0CD5-471D-AFA8-79F003F3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F4F24-5933-4D50-9102-B6197312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8A33C-2621-486F-8049-262F85CD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56615-A881-4680-995A-2CA2C027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48F5A-2E9D-48A2-8282-8663E010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F3989-AC24-45EF-B617-8401E8F7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09056-C0E3-42C3-8ACD-6433FAD8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311FD-0699-4CD2-BC19-99E944F7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8F27E-4862-4A6E-AC22-219DEE7EB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BD6E-697E-42F3-B456-830ACDD9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0454D-75FB-4B1C-8869-5FD7CC518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30D54-0085-4330-BBB3-C89682292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EBC49-0FB3-49B0-ACC2-F67A5439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A370E-F5AB-454D-B5CB-DD041451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94312-31B0-472A-9ED9-E805289C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F533F-7BC3-459A-89DE-EF3DF7CB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78175-0387-436A-9A4C-DA97EAA2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D754B-5235-489D-939B-02E99890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36502-C03D-447A-80E8-72764E66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00169-2D1E-4670-B310-43BD5A91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07AC-590D-4850-88F3-31C25C50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ECA32-E9E4-4269-A6B7-6DF0E7AB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EF170-18E0-48EC-AC3D-7CB821638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48597-8806-497B-8041-F3C1D34E9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8F895-59BC-4BD7-9950-DBA3F09DE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1ABB8-02D3-4193-B101-AD92E3C4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44F83-2F27-4D47-9201-3877B9FB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97531-1BB5-4D2A-AA8B-59A92914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EFE73-402A-4721-BC05-6543CB1F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35364-DDC7-4609-8DC7-CDAB73FA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B2CE3-D5E1-406D-AFDC-BCEBA21D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77BF-4F2F-454C-A419-D7AB5704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17352-2DA2-4FC5-B8ED-F013F72E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A994A-E06C-49DF-995F-D408BDCB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CCB04-ED4D-4DC1-8B4B-FF48E1C2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F9B7F-CA88-4AB2-AD36-B1F74D165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1C30E-407B-447F-8324-422AD2278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4672DA-3772-43B4-81FD-8630B31C9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19945E-36C2-4340-8C5A-7B38ECE8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215718-1211-42D6-97BA-2ACAFB31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FCE642-1300-49C4-BA8A-D5985E50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765534-973F-43C3-8483-DAE709A0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65A7-138F-4064-9A7B-A301D941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8F9F3D-2337-45D6-B4B7-A17DAC09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2F111C-0194-4C29-9C4D-2F44CC3F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7A6031-F34A-41DB-A93B-9C811B39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520106-5B78-4193-BDA9-8B6BA920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3F9686-E5D2-4D18-824C-79DF3E35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1A8197-D926-4029-9DDF-4681E1CD4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906FD1-76E6-41F0-9712-5197E93CF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D02295-08A3-46BA-BE1C-D70CAC863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B7236C-DF06-4867-A6DA-511779EE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796EF0-AC13-410D-8E2F-6A7BCA8F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fafb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fafb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4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B59A-268A-49C2-9767-77F0452ABD48}" type="slidenum">
              <a:rPr b="0" lang="ru-RU" sz="1600" spc="-1" strike="noStrike">
                <a:solidFill>
                  <a:srgbClr val="d4d4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4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438086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4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438086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fafb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fafb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4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C796-4452-485B-8D0B-1C90AB1C27A5}" type="slidenum">
              <a:rPr b="0" lang="ru-RU" sz="1600" spc="-1" strike="noStrike">
                <a:solidFill>
                  <a:srgbClr val="d4d4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53548a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4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438086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fafb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fafb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4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5FBC-23F5-4B51-A61F-6E271B77A5BB}" type="slidenum">
              <a:rPr b="0" lang="ru-RU" sz="1600" spc="-1" strike="noStrike">
                <a:solidFill>
                  <a:srgbClr val="d4d4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53548a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4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438086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fafb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fafb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4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65DA-0A19-4E83-88F6-24552946B789}" type="slidenum">
              <a:rPr b="0" lang="ru-RU" sz="1600" spc="-1" strike="noStrike">
                <a:solidFill>
                  <a:srgbClr val="d4d4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53548a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4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438086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fafb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fafb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4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17BD-B724-457A-9786-9E5E12CAE18B}" type="slidenum">
              <a:rPr b="0" lang="ru-RU" sz="1600" spc="-1" strike="noStrike">
                <a:solidFill>
                  <a:srgbClr val="d4d4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53548a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53548a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4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438086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fafb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fafb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4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F4A5-0054-41C3-A0F6-6BBA6461BE5D}" type="slidenum">
              <a:rPr b="0" lang="ru-RU" sz="1600" spc="-1" strike="noStrike">
                <a:solidFill>
                  <a:srgbClr val="d4d4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53548a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4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438086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fafb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fafb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4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7708-48C5-425C-A435-9C4A4C33E0DF}" type="slidenum">
              <a:rPr b="0" lang="ru-RU" sz="1600" spc="-1" strike="noStrike">
                <a:solidFill>
                  <a:srgbClr val="d4d4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53548a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4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438086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fafb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fafb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4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B47F-83C6-4404-A72F-F22DF17639B6}" type="slidenum">
              <a:rPr b="0" lang="ru-RU" sz="1600" spc="-1" strike="noStrike">
                <a:solidFill>
                  <a:srgbClr val="d4d4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4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438086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fafb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fafb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4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2123-AD81-4C04-AA7B-1C33BA8E5E7D}" type="slidenum">
              <a:rPr b="0" lang="ru-RU" sz="1600" spc="-1" strike="noStrike">
                <a:solidFill>
                  <a:srgbClr val="d4d4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39.pn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643960" cy="221904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370512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mbria"/>
              </a:rPr>
              <a:t>С использованием лоскутных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mbria"/>
              </a:rPr>
              <a:t>техник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МО Ленинский район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Ватутинская СОШ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Учитель технологии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Иовенко Татьяна Юрьевн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(3часть)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3" name="Рисунок 3" descr="Наука и жизнь // Иллюстрации"/>
          <p:cNvPicPr/>
          <p:nvPr/>
        </p:nvPicPr>
        <p:blipFill>
          <a:blip r:embed="rId2"/>
          <a:stretch/>
        </p:blipFill>
        <p:spPr>
          <a:xfrm>
            <a:off x="109440" y="3481560"/>
            <a:ext cx="5273640" cy="30351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11" descr=""/>
          <p:cNvPicPr/>
          <p:nvPr/>
        </p:nvPicPr>
        <p:blipFill>
          <a:blip r:embed="rId1"/>
          <a:stretch/>
        </p:blipFill>
        <p:spPr>
          <a:xfrm>
            <a:off x="493560" y="-6480"/>
            <a:ext cx="8631360" cy="116532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428760" y="1356840"/>
            <a:ext cx="8286480" cy="5100840"/>
          </a:xfrm>
          <a:prstGeom prst="rect">
            <a:avLst/>
          </a:prstGeom>
          <a:noFill/>
          <a:ln w="19080">
            <a:solidFill>
              <a:srgbClr val="101022"/>
            </a:solidFill>
            <a:miter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Из заготовленных полосок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ткани ,  сочетающихся по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цвету, плетут самые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обыкновенные  косички,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которые можно сшивать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(по схеме) потайными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стежками  с изнанки 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в единое  полотно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Можно сделать сумку, пояс,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украшение, чехол для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мобильника</a:t>
            </a:r>
            <a:r>
              <a:rPr b="0" lang="ru-RU" sz="3200" spc="-1" strike="noStrike">
                <a:solidFill>
                  <a:srgbClr val="ffff00"/>
                </a:solidFill>
                <a:latin typeface="Cambri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39" name="Picture 2" descr="C:\Users\Татьяна\Documents\Мои результаты сканирования\2010-05 (май)\сканирование0082.jpg"/>
          <p:cNvPicPr/>
          <p:nvPr/>
        </p:nvPicPr>
        <p:blipFill>
          <a:blip r:embed="rId2"/>
          <a:stretch/>
        </p:blipFill>
        <p:spPr>
          <a:xfrm>
            <a:off x="5214960" y="1643040"/>
            <a:ext cx="3357720" cy="471492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440" name="Picture 5" descr="C:\Users\Татьяна\Documents\Мои результаты сканирования\2010-05 (май)\сканирование0093.jpg"/>
          <p:cNvPicPr/>
          <p:nvPr/>
        </p:nvPicPr>
        <p:blipFill>
          <a:blip r:embed="rId3"/>
          <a:stretch/>
        </p:blipFill>
        <p:spPr>
          <a:xfrm>
            <a:off x="642960" y="285840"/>
            <a:ext cx="2243160" cy="1000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Заголовок 1" descr=""/>
          <p:cNvPicPr/>
          <p:nvPr/>
        </p:nvPicPr>
        <p:blipFill>
          <a:blip r:embed="rId1"/>
          <a:stretch/>
        </p:blipFill>
        <p:spPr>
          <a:xfrm>
            <a:off x="450720" y="-73080"/>
            <a:ext cx="8570880" cy="148104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456840" y="1646280"/>
            <a:ext cx="590076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8560" indent="-268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mbria"/>
              </a:rPr>
              <a:t>Стачивание полосок с помощь основы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mbria"/>
              </a:rPr>
              <a:t>Выкраивается основа  и подкладка нужной ширины пояса + прибавка на швы и  желаемой длины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mbria"/>
              </a:rPr>
              <a:t>Раскраивают полоски желаемой ширины (можно различной ширины)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mbria"/>
              </a:rPr>
              <a:t>На правый край основы лицевой стороной вверх уложить 1-у полоску, на неё сверху 2-ю лицевой стороной вниз и закрепить булавками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mbria"/>
              </a:rPr>
              <a:t>Пристрочить к основе по линии припуска 1-ю и 2-ю полоски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6643440" y="2143080"/>
            <a:ext cx="2043000" cy="32860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2" descr="C:\Users\Татьяна\Documents\Мои результаты сканирования\2010-05 (май)\сканирование0092.jpg"/>
          <p:cNvPicPr/>
          <p:nvPr/>
        </p:nvPicPr>
        <p:blipFill>
          <a:blip r:embed="rId3"/>
          <a:stretch/>
        </p:blipFill>
        <p:spPr>
          <a:xfrm>
            <a:off x="857160" y="285840"/>
            <a:ext cx="1643040" cy="107136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3" descr="C:\Users\Татьяна\Documents\Мои результаты сканирования\2010-05 (май)\сканирование0092.jpg"/>
          <p:cNvPicPr/>
          <p:nvPr/>
        </p:nvPicPr>
        <p:blipFill>
          <a:blip r:embed="rId4"/>
          <a:stretch/>
        </p:blipFill>
        <p:spPr>
          <a:xfrm>
            <a:off x="6572160" y="2143080"/>
            <a:ext cx="2071800" cy="3286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428760" y="356760"/>
            <a:ext cx="55720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8560" indent="-268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Выньте булавки, приутюжьте шов « на ребро», отогните вторую полоску на лицевую сторону  и отгладьте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Третью полоску положите лицевой стороной вниз на вторую, сколите , совместите срезы, пристрочите к основе и 2-ой полоске, приутюжьте и отогните 3-ю полоску на лицевую сторону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Также пришейте все остальные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Срежьте излишки ткани с краёв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Отутюжьте готовое полотно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47" name="Picture 2" descr="C:\Users\Татьяна\Documents\Мои результаты сканирования\2010-05 (май)\сканирование0092.jpg"/>
          <p:cNvPicPr/>
          <p:nvPr/>
        </p:nvPicPr>
        <p:blipFill>
          <a:blip r:embed="rId1"/>
          <a:stretch/>
        </p:blipFill>
        <p:spPr>
          <a:xfrm>
            <a:off x="6286680" y="785880"/>
            <a:ext cx="2286000" cy="5286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571680" y="356760"/>
            <a:ext cx="7929360" cy="581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mbria"/>
              </a:rPr>
              <a:t>Сложить подкладку пояса с готовой полосой лицевыми сторонами , уравнять срезы, сколоть булавками, стачать на ширину лапки, вынуть булавки, вывернуть пояс на лицевую сторону, приутюжить, и заделать концы пояса  по эскизу.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 txBox="1"/>
          <p:nvPr/>
        </p:nvSpPr>
        <p:spPr>
          <a:xfrm>
            <a:off x="285840" y="1500120"/>
            <a:ext cx="62863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8560" indent="-268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Сначала сшивают полоски в полотно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А потом из него выкраивают нужной ширины полоски 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Сшивают полоски так</a:t>
            </a:r>
            <a:r>
              <a:rPr b="0" lang="en-US" sz="2800" spc="-1" strike="noStrike">
                <a:solidFill>
                  <a:srgbClr val="ffff00"/>
                </a:solidFill>
                <a:latin typeface="Rockwell"/>
              </a:rPr>
              <a:t>:</a:t>
            </a: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 складывают лицевыми сторонами , скалывают поперёк срезов и стачивают мелкими стежками, шов заутюживают или  разутюживают и т. д.нарезают полоски нужной ширины и стачивают  в одну полосу нужной длины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2"/>
          <a:stretch/>
        </p:blipFill>
        <p:spPr>
          <a:xfrm>
            <a:off x="6572160" y="1646280"/>
            <a:ext cx="2114640" cy="452592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" descr="C:\Users\Татьяна\Documents\Мои результаты сканирования\2010-05 (май)\сканирование0089.jpg"/>
          <p:cNvPicPr/>
          <p:nvPr/>
        </p:nvPicPr>
        <p:blipFill>
          <a:blip r:embed="rId3"/>
          <a:stretch/>
        </p:blipFill>
        <p:spPr>
          <a:xfrm>
            <a:off x="6572160" y="1643040"/>
            <a:ext cx="2214720" cy="4714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Заголовок 3" descr=""/>
          <p:cNvPicPr/>
          <p:nvPr/>
        </p:nvPicPr>
        <p:blipFill>
          <a:blip r:embed="rId1"/>
          <a:stretch/>
        </p:blipFill>
        <p:spPr>
          <a:xfrm>
            <a:off x="109440" y="2120760"/>
            <a:ext cx="891216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920880" y="353880"/>
            <a:ext cx="8083440" cy="11638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" descr="F:\DCIM\100CASIO\лоскутная тех курсы\CIMG1931.JPG"/>
          <p:cNvPicPr/>
          <p:nvPr/>
        </p:nvPicPr>
        <p:blipFill>
          <a:blip r:embed="rId2"/>
          <a:stretch/>
        </p:blipFill>
        <p:spPr>
          <a:xfrm>
            <a:off x="3382920" y="1063800"/>
            <a:ext cx="2678040" cy="1019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06" name="Picture 10" descr="C:\Users\Татьяна\Documents\Материал ТТР л+в\ЛОСКУТ\лоскут соврем\Сухова (2).JPG"/>
          <p:cNvPicPr/>
          <p:nvPr/>
        </p:nvPicPr>
        <p:blipFill>
          <a:blip r:embed="rId3"/>
          <a:stretch/>
        </p:blipFill>
        <p:spPr>
          <a:xfrm>
            <a:off x="395280" y="549360"/>
            <a:ext cx="2479680" cy="18572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" descr="C:\Users\Татьяна\Documents\Мои результаты сканирования\2010-05 (май)\сканирование0081.jpg"/>
          <p:cNvPicPr/>
          <p:nvPr/>
        </p:nvPicPr>
        <p:blipFill>
          <a:blip r:embed="rId4"/>
          <a:stretch/>
        </p:blipFill>
        <p:spPr>
          <a:xfrm rot="2386200">
            <a:off x="7098840" y="1534680"/>
            <a:ext cx="797040" cy="3011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08" name="Picture 4" descr="C:\Users\Татьяна\Documents\Мои результаты сканирования\2010-05 (май)\сканирование0093.jpg"/>
          <p:cNvPicPr/>
          <p:nvPr/>
        </p:nvPicPr>
        <p:blipFill>
          <a:blip r:embed="rId5"/>
          <a:stretch/>
        </p:blipFill>
        <p:spPr>
          <a:xfrm>
            <a:off x="468360" y="2997360"/>
            <a:ext cx="2714400" cy="1282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09" name="Рисунок 6" descr="http://www.hnh.ru/file/0002/250/0002_1504.jpg"/>
          <p:cNvPicPr/>
          <p:nvPr/>
        </p:nvPicPr>
        <p:blipFill>
          <a:blip r:embed="rId6"/>
          <a:stretch/>
        </p:blipFill>
        <p:spPr>
          <a:xfrm>
            <a:off x="3564000" y="4653000"/>
            <a:ext cx="2381040" cy="1781280"/>
          </a:xfrm>
          <a:prstGeom prst="rect">
            <a:avLst/>
          </a:prstGeom>
          <a:ln w="38160">
            <a:solidFill>
              <a:srgbClr val="0d0d0d"/>
            </a:solidFill>
            <a:miter/>
          </a:ln>
        </p:spPr>
      </p:pic>
      <p:pic>
        <p:nvPicPr>
          <p:cNvPr id="410" name="Рисунок 7" descr="http://www.hnh.ru/file/0002/250/0002_1503.jpg"/>
          <p:cNvPicPr/>
          <p:nvPr/>
        </p:nvPicPr>
        <p:blipFill>
          <a:blip r:embed="rId7"/>
          <a:stretch/>
        </p:blipFill>
        <p:spPr>
          <a:xfrm>
            <a:off x="3635280" y="2997360"/>
            <a:ext cx="2381400" cy="1368360"/>
          </a:xfrm>
          <a:prstGeom prst="rect">
            <a:avLst/>
          </a:prstGeom>
          <a:ln w="38160">
            <a:solidFill>
              <a:srgbClr val="101022"/>
            </a:solidFill>
            <a:miter/>
          </a:ln>
        </p:spPr>
      </p:pic>
      <p:pic>
        <p:nvPicPr>
          <p:cNvPr id="411" name="Рисунок 8" descr="http://www.hnh.ru/file/0002/250/0002_1506.jpg"/>
          <p:cNvPicPr/>
          <p:nvPr/>
        </p:nvPicPr>
        <p:blipFill>
          <a:blip r:embed="rId8"/>
          <a:stretch/>
        </p:blipFill>
        <p:spPr>
          <a:xfrm>
            <a:off x="611280" y="4581360"/>
            <a:ext cx="2448000" cy="18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12" name="Рисунок 9" descr="http://www.hnh.ru/file/0002/250/0002_1507.jpg"/>
          <p:cNvPicPr/>
          <p:nvPr/>
        </p:nvPicPr>
        <p:blipFill>
          <a:blip r:embed="rId9"/>
          <a:stretch/>
        </p:blipFill>
        <p:spPr>
          <a:xfrm>
            <a:off x="6516720" y="4653000"/>
            <a:ext cx="2085840" cy="180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491680" cy="115884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57120" y="1571760"/>
            <a:ext cx="8229600" cy="5000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mbria"/>
              </a:rPr>
              <a:t>Сначала  нужно подготовить материал для работы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mbria"/>
              </a:rPr>
              <a:t>Это может быть интересная тесьма , шелковые ленты, шнуры, кромки тканей или сшитые из ткани полоски, старые пояса, ремни.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53548a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5" name="Picture 5" descr="C:\Users\Татьяна\Documents\Мои результаты сканирования\2010-05 (май)\сканирование0093.jpg"/>
          <p:cNvPicPr/>
          <p:nvPr/>
        </p:nvPicPr>
        <p:blipFill>
          <a:blip r:embed="rId2"/>
          <a:stretch/>
        </p:blipFill>
        <p:spPr>
          <a:xfrm>
            <a:off x="500040" y="4929120"/>
            <a:ext cx="1428840" cy="1500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16" name="Picture 6" descr="C:\Users\Татьяна\Documents\Мои результаты сканирования\2010-05 (май)\сканирование0094.jpg"/>
          <p:cNvPicPr/>
          <p:nvPr/>
        </p:nvPicPr>
        <p:blipFill>
          <a:blip r:embed="rId3"/>
          <a:stretch/>
        </p:blipFill>
        <p:spPr>
          <a:xfrm>
            <a:off x="2143080" y="4786200"/>
            <a:ext cx="4286160" cy="1643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17" name="Picture 7" descr="C:\Users\Татьяна\Documents\Мои результаты сканирования\2010-05 (май)\сканирование0095.jpg"/>
          <p:cNvPicPr/>
          <p:nvPr/>
        </p:nvPicPr>
        <p:blipFill>
          <a:blip r:embed="rId4"/>
          <a:stretch/>
        </p:blipFill>
        <p:spPr>
          <a:xfrm>
            <a:off x="6643800" y="4143240"/>
            <a:ext cx="1798560" cy="228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553600" cy="13111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Нарезать ткань на полоски шириной от 2.5 до 4см в зависимости от толщины  ткани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20" name="Picture 2" descr="C:\Users\Татьяна\Documents\Мои результаты сканирования\2010-05 (май)\сканирование0078.jpg"/>
          <p:cNvPicPr/>
          <p:nvPr/>
        </p:nvPicPr>
        <p:blipFill>
          <a:blip r:embed="rId2">
            <a:lum bright="-40000"/>
          </a:blip>
          <a:stretch/>
        </p:blipFill>
        <p:spPr>
          <a:xfrm>
            <a:off x="3059280" y="2852640"/>
            <a:ext cx="309708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Прямоугольник 4"/>
          <p:cNvSpPr/>
          <p:nvPr/>
        </p:nvSpPr>
        <p:spPr>
          <a:xfrm>
            <a:off x="755640" y="549360"/>
            <a:ext cx="7920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арезанные полоски сложить  пополам лицевой стороной в внутрь  по длинным сторонам, уравнять  срезы,  строчить на ширину лапки, швы разутюжить, полоски вывернуть на лицевую сторон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Расположить шов точно по середине полоски и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и   проутюжи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Picture 4" descr="C:\Users\Татьяна\Documents\Мои результаты сканирования\2010-05 (май)\сканирование0080.jpg"/>
          <p:cNvPicPr/>
          <p:nvPr/>
        </p:nvPicPr>
        <p:blipFill>
          <a:blip r:embed="rId1"/>
          <a:stretch/>
        </p:blipFill>
        <p:spPr>
          <a:xfrm>
            <a:off x="1619280" y="3860640"/>
            <a:ext cx="3240000" cy="22989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Users\Татьяна\Documents\Мои результаты сканирования\2010-05 (май)\сканирование0078.jpg"/>
          <p:cNvPicPr/>
          <p:nvPr/>
        </p:nvPicPr>
        <p:blipFill>
          <a:blip r:embed="rId2"/>
          <a:stretch/>
        </p:blipFill>
        <p:spPr>
          <a:xfrm rot="1352400">
            <a:off x="6967080" y="3528720"/>
            <a:ext cx="64476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420840" y="-92160"/>
            <a:ext cx="8631000" cy="15732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28760" y="1714320"/>
            <a:ext cx="8286480" cy="4786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mbria"/>
              </a:rPr>
              <a:t>При помощи «термо»   тесьмы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mbria"/>
              </a:rPr>
              <a:t>Машинной строчки или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Cambria"/>
              </a:rPr>
              <a:t>строчкой  «зиг-заг»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mbria"/>
              </a:rPr>
              <a:t>Вручную  «потайным»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Cambria"/>
              </a:rPr>
              <a:t>швом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26" name="Picture 2" descr="C:\Users\Татьяна\Documents\Мои результаты сканирования\2010-05 (май)\сканирование0078.jpg"/>
          <p:cNvPicPr/>
          <p:nvPr/>
        </p:nvPicPr>
        <p:blipFill>
          <a:blip r:embed="rId2"/>
          <a:stretch/>
        </p:blipFill>
        <p:spPr>
          <a:xfrm>
            <a:off x="571680" y="3429000"/>
            <a:ext cx="4862160" cy="10717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C:\Users\Татьяна\Documents\Мои результаты сканирования\2010-05 (май)\сканирование0078.jpg"/>
          <p:cNvPicPr/>
          <p:nvPr/>
        </p:nvPicPr>
        <p:blipFill>
          <a:blip r:embed="rId3"/>
          <a:stretch/>
        </p:blipFill>
        <p:spPr>
          <a:xfrm>
            <a:off x="6286680" y="2071800"/>
            <a:ext cx="2089080" cy="15001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2" descr="C:\Users\Татьяна\Documents\Мои результаты сканирования\2010-05 (май)\сканирование0078.jpg"/>
          <p:cNvPicPr/>
          <p:nvPr/>
        </p:nvPicPr>
        <p:blipFill>
          <a:blip r:embed="rId4"/>
          <a:stretch/>
        </p:blipFill>
        <p:spPr>
          <a:xfrm>
            <a:off x="5429160" y="4714920"/>
            <a:ext cx="299412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Заголовок 1" descr=""/>
          <p:cNvPicPr/>
          <p:nvPr/>
        </p:nvPicPr>
        <p:blipFill>
          <a:blip r:embed="rId1"/>
          <a:stretch/>
        </p:blipFill>
        <p:spPr>
          <a:xfrm>
            <a:off x="493560" y="-115920"/>
            <a:ext cx="8614080" cy="14810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3" descr="C:\Users\Татьяна\Documents\Мои результаты сканирования\2010-05 (май)\сканирование0081.jpg"/>
          <p:cNvPicPr/>
          <p:nvPr/>
        </p:nvPicPr>
        <p:blipFill>
          <a:blip r:embed="rId2"/>
          <a:stretch/>
        </p:blipFill>
        <p:spPr>
          <a:xfrm>
            <a:off x="928800" y="1571760"/>
            <a:ext cx="7000920" cy="4911480"/>
          </a:xfrm>
          <a:prstGeom prst="rect">
            <a:avLst/>
          </a:prstGeom>
          <a:ln w="38160">
            <a:solidFill>
              <a:srgbClr val="101022"/>
            </a:solidFill>
            <a:miter/>
          </a:ln>
        </p:spPr>
      </p:pic>
      <p:pic>
        <p:nvPicPr>
          <p:cNvPr id="431" name="Picture 2" descr="C:\Users\Татьяна\Documents\Мои результаты сканирования\2010-05 (май)\сканирование0081.jpg"/>
          <p:cNvPicPr/>
          <p:nvPr/>
        </p:nvPicPr>
        <p:blipFill>
          <a:blip r:embed="rId3"/>
          <a:stretch/>
        </p:blipFill>
        <p:spPr>
          <a:xfrm>
            <a:off x="5072040" y="5429160"/>
            <a:ext cx="3429000" cy="9288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7" descr=""/>
          <p:cNvPicPr/>
          <p:nvPr/>
        </p:nvPicPr>
        <p:blipFill>
          <a:blip r:embed="rId1"/>
          <a:stretch/>
        </p:blipFill>
        <p:spPr>
          <a:xfrm>
            <a:off x="847800" y="291960"/>
            <a:ext cx="7839000" cy="8668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2" descr="F:\DCIM\100CASIO\лоскутная тех курсы\CIMG1933.JPG"/>
          <p:cNvPicPr/>
          <p:nvPr/>
        </p:nvPicPr>
        <p:blipFill>
          <a:blip r:embed="rId2"/>
          <a:stretch/>
        </p:blipFill>
        <p:spPr>
          <a:xfrm>
            <a:off x="1450800" y="1627200"/>
            <a:ext cx="2310120" cy="50180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3" descr="C:\Users\Татьяна\Documents\Мои результаты сканирования\2010-05 (май)\сканирование0081.jpg"/>
          <p:cNvPicPr/>
          <p:nvPr/>
        </p:nvPicPr>
        <p:blipFill>
          <a:blip r:embed="rId3"/>
          <a:stretch/>
        </p:blipFill>
        <p:spPr>
          <a:xfrm>
            <a:off x="3627360" y="2548080"/>
            <a:ext cx="5529240" cy="31827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Заголовок 1" descr=""/>
          <p:cNvPicPr/>
          <p:nvPr/>
        </p:nvPicPr>
        <p:blipFill>
          <a:blip r:embed="rId1"/>
          <a:stretch/>
        </p:blipFill>
        <p:spPr>
          <a:xfrm>
            <a:off x="450720" y="-42840"/>
            <a:ext cx="8601120" cy="14508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Users\Татьяна\Documents\Мои результаты сканирования\2010-05 (май)\сканирование0082.jpg"/>
          <p:cNvPicPr/>
          <p:nvPr/>
        </p:nvPicPr>
        <p:blipFill>
          <a:blip r:embed="rId2"/>
          <a:stretch/>
        </p:blipFill>
        <p:spPr>
          <a:xfrm>
            <a:off x="1143000" y="1785960"/>
            <a:ext cx="7072200" cy="4643280"/>
          </a:xfrm>
          <a:prstGeom prst="rect">
            <a:avLst/>
          </a:prstGeom>
          <a:ln w="38160">
            <a:solidFill>
              <a:srgbClr val="10102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16:16:59Z</dcterms:created>
  <dc:creator>Татьяна</dc:creator>
  <dc:description/>
  <dc:language>en-US</dc:language>
  <cp:lastModifiedBy>Татьяна</cp:lastModifiedBy>
  <dcterms:modified xsi:type="dcterms:W3CDTF">2011-12-11T09:42:28Z</dcterms:modified>
  <cp:revision>197</cp:revision>
  <dc:subject/>
  <dc:title>Создание аксессуаров</dc:title>
</cp:coreProperties>
</file>