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36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2.jpeg" ContentType="image/jpeg"/>
  <Override PartName="/ppt/media/image31.png" ContentType="image/png"/>
  <Override PartName="/ppt/media/image6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5.png" ContentType="image/png"/>
  <Override PartName="/ppt/media/image35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ADD8-3A82-442A-B262-7FABF569F0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A4A7-49B4-44C6-9150-27D49A7D56F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C62B-508A-42D3-B7AF-252852BCAD9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F8EE-7173-4A52-9954-11623BE274C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9AF5-FF76-40C4-83E4-1C6EE61B7EE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4985-A5E2-4C7B-8B92-A7E0DF17958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3188-FD76-4D55-8BB8-79ACA9AE3BE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F68F-3896-4E37-881F-F0D33A23D97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145B-81D5-446F-984A-3FAE199A3E3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7E64-FB07-46FF-AB62-4AE98CCA94D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D0AD-2B19-45E4-925B-25DD828A3F7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ED0B-3174-4DE4-BFA6-419B7E2F6F3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084A-D90B-4BAD-9C0E-5CAEC2C7C76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11C9-FC95-494E-933D-14C8FDEAF2A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B726-626A-459B-AD22-26C62A37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4738-8626-483F-9761-7F7564F7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417C0B-E65C-4135-AC86-483C2F2F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374F74-F612-4202-B61E-2F7A383A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CF6867-36D2-43D2-9EC1-579AA335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C0710F-0524-4449-A41F-59DEA70A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2D4EE4-BB4A-4914-9E51-594C4709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CF7685-87AF-4315-A68D-F4F4AE91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D29FD0-5599-411E-86F8-5227E74F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0DA407-0A12-4215-A554-84E3FD0FE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C893BC-612E-4116-9317-FFE424D8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B926-41E8-474E-AE38-69B7CDBE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46C8-0DA1-4D73-B938-3E6D6C44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0AB71-D15B-46C9-A691-1FFF2CF7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DD104-8CA3-4C04-8E61-1D99AA5A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AF754-5B83-405E-89F4-D12D97FB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BA3A9-0B71-448C-8072-6AF8D8CF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E58AB-7C37-400C-8EF9-DE3A39F8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B19D7-D0A5-4CBA-8046-06255DDA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E216F-A1BA-44B8-9832-1702B276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5D21-90E8-42D8-A832-85F5FEF3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51454-1DA5-4792-B4F4-F6A9A5F2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FED5F-7EBB-4532-830F-56B66223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0BD3E-B6F1-4766-927B-86F638EB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B367A-9F5A-443B-99E3-08BB6457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EB29F-7FB8-41C1-98ED-C796238D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555E5-9644-4CB0-92DD-8BAEDAAF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39182-6D1B-46AA-AAD0-F22852ED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FFA3F-EE3A-4F35-AD12-74AF21EC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F4C28-8EE5-4872-B9D5-5CC5ED04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769B3-7275-4895-9F2B-DC5CB3BD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F249-98DC-4AFF-9057-7E600DA0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9BF29-F70A-4B01-91CE-F6CD3BF4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DC9BF-834E-4688-97AA-71E7D454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2ED51-384F-42E8-ACA2-F6C44F98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35094-7F2A-4E22-AB33-1CFE51B1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FE366-8C3E-43AA-98AF-CC72DD52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F3125-4999-4C39-9D11-8A292973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741A7-F503-43DA-9F76-01716BF6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BB1534-62BD-4B6F-9C94-AE3C2184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F8BF03-8CCA-418D-8997-3735AE9C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ADF399-1AFD-463B-94AD-227694EB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D02D-04E2-4717-9F78-C0C97882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8CF804-8D49-42E7-A679-7101543D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3D5FE7-9996-453B-8569-27C1EB40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8AAE30-0513-452F-8CFC-93BB20DC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2D25EC-5458-4D98-80A6-FBB15C83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7F970C-CF33-469A-BF6B-57F9A831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DA4DE2-4C84-42C5-9FF9-3EB6B481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F5A868-43F9-4802-8737-B36F3B49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E0E125-C0BD-42E5-BF60-39B982F3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213986-06FB-473B-BB34-6484360D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15EB1-E52C-4EBD-A008-0D6873E5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398F-89B2-4129-83C8-CA4943A7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CB557-A1CF-4F55-9C61-AC6BA138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08477-B424-4A1C-A2C8-C6968353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0A3F3-5470-4840-8C90-324E9F71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4FE26-D21F-41FA-AA0E-62E704C9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5B0FE-A69D-44B6-A3D9-07D91FDE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27BF6-5212-4982-BA54-AB78143F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39464-B215-4B54-913E-1925F6F1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CBFD9-2561-42B3-92B4-8A22AFC0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14DFF-2419-412D-9758-52A5EB89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BC68F-6DEE-467E-AB14-CF93EB72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DF9D-4AD1-487D-9EB2-3FF3B738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B4175-1EFD-4ECB-832F-741751DA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A4B67-39A5-4CA2-93A3-B168593E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EBD19-5004-451D-A58D-C1BE4242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21394-03E8-49A2-BC0E-BEAACE11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F3720-CBBA-4F7E-BF55-1E4F7175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6AE81-7484-427A-94D4-B0ABB6E1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11B60-9241-47DD-ADD7-0A0258AE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1F4D4-8560-463D-988A-9354F1EA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339DA-9331-411A-A81F-60B2A68F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34CFE-502D-4E71-A2AF-139F543D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DAEC-4CF2-4E23-973A-1499DB31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87971-9C4F-4B8B-9BE3-5FA72529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2E852-1866-4961-988D-3F5487D9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49BEC-23D5-4B67-8AA0-084BEDB9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064F2-62B4-4482-96EB-4F6A53AE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DE3D7-BC00-4C16-AD7F-55F5D0A9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CC8CE-8368-4ED8-B0BF-35A35D14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18D08-50FA-43BE-9DC6-555B1AB8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6A3A5-9ADD-4263-B470-B6B49553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C5FD2-A29F-4DF3-90D1-C95B38AF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827CE-3CB8-4901-844A-155EAE0E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4301-DC66-4989-84D7-73F10C8A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9F7C7-26D6-444C-9AC2-7C64C1D8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AF2F0-D357-451E-BFA0-D5D83ECE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148F3-ED0B-4FD0-8709-B3614D8A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9D7C7-15C9-4322-ADFC-806064C10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DEA16-8553-419F-A63B-1C0E164D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9161B3-65AD-44F4-B18A-D95FAFE6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3CBB20-4EB7-484C-9BB3-9E912DC2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062601-D380-488D-8318-79140D25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35458B-56AE-4021-92C3-38F55495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1F007C-B022-472B-9D24-2BED6C49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4253-95CF-40F2-9B24-421B499F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AAEF06-4815-404A-98A3-F00A15F3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256C21-7DF3-4525-98C6-5E858E13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4B61E4-0BB1-4BF5-8F9C-C878C411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3DDCD4-80C5-4962-9B7D-ACC6AA34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802D0A-D043-4462-9B8B-D95ACAB7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EE24C3-1257-46DA-AE9F-D851A297F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5FFE97-F2CC-4B80-AD1E-59E77523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7B77C0-D7B7-4DA4-AD95-4D4806FD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C39D2E-61B9-48A2-B09E-8C03C39A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399987-F455-4443-882F-F7D5C139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416C-75B7-408E-8233-629B225D5311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5B9A-031B-4198-9C66-2A6EE8BCAF53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E9BD-5CBF-4B9E-9B2E-8E7008E619E8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0344-952C-49A1-8281-9DCB9BC1222E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C309-D0CA-4AB8-A770-7CB0E38E3B04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0DFC-93A8-408F-82B5-5D8DD478CF54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FD9E-9045-4ABF-B871-0D746878B9F0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9A4F-B9DA-46A0-AA93-C5A0B60B00AF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D1EB-DDC3-46B9-A56A-C4230A6DD1F5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9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643960" cy="22190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370512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mbria"/>
              </a:rPr>
              <a:t>С использованием лоскутных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mbria"/>
              </a:rPr>
              <a:t>техник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МО Ленинский район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Ватутинская СОШ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Учитель технологи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Иовенко Татьяна Юрьевн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3часть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3" name="Рисунок 3" descr="Наука и жизнь // Иллюстрации"/>
          <p:cNvPicPr/>
          <p:nvPr/>
        </p:nvPicPr>
        <p:blipFill>
          <a:blip r:embed="rId2"/>
          <a:stretch/>
        </p:blipFill>
        <p:spPr>
          <a:xfrm>
            <a:off x="109440" y="3481560"/>
            <a:ext cx="5273640" cy="3035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1" descr=""/>
          <p:cNvPicPr/>
          <p:nvPr/>
        </p:nvPicPr>
        <p:blipFill>
          <a:blip r:embed="rId1"/>
          <a:stretch/>
        </p:blipFill>
        <p:spPr>
          <a:xfrm>
            <a:off x="493560" y="-6480"/>
            <a:ext cx="8631360" cy="11653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428760" y="1356840"/>
            <a:ext cx="8286480" cy="5100840"/>
          </a:xfrm>
          <a:prstGeom prst="rect">
            <a:avLst/>
          </a:prstGeom>
          <a:noFill/>
          <a:ln w="19080">
            <a:solidFill>
              <a:srgbClr val="101022"/>
            </a:solidFill>
            <a:miter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Из заготовленных полосок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ткани ,  сочетающихся по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цвету, плетут самые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обыкновенные  косички,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которые можно сшивать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(по схеме) потайными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стежками  с изнанки 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в единое  полотно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Можно сделать сумку, пояс,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украшение, чехол дл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мобильника</a:t>
            </a: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9" name="Picture 2" descr="C:\Users\Татьяна\Documents\Мои результаты сканирования\2010-05 (май)\сканирование0082.jpg"/>
          <p:cNvPicPr/>
          <p:nvPr/>
        </p:nvPicPr>
        <p:blipFill>
          <a:blip r:embed="rId2"/>
          <a:stretch/>
        </p:blipFill>
        <p:spPr>
          <a:xfrm>
            <a:off x="5214960" y="1643040"/>
            <a:ext cx="3357720" cy="47149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440" name="Picture 5" descr="C:\Users\Татьяна\Documents\Мои результаты сканирования\2010-05 (май)\сканирование0093.jpg"/>
          <p:cNvPicPr/>
          <p:nvPr/>
        </p:nvPicPr>
        <p:blipFill>
          <a:blip r:embed="rId3"/>
          <a:stretch/>
        </p:blipFill>
        <p:spPr>
          <a:xfrm>
            <a:off x="642960" y="285840"/>
            <a:ext cx="2243160" cy="1000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570880" cy="148104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456840" y="1646280"/>
            <a:ext cx="590076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Стачивание полосок с помощь основы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Выкраивается основа  и подкладка нужной ширины пояса + прибавка на швы и  желаемой длины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Раскраивают полоски желаемой ширины (можно различной ширины)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На правый край основы лицевой стороной вверх уложить 1-у полоску, на неё сверху 2-ю лицевой стороной вниз и закрепить булавками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Пристрочить к основе по линии припуска 1-ю и 2-ю полоски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6643440" y="2143080"/>
            <a:ext cx="2043000" cy="32860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" descr="C:\Users\Татьяна\Documents\Мои результаты сканирования\2010-05 (май)\сканирование0092.jpg"/>
          <p:cNvPicPr/>
          <p:nvPr/>
        </p:nvPicPr>
        <p:blipFill>
          <a:blip r:embed="rId3"/>
          <a:stretch/>
        </p:blipFill>
        <p:spPr>
          <a:xfrm>
            <a:off x="857160" y="285840"/>
            <a:ext cx="1643040" cy="107136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3" descr="C:\Users\Татьяна\Documents\Мои результаты сканирования\2010-05 (май)\сканирование0092.jpg"/>
          <p:cNvPicPr/>
          <p:nvPr/>
        </p:nvPicPr>
        <p:blipFill>
          <a:blip r:embed="rId4"/>
          <a:stretch/>
        </p:blipFill>
        <p:spPr>
          <a:xfrm>
            <a:off x="6572160" y="2143080"/>
            <a:ext cx="2071800" cy="3286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428760" y="356760"/>
            <a:ext cx="5572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Выньте булавки, приутюжьте шов « на ребро», отогните вторую полоску на лицевую сторону  и отгладьте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Третью полоску положите лицевой стороной вниз на вторую, сколите , совместите срезы, пристрочите к основе и 2-ой полоске, приутюжьте и отогните 3-ю полоску на лицевую сторону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Также пришейте все остальные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Срежьте излишки ткани с краёв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Отутюжьте готовое полотно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7" name="Picture 2" descr="C:\Users\Татьяна\Documents\Мои результаты сканирования\2010-05 (май)\сканирование0092.jpg"/>
          <p:cNvPicPr/>
          <p:nvPr/>
        </p:nvPicPr>
        <p:blipFill>
          <a:blip r:embed="rId1"/>
          <a:stretch/>
        </p:blipFill>
        <p:spPr>
          <a:xfrm>
            <a:off x="6286680" y="785880"/>
            <a:ext cx="2286000" cy="5286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571680" y="356760"/>
            <a:ext cx="7929360" cy="581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Сложить подкладку пояса с готовой полосой лицевыми сторонами , уравнять срезы, сколоть булавками, стачать на ширину лапки, вынуть булавки, вывернуть пояс на лицевую сторону, приутюжить, и заделать концы пояса  по эскизу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 txBox="1"/>
          <p:nvPr/>
        </p:nvSpPr>
        <p:spPr>
          <a:xfrm>
            <a:off x="285840" y="1500120"/>
            <a:ext cx="62863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Сначала сшивают полоски в полотно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А потом из него выкраивают нужной ширины полоски 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Сшивают полоски так</a:t>
            </a:r>
            <a:r>
              <a:rPr b="0" lang="en-US" sz="2800" spc="-1" strike="noStrike">
                <a:solidFill>
                  <a:srgbClr val="ffff00"/>
                </a:solidFill>
                <a:latin typeface="Rockwell"/>
              </a:rPr>
              <a:t>:</a:t>
            </a: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 складывают лицевыми сторонами , скалывают поперёк срезов и стачивают мелкими стежками, шов заутюживают или  разутюживают и т. д.нарезают полоски нужной ширины и стачивают  в одну полосу нужной длины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6572160" y="1646280"/>
            <a:ext cx="2114640" cy="45259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C:\Users\Татьяна\Documents\Мои результаты сканирования\2010-05 (май)\сканирование0089.jpg"/>
          <p:cNvPicPr/>
          <p:nvPr/>
        </p:nvPicPr>
        <p:blipFill>
          <a:blip r:embed="rId3"/>
          <a:stretch/>
        </p:blipFill>
        <p:spPr>
          <a:xfrm>
            <a:off x="6572160" y="1643040"/>
            <a:ext cx="2214720" cy="4714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3" descr=""/>
          <p:cNvPicPr/>
          <p:nvPr/>
        </p:nvPicPr>
        <p:blipFill>
          <a:blip r:embed="rId1"/>
          <a:stretch/>
        </p:blipFill>
        <p:spPr>
          <a:xfrm>
            <a:off x="109440" y="2120760"/>
            <a:ext cx="89121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920880" y="353880"/>
            <a:ext cx="8083440" cy="11638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F:\DCIM\100CASIO\лоскутная тех курсы\CIMG1931.JPG"/>
          <p:cNvPicPr/>
          <p:nvPr/>
        </p:nvPicPr>
        <p:blipFill>
          <a:blip r:embed="rId2"/>
          <a:stretch/>
        </p:blipFill>
        <p:spPr>
          <a:xfrm>
            <a:off x="3382920" y="1063800"/>
            <a:ext cx="2678040" cy="1019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06" name="Picture 10" descr="C:\Users\Татьяна\Documents\Материал ТТР л+в\ЛОСКУТ\лоскут соврем\Сухова (2).JPG"/>
          <p:cNvPicPr/>
          <p:nvPr/>
        </p:nvPicPr>
        <p:blipFill>
          <a:blip r:embed="rId3"/>
          <a:stretch/>
        </p:blipFill>
        <p:spPr>
          <a:xfrm>
            <a:off x="395280" y="549360"/>
            <a:ext cx="2479680" cy="18572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C:\Users\Татьяна\Documents\Мои результаты сканирования\2010-05 (май)\сканирование0081.jpg"/>
          <p:cNvPicPr/>
          <p:nvPr/>
        </p:nvPicPr>
        <p:blipFill>
          <a:blip r:embed="rId4"/>
          <a:stretch/>
        </p:blipFill>
        <p:spPr>
          <a:xfrm rot="2386200">
            <a:off x="7098840" y="1534680"/>
            <a:ext cx="797040" cy="3011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08" name="Picture 4" descr="C:\Users\Татьяна\Documents\Мои результаты сканирования\2010-05 (май)\сканирование0093.jpg"/>
          <p:cNvPicPr/>
          <p:nvPr/>
        </p:nvPicPr>
        <p:blipFill>
          <a:blip r:embed="rId5"/>
          <a:stretch/>
        </p:blipFill>
        <p:spPr>
          <a:xfrm>
            <a:off x="468360" y="2997360"/>
            <a:ext cx="2714400" cy="128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09" name="Рисунок 6" descr="http://www.hnh.ru/file/0002/250/0002_1504.jpg"/>
          <p:cNvPicPr/>
          <p:nvPr/>
        </p:nvPicPr>
        <p:blipFill>
          <a:blip r:embed="rId6"/>
          <a:stretch/>
        </p:blipFill>
        <p:spPr>
          <a:xfrm>
            <a:off x="3564000" y="4653000"/>
            <a:ext cx="2381040" cy="1781280"/>
          </a:xfrm>
          <a:prstGeom prst="rect">
            <a:avLst/>
          </a:prstGeom>
          <a:ln w="38160">
            <a:solidFill>
              <a:srgbClr val="0d0d0d"/>
            </a:solidFill>
            <a:miter/>
          </a:ln>
        </p:spPr>
      </p:pic>
      <p:pic>
        <p:nvPicPr>
          <p:cNvPr id="410" name="Рисунок 7" descr="http://www.hnh.ru/file/0002/250/0002_1503.jpg"/>
          <p:cNvPicPr/>
          <p:nvPr/>
        </p:nvPicPr>
        <p:blipFill>
          <a:blip r:embed="rId7"/>
          <a:stretch/>
        </p:blipFill>
        <p:spPr>
          <a:xfrm>
            <a:off x="3635280" y="2997360"/>
            <a:ext cx="2381400" cy="1368360"/>
          </a:xfrm>
          <a:prstGeom prst="rect">
            <a:avLst/>
          </a:prstGeom>
          <a:ln w="38160">
            <a:solidFill>
              <a:srgbClr val="101022"/>
            </a:solidFill>
            <a:miter/>
          </a:ln>
        </p:spPr>
      </p:pic>
      <p:pic>
        <p:nvPicPr>
          <p:cNvPr id="411" name="Рисунок 8" descr="http://www.hnh.ru/file/0002/250/0002_1506.jpg"/>
          <p:cNvPicPr/>
          <p:nvPr/>
        </p:nvPicPr>
        <p:blipFill>
          <a:blip r:embed="rId8"/>
          <a:stretch/>
        </p:blipFill>
        <p:spPr>
          <a:xfrm>
            <a:off x="611280" y="4581360"/>
            <a:ext cx="2448000" cy="18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12" name="Рисунок 9" descr="http://www.hnh.ru/file/0002/250/0002_1507.jpg"/>
          <p:cNvPicPr/>
          <p:nvPr/>
        </p:nvPicPr>
        <p:blipFill>
          <a:blip r:embed="rId9"/>
          <a:stretch/>
        </p:blipFill>
        <p:spPr>
          <a:xfrm>
            <a:off x="6516720" y="4653000"/>
            <a:ext cx="2085840" cy="18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57120" y="1571760"/>
            <a:ext cx="8229600" cy="5000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Сначала  нужно подготовить материал для работы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Это может быть интересная тесьма , шелковые ленты, шнуры, кромки тканей или сшитые из ткани полоски, старые пояса, ремни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53548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5" name="Picture 5" descr="C:\Users\Татьяна\Documents\Мои результаты сканирования\2010-05 (май)\сканирование0093.jpg"/>
          <p:cNvPicPr/>
          <p:nvPr/>
        </p:nvPicPr>
        <p:blipFill>
          <a:blip r:embed="rId2"/>
          <a:stretch/>
        </p:blipFill>
        <p:spPr>
          <a:xfrm>
            <a:off x="500040" y="4929120"/>
            <a:ext cx="1428840" cy="1500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16" name="Picture 6" descr="C:\Users\Татьяна\Documents\Мои результаты сканирования\2010-05 (май)\сканирование0094.jpg"/>
          <p:cNvPicPr/>
          <p:nvPr/>
        </p:nvPicPr>
        <p:blipFill>
          <a:blip r:embed="rId3"/>
          <a:stretch/>
        </p:blipFill>
        <p:spPr>
          <a:xfrm>
            <a:off x="2143080" y="4786200"/>
            <a:ext cx="4286160" cy="1643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17" name="Picture 7" descr="C:\Users\Татьяна\Documents\Мои результаты сканирования\2010-05 (май)\сканирование0095.jpg"/>
          <p:cNvPicPr/>
          <p:nvPr/>
        </p:nvPicPr>
        <p:blipFill>
          <a:blip r:embed="rId4"/>
          <a:stretch/>
        </p:blipFill>
        <p:spPr>
          <a:xfrm>
            <a:off x="6643800" y="4143240"/>
            <a:ext cx="179856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553600" cy="13111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mbria"/>
              </a:rPr>
              <a:t>Нарезать ткань на полоски шириной от 2.5 до 4см в зависимости от толщины  ткани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0" name="Picture 2" descr="C:\Users\Татьяна\Documents\Мои результаты сканирования\2010-05 (май)\сканирование0078.jpg"/>
          <p:cNvPicPr/>
          <p:nvPr/>
        </p:nvPicPr>
        <p:blipFill>
          <a:blip r:embed="rId2">
            <a:lum bright="-40000"/>
          </a:blip>
          <a:stretch/>
        </p:blipFill>
        <p:spPr>
          <a:xfrm>
            <a:off x="3059280" y="2852640"/>
            <a:ext cx="309708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Прямоугольник 4"/>
          <p:cNvSpPr/>
          <p:nvPr/>
        </p:nvSpPr>
        <p:spPr>
          <a:xfrm>
            <a:off x="755640" y="549360"/>
            <a:ext cx="792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резанные полоски сложить  пополам лицевой стороной в внутрь  по длинным сторонам, уравнять  срезы,  строчить на ширину лапки, швы разутюжить, полоски вывернуть на лицевую сторо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Расположить шов точно по середине полоски и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   проутюжи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C:\Users\Татьяна\Documents\Мои результаты сканирования\2010-05 (май)\сканирование0080.jpg"/>
          <p:cNvPicPr/>
          <p:nvPr/>
        </p:nvPicPr>
        <p:blipFill>
          <a:blip r:embed="rId1"/>
          <a:stretch/>
        </p:blipFill>
        <p:spPr>
          <a:xfrm>
            <a:off x="1619280" y="3860640"/>
            <a:ext cx="3240000" cy="22989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Users\Татьяна\Documents\Мои результаты сканирования\2010-05 (май)\сканирование0078.jpg"/>
          <p:cNvPicPr/>
          <p:nvPr/>
        </p:nvPicPr>
        <p:blipFill>
          <a:blip r:embed="rId2"/>
          <a:stretch/>
        </p:blipFill>
        <p:spPr>
          <a:xfrm rot="1352400">
            <a:off x="6967080" y="3528720"/>
            <a:ext cx="64476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420840" y="-92160"/>
            <a:ext cx="8631000" cy="1573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28760" y="1714320"/>
            <a:ext cx="8286480" cy="4786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При помощи «термо»   тесьмы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Машинной строчки ил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строчкой  «зиг-заг»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Вручную  «потайным»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Cambria"/>
              </a:rPr>
              <a:t>швом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6" name="Picture 2" descr="C:\Users\Татьяна\Documents\Мои результаты сканирования\2010-05 (май)\сканирование0078.jpg"/>
          <p:cNvPicPr/>
          <p:nvPr/>
        </p:nvPicPr>
        <p:blipFill>
          <a:blip r:embed="rId2"/>
          <a:stretch/>
        </p:blipFill>
        <p:spPr>
          <a:xfrm>
            <a:off x="571680" y="3429000"/>
            <a:ext cx="4862160" cy="10717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Users\Татьяна\Documents\Мои результаты сканирования\2010-05 (май)\сканирование0078.jpg"/>
          <p:cNvPicPr/>
          <p:nvPr/>
        </p:nvPicPr>
        <p:blipFill>
          <a:blip r:embed="rId3"/>
          <a:stretch/>
        </p:blipFill>
        <p:spPr>
          <a:xfrm>
            <a:off x="6286680" y="2071800"/>
            <a:ext cx="2089080" cy="15001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C:\Users\Татьяна\Documents\Мои результаты сканирования\2010-05 (май)\сканирование0078.jpg"/>
          <p:cNvPicPr/>
          <p:nvPr/>
        </p:nvPicPr>
        <p:blipFill>
          <a:blip r:embed="rId4"/>
          <a:stretch/>
        </p:blipFill>
        <p:spPr>
          <a:xfrm>
            <a:off x="5429160" y="4714920"/>
            <a:ext cx="29941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493560" y="-115920"/>
            <a:ext cx="8614080" cy="14810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" descr="C:\Users\Татьяна\Documents\Мои результаты сканирования\2010-05 (май)\сканирование0081.jpg"/>
          <p:cNvPicPr/>
          <p:nvPr/>
        </p:nvPicPr>
        <p:blipFill>
          <a:blip r:embed="rId2"/>
          <a:stretch/>
        </p:blipFill>
        <p:spPr>
          <a:xfrm>
            <a:off x="928800" y="1571760"/>
            <a:ext cx="7000920" cy="4911480"/>
          </a:xfrm>
          <a:prstGeom prst="rect">
            <a:avLst/>
          </a:prstGeom>
          <a:ln w="38160">
            <a:solidFill>
              <a:srgbClr val="101022"/>
            </a:solidFill>
            <a:miter/>
          </a:ln>
        </p:spPr>
      </p:pic>
      <p:pic>
        <p:nvPicPr>
          <p:cNvPr id="431" name="Picture 2" descr="C:\Users\Татьяна\Documents\Мои результаты сканирования\2010-05 (май)\сканирование0081.jpg"/>
          <p:cNvPicPr/>
          <p:nvPr/>
        </p:nvPicPr>
        <p:blipFill>
          <a:blip r:embed="rId3"/>
          <a:stretch/>
        </p:blipFill>
        <p:spPr>
          <a:xfrm>
            <a:off x="5072040" y="5429160"/>
            <a:ext cx="3429000" cy="928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7" descr=""/>
          <p:cNvPicPr/>
          <p:nvPr/>
        </p:nvPicPr>
        <p:blipFill>
          <a:blip r:embed="rId1"/>
          <a:stretch/>
        </p:blipFill>
        <p:spPr>
          <a:xfrm>
            <a:off x="847800" y="291960"/>
            <a:ext cx="7839000" cy="866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" descr="F:\DCIM\100CASIO\лоскутная тех курсы\CIMG1933.JPG"/>
          <p:cNvPicPr/>
          <p:nvPr/>
        </p:nvPicPr>
        <p:blipFill>
          <a:blip r:embed="rId2"/>
          <a:stretch/>
        </p:blipFill>
        <p:spPr>
          <a:xfrm>
            <a:off x="1450800" y="1627200"/>
            <a:ext cx="2310120" cy="50180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C:\Users\Татьяна\Documents\Мои результаты сканирования\2010-05 (май)\сканирование0081.jpg"/>
          <p:cNvPicPr/>
          <p:nvPr/>
        </p:nvPicPr>
        <p:blipFill>
          <a:blip r:embed="rId3"/>
          <a:stretch/>
        </p:blipFill>
        <p:spPr>
          <a:xfrm>
            <a:off x="3627360" y="2548080"/>
            <a:ext cx="5529240" cy="3182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601120" cy="14508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Users\Татьяна\Documents\Мои результаты сканирования\2010-05 (май)\сканирование0082.jpg"/>
          <p:cNvPicPr/>
          <p:nvPr/>
        </p:nvPicPr>
        <p:blipFill>
          <a:blip r:embed="rId2"/>
          <a:stretch/>
        </p:blipFill>
        <p:spPr>
          <a:xfrm>
            <a:off x="1143000" y="1785960"/>
            <a:ext cx="7072200" cy="4643280"/>
          </a:xfrm>
          <a:prstGeom prst="rect">
            <a:avLst/>
          </a:prstGeom>
          <a:ln w="38160">
            <a:solidFill>
              <a:srgbClr val="10102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6:16:59Z</dcterms:created>
  <dc:creator>Татьяна</dc:creator>
  <dc:description/>
  <dc:language>en-US</dc:language>
  <cp:lastModifiedBy>Татьяна</cp:lastModifiedBy>
  <dcterms:modified xsi:type="dcterms:W3CDTF">2011-12-11T09:42:28Z</dcterms:modified>
  <cp:revision>197</cp:revision>
  <dc:subject/>
  <dc:title>Создание аксессуаров</dc:title>
</cp:coreProperties>
</file>