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13.png" ContentType="image/png"/>
  <Override PartName="/ppt/media/image37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34.jpeg" ContentType="image/jpeg"/>
  <Override PartName="/ppt/media/image20.png" ContentType="image/pn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12.png" ContentType="image/png"/>
  <Override PartName="/ppt/media/image38.png" ContentType="image/png"/>
  <Override PartName="/ppt/media/image39.jpeg" ContentType="image/jpeg"/>
  <Override PartName="/ppt/media/image8.jpeg" ContentType="image/jpeg"/>
  <Override PartName="/ppt/media/image29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9.jpeg" ContentType="image/jpeg"/>
  <Override PartName="/ppt/media/image11.png" ContentType="image/png"/>
  <Override PartName="/ppt/media/image10.png" ContentType="image/png"/>
  <Override PartName="/ppt/media/image35.jpeg" ContentType="image/jpeg"/>
  <Override PartName="/ppt/media/image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AE98-7C83-462D-A597-117ECC3807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62A8-B38F-4D59-972A-E5D89F3BDE0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0ABB-2F17-4ABA-918A-0D30DC113E1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4B99-3BBE-443B-8A7C-C332120FFDA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DCD1-41D8-4203-9541-F496EE5ACCB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92E9-4687-4A0D-B92B-F5003572E12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6513-B0C3-4404-B08B-718CE60A154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602A-75FA-4E29-90A8-288B7548501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78D8-27EC-4017-84A7-4D6FF975658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0E9F-E560-4443-B22C-5AD69D326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C693-D2A4-4D33-A3C2-ED2D4CD0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6DEB42-964E-400A-8AF4-BF3EC3A3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1DAC75-820A-44C0-8D1F-ABEB2BF9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F0E1A3-639C-4BDC-98E2-9969DA8D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45FE37-07E7-476D-94F1-1FB4DD58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BB550E-46F9-4247-A196-F630F658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42E52F-70DC-4EF9-A118-3646B381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2D436B-71D5-41AB-B4CC-0499657B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A1CAAE-2C87-4028-896A-D961DB02F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D6AA5C-4203-40E5-9A74-6B54F5F9F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AAEB-89D0-4B44-B363-6E86B5791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1717-E579-4D14-9A96-983BB68CB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A2E4D-C0D0-4793-81EB-528C91955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99A30-B873-48C1-B989-267C352D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B108B-795F-492F-A4D6-0994650F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141BA1-0CA9-4666-9F0B-529A40B0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8693B-1D47-425B-AFCF-C9E539A4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64DF2-D13D-4067-A63C-FDC09CA3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BC61F-3B64-4970-A248-A0D16F54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1F08-60BD-416B-8B39-4E68959B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5120D-046B-470B-9874-257BE253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7759B-FEFE-4639-9D11-7401B77F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E9EA6-05E9-4B62-98D0-9AE6EECE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BB4C8-522F-436C-90E7-F001BBB96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C5A7B-D420-4994-A7B5-944804CA4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75642-D6FA-4FC6-B830-ECF5DD145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286C1-2520-40AA-8E5F-C9F08727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49F21-518F-4CDA-AABE-E22DBB99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BDECF-06E4-492F-B7C5-D29C21BF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5F965-AC5A-45E1-ADE1-D3073218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2DDD-CBB2-4B02-A5A1-46B05225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50E22-9A06-4421-8DCE-556054CC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92733-05A2-4A74-AE9E-C19F5CC2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5B159-7122-4E62-9F12-E5338DE6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4AA2F-266B-438A-BBAB-DF1B486C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4F658-67DF-4BB4-A9CC-A4C94A6D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C306E-3260-41CD-9D85-F896E8FA1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1BDBC-64CF-434E-B276-8A31EDB8C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B0905E-1291-4546-A729-812BDA95D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D00D54-DBD1-41C6-83B6-D80956A1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9676ED-5D16-4DD6-8A32-6C08E457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0ABB-19E3-4A14-9E26-26340F93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E1FF18-60B9-442A-8389-555CF9A0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24C4D2-768F-46E8-957F-5D2CC761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4F4197-0A8B-43F7-8FD4-F897B8D2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875C7D-6CF0-469A-BC56-B81D6FAB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85E576-A1E4-4EEB-AFAF-81B88623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7F2E28-FA5A-44BD-8FD1-CB66C99A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610E4F-4FE0-4039-AFBD-36319EF6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18C557-72B9-4768-9033-6282A5AF9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9F5E8E-3697-4F20-A174-FBE18D68C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BB277-25DD-48E4-8EC4-BE495B49E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C0D2-E313-4E5E-B809-1E46B668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09A12-687C-4ADF-BC13-117DD3B7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2F20A-1A64-4C09-9505-FE71A3FE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4F32B-BAC6-407E-B55B-360CD7EF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BCEAD-72B4-4EB8-B42F-4716627E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0CB10-88D2-411F-99EC-66F26939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DA0AA-DF0E-45D5-BFE0-B4D6B3AE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54D75-B84D-4EB5-94B3-D29773DB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82EEF-8067-4F37-93FF-E41FAEC8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71509-F2D5-4ADE-A944-9576502E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08D38-4D33-4AF3-A495-02FFD3D1E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0BBF-6651-4CB1-8E4F-DBE22FA1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41BCD-576E-4A89-9981-B9CC49421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A6BB9-0F39-426A-9789-4DECC9A23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9A5DE-9E70-4349-ADD9-273363B2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B7BAD-D072-4356-961F-4A12B441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B1C35-7A7C-4C02-BBCB-54CE5BD0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DFAD1-30D4-4163-8C36-856BDC31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9DC78-4922-4636-8A24-49AC2255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ABBA5-7F48-4554-9F1B-C90AAD63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2FC26-D32A-465D-AB87-E23840B8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D6285-D02D-4E2F-AC87-4B843413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643F-1622-4328-AD4D-E14B3BF9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EE53B-6E81-4583-BDBB-9CDD69B0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7B0E3-D642-48BF-9D6E-B4CA970CD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CE3AF-7A7C-4B9C-981E-7D5F2C8D5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0C3B4-B550-4BEE-BBD2-2D1F506BD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B9AF7-E703-4399-A572-EAFC9528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C6C98-96E4-40CD-8D9B-1296B557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8438B-A6E5-4703-B69E-87AB5A2E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FB812-9542-4699-B36D-479245DA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8CED8-5244-405A-9531-C0A272BE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30E86-550A-44BD-860F-6E7EEC8B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0C9F-3345-4246-90C2-C2EABC8D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1D89B-D50B-40B0-9E6B-29EF9675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CBF26-595D-4FF7-9454-E08C1860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9C505-A5B5-442C-867E-1A5489DB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B5C61-13A1-4022-8D1D-823D82C63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453E1-4818-4D4E-8E1C-DEEBE59AD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962A87-496D-48F8-AF81-C397B5753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F8D3F7-C573-4F66-B6DD-9B0B6C47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48FDD1-AB4F-43C4-8657-58506BC3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F9A24A-A502-4F53-86C3-074A194B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4A38E3-2576-471E-88EE-926CA9E5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5030-738E-40DD-83BF-D96BCBDC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C5750B-8B0B-4380-A491-F7030E0F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8AB681-C0BF-49A4-8961-75372738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AEAF4F-143C-4736-B80A-A400EDDA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93F178-90B0-4483-B419-ED0C40B5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C8CE67-B880-4D89-9097-0488DD63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185E56-AB37-45D0-8474-BC2C87EA3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A79AF5-20D0-44FD-9DB9-7E9A54D1F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8997FB-E00D-4F84-A85C-1B4F8C779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574729-F085-4ADA-8458-6EB50B8A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EE5A51-968E-4BCF-BCED-2AC7AC3E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fafb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fafb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4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FAF7-EE03-4C2C-BFC6-2191CF753434}" type="slidenum">
              <a:rPr b="0" lang="ru-RU" sz="1600" spc="-1" strike="noStrike">
                <a:solidFill>
                  <a:srgbClr val="d4d4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438086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438086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fafb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fafb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4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0736-B695-461C-832E-B031706ECFA6}" type="slidenum">
              <a:rPr b="0" lang="ru-RU" sz="1600" spc="-1" strike="noStrike">
                <a:solidFill>
                  <a:srgbClr val="d4d4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53548a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438086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fafb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fafb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4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E07D-0722-4420-892F-05D4BC0F4A10}" type="slidenum">
              <a:rPr b="0" lang="ru-RU" sz="1600" spc="-1" strike="noStrike">
                <a:solidFill>
                  <a:srgbClr val="d4d4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53548a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438086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fafb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fafb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4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2B37-6F90-4ECD-99D2-56DFEFBC7788}" type="slidenum">
              <a:rPr b="0" lang="ru-RU" sz="1600" spc="-1" strike="noStrike">
                <a:solidFill>
                  <a:srgbClr val="d4d4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53548a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438086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fafb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fafb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4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6E2F-B596-4081-BD7A-E9F06A8D3460}" type="slidenum">
              <a:rPr b="0" lang="ru-RU" sz="1600" spc="-1" strike="noStrike">
                <a:solidFill>
                  <a:srgbClr val="d4d4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53548a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53548a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438086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fafb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fafb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4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9100-2E6E-4A64-8179-B5E0E7B8C758}" type="slidenum">
              <a:rPr b="0" lang="ru-RU" sz="1600" spc="-1" strike="noStrike">
                <a:solidFill>
                  <a:srgbClr val="d4d4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53548a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438086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fafb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fafb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4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D76E-04A2-4D64-BBEF-CB9B8964A832}" type="slidenum">
              <a:rPr b="0" lang="ru-RU" sz="1600" spc="-1" strike="noStrike">
                <a:solidFill>
                  <a:srgbClr val="d4d4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53548a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438086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fafb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fafb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4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40AB-76F9-42D5-969B-84B0DC44EF42}" type="slidenum">
              <a:rPr b="0" lang="ru-RU" sz="1600" spc="-1" strike="noStrike">
                <a:solidFill>
                  <a:srgbClr val="d4d4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438086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fafb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fafb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4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DE84-905F-41DF-A482-C2DD845F3C93}" type="slidenum">
              <a:rPr b="0" lang="ru-RU" sz="1600" spc="-1" strike="noStrike">
                <a:solidFill>
                  <a:srgbClr val="d4d4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image" Target="../media/image25.png"/><Relationship Id="rId13" Type="http://schemas.openxmlformats.org/officeDocument/2006/relationships/image" Target="../media/image25.png"/><Relationship Id="rId14" Type="http://schemas.openxmlformats.org/officeDocument/2006/relationships/image" Target="../media/image26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1189080" y="128520"/>
            <a:ext cx="7845480" cy="13096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F:\DCIM\100CASIO\лоскутная тех курсы\CIMG1901.JPG"/>
          <p:cNvPicPr/>
          <p:nvPr/>
        </p:nvPicPr>
        <p:blipFill>
          <a:blip r:embed="rId2"/>
          <a:stretch/>
        </p:blipFill>
        <p:spPr>
          <a:xfrm>
            <a:off x="6286680" y="1785960"/>
            <a:ext cx="2143080" cy="25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03" name="Picture 5" descr="F:\DCIM\100CASIO\лоскутная тех курсы\CIMG1904.JPG"/>
          <p:cNvPicPr/>
          <p:nvPr/>
        </p:nvPicPr>
        <p:blipFill>
          <a:blip r:embed="rId3"/>
          <a:stretch/>
        </p:blipFill>
        <p:spPr>
          <a:xfrm>
            <a:off x="4214880" y="4572000"/>
            <a:ext cx="4286160" cy="1500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04" name="Picture 6" descr="F:\DCIM\100CASIO\лоскутная тех курсы\CIMG1911.JPG"/>
          <p:cNvPicPr/>
          <p:nvPr/>
        </p:nvPicPr>
        <p:blipFill>
          <a:blip r:embed="rId4"/>
          <a:stretch/>
        </p:blipFill>
        <p:spPr>
          <a:xfrm>
            <a:off x="642960" y="1785960"/>
            <a:ext cx="2859120" cy="223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05" name="Picture 7" descr="F:\DCIM\100CASIO\лоскутная тех курсы\CIMG1917.JPG"/>
          <p:cNvPicPr/>
          <p:nvPr/>
        </p:nvPicPr>
        <p:blipFill>
          <a:blip r:embed="rId5"/>
          <a:stretch/>
        </p:blipFill>
        <p:spPr>
          <a:xfrm>
            <a:off x="3857760" y="2071800"/>
            <a:ext cx="1857240" cy="2143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06" name="fpGalleryMainImg_117" descr="http://tl-patchwork.narod.ru/SUMKI_PICTURES/Image11.jpg"/>
          <p:cNvPicPr/>
          <p:nvPr/>
        </p:nvPicPr>
        <p:blipFill>
          <a:blip r:embed="rId6"/>
          <a:stretch/>
        </p:blipFill>
        <p:spPr>
          <a:xfrm>
            <a:off x="857160" y="4429080"/>
            <a:ext cx="2571840" cy="15717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Рисунок 3" descr="F:\DCIM\100CASIO\лоскутная тех курсы\CIMG2014.JPG"/>
          <p:cNvPicPr/>
          <p:nvPr/>
        </p:nvPicPr>
        <p:blipFill>
          <a:blip r:embed="rId1"/>
          <a:stretch/>
        </p:blipFill>
        <p:spPr>
          <a:xfrm>
            <a:off x="444600" y="3565440"/>
            <a:ext cx="3389040" cy="314640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4" descr="F:\DCIM\100CASIO\лоскутная тех курсы\CIMG2002.JPG"/>
          <p:cNvPicPr/>
          <p:nvPr/>
        </p:nvPicPr>
        <p:blipFill>
          <a:blip r:embed="rId2"/>
          <a:stretch/>
        </p:blipFill>
        <p:spPr>
          <a:xfrm>
            <a:off x="5645160" y="3657600"/>
            <a:ext cx="3065400" cy="2968560"/>
          </a:xfrm>
          <a:prstGeom prst="rect">
            <a:avLst/>
          </a:prstGeom>
          <a:ln w="0">
            <a:noFill/>
          </a:ln>
        </p:spPr>
      </p:pic>
      <p:pic>
        <p:nvPicPr>
          <p:cNvPr id="409" name="Рисунок 5" descr="F:\DCIM\100CASIO\лоскутная тех курсы\CIMG1999.JPG"/>
          <p:cNvPicPr/>
          <p:nvPr/>
        </p:nvPicPr>
        <p:blipFill>
          <a:blip r:embed="rId3"/>
          <a:stretch/>
        </p:blipFill>
        <p:spPr>
          <a:xfrm>
            <a:off x="476280" y="262080"/>
            <a:ext cx="3632040" cy="3474720"/>
          </a:xfrm>
          <a:prstGeom prst="rect">
            <a:avLst/>
          </a:prstGeom>
          <a:ln w="0">
            <a:noFill/>
          </a:ln>
        </p:spPr>
      </p:pic>
      <p:pic>
        <p:nvPicPr>
          <p:cNvPr id="410" name="Рисунок 6" descr="F:\DCIM\100CASIO\лоскутная тех курсы\CIMG2022.JPG"/>
          <p:cNvPicPr/>
          <p:nvPr/>
        </p:nvPicPr>
        <p:blipFill>
          <a:blip r:embed="rId4"/>
          <a:stretch/>
        </p:blipFill>
        <p:spPr>
          <a:xfrm>
            <a:off x="5089680" y="158760"/>
            <a:ext cx="3779640" cy="3664080"/>
          </a:xfrm>
          <a:prstGeom prst="rect">
            <a:avLst/>
          </a:prstGeom>
          <a:ln w="0">
            <a:noFill/>
          </a:ln>
        </p:spPr>
      </p:pic>
      <p:pic>
        <p:nvPicPr>
          <p:cNvPr id="411" name="Рисунок 7" descr="Текстильные бусы"/>
          <p:cNvPicPr/>
          <p:nvPr/>
        </p:nvPicPr>
        <p:blipFill>
          <a:blip r:embed="rId5"/>
          <a:stretch/>
        </p:blipFill>
        <p:spPr>
          <a:xfrm>
            <a:off x="3786120" y="2643120"/>
            <a:ext cx="185760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4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Материалы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Ткань  (ацетатный шелк)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Шаблоны кружков диаметром  6, 8, 10см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Бисер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Застежка 2 шт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Швейные нитки и леска ( для сборки бус и браслета)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4" name="Picture 4" descr="C:\Users\Татьяна\Documents\лоскутная тех курсы\CIMG1987.JPG"/>
          <p:cNvPicPr/>
          <p:nvPr/>
        </p:nvPicPr>
        <p:blipFill>
          <a:blip r:embed="rId2"/>
          <a:stretch/>
        </p:blipFill>
        <p:spPr>
          <a:xfrm>
            <a:off x="5072040" y="1714680"/>
            <a:ext cx="3400560" cy="45226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571320" y="428760"/>
            <a:ext cx="8072280" cy="5929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mbria"/>
              </a:rPr>
              <a:t>Приготовить шаблоны  кружков трех  размеров (диаметр равен 6, 8 и 10см)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mbria"/>
              </a:rPr>
              <a:t>Раскроить кружки нужного количества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6" name="Picture 5" descr="C:\Users\Татьяна\Documents\Мои результаты сканирования\2010-05 (май)\сканирование0084.jpg"/>
          <p:cNvPicPr/>
          <p:nvPr/>
        </p:nvPicPr>
        <p:blipFill>
          <a:blip r:embed="rId1"/>
          <a:stretch/>
        </p:blipFill>
        <p:spPr>
          <a:xfrm>
            <a:off x="4429080" y="3429000"/>
            <a:ext cx="1500120" cy="13809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5" descr="C:\Users\Татьяна\Documents\Мои результаты сканирования\2010-05 (май)\сканирование0084.jpg"/>
          <p:cNvPicPr/>
          <p:nvPr/>
        </p:nvPicPr>
        <p:blipFill>
          <a:blip r:embed="rId2"/>
          <a:stretch/>
        </p:blipFill>
        <p:spPr>
          <a:xfrm>
            <a:off x="3786120" y="3214800"/>
            <a:ext cx="1500120" cy="13809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" descr="C:\Users\Татьяна\Documents\Мои результаты сканирования\2010-05 (май)\сканирование0084.jpg"/>
          <p:cNvPicPr/>
          <p:nvPr/>
        </p:nvPicPr>
        <p:blipFill>
          <a:blip r:embed="rId3"/>
          <a:stretch/>
        </p:blipFill>
        <p:spPr>
          <a:xfrm>
            <a:off x="5143680" y="4071960"/>
            <a:ext cx="1500120" cy="13809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C:\Users\Татьяна\Documents\Мои результаты сканирования\2010-05 (май)\сканирование0084.jpg"/>
          <p:cNvPicPr/>
          <p:nvPr/>
        </p:nvPicPr>
        <p:blipFill>
          <a:blip r:embed="rId4"/>
          <a:stretch/>
        </p:blipFill>
        <p:spPr>
          <a:xfrm>
            <a:off x="5857920" y="4572000"/>
            <a:ext cx="1500120" cy="138096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5" descr="C:\Users\Татьяна\Documents\Мои результаты сканирования\2010-05 (май)\сканирование0084.jpg"/>
          <p:cNvPicPr/>
          <p:nvPr/>
        </p:nvPicPr>
        <p:blipFill>
          <a:blip r:embed="rId5"/>
          <a:stretch/>
        </p:blipFill>
        <p:spPr>
          <a:xfrm>
            <a:off x="6786720" y="3357720"/>
            <a:ext cx="1500120" cy="13809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5" descr="C:\Users\Татьяна\Documents\Мои результаты сканирования\2010-05 (май)\сканирование0084.jpg"/>
          <p:cNvPicPr/>
          <p:nvPr/>
        </p:nvPicPr>
        <p:blipFill>
          <a:blip r:embed="rId6"/>
          <a:stretch/>
        </p:blipFill>
        <p:spPr>
          <a:xfrm>
            <a:off x="6929280" y="4857840"/>
            <a:ext cx="1500480" cy="13809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C:\Users\Татьяна\Documents\Мои результаты сканирования\2010-05 (май)\сканирование0084.jpg"/>
          <p:cNvPicPr/>
          <p:nvPr/>
        </p:nvPicPr>
        <p:blipFill>
          <a:blip r:embed="rId7"/>
          <a:stretch/>
        </p:blipFill>
        <p:spPr>
          <a:xfrm>
            <a:off x="4572000" y="5000760"/>
            <a:ext cx="1000080" cy="9205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C:\Users\Татьяна\Documents\Мои результаты сканирования\2010-05 (май)\сканирование0084.jpg"/>
          <p:cNvPicPr/>
          <p:nvPr/>
        </p:nvPicPr>
        <p:blipFill>
          <a:blip r:embed="rId8"/>
          <a:stretch/>
        </p:blipFill>
        <p:spPr>
          <a:xfrm>
            <a:off x="2928960" y="4929120"/>
            <a:ext cx="1071720" cy="9860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C:\Users\Татьяна\Documents\Мои результаты сканирования\2010-05 (май)\сканирование0084.jpg"/>
          <p:cNvPicPr/>
          <p:nvPr/>
        </p:nvPicPr>
        <p:blipFill>
          <a:blip r:embed="rId9"/>
          <a:stretch/>
        </p:blipFill>
        <p:spPr>
          <a:xfrm>
            <a:off x="1428840" y="4500720"/>
            <a:ext cx="1143000" cy="10522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5" descr="C:\Users\Татьяна\Documents\Мои результаты сканирования\2010-05 (май)\сканирование0084.jpg"/>
          <p:cNvPicPr/>
          <p:nvPr/>
        </p:nvPicPr>
        <p:blipFill>
          <a:blip r:embed="rId10"/>
          <a:stretch/>
        </p:blipFill>
        <p:spPr>
          <a:xfrm>
            <a:off x="6572160" y="2143080"/>
            <a:ext cx="571680" cy="5256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5" descr="C:\Users\Татьяна\Documents\Мои результаты сканирования\2010-05 (май)\сканирование0084.jpg"/>
          <p:cNvPicPr/>
          <p:nvPr/>
        </p:nvPicPr>
        <p:blipFill>
          <a:blip r:embed="rId11"/>
          <a:stretch/>
        </p:blipFill>
        <p:spPr>
          <a:xfrm>
            <a:off x="7358040" y="2500200"/>
            <a:ext cx="571680" cy="5256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C:\Users\Татьяна\Documents\Мои результаты сканирования\2010-05 (май)\сканирование0084.jpg"/>
          <p:cNvPicPr/>
          <p:nvPr/>
        </p:nvPicPr>
        <p:blipFill>
          <a:blip r:embed="rId12"/>
          <a:stretch/>
        </p:blipFill>
        <p:spPr>
          <a:xfrm>
            <a:off x="6215040" y="2786040"/>
            <a:ext cx="571680" cy="5256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C:\Users\Татьяна\Documents\Мои результаты сканирования\2010-05 (май)\сканирование0084.jpg"/>
          <p:cNvPicPr/>
          <p:nvPr/>
        </p:nvPicPr>
        <p:blipFill>
          <a:blip r:embed="rId13"/>
          <a:stretch/>
        </p:blipFill>
        <p:spPr>
          <a:xfrm>
            <a:off x="5929200" y="2000160"/>
            <a:ext cx="571680" cy="5256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7" descr="C:\Users\Татьяна\Documents\Мои результаты сканирования\2010-05 (май)\сканирование0123.jpg"/>
          <p:cNvPicPr/>
          <p:nvPr/>
        </p:nvPicPr>
        <p:blipFill>
          <a:blip r:embed="rId14"/>
          <a:stretch/>
        </p:blipFill>
        <p:spPr>
          <a:xfrm>
            <a:off x="928800" y="2286000"/>
            <a:ext cx="3022560" cy="1500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1"/>
          <a:stretch/>
        </p:blipFill>
        <p:spPr>
          <a:xfrm>
            <a:off x="493560" y="-42840"/>
            <a:ext cx="8607600" cy="148104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457200" y="1645920"/>
            <a:ext cx="8229600" cy="4925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Загибая край кружка  пройтись по нему швом «вперед иголку»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Слегка стянуть нитку. Получился «мешочек», пройтись по краю мешочка швом  «вперед иголку» и опять туго стянуть делая плотнее  и объемнее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32" name="Picture 2" descr="C:\Users\Татьяна\Documents\Мои результаты сканирования\2010-05 (май)\сканирование0083.jpg"/>
          <p:cNvPicPr/>
          <p:nvPr/>
        </p:nvPicPr>
        <p:blipFill>
          <a:blip r:embed="rId2"/>
          <a:stretch/>
        </p:blipFill>
        <p:spPr>
          <a:xfrm>
            <a:off x="2714760" y="4143240"/>
            <a:ext cx="3643200" cy="228600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4" descr="C:\Users\Татьяна\Documents\Мои результаты сканирования\2010-05 (май)\сканирование0005.jpg"/>
          <p:cNvPicPr/>
          <p:nvPr/>
        </p:nvPicPr>
        <p:blipFill>
          <a:blip r:embed="rId3"/>
          <a:stretch/>
        </p:blipFill>
        <p:spPr>
          <a:xfrm>
            <a:off x="6786720" y="4786200"/>
            <a:ext cx="103824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571320" y="571320"/>
            <a:ext cx="8072280" cy="5715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mbria"/>
              </a:rPr>
              <a:t>Вставить иглу в внутрь диска, протянуть её внутри и вынуть с краю  вновь образовавшейся окружности, пройтись по нему швом вперед иголку и сильно стянуть нить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35" name="Рисунок 9" descr="C:\Users\Татьяна\Documents\лоскутная тех курсы\CIMG1975.JPG"/>
          <p:cNvPicPr/>
          <p:nvPr/>
        </p:nvPicPr>
        <p:blipFill>
          <a:blip r:embed="rId1"/>
          <a:stretch/>
        </p:blipFill>
        <p:spPr>
          <a:xfrm>
            <a:off x="928800" y="3357720"/>
            <a:ext cx="2571480" cy="236052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10" descr="C:\Users\Татьяна\Documents\лоскутная тех курсы\CIMG1976.JPG"/>
          <p:cNvPicPr/>
          <p:nvPr/>
        </p:nvPicPr>
        <p:blipFill>
          <a:blip r:embed="rId2"/>
          <a:stretch/>
        </p:blipFill>
        <p:spPr>
          <a:xfrm>
            <a:off x="3714840" y="3357720"/>
            <a:ext cx="2286000" cy="2357280"/>
          </a:xfrm>
          <a:prstGeom prst="rect">
            <a:avLst/>
          </a:prstGeom>
          <a:ln w="0">
            <a:noFill/>
          </a:ln>
        </p:spPr>
      </p:pic>
      <p:pic>
        <p:nvPicPr>
          <p:cNvPr id="437" name="Рисунок 11" descr="C:\Users\Татьяна\Documents\лоскутная тех курсы\CIMG1965.JPG"/>
          <p:cNvPicPr/>
          <p:nvPr/>
        </p:nvPicPr>
        <p:blipFill>
          <a:blip r:embed="rId3"/>
          <a:stretch/>
        </p:blipFill>
        <p:spPr>
          <a:xfrm>
            <a:off x="6215040" y="3357720"/>
            <a:ext cx="22906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Содержимое 2" descr=""/>
          <p:cNvPicPr/>
          <p:nvPr/>
        </p:nvPicPr>
        <p:blipFill>
          <a:blip r:embed="rId1"/>
          <a:stretch/>
        </p:blipFill>
        <p:spPr>
          <a:xfrm>
            <a:off x="487440" y="487440"/>
            <a:ext cx="8169120" cy="5700600"/>
          </a:xfrm>
          <a:prstGeom prst="rect">
            <a:avLst/>
          </a:prstGeom>
          <a:ln w="0">
            <a:noFill/>
          </a:ln>
        </p:spPr>
      </p:pic>
      <p:pic>
        <p:nvPicPr>
          <p:cNvPr id="439" name="Рисунок 3" descr="C:\Users\Татьяна\Documents\лоскутная тех курсы\CIMG1969.JPG"/>
          <p:cNvPicPr/>
          <p:nvPr/>
        </p:nvPicPr>
        <p:blipFill>
          <a:blip r:embed="rId2"/>
          <a:stretch/>
        </p:blipFill>
        <p:spPr>
          <a:xfrm>
            <a:off x="971640" y="3071880"/>
            <a:ext cx="3386160" cy="2571840"/>
          </a:xfrm>
          <a:prstGeom prst="rect">
            <a:avLst/>
          </a:prstGeom>
          <a:ln w="0">
            <a:noFill/>
          </a:ln>
        </p:spPr>
      </p:pic>
      <p:pic>
        <p:nvPicPr>
          <p:cNvPr id="440" name="Рисунок 4" descr="C:\Users\Татьяна\Documents\лоскутная тех курсы\CIMG1965.JPG"/>
          <p:cNvPicPr/>
          <p:nvPr/>
        </p:nvPicPr>
        <p:blipFill>
          <a:blip r:embed="rId3"/>
          <a:stretch/>
        </p:blipFill>
        <p:spPr>
          <a:xfrm>
            <a:off x="4932360" y="3071880"/>
            <a:ext cx="33116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500040" y="500040"/>
            <a:ext cx="8215200" cy="5786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mbria"/>
              </a:rPr>
              <a:t>Подготовленные бусинки собирают на нить формируя бусы и браслет.  Собирать бусы  лучше всего на леску или восщонную  нить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42" name="Рисунок 3" descr="C:\Users\Татьяна\Documents\лоскутная тех курсы\CIMG1981.JPG"/>
          <p:cNvPicPr/>
          <p:nvPr/>
        </p:nvPicPr>
        <p:blipFill>
          <a:blip r:embed="rId1"/>
          <a:stretch/>
        </p:blipFill>
        <p:spPr>
          <a:xfrm>
            <a:off x="1258920" y="3141720"/>
            <a:ext cx="2808360" cy="2663640"/>
          </a:xfrm>
          <a:prstGeom prst="rect">
            <a:avLst/>
          </a:prstGeom>
          <a:ln w="0">
            <a:noFill/>
          </a:ln>
        </p:spPr>
      </p:pic>
      <p:pic>
        <p:nvPicPr>
          <p:cNvPr id="443" name="Рисунок 4" descr="C:\Users\Татьяна\Documents\лоскутная тех курсы\CIMG1982.JPG"/>
          <p:cNvPicPr/>
          <p:nvPr/>
        </p:nvPicPr>
        <p:blipFill>
          <a:blip r:embed="rId2"/>
          <a:stretch/>
        </p:blipFill>
        <p:spPr>
          <a:xfrm>
            <a:off x="5148360" y="3141720"/>
            <a:ext cx="28083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Заголовок 1" descr=""/>
          <p:cNvPicPr/>
          <p:nvPr/>
        </p:nvPicPr>
        <p:blipFill>
          <a:blip r:embed="rId1"/>
          <a:stretch/>
        </p:blipFill>
        <p:spPr>
          <a:xfrm>
            <a:off x="1139760" y="249120"/>
            <a:ext cx="2584440" cy="963720"/>
          </a:xfrm>
          <a:prstGeom prst="rect">
            <a:avLst/>
          </a:prstGeom>
          <a:ln w="0">
            <a:noFill/>
          </a:ln>
        </p:spPr>
      </p:pic>
      <p:pic>
        <p:nvPicPr>
          <p:cNvPr id="445" name="Рисунок 2" descr="C:\Users\Татьяна\Documents\лоскутная тех курсы\CIMG1983.JPG"/>
          <p:cNvPicPr/>
          <p:nvPr/>
        </p:nvPicPr>
        <p:blipFill>
          <a:blip r:embed="rId2"/>
          <a:stretch/>
        </p:blipFill>
        <p:spPr>
          <a:xfrm>
            <a:off x="1258920" y="1628640"/>
            <a:ext cx="65926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16:16:59Z</dcterms:created>
  <dc:creator>Татьяна</dc:creator>
  <dc:description/>
  <dc:language>en-US</dc:language>
  <cp:lastModifiedBy>Татьяна</cp:lastModifiedBy>
  <dcterms:modified xsi:type="dcterms:W3CDTF">2011-12-11T09:55:56Z</dcterms:modified>
  <cp:revision>199</cp:revision>
  <dc:subject/>
  <dc:title>Создание аксессуаров</dc:title>
</cp:coreProperties>
</file>