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0.png" ContentType="image/png"/>
  <Override PartName="/ppt/media/image35.jpeg" ContentType="image/jpe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02A-3305-49EB-808F-064362644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685-5987-44B1-830F-FC2C5C5674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0BF5-15E0-41F7-A2CA-1FF6176349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04E-C4C0-4B48-8CB9-1C94367AA2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2C13-2E34-4ABF-AF1D-DD34509148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A8F-54C5-46C0-80B8-8A22EBC120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8E4-AAF4-4E0C-9B8F-6075BFB3F0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6A31-265F-4C8D-AA3C-C1B88221C6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A828-F3C5-471D-859F-F56F794DBE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917-ABA5-4122-9B70-0FA2C04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C5E-8D41-4896-8412-B4531E9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A3152-183C-4D0A-A260-FBB3A42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07EA0-122C-407D-9282-F059FEF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3C703-4603-4E8C-A0A3-B3C14C4A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94FC3-E2F3-4180-8F9B-F76B065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A9A03-8310-40F9-A30E-5B3F28A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E7AE8-E16C-41C4-BA32-1D4F761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B1CAA-DD72-4510-89F2-3549683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F8F4F-B697-4DFB-852D-6FB7FFBF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C7406-59B1-4A88-8A05-10C7B02E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DE3-C295-4E1D-A210-05EB04DF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2B2-5BE2-4DF0-9CC9-67E78ADA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4BC15-FA9C-4D0E-9B99-48C2C807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311E-E380-4C3D-9783-B646C03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F39F-E908-4DE1-8B52-B50DC1A6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DDDE-245E-428B-A49A-C5E032D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B31BB-1735-4E16-AE59-711F89A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A084-44B5-447B-A74E-6E704EAF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B5304-597D-4118-BBAC-64A289F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F5A-691B-49EF-9CA2-06D37E9B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44F6B-864A-4A9C-B3E8-AFC2FF2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F9F15-7B34-43D9-96A0-09E8A22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717BA-A8D8-4ED3-B987-FC70CE26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22ED-8BD0-42AE-B821-F905F715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1CC2A-9EF4-410F-9A3B-E5AD8DE4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E901-176E-46A5-847B-74DC599A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C88E-0884-4DB2-A370-AF27D7C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8FF3-32D6-46F8-A676-6E676E23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3281-1D86-4A1B-88D8-0EF5C16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9EDF-68BD-4AFF-B5E6-B0ECE381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74E-4AE7-4C77-A9D9-E46B4AD1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8BA0-C745-4070-91DB-40AC3E73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BFE3-2375-4058-8DDD-25BEBFD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82C7-1498-42ED-8F7D-D403209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1599-4265-4E47-9594-B594F4DC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5E13-2155-4EC5-BAC8-997F258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F671-87EE-4946-B378-6B514D4D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4FFC-6829-426A-A394-B02C0D4E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2DFC9-D4D8-4FCF-955E-D02CF9A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493D1-1525-4D41-B949-6E2C16C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B5FA3-DEEA-451F-9110-DB886DF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41D-5C2B-4C4A-9C84-C9A82F6A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8A0D5-32AD-49DB-AD2F-187055C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25FF8-9132-4C64-9530-7B55073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C3CA4-0650-40EF-AA7C-E4566E3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2C617-568E-4E28-9FD2-1329B93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91B42-F677-4C2E-9D02-E75FC5D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E29DE-B5DC-4A44-A3B2-8520504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DC89A-57BD-4818-B568-6771DD6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ADD15-3993-4727-9926-3C5C4E2A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A3EC3-9BE5-48CC-A15F-5A8BB845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ED35-7C87-48FF-A214-A8EDD4E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C6F-A0AA-4464-815E-7C25C83A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F3B35-52B2-4973-899C-F09B628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F4CC-7BE8-4E1A-A64E-9958699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1A4F3-7544-4452-99EA-8C69D1F3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6E07-4B02-473A-8769-A017245D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9E6A-EDAD-45F8-B00D-7E3E04E9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6178-54B0-4005-86AE-AE1A224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BBF4-8DD0-40C7-B0E4-BCDA0D6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0000-D3E4-4C02-BE34-EBCEAA6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9ED5-FF5A-43D0-B99A-6F3388C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E93F-6CCA-40EB-AE74-13643E2D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E08-62B4-465D-A71C-22F1F7A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2347-3A79-47DB-A321-1E635EF0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A9328-4763-4D2A-B0F0-EFF48B53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A514-793C-4F4E-8633-750E557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91D6-913E-4B62-BC90-515FE0B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4445-26D1-4815-AE4D-2146B81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7589-8450-4867-8A73-5E26036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71572-3543-4797-8B05-39CB3B9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ADA2-0344-4235-85A4-7D0EA822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F0EFA-B51E-4EB7-A092-6E7A529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8F7A-83F6-4E9D-B621-D983333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D29-1EFF-4885-9DF5-DD3EB09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B077-9BB0-4CE4-B217-D0261D82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0B6D-8FDE-4CF5-9830-9BA05E3A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487A-0D65-43A4-AB26-2F3269C1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56EB-C588-4E65-BB6B-E5E2C711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728AA-4134-4414-ABDA-C3D83B02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003D-AAA9-4D43-BA39-7D027961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7457-3BBC-4043-B564-B6A999E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36EB-0207-44A8-9E2E-0A900D2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A7CC-B15A-4D8A-8592-FDFBE02F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23DD-A6FD-42A4-9F43-B74C1CE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2EF-AC8D-41CE-95E4-26DEB94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F26C-37EC-40EE-8E99-EB6346B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784F-677F-431B-9848-5CF90D3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019C-1D38-49AD-92A4-DC8197B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D08B-479D-4BE3-A145-55639D2E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AEF7-D3A5-4C8B-BBBD-1BA0B970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CDCED-CE87-4F3B-AE3B-38C00F31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06746-84DE-407B-8E2C-2299F61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36D7F-ED13-4A08-87EC-7195312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D874B-534E-42F6-B907-962DEB0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811F5-7EF3-44BF-BC90-37B7D7B4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F42-7B3D-48DD-92A5-D40FAD3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B815BA-5809-40C5-B4F7-5041CDBD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3735C-E8DA-42A2-85FD-78EFBE32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FD6DE8-BA0B-472E-BAB6-D6D5A93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0E37D-7FCD-4B5E-96CE-7822FB1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06539-402F-496E-9A9C-821C019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0C7FD-759C-4B0A-AC0B-09857328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3416F-35DC-487A-9576-EFC86DBE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0AB3B7-509E-43BF-82F2-F9DD1D7C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50D6E-218A-4E81-AD83-728A738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A5FCA-B975-410F-A220-8428E01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B409-6EE9-42EA-8B21-EF1619418A2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B37-63AC-4E0A-BF5A-D3F626E0E21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604-9728-486B-80C3-21BA90F37B8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522-F0B2-4575-9CE2-A1C61F9DD664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D0E-D1A7-4DF2-9820-2CB96D85322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B29-DCCE-4D37-BB5B-AC48D77433BE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4D1-A7F9-4309-ADD6-34357EFB4DE4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ECB2-974C-44C6-82C7-B4B44C4C0E6A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3CE-EE97-494B-B606-2864E3251D3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189080" y="128520"/>
            <a:ext cx="7845480" cy="1309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F:\DCIM\100CASIO\лоскутная тех курсы\CIMG1901.JPG"/>
          <p:cNvPicPr/>
          <p:nvPr/>
        </p:nvPicPr>
        <p:blipFill>
          <a:blip r:embed="rId2"/>
          <a:stretch/>
        </p:blipFill>
        <p:spPr>
          <a:xfrm>
            <a:off x="6286680" y="1785960"/>
            <a:ext cx="214308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3" name="Picture 5" descr="F:\DCIM\100CASIO\лоскутная тех курсы\CIMG1904.JPG"/>
          <p:cNvPicPr/>
          <p:nvPr/>
        </p:nvPicPr>
        <p:blipFill>
          <a:blip r:embed="rId3"/>
          <a:stretch/>
        </p:blipFill>
        <p:spPr>
          <a:xfrm>
            <a:off x="4214880" y="4572000"/>
            <a:ext cx="42861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4" name="Picture 6" descr="F:\DCIM\100CASIO\лоскутная тех курсы\CIMG1911.JPG"/>
          <p:cNvPicPr/>
          <p:nvPr/>
        </p:nvPicPr>
        <p:blipFill>
          <a:blip r:embed="rId4"/>
          <a:stretch/>
        </p:blipFill>
        <p:spPr>
          <a:xfrm>
            <a:off x="642960" y="1785960"/>
            <a:ext cx="285912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5" name="Picture 7" descr="F:\DCIM\100CASIO\лоскутная тех курсы\CIMG1917.JPG"/>
          <p:cNvPicPr/>
          <p:nvPr/>
        </p:nvPicPr>
        <p:blipFill>
          <a:blip r:embed="rId5"/>
          <a:stretch/>
        </p:blipFill>
        <p:spPr>
          <a:xfrm>
            <a:off x="3857760" y="2071800"/>
            <a:ext cx="185724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6" name="fpGalleryMainImg_117" descr="http://tl-patchwork.narod.ru/SUMKI_PICTURES/Image11.jpg"/>
          <p:cNvPicPr/>
          <p:nvPr/>
        </p:nvPicPr>
        <p:blipFill>
          <a:blip r:embed="rId6"/>
          <a:stretch/>
        </p:blipFill>
        <p:spPr>
          <a:xfrm>
            <a:off x="857160" y="4429080"/>
            <a:ext cx="25718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F:\DCIM\100CASIO\лоскутная тех курсы\CIMG2014.JPG"/>
          <p:cNvPicPr/>
          <p:nvPr/>
        </p:nvPicPr>
        <p:blipFill>
          <a:blip r:embed="rId1"/>
          <a:stretch/>
        </p:blipFill>
        <p:spPr>
          <a:xfrm>
            <a:off x="444600" y="3565440"/>
            <a:ext cx="3389040" cy="31464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F:\DCIM\100CASIO\лоскутная тех курсы\CIMG2002.JPG"/>
          <p:cNvPicPr/>
          <p:nvPr/>
        </p:nvPicPr>
        <p:blipFill>
          <a:blip r:embed="rId2"/>
          <a:stretch/>
        </p:blipFill>
        <p:spPr>
          <a:xfrm>
            <a:off x="5645160" y="3657600"/>
            <a:ext cx="3065400" cy="29685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F:\DCIM\100CASIO\лоскутная тех курсы\CIMG1999.JPG"/>
          <p:cNvPicPr/>
          <p:nvPr/>
        </p:nvPicPr>
        <p:blipFill>
          <a:blip r:embed="rId3"/>
          <a:stretch/>
        </p:blipFill>
        <p:spPr>
          <a:xfrm>
            <a:off x="476280" y="262080"/>
            <a:ext cx="3632040" cy="3474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F:\DCIM\100CASIO\лоскутная тех курсы\CIMG2022.JPG"/>
          <p:cNvPicPr/>
          <p:nvPr/>
        </p:nvPicPr>
        <p:blipFill>
          <a:blip r:embed="rId4"/>
          <a:stretch/>
        </p:blipFill>
        <p:spPr>
          <a:xfrm>
            <a:off x="5089680" y="158760"/>
            <a:ext cx="3779640" cy="3664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7" descr="Текстильные бусы"/>
          <p:cNvPicPr/>
          <p:nvPr/>
        </p:nvPicPr>
        <p:blipFill>
          <a:blip r:embed="rId5"/>
          <a:stretch/>
        </p:blipFill>
        <p:spPr>
          <a:xfrm>
            <a:off x="3786120" y="2643120"/>
            <a:ext cx="18576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атериал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кань  (ацетатный шелк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Шаблоны кружков диаметром  6, 8, 10см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Бисер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Застежка 2 шт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Швейные нитки и леска ( для сборки бус и браслета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4" descr="C:\Users\Татьяна\Documents\лоскутная тех курсы\CIMG1987.JPG"/>
          <p:cNvPicPr/>
          <p:nvPr/>
        </p:nvPicPr>
        <p:blipFill>
          <a:blip r:embed="rId2"/>
          <a:stretch/>
        </p:blipFill>
        <p:spPr>
          <a:xfrm>
            <a:off x="5072040" y="1714680"/>
            <a:ext cx="3400560" cy="452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71320" y="428760"/>
            <a:ext cx="8072280" cy="59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риготовить шаблоны  кружков трех  размеров (диаметр равен 6, 8 и 10см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Раскроить кружки нужного количест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"/>
          <a:stretch/>
        </p:blipFill>
        <p:spPr>
          <a:xfrm>
            <a:off x="4429080" y="34290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2"/>
          <a:stretch/>
        </p:blipFill>
        <p:spPr>
          <a:xfrm>
            <a:off x="3786120" y="32148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3"/>
          <a:stretch/>
        </p:blipFill>
        <p:spPr>
          <a:xfrm>
            <a:off x="5143680" y="407196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4"/>
          <a:stretch/>
        </p:blipFill>
        <p:spPr>
          <a:xfrm>
            <a:off x="5857920" y="45720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5"/>
          <a:stretch/>
        </p:blipFill>
        <p:spPr>
          <a:xfrm>
            <a:off x="6786720" y="335772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6"/>
          <a:stretch/>
        </p:blipFill>
        <p:spPr>
          <a:xfrm>
            <a:off x="6929280" y="4857840"/>
            <a:ext cx="1500480" cy="1380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7"/>
          <a:stretch/>
        </p:blipFill>
        <p:spPr>
          <a:xfrm>
            <a:off x="4572000" y="5000760"/>
            <a:ext cx="1000080" cy="920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8"/>
          <a:stretch/>
        </p:blipFill>
        <p:spPr>
          <a:xfrm>
            <a:off x="2928960" y="4929120"/>
            <a:ext cx="1071720" cy="986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9"/>
          <a:stretch/>
        </p:blipFill>
        <p:spPr>
          <a:xfrm>
            <a:off x="1428840" y="4500720"/>
            <a:ext cx="1143000" cy="1052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0"/>
          <a:stretch/>
        </p:blipFill>
        <p:spPr>
          <a:xfrm>
            <a:off x="6572160" y="214308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1"/>
          <a:stretch/>
        </p:blipFill>
        <p:spPr>
          <a:xfrm>
            <a:off x="7358040" y="250020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2"/>
          <a:stretch/>
        </p:blipFill>
        <p:spPr>
          <a:xfrm>
            <a:off x="6215040" y="278604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3"/>
          <a:stretch/>
        </p:blipFill>
        <p:spPr>
          <a:xfrm>
            <a:off x="5929200" y="200016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C:\Users\Татьяна\Documents\Мои результаты сканирования\2010-05 (май)\сканирование0123.jpg"/>
          <p:cNvPicPr/>
          <p:nvPr/>
        </p:nvPicPr>
        <p:blipFill>
          <a:blip r:embed="rId14"/>
          <a:stretch/>
        </p:blipFill>
        <p:spPr>
          <a:xfrm>
            <a:off x="928800" y="2286000"/>
            <a:ext cx="30225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93560" y="-42840"/>
            <a:ext cx="8607600" cy="1481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5920"/>
            <a:ext cx="8229600" cy="492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Загибая край кружка  пройтись по нему швом «вперед иголку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легка стянуть нитку. Получился «мешочек», пройтись по краю мешочка швом  «вперед иголку» и опять туго стянуть делая плотнее  и объемнее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C:\Users\Татьяна\Documents\Мои результаты сканирования\2010-05 (май)\сканирование0083.jpg"/>
          <p:cNvPicPr/>
          <p:nvPr/>
        </p:nvPicPr>
        <p:blipFill>
          <a:blip r:embed="rId2"/>
          <a:stretch/>
        </p:blipFill>
        <p:spPr>
          <a:xfrm>
            <a:off x="2714760" y="4143240"/>
            <a:ext cx="36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C:\Users\Татьяна\Documents\Мои результаты сканирования\2010-05 (май)\сканирование0005.jpg"/>
          <p:cNvPicPr/>
          <p:nvPr/>
        </p:nvPicPr>
        <p:blipFill>
          <a:blip r:embed="rId3"/>
          <a:stretch/>
        </p:blipFill>
        <p:spPr>
          <a:xfrm>
            <a:off x="6786720" y="4786200"/>
            <a:ext cx="1038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71320" y="571320"/>
            <a:ext cx="8072280" cy="571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Вставить иглу в внутрь диска, протянуть её внутри и вынуть с краю  вновь образовавшейся окружности, пройтись по нему швом вперед иголку и сильно стянуть нит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Рисунок 9" descr="C:\Users\Татьяна\Documents\лоскутная тех курсы\CIMG1975.JPG"/>
          <p:cNvPicPr/>
          <p:nvPr/>
        </p:nvPicPr>
        <p:blipFill>
          <a:blip r:embed="rId1"/>
          <a:stretch/>
        </p:blipFill>
        <p:spPr>
          <a:xfrm>
            <a:off x="928800" y="3357720"/>
            <a:ext cx="2571480" cy="23605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C:\Users\Татьяна\Documents\лоскутная тех курсы\CIMG1976.JPG"/>
          <p:cNvPicPr/>
          <p:nvPr/>
        </p:nvPicPr>
        <p:blipFill>
          <a:blip r:embed="rId2"/>
          <a:stretch/>
        </p:blipFill>
        <p:spPr>
          <a:xfrm>
            <a:off x="3714840" y="335772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1" descr="C:\Users\Татьяна\Documents\лоскутная тех курсы\CIMG1965.JPG"/>
          <p:cNvPicPr/>
          <p:nvPr/>
        </p:nvPicPr>
        <p:blipFill>
          <a:blip r:embed="rId3"/>
          <a:stretch/>
        </p:blipFill>
        <p:spPr>
          <a:xfrm>
            <a:off x="6215040" y="3357720"/>
            <a:ext cx="2290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одержимое 2" descr=""/>
          <p:cNvPicPr/>
          <p:nvPr/>
        </p:nvPicPr>
        <p:blipFill>
          <a:blip r:embed="rId1"/>
          <a:stretch/>
        </p:blipFill>
        <p:spPr>
          <a:xfrm>
            <a:off x="487440" y="487440"/>
            <a:ext cx="8169120" cy="57006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3" descr="C:\Users\Татьяна\Documents\лоскутная тех курсы\CIMG1969.JPG"/>
          <p:cNvPicPr/>
          <p:nvPr/>
        </p:nvPicPr>
        <p:blipFill>
          <a:blip r:embed="rId2"/>
          <a:stretch/>
        </p:blipFill>
        <p:spPr>
          <a:xfrm>
            <a:off x="971640" y="3071880"/>
            <a:ext cx="338616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4" descr="C:\Users\Татьяна\Documents\лоскутная тех курсы\CIMG1965.JPG"/>
          <p:cNvPicPr/>
          <p:nvPr/>
        </p:nvPicPr>
        <p:blipFill>
          <a:blip r:embed="rId3"/>
          <a:stretch/>
        </p:blipFill>
        <p:spPr>
          <a:xfrm>
            <a:off x="4932360" y="3071880"/>
            <a:ext cx="3311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0040" y="500040"/>
            <a:ext cx="8215200" cy="5786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одготовленные бусинки собирают на нить формируя бусы и браслет.  Собирать бусы  лучше всего на леску или восщонную  ни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Рисунок 3" descr="C:\Users\Татьяна\Documents\лоскутная тех курсы\CIMG1981.JPG"/>
          <p:cNvPicPr/>
          <p:nvPr/>
        </p:nvPicPr>
        <p:blipFill>
          <a:blip r:embed="rId1"/>
          <a:stretch/>
        </p:blipFill>
        <p:spPr>
          <a:xfrm>
            <a:off x="1258920" y="3141720"/>
            <a:ext cx="2808360" cy="26636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4" descr="C:\Users\Татьяна\Documents\лоскутная тех курсы\CIMG1982.JPG"/>
          <p:cNvPicPr/>
          <p:nvPr/>
        </p:nvPicPr>
        <p:blipFill>
          <a:blip r:embed="rId2"/>
          <a:stretch/>
        </p:blipFill>
        <p:spPr>
          <a:xfrm>
            <a:off x="5148360" y="314172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139760" y="249120"/>
            <a:ext cx="2584440" cy="9637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2" descr="C:\Users\Татьяна\Documents\лоскутная тех курсы\CIMG1983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92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55:56Z</dcterms:modified>
  <cp:revision>199</cp:revision>
  <dc:subject/>
  <dc:title>Создание аксессуаров</dc:title>
</cp:coreProperties>
</file>