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087B-A9C7-4BF3-97A6-411A8BF348B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D580-7EB1-44B1-AC0F-40206C0D40F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E0CF-5848-45A5-8416-498B76C5E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38D0-AF34-4368-A8F4-BA1B7444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D0DBD-B4A6-4FB2-BC7A-9C80E448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16B8C-EAB2-47B6-B461-767A452E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0CE819-783E-4033-816D-AE6071B1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2925AA-5534-4D1E-A867-FA8C1ABF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4514F0-1A07-4AFD-A78C-254CFABE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53CD43-1C74-41A1-890B-B85ABEC0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BA72B8-00D8-49CA-96BB-6E9474C1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9C2CB4-FB19-4CAB-8D77-04B1A0524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F34E0-606D-4A4D-BB5C-F2D96C59A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3B4D-C1EA-4990-B423-6DE434C6E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233C-E9BD-48F3-B444-69DA408BF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E389-6727-4961-AF8F-86D58A276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46FA-93B1-466B-A7F5-F13C0A4F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4A72-12B2-4FB3-9EE0-8E5A6EC9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E9DC-8840-4BFD-BD80-DDF57A9B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419CA-D1F5-4B5A-9E3E-C55E8B29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B4CD-1432-44B0-AA16-F7733B06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C44C-E06C-404F-A67F-660BB736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6175-6B22-44F2-A3FB-8DF2DCF3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FC5E-338F-4BF0-BD93-CD3A021F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ED77-0DBE-4B98-AF0B-8580AC5B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EC8B-5989-45A2-AECD-B628A5D5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138E7-DC1E-430F-8590-827125ED4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6081-3D4A-4178-A0C7-F0AF037ED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4337C-0C49-4F9F-95C9-2B313616E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FB18F-3E49-4C0C-A23E-6B43A79D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29FAD-27FF-4E25-ABCE-45B91FDB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FFD70-EE25-4C7A-9A2D-A6AF6F8A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C911F-0F02-4E2B-993D-6C759C58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F8B3-DDAD-469B-BD00-74D766C5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28FE5-9016-43E8-AD44-40F00C4E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3BB83-0B0A-4111-9F4E-FD4CF602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7E75E-5014-48BD-9AF7-47DDC288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9CCE3-FCB9-4B21-9E5A-551E1E8F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48A0F-665D-4D95-B9F7-9E4E7D18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DF06B-0F76-4108-9181-1B20DDC59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4DD26-F1E7-44EA-9131-517AACEFD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18EB0-49EF-4DF3-A1D5-463F83290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456E9-25C3-4AAF-BCA7-86D87848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0659F-567C-42A5-9721-4150316E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3B03-5D00-4ECC-86B6-FD6A5862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227D2-8214-4C22-BE09-0824C1CB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31180-E3A8-4DF5-A962-0152EC6F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D72F0-8B17-44AB-B1F8-5049A7FB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4B132-4653-42F1-B333-574E22AC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49E21-39A4-47AF-9E78-14C61E5D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6F700-A1BC-4DE2-8BA8-414AF90C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47335-3F79-4510-933B-6329A4CE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63D99-E413-4086-80F8-212D17FDA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7841B-58FE-4281-8591-C899FBBAE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2E14B-7FBA-4179-99BC-1D83A3286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E3E6-5A55-403D-BDA1-2110F7FF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09AE8-46EE-417B-8EF0-72E8DFCE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28314-D60C-47DF-8CDD-84F63202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48AA9-8ED5-4BC5-BD22-9CF123E5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1F106-D2C2-48B7-B2C4-C87D92BE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666EB-0150-4C45-ADAE-B77DF49D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91FD8-728A-40C8-B4C4-B34218A8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31578-B102-4BA5-9F25-DB8DF515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A7224-3D6F-458F-AC3F-269D2779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022B4-2A52-43B8-B066-7CD55B9F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21A8C-4293-4ECB-974D-190BFF334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1607-B65F-456B-99AC-47EBAD337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78993-4FC5-494B-B98E-8C4D934F3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F9E9B-82E6-410B-BE34-A0BCDA211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51021-B723-46F2-9FFB-460C8224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EFFEB-9C5A-4490-8D33-CADB6FC0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BF703-7851-4CA8-B6C1-41CDB252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3F2DC-E267-4FF1-A386-786C8367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B6061-85BF-408F-BC42-8C66BE5A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E8338-0735-45FB-AF26-04816317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C2547-1314-41A2-A348-CF566B1F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EA80E-E888-42AA-8059-20341BCB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3942-C942-4768-AE7B-95643F5A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717E2-89F7-44E9-9FA7-450C8C06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48624-D741-4FB6-85F7-5520234FC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B0199-6DFD-4894-83D7-0F22931FB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6D8DB-DDC4-4D55-868F-8F5ED469F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EF1A3-F53B-44E8-AC62-EC8E1AD5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9D4F3-B115-494B-A4BE-9B732DF5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CAE9D-B4C2-4777-83C9-F4EE935B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73404-E4A1-4D01-B5A0-572F1CDD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F301A-0068-43AD-963E-6D34A1F3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B7804-0AEC-432C-A677-EC62475E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F362-1D45-494B-B00F-2132BC11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8B09E-3909-4F7B-AB85-3B46E7E5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964D1-A521-4F67-AB43-8F49B54E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6FF5B-818C-4918-BF3E-708E3981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85EB7-FD1E-4EB6-86C9-B5443C2FC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6575A-733E-4ABF-B2B8-5D903ADD3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3329A-C0CF-48B0-AFFF-DCC815AD1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E39E3-CCBE-4CB5-98FD-92959072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A9CCE-E507-4018-BA36-BF7F68FB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5CAE7-14B5-471F-AC86-B5C6117C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976BA-000E-45E8-A917-AECA2614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DA2B-E54F-4571-924A-2F5DD0A3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F0264-FD2E-4B25-994D-7DF9A297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44017-DEB9-4127-A714-30922C14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BF257-1FF1-4B31-84AE-E248B34C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C1036-6EBF-4CCF-9B62-75A6EE5A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872D3-5154-4569-B304-2E206FF5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5B090-46DE-4EA6-8FC3-F8FF384FD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58612-82DD-4762-B6D7-45CCDB0AE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2C4C01-62C4-429C-903A-2B6F06372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372E5F-64C1-4C76-9271-8906F840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096BF2-DE82-4DF5-BF8C-90C13401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F15A-F3AA-4A93-8697-2D8FF7FBB8A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2A09-377C-40C1-A2B8-6B9753B5D62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7D93-EF64-4CE0-AA7C-E5AB839CF67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75F1-BC82-4DC0-BEA0-69EA639DA02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29A9-43C8-4CD7-AB67-E9A15EDF77B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D6F7-0129-42E8-8202-4218510AFAF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893A-E24E-47BA-A2C0-E45D14B4051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21E7-A77B-4E78-8D03-F78EC9A8367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A327-BA20-402B-A505-25BB7821872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Прямоугольник 2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ортфолио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искателя первой квалификационной категори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я физической культу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ниципального общеобразовательного учреждения «Средняя общеобразовательная школа п.Горный Краснопартизанского райо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ратовской области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еченк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ександ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атольев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11 г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Picture 1" descr=""/>
          <p:cNvPicPr/>
          <p:nvPr/>
        </p:nvPicPr>
        <p:blipFill>
          <a:blip r:embed="rId1"/>
          <a:stretch/>
        </p:blipFill>
        <p:spPr>
          <a:xfrm>
            <a:off x="6500880" y="3711600"/>
            <a:ext cx="264312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2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4929120" cy="68580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3" descr="C:\Users\admin\Desktop\Закладнов.jpg"/>
          <p:cNvPicPr/>
          <p:nvPr/>
        </p:nvPicPr>
        <p:blipFill>
          <a:blip r:embed="rId2"/>
          <a:stretch/>
        </p:blipFill>
        <p:spPr>
          <a:xfrm>
            <a:off x="5643720" y="0"/>
            <a:ext cx="2714400" cy="37148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" descr="C:\Users\admin\Desktop\Закладнов И .jpg"/>
          <p:cNvPicPr/>
          <p:nvPr/>
        </p:nvPicPr>
        <p:blipFill>
          <a:blip r:embed="rId3"/>
          <a:stretch/>
        </p:blipFill>
        <p:spPr>
          <a:xfrm>
            <a:off x="5643720" y="3693960"/>
            <a:ext cx="272412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431" name="Picture 2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433" name="Picture 3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435" name="Picture 3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3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Прямоугольник 1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Общие сведения об учител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0" y="428760"/>
          <a:ext cx="9144000" cy="678024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561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Фамилия Имя Отчество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44a11"/>
                      </a:solidFill>
                    </a:lnL>
                    <a:lnR w="5760">
                      <a:solidFill>
                        <a:srgbClr val="044a11"/>
                      </a:solidFill>
                    </a:lnR>
                    <a:lnT w="5760">
                      <a:solidFill>
                        <a:srgbClr val="044a11"/>
                      </a:solidFill>
                    </a:lnT>
                    <a:lnB w="5760">
                      <a:solidFill>
                        <a:srgbClr val="044a1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Стеченко Александра Анатольев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44a11"/>
                      </a:solidFill>
                    </a:lnL>
                    <a:lnR w="5760">
                      <a:solidFill>
                        <a:srgbClr val="044a11"/>
                      </a:solidFill>
                    </a:lnR>
                    <a:lnT w="5760">
                      <a:solidFill>
                        <a:srgbClr val="044a11"/>
                      </a:solidFill>
                    </a:lnT>
                    <a:lnB w="5760">
                      <a:solidFill>
                        <a:srgbClr val="044a11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Дата рожд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44a11"/>
                      </a:solidFill>
                    </a:lnL>
                    <a:lnR w="5760">
                      <a:solidFill>
                        <a:srgbClr val="044a11"/>
                      </a:solidFill>
                    </a:lnR>
                    <a:lnT w="5760">
                      <a:solidFill>
                        <a:srgbClr val="044a11"/>
                      </a:solidFill>
                    </a:lnT>
                    <a:lnB w="5760">
                      <a:solidFill>
                        <a:srgbClr val="044a1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08.05.1974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44a11"/>
                      </a:solidFill>
                    </a:lnL>
                    <a:lnR w="5760">
                      <a:solidFill>
                        <a:srgbClr val="044a11"/>
                      </a:solidFill>
                    </a:lnR>
                    <a:lnT w="5760">
                      <a:solidFill>
                        <a:srgbClr val="044a11"/>
                      </a:solidFill>
                    </a:lnT>
                    <a:lnB w="5760">
                      <a:solidFill>
                        <a:srgbClr val="044a11"/>
                      </a:solidFill>
                    </a:lnB>
                    <a:noFill/>
                  </a:tcPr>
                </a:tc>
              </a:tr>
              <a:tr h="3170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Образовани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Что закончили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диплом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Дата выдачи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Специальность по диплому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44a11"/>
                      </a:solidFill>
                    </a:lnL>
                    <a:lnR w="5760">
                      <a:solidFill>
                        <a:srgbClr val="044a11"/>
                      </a:solidFill>
                    </a:lnR>
                    <a:lnT w="5760">
                      <a:solidFill>
                        <a:srgbClr val="044a11"/>
                      </a:solidFill>
                    </a:lnT>
                    <a:lnB w="5760">
                      <a:solidFill>
                        <a:srgbClr val="044a1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Высшее 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Саратовский педагогический институт имен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К А Феди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Регистрационный номер 85907, АВС 060231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Выдан 22.05.1999г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Учитель физической культуры по специальности «Физическая культура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44a11"/>
                      </a:solidFill>
                    </a:lnL>
                    <a:lnR w="5760">
                      <a:solidFill>
                        <a:srgbClr val="044a11"/>
                      </a:solidFill>
                    </a:lnR>
                    <a:lnT w="5760">
                      <a:solidFill>
                        <a:srgbClr val="044a11"/>
                      </a:solidFill>
                    </a:lnT>
                    <a:lnB w="5760">
                      <a:solidFill>
                        <a:srgbClr val="044a11"/>
                      </a:solidFill>
                    </a:lnB>
                    <a:noFill/>
                  </a:tcPr>
                </a:tc>
              </a:tr>
              <a:tr h="2252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Общий трудовой стаж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Педагогический стаж на 15.08.2011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Педагогический стаж работы в данном образовательном учреждени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44a11"/>
                      </a:solidFill>
                    </a:lnL>
                    <a:lnR w="5760">
                      <a:solidFill>
                        <a:srgbClr val="044a11"/>
                      </a:solidFill>
                    </a:lnR>
                    <a:lnT w="5760">
                      <a:solidFill>
                        <a:srgbClr val="044a11"/>
                      </a:solidFill>
                    </a:lnT>
                    <a:lnB w="5760">
                      <a:solidFill>
                        <a:srgbClr val="044a1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18 лет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17лет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0" lang="ru-RU" sz="1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12,5л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44a11"/>
                      </a:solidFill>
                    </a:lnL>
                    <a:lnR w="5760">
                      <a:solidFill>
                        <a:srgbClr val="044a11"/>
                      </a:solidFill>
                    </a:lnR>
                    <a:lnT w="5760">
                      <a:solidFill>
                        <a:srgbClr val="044a11"/>
                      </a:solidFill>
                    </a:lnT>
                    <a:lnB w="5760">
                      <a:solidFill>
                        <a:srgbClr val="044a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" descr=""/>
          <p:cNvPicPr/>
          <p:nvPr/>
        </p:nvPicPr>
        <p:blipFill>
          <a:blip r:embed="rId3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1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4643280" cy="32860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32860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" descr="Стеченко"/>
          <p:cNvPicPr/>
          <p:nvPr/>
        </p:nvPicPr>
        <p:blipFill>
          <a:blip r:embed="rId3">
            <a:lum bright="-20000"/>
          </a:blip>
          <a:stretch/>
        </p:blipFill>
        <p:spPr>
          <a:xfrm>
            <a:off x="0" y="3286080"/>
            <a:ext cx="4530600" cy="35719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5" descr="C:\Users\admin\Desktop\икт 001.jpg"/>
          <p:cNvPicPr/>
          <p:nvPr/>
        </p:nvPicPr>
        <p:blipFill>
          <a:blip r:embed="rId4"/>
          <a:stretch/>
        </p:blipFill>
        <p:spPr>
          <a:xfrm>
            <a:off x="4500720" y="3286080"/>
            <a:ext cx="46432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4286160" y="0"/>
            <a:ext cx="4857840" cy="68580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428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2T10:08:35Z</dcterms:created>
  <dc:creator>александра.</dc:creator>
  <dc:description/>
  <dc:language>en-US</dc:language>
  <cp:lastModifiedBy>admin</cp:lastModifiedBy>
  <dcterms:modified xsi:type="dcterms:W3CDTF">2011-12-13T18:24:40Z</dcterms:modified>
  <cp:revision>123</cp:revision>
  <dc:subject/>
  <dc:title>Слайд 1</dc:title>
</cp:coreProperties>
</file>