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7607-1888-4E0B-899A-ADD5D1D53A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7FE7-E99B-4CCC-A999-E9148F7810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FB3-BA79-479E-807C-26E763BD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416-759C-4466-B659-E1323171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3BB95-E4EE-49DA-8B53-12F413C0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F736F-1158-49C8-A7E4-B4E06446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7AB86-99AE-4A5A-B2D0-6BC4C796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30422-B615-4B1F-B5CA-2504AA15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AAF7A-43A3-458B-B104-6FC60A1B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BB678-EEE5-44F4-9C02-4BD29C9B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2AAD3-ECB1-4DCB-B02A-FE7A96CB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49424-E950-47DA-85C3-2B5473EC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F0259-6F54-4D9A-9466-34B54881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5DE0-B0D6-48D4-B836-881D358C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DFC-56F6-47ED-AE7E-61C89294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D831-CDC8-40C0-8EBD-15D473FA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85A9-E6CC-4230-91F2-51E7B86F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AEC8-8303-4287-B0CD-FC29864C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6103-E7AC-4B13-B0FB-4E29982A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F18E-0859-4176-99A7-AE10A7C0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24AC-3EB6-4C77-80EC-427ABD22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5326-6BEA-4988-AC39-75856C95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BBB-3FD7-4793-90E0-A3CE1D0A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823D-ADE0-4DBD-AA19-657BB412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1C75-1935-40FD-AB9F-67033425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4CE9-1A9E-4027-A5BE-EB49430D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0FAB-45AE-4464-A724-A9A270A9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59FF-9E14-4824-A37B-4ED9469F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F7F86-8459-4A59-BCEE-B37D5F1D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A0392-4892-4FC4-B49D-43FCFD2B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4F630-2D57-4400-859B-1C19251B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D5794-9552-495E-9148-073BF014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2D7D2-7DCD-42B6-BA7E-67206A51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7DA-BE94-4CE6-94F9-71308E84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7187F-1AC1-4D64-9A4F-DEA96D50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FED0D-2968-4CDC-96B9-3308ABD4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BB936-C935-47B7-84BC-4E9D7BD4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AC8CB-0A24-4FAE-9735-0A04CEB1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FC4B1-F34E-4C64-ABBE-FB354E1C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A4BFC-8744-4B3A-866B-CAD96B4A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E35CA-4C12-4080-8657-A5EAA93E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37E73-6AED-4F3C-AF9C-28866364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2169C-8510-45FA-ABBB-378C268F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FFD57-6A2A-4160-95FB-AF595211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498-0F07-439E-A1B3-AB777A76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D1048-0772-44FC-99F7-6F0C48AF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10D60-9CD8-4E21-B163-CB4EA6D7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73CC6-7B80-4476-B22E-CFD6DFED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60169-019F-43F7-BEFC-C94AC3FD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E39D6-D476-4D41-A172-B9272863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904D6-C2DA-49AF-B883-ABACD1DB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A4704-CA63-46C4-A6DA-4FFD0216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34357-E0DF-42D3-9589-84325116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D4D28-1E56-43A6-AA97-72423CBB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D7C33-93FA-4C0C-8093-48B54E77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7DA1-A32B-4CD3-BF9C-FFE6F54F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9EA20-ADB0-4F55-8646-493D8E5B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12DE2-63EE-48E1-A06D-C589911C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547A4-0265-4DB3-8E8F-2206D2D7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AB959-EA69-4AF9-ABAC-57ECE1CC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62D4D-4885-44DC-8ED7-2DBE7110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35F64-276A-482D-A6E1-6903A768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56766-8BCD-4600-BADA-EDF23E38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0548B-99BE-4B93-AB83-3816DF44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E5D5B-ABF3-4460-91F1-4E0BE34D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FD996-50AD-421E-973F-E70FE772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3345-A9F1-4EEE-838A-62705AB7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DBE7F-8818-4292-8FB4-B3A3988D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1B681-AB95-461B-BAF3-B2172919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4679E-55F8-44ED-87E7-F7AD63D3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1BC71-D430-4841-B806-D5BD0A98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6DC03-F6C1-4E78-9EC3-14198056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64EA6-972A-4CE7-87F8-FABD2748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877B2-2C7D-4341-840A-84F4351D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8333E-7CF7-4B29-8EDC-9C7FCA29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1F549-270B-4A12-B852-8F28E8F6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3C89C-F1C3-407C-BAA4-26CE5320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92E7-6751-4E99-874D-8747F96C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1B900-7E90-4CD2-90D4-0E6E1DAA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CDF11-E293-4107-B76A-AFFA2461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DF69D-17D4-40E2-A913-A9DB58AF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B0F86-5E22-47B8-AD46-2AE3318A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43EB5-360E-40B4-B439-C5EF3D03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1F1DA-1B0A-4443-9F4B-D2048955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ACB4A-D5C7-4F77-8492-8A38F38A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FB8B8-F409-4965-8905-6FA5C02D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C5739-BCE1-4941-B8C3-EE02D2C6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A9EFF-4496-459B-88FD-1DAE0561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7D7-3E39-4623-9D6C-8EB15FFA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8F61D-A314-4FD8-A178-08D60A23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CECA2-C202-4571-9330-BA47A764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6F2CF-FD8F-4343-80A0-CF8E1CE5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F8F77-66D2-4BF4-AF6B-048D0382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C5BF5-73B3-4989-8CC7-28B74A8F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8D496-180A-4034-A4E5-5E257130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EA1D9-939B-4A9D-91F7-917B32A4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21ABA-8761-46A5-91EA-A6CBEDB1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250B2-48F8-413C-A5B5-ACEEE22A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25EEC-D667-4914-BDCF-3BB90351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2E5-A877-4F9E-94DD-DD3CBE4B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39A33-6C46-4F92-B4FB-A1BCFFA0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76126-7240-4D6B-887D-C2AFDB6F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3302D-CD18-491B-8D6C-2F3C0EFF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49364-F089-498F-8214-42E85A0D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A87F4-A059-4DDC-951C-C78F5A17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10A2F-11F2-491B-AB64-F5703772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2428E-C75B-4F30-A9DD-4F474B17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3587F-E344-449E-9513-3D6353E0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0A3A9-DFD9-461D-A8B2-09B6B2CD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02FC8-27B8-4D19-A3CA-5BC17612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2C1E-36AF-41BE-B499-55AFB3807AF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5DEC-F512-42CA-B078-4A08CAA2A3C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16C5-42FF-4447-8739-726EBF21EDB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F759-1440-4BEF-9423-A3C9ECA7AE0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94FA-E04A-47B7-A53A-094C7B902C9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A6AD-0465-45C0-B95A-DDF688FE569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073B-E9D4-4447-879D-4D4AC192C67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A95B-5A2C-4C13-86C4-845FCE6F9BF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AD37-85A3-4228-99BF-35CD6F0BF4C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2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ртфоли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искателя первой квалификационной категор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я физической куль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го общеобразовательного учреждения «Средняя общеобразовательная школа п.Горный Краснопартизанского райо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ратовской област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чен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ександ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тольев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1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6500880" y="3711600"/>
            <a:ext cx="26431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92912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C:\Users\admin\Desktop\Закладнов.jpg"/>
          <p:cNvPicPr/>
          <p:nvPr/>
        </p:nvPicPr>
        <p:blipFill>
          <a:blip r:embed="rId2"/>
          <a:stretch/>
        </p:blipFill>
        <p:spPr>
          <a:xfrm>
            <a:off x="5643720" y="0"/>
            <a:ext cx="2714400" cy="37148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C:\Users\admin\Desktop\Закладнов И .jpg"/>
          <p:cNvPicPr/>
          <p:nvPr/>
        </p:nvPicPr>
        <p:blipFill>
          <a:blip r:embed="rId3"/>
          <a:stretch/>
        </p:blipFill>
        <p:spPr>
          <a:xfrm>
            <a:off x="5643720" y="3693960"/>
            <a:ext cx="27241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431" name="Picture 2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433" name="Picture 3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435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1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бщие сведения об учите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0" y="428760"/>
          <a:ext cx="9144000" cy="67802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61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Фамилия Имя Отчеств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44a11"/>
                      </a:solidFill>
                    </a:lnL>
                    <a:lnR w="5760">
                      <a:solidFill>
                        <a:srgbClr val="044a11"/>
                      </a:solidFill>
                    </a:lnR>
                    <a:lnT w="5760">
                      <a:solidFill>
                        <a:srgbClr val="044a11"/>
                      </a:solidFill>
                    </a:lnT>
                    <a:lnB w="5760">
                      <a:solidFill>
                        <a:srgbClr val="044a1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Стеченко Александра Анатольев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44a11"/>
                      </a:solidFill>
                    </a:lnL>
                    <a:lnR w="5760">
                      <a:solidFill>
                        <a:srgbClr val="044a11"/>
                      </a:solidFill>
                    </a:lnR>
                    <a:lnT w="5760">
                      <a:solidFill>
                        <a:srgbClr val="044a11"/>
                      </a:solidFill>
                    </a:lnT>
                    <a:lnB w="5760">
                      <a:solidFill>
                        <a:srgbClr val="044a11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44a11"/>
                      </a:solidFill>
                    </a:lnL>
                    <a:lnR w="5760">
                      <a:solidFill>
                        <a:srgbClr val="044a11"/>
                      </a:solidFill>
                    </a:lnR>
                    <a:lnT w="5760">
                      <a:solidFill>
                        <a:srgbClr val="044a11"/>
                      </a:solidFill>
                    </a:lnT>
                    <a:lnB w="5760">
                      <a:solidFill>
                        <a:srgbClr val="044a1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08.05.1974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44a11"/>
                      </a:solidFill>
                    </a:lnL>
                    <a:lnR w="5760">
                      <a:solidFill>
                        <a:srgbClr val="044a11"/>
                      </a:solidFill>
                    </a:lnR>
                    <a:lnT w="5760">
                      <a:solidFill>
                        <a:srgbClr val="044a11"/>
                      </a:solidFill>
                    </a:lnT>
                    <a:lnB w="5760">
                      <a:solidFill>
                        <a:srgbClr val="044a11"/>
                      </a:solidFill>
                    </a:lnB>
                    <a:noFill/>
                  </a:tcPr>
                </a:tc>
              </a:tr>
              <a:tr h="3170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Образова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Что закончил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диплом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Дата выдач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Специальность по диплому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44a11"/>
                      </a:solidFill>
                    </a:lnL>
                    <a:lnR w="5760">
                      <a:solidFill>
                        <a:srgbClr val="044a11"/>
                      </a:solidFill>
                    </a:lnR>
                    <a:lnT w="5760">
                      <a:solidFill>
                        <a:srgbClr val="044a11"/>
                      </a:solidFill>
                    </a:lnT>
                    <a:lnB w="5760">
                      <a:solidFill>
                        <a:srgbClr val="044a1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Высшее 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Саратовский педагогический институт и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К А Фед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Регистрационный номер 85907, АВС 060231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Выдан 22.05.1999г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Учитель физической культуры по специальности «Физическая культур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44a11"/>
                      </a:solidFill>
                    </a:lnL>
                    <a:lnR w="5760">
                      <a:solidFill>
                        <a:srgbClr val="044a11"/>
                      </a:solidFill>
                    </a:lnR>
                    <a:lnT w="5760">
                      <a:solidFill>
                        <a:srgbClr val="044a11"/>
                      </a:solidFill>
                    </a:lnT>
                    <a:lnB w="5760">
                      <a:solidFill>
                        <a:srgbClr val="044a11"/>
                      </a:solidFill>
                    </a:lnB>
                    <a:noFill/>
                  </a:tcPr>
                </a:tc>
              </a:tr>
              <a:tr h="225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Общий трудовой стаж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Педагогический стаж на 15.08.201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Педагогический стаж работы в данном образовательном учреждени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44a11"/>
                      </a:solidFill>
                    </a:lnL>
                    <a:lnR w="5760">
                      <a:solidFill>
                        <a:srgbClr val="044a11"/>
                      </a:solidFill>
                    </a:lnR>
                    <a:lnT w="5760">
                      <a:solidFill>
                        <a:srgbClr val="044a11"/>
                      </a:solidFill>
                    </a:lnT>
                    <a:lnB w="5760">
                      <a:solidFill>
                        <a:srgbClr val="044a1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18 ле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17ле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12,5л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44a11"/>
                      </a:solidFill>
                    </a:lnL>
                    <a:lnR w="5760">
                      <a:solidFill>
                        <a:srgbClr val="044a11"/>
                      </a:solidFill>
                    </a:lnR>
                    <a:lnT w="5760">
                      <a:solidFill>
                        <a:srgbClr val="044a11"/>
                      </a:solidFill>
                    </a:lnT>
                    <a:lnB w="5760">
                      <a:solidFill>
                        <a:srgbClr val="044a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4643280" cy="32860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2860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Стеченко"/>
          <p:cNvPicPr/>
          <p:nvPr/>
        </p:nvPicPr>
        <p:blipFill>
          <a:blip r:embed="rId3">
            <a:lum bright="-20000"/>
          </a:blip>
          <a:stretch/>
        </p:blipFill>
        <p:spPr>
          <a:xfrm>
            <a:off x="0" y="3286080"/>
            <a:ext cx="4530600" cy="35719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C:\Users\admin\Desktop\икт 001.jpg"/>
          <p:cNvPicPr/>
          <p:nvPr/>
        </p:nvPicPr>
        <p:blipFill>
          <a:blip r:embed="rId4"/>
          <a:stretch/>
        </p:blipFill>
        <p:spPr>
          <a:xfrm>
            <a:off x="4500720" y="32860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4286160" y="0"/>
            <a:ext cx="4857840" cy="6858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28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2T10:08:35Z</dcterms:created>
  <dc:creator>александра.</dc:creator>
  <dc:description/>
  <dc:language>en-US</dc:language>
  <cp:lastModifiedBy>admin</cp:lastModifiedBy>
  <dcterms:modified xsi:type="dcterms:W3CDTF">2011-12-13T18:24:40Z</dcterms:modified>
  <cp:revision>123</cp:revision>
  <dc:subject/>
  <dc:title>Слайд 1</dc:title>
</cp:coreProperties>
</file>