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D2F9-3BED-48DE-96E1-6CEA369480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9DF1-D16F-4BF6-90C0-5E7C7EC5B7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6CA-C3B6-49EF-A920-9512FFE4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75F-E0F4-4C0D-8B66-140D5769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93B17-B77F-4F19-8B7D-6B09567A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5ABC7-A2A7-46DE-B7C3-E799FEAB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BD3EA-458A-4A04-936F-312C00DA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01501-50A1-4698-A1BA-627EAF9D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6EE8E-69BE-4AB3-86B5-D84D5820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C7328-DE01-464A-8536-D975369D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7F9C0-89EE-435E-A3AD-6AE91956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20B27-D0DA-4B61-BD6B-EDF524EA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E2A1E-DC5A-4E3A-88A4-7AEDAC48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C6E-88D1-44AA-AB71-41442318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3F3-BB38-4A5D-9C3E-61C0D78C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3B26-6559-411B-918A-F9CC8C12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78BE-6C59-4979-8AF3-CA6DAEB4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7FDB-7E6C-4A4C-B26F-8FAA6A03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B0E2-3758-401D-9EDA-22E1B44B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F07F-2170-4CF4-9A94-8F7C111E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52FA-AFBC-4269-8D67-1C4F6FE9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55FD-AC37-407D-9E6E-4F868D99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53A-2529-4113-B61D-09C6B0AA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9A74-CFA1-4416-B269-EE6E9C8D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CE0E-7367-45CE-92B7-E57466C5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1B10-A3BF-4AE3-936C-2A066CCA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BCAE-AEFE-47FF-849F-BCD1DBCF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AB6C-BA38-47A4-9636-6DD37DA6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B6A1-D1C3-4EBA-BD25-A00CD1F2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F507-4B8D-490D-83EB-C9787C89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2726-DE63-4EC6-B46D-FC2463C1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A4712-9A3D-4539-BF4C-6612BF55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1DA69-AEFE-4B22-A8C3-D0272721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ED7-643A-4171-9E88-E1F21665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4BECC-5754-4628-BCE8-A1D9EC91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91E55-BF7A-4EB4-8628-4005509E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321D2-FB1D-4BD3-BA35-9BC53DF0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CBB1B-588E-4013-A431-DF0909AD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0F1F-4DCC-4B36-9C6F-2C80B180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8A28-3080-4F54-AB54-F4E7CE91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69816-0BB4-411C-844C-DAD81D1B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D6ABB-8834-42AA-AD00-0E3FD0D9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91280-50E4-480A-AA9F-F9DD780F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6AC57-98F4-4540-99B4-45D916E1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5E9-5D7D-47F9-A65B-2CFD2AE6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AC4B5-9959-4D67-B263-072E69C5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B5D07-AE7A-4CDB-8CEB-02CD08DB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AE41A-FFB5-4FBF-A122-B3C8296C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43FFC-B23B-4C40-8A68-B4E9BA42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94A77-D012-492C-9CAC-E2F30409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2218-2297-4B6B-9EDE-80C57013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E9FE0-7872-49B7-96B2-EB728412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D4D45-FEFF-4861-8406-E1436A76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CC4FA-4282-48DA-8AF4-8BFC9DED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A90FB-262F-46F5-A2BF-BED45F5D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C34-1052-4C5F-BC11-96533BEE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17937-7937-42D2-97FB-D516F925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27744-E5DD-4AEB-805B-D20D9568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FBC37-036F-43E1-81F9-F3DBD1F8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06EB7-B580-419F-8C3F-AC187DB8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3127B-75E6-4B25-B9A9-FE52E956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E01C3-8314-4449-BA43-112647BB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625A7-E0A5-4FC1-9F66-AF1DB538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8F9CB-F098-4FFF-95CD-AE93A83F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C7C0A-2DBC-43E1-863E-B2C102F9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B5539-2347-43C7-86D2-D6B904B3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EF5-0411-4336-9304-EAF10031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7F446-6896-4EB6-AE90-B9294AF6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82BCF-AE61-4B41-80A1-F39D22AB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15ED3-19AE-4838-BBA5-3B61604D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693CE-AF5C-4EB8-B5D9-23281D4D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13EED-965E-4F8C-B2E4-0DBF7186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06ACB-7D9F-46FC-9643-1AD86CF9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E5E9E-9FC2-4004-AB28-61AE9116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D5CC5-C416-4954-83F7-93905C49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B78CD-2C8B-4051-A949-4AA28415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B5707-A1E8-4ABC-8BC4-53867431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F72-F57D-47D0-A90B-E4485377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021A3-C60D-43DF-AEA3-07666B88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AAF11-E2E7-4376-84D9-810DC80F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B7D16-EB89-4630-8D43-9507AF44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B2E29-7671-4981-AABD-53A51AB0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82359-67BD-4C3B-A3F4-F5353A6A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5298C-9B3B-4189-BCAD-05CC0469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CEB23-852D-4C53-B5D7-22A24A3F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10F4A-3623-44D4-B87E-D660BEE2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8CD7D-4DA8-4694-884C-B2B908D2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9298C-9BBF-4163-BF66-A893C138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DF7-5CA8-4884-8E6E-7BB8BF55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7CCDD-980E-4EBB-8B32-A34B3F57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C3505-E311-4B26-B905-AE9A9BBD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6024A-5DE0-4EA0-AC2F-BE1BA1F1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14299-E9B5-4441-8508-1CCD67E1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263C5-F3C2-4E32-92BA-42A34A7B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51484-8B02-4692-A1A1-05B9D701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1B027-D7A1-4FC2-A17F-46C78664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121AB-B01F-49C2-8A45-5A0D6582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652DB-7775-4172-B57E-0985DC5B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82DF7-1D05-47DB-90F6-6D531716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9B2-2541-411F-98C7-951A83D1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B1AC5-194B-4E4F-94E9-24E7418C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CBB45-DCD8-4F2E-8465-07DC9335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D6B56-E7C6-46B5-851B-48A3F87A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61A74-824F-4460-8697-1331F352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1BB74-9A07-4766-ABFA-B94C92D3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B9D18-52D0-4F34-983E-588D4041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2778E-1E85-42D2-84FB-9FB97F79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A78CA-2CFF-47AB-A008-64281760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83C35-EE23-46C7-AE78-F3297C92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D68E4-3E15-4EF9-B5E2-0F5A31C1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2530-BFD6-4AAD-A5F2-6154B13B964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B6A1-CE8C-410E-9146-271C1D9B747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A2C2-9B17-47CB-AAE3-A9C8958FED0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D553-A51E-48BB-B9BF-1B6152FFE10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99D3-0804-43FE-BF07-05C94C5655B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90E9-E881-4781-9FC8-271FFC2686F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6FE5-84B4-4853-A9B6-4ABB0C9749A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EFB8-9F02-45BE-A5ED-E0A239EC1A3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3549-91B9-455F-A95E-C080E94DF29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11CD-1838-4AA0-82E4-F93E5481A49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5B29-BA39-4F06-863E-B2F40F0F198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A09C-F5CC-4F48-BE9D-4ADFD7D3C62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B257-FBA4-41D2-A6B9-628DF237AB4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C8D8-409D-43A0-883F-2F24BC66877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13D5-9573-45D8-8D29-9B6F593690C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2191-DB3A-482F-8FCC-34AF6A08D49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6746-4797-4E58-9516-7ACE70BFF35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CFC9-0CEB-4B92-A746-5A8203FDB26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апреля 1961 года –  состоялся первый полет советского человека в космос.</a:t>
            </a:r>
            <a:endParaRPr b="0" lang="en-US" sz="72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Franklin Gothic Book"/>
              </a:rPr>
              <a:t>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вый советский космонавт</a:t>
            </a:r>
            <a:r>
              <a:rPr b="1" lang="ru-RU" sz="1400" spc="-1" strike="noStrike">
                <a:solidFill>
                  <a:srgbClr val="ffff00"/>
                </a:solidFill>
                <a:latin typeface="Franklin Gothic Book"/>
              </a:rPr>
              <a:t>                  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0" y="1500120"/>
            <a:ext cx="3714840" cy="4572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409" name="Прямоугольник 5"/>
          <p:cNvSpPr/>
          <p:nvPr/>
        </p:nvSpPr>
        <p:spPr>
          <a:xfrm>
            <a:off x="0" y="500040"/>
            <a:ext cx="171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Гагарин                          Юрий                      Алекс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3786120" y="2471760"/>
            <a:ext cx="5357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3" descr=""/>
          <p:cNvPicPr/>
          <p:nvPr/>
        </p:nvPicPr>
        <p:blipFill>
          <a:blip r:embed="rId1"/>
          <a:stretch/>
        </p:blipFill>
        <p:spPr>
          <a:xfrm>
            <a:off x="-208080" y="-212760"/>
            <a:ext cx="9779040" cy="7083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1714680" y="4178160"/>
            <a:ext cx="528624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Прямоугольник 1" descr=""/>
          <p:cNvPicPr/>
          <p:nvPr/>
        </p:nvPicPr>
        <p:blipFill>
          <a:blip r:embed="rId1"/>
          <a:stretch/>
        </p:blipFill>
        <p:spPr>
          <a:xfrm>
            <a:off x="-189000" y="-96840"/>
            <a:ext cx="9558360" cy="7027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2357280" y="3643200"/>
            <a:ext cx="4048200" cy="32148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-500040" y="-622440"/>
            <a:ext cx="9650520" cy="3841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0" y="3218040"/>
            <a:ext cx="3429000" cy="3639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17" name="Picture 2" descr=""/>
          <p:cNvPicPr/>
          <p:nvPr/>
        </p:nvPicPr>
        <p:blipFill>
          <a:blip r:embed="rId3"/>
          <a:stretch/>
        </p:blipFill>
        <p:spPr>
          <a:xfrm>
            <a:off x="5929200" y="3171960"/>
            <a:ext cx="3214800" cy="36860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418" name="Стрелка вниз 4"/>
          <p:cNvSpPr/>
          <p:nvPr/>
        </p:nvSpPr>
        <p:spPr>
          <a:xfrm>
            <a:off x="2071800" y="785880"/>
            <a:ext cx="46080" cy="107136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трелка вниз 5"/>
          <p:cNvSpPr/>
          <p:nvPr/>
        </p:nvSpPr>
        <p:spPr>
          <a:xfrm>
            <a:off x="7286760" y="785880"/>
            <a:ext cx="71280" cy="928800"/>
          </a:xfrm>
          <a:prstGeom prst="downArrow">
            <a:avLst>
              <a:gd name="adj1" fmla="val 50000"/>
              <a:gd name="adj2" fmla="val 5013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-6480" y="-165240"/>
            <a:ext cx="9644040" cy="38833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2"/>
          <a:stretch/>
        </p:blipFill>
        <p:spPr>
          <a:xfrm>
            <a:off x="0" y="3714840"/>
            <a:ext cx="3929040" cy="31431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22" name="Picture 5" descr=""/>
          <p:cNvPicPr/>
          <p:nvPr/>
        </p:nvPicPr>
        <p:blipFill>
          <a:blip r:embed="rId3"/>
          <a:stretch/>
        </p:blipFill>
        <p:spPr>
          <a:xfrm>
            <a:off x="5572080" y="3693960"/>
            <a:ext cx="3571920" cy="31640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423" name="Стрелка вниз 7"/>
          <p:cNvSpPr/>
          <p:nvPr/>
        </p:nvSpPr>
        <p:spPr>
          <a:xfrm>
            <a:off x="2500200" y="1785960"/>
            <a:ext cx="71640" cy="714240"/>
          </a:xfrm>
          <a:prstGeom prst="downArrow">
            <a:avLst>
              <a:gd name="adj1" fmla="val 50000"/>
              <a:gd name="adj2" fmla="val 4984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трелка вниз 8"/>
          <p:cNvSpPr/>
          <p:nvPr/>
        </p:nvSpPr>
        <p:spPr>
          <a:xfrm>
            <a:off x="6429240" y="1785960"/>
            <a:ext cx="71640" cy="714240"/>
          </a:xfrm>
          <a:prstGeom prst="downArrow">
            <a:avLst>
              <a:gd name="adj1" fmla="val 50000"/>
              <a:gd name="adj2" fmla="val 4984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-249120" y="-237960"/>
            <a:ext cx="9399600" cy="3889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2214720"/>
            <a:ext cx="9144000" cy="4643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900" spc="-1" strike="noStrike" u="sng">
                <a:solidFill>
                  <a:srgbClr val="ffc000"/>
                </a:solidFill>
                <a:uFillTx/>
                <a:latin typeface="Franklin Gothic Book"/>
              </a:rPr>
              <a:t>Сенситивный период развития КС-</a:t>
            </a:r>
            <a:endParaRPr b="0" lang="en-US" sz="69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efef85"/>
                </a:solidFill>
                <a:latin typeface="Franklin Gothic Book"/>
              </a:rPr>
              <a:t> </a:t>
            </a:r>
            <a:r>
              <a:rPr b="0" i="1" lang="ru-RU" sz="3700" spc="-1" strike="noStrike" u="sng">
                <a:solidFill>
                  <a:srgbClr val="efef85"/>
                </a:solidFill>
                <a:uFillTx/>
                <a:latin typeface="Franklin Gothic Book"/>
              </a:rPr>
              <a:t>возраст 11-12 лет</a:t>
            </a:r>
            <a:r>
              <a:rPr b="0" i="1" lang="ru-RU" sz="3700" spc="-1" strike="noStrike">
                <a:solidFill>
                  <a:srgbClr val="efef85"/>
                </a:solidFill>
                <a:latin typeface="Franklin Gothic Book"/>
              </a:rPr>
              <a:t>, этот возрастной период определяется как особенно поддающийся целенаправленной тренировке.</a:t>
            </a:r>
            <a:br>
              <a:rPr sz="3700"/>
            </a:br>
            <a:r>
              <a:rPr b="0" i="1" lang="ru-RU" sz="3700" spc="-1" strike="noStrike">
                <a:solidFill>
                  <a:srgbClr val="efef85"/>
                </a:solidFill>
                <a:latin typeface="Franklin Gothic Book"/>
              </a:rPr>
              <a:t>У мальчиков уровень развития КС с возрастом выше, чем у девочек.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-6480" y="-96840"/>
            <a:ext cx="9156960" cy="1030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2"/>
          <a:stretch/>
        </p:blipFill>
        <p:spPr>
          <a:xfrm>
            <a:off x="0" y="571680"/>
            <a:ext cx="7858080" cy="2500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429" name="Прямоугольник 3"/>
          <p:cNvSpPr/>
          <p:nvPr/>
        </p:nvSpPr>
        <p:spPr>
          <a:xfrm>
            <a:off x="0" y="300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Medium"/>
              </a:rPr>
              <a:t>Перек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0" y="3714840"/>
            <a:ext cx="7962840" cy="31431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156960" cy="10476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25718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433" name="Прямоугольник 3"/>
          <p:cNvSpPr/>
          <p:nvPr/>
        </p:nvSpPr>
        <p:spPr>
          <a:xfrm>
            <a:off x="3422520" y="3071880"/>
            <a:ext cx="26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тойка на лопат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-23760" y="3500280"/>
            <a:ext cx="9167760" cy="3360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5:22:36Z</dcterms:created>
  <dc:creator>александра.</dc:creator>
  <dc:description/>
  <dc:language>en-US</dc:language>
  <cp:lastModifiedBy>admin</cp:lastModifiedBy>
  <dcterms:modified xsi:type="dcterms:W3CDTF">2011-12-11T12:00:12Z</dcterms:modified>
  <cp:revision>161</cp:revision>
  <dc:subject/>
  <dc:title>Слайд 1</dc:title>
</cp:coreProperties>
</file>