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B009-E063-4C69-B184-AA27653F7D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18AE-4C74-4CAE-80FF-09379F3CD7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F7E-79B7-442A-B3FE-7608AA06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736-7E4E-4560-B97C-7AB0F770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0B48E-0854-40A9-A1DA-401CF81F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1A1E9-5B6F-4E8A-B88D-E7AF852F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766CE-E560-4517-B396-CF07D235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503C6-30E9-4BD3-BFC1-8DF76830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C5182-4C03-4D4C-980C-D41923A8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FBE44-C678-4598-80E8-F6DC4690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93634-6BAB-4C6E-846D-62682648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21835-069F-4C45-B783-647D5BD8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8E5DD-5CE9-4626-9158-B7C42AA8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A0C-E360-4BA2-8504-740502AA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F80-FA9B-419B-8CB6-748FF7DA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A0D5-3BAE-4FDF-A83F-9BE49ECE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55B8-57ED-4955-BCD5-E91BE9A8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21F9-8550-42A2-92D6-39607458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EB62-45B6-4D9F-AFB7-7FCC78B6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E27D-6FB3-4DC1-84C5-5868ADF8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8F11-62C4-48F1-8396-B3511D77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68F3-DA8C-49C3-AD63-73114B8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D58-F74D-4BF5-BBF9-BA76F608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912B-0F52-4A20-9CA0-E0294ADD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3B92-4619-4B95-9BC1-B51B0BBA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D3C5-901B-4E3B-BE5B-85B95444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67B2-9D4F-42CC-AB2E-2E74E1FB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4EEF-A04C-4BF1-97D6-19867519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2F4FF-C08E-4B68-BFD1-B0F5CA5E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AC99-9D4C-4F1D-955D-26A030EB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896F7-F428-4C8E-A5F7-156E8F0F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24CF-4060-4E34-AF5B-88C3DB3A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D6742-9BB7-406B-A86E-C9488A00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5EA-C5E5-4D9D-A2E6-2C9F3490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C6C32-BAC7-4AF4-8C6D-F1E62615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1455-D872-4676-9107-55989EF5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E669-D0B1-42A4-B425-4CBAD9E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C8D5-9480-471F-8E0A-D27C0510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B6E5-BA76-4E21-BE99-1E1E0B19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357AA-E110-4570-9AF8-D1174F7F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4A27-F52F-4D56-832B-A1622522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F261F-77B4-495E-B252-345AA34C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EEE0-D94A-404C-A5BC-1E6FE4CD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AEF75-99DA-4288-9C0A-7ACCF69E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3D8-30FC-471A-BDB3-E37306B7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FD71-A285-4F9C-AAFD-011F0E9E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9F8E-A006-4F45-A8B0-0FF33E13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D982-9970-4C5A-98F8-97CBDF85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BC503-0188-47E4-96EE-591427B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9261-1634-4BF3-AEF3-62E612C0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6FD96-03B5-4055-9792-0542FA96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FB197-52EA-446D-B0C0-85C06271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92D08-6325-4EF6-9103-BB7DE12D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87D5-EE8C-4B54-81C2-33C9E1DB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5BCD4-3253-48FD-B1DA-68A48151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C7C-526A-4E8E-BDE7-2F84A7C7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A8929-5496-4E2A-AA56-A115D836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EDD08-63F0-4898-927F-103D35E5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0A4AB-1E62-46C3-A061-CBA000AC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F99BA-7EA3-4159-A8C2-A303B577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255A6-1024-493A-BEFC-F423F4FF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88B96-3249-40AB-8CE7-EA63A362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3F0F9-B769-4CD6-8AF8-C6763FBC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98E9E-6E3F-482C-BE78-91B34BDD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916C7-573E-4671-8335-8DF174AB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C80DB-DE8F-4D5B-95E9-505E5614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828-0AD5-4CED-A2FC-47C88BC4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FD6DF-4E20-42A1-BB0F-54B053AE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1FE47-1367-4BA0-81C8-AC965005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AABEF-A0F5-4D41-9FE8-CDD07A6D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5FEE0-B3C7-4E74-B5E6-9087A2A0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F92B-642D-45C1-841E-FFA347F3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9A110-B33C-4013-B53B-D80C28F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87417-8EB3-489A-B2A5-919E10E5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F1965-94FB-4E44-B7AC-17A3D9A4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11FE4-3D8C-4EDF-B285-4667F17A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43DA-9AA3-4727-B002-4676AFD9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DD0-E0AE-4B9B-819D-D4A55A1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B26EE-6F1C-4955-A75C-30F9A629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F95C6-2869-463C-8EB0-D261E810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25DF8-8794-49C4-81DE-43F2B20B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DE6A2-8AC5-4903-AC89-B090B87E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D7498-99C0-44EA-A764-C913E95E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01BD8-195E-49A0-8197-D9D29D5F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AE1A0-C6BA-498E-A84B-0EF9D06C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4C33B-7BA8-484A-9ADB-EF2ED43B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FCAF8-1692-41E1-B6B5-9EC18186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DC20D-71A1-43CE-A62B-104E749C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5B1-B876-4684-B8DE-BDE6122E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C97DC-2FCD-48E6-B8D0-8999E2A7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52376-7C3B-4964-87EB-074F05E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CE440-1FAE-4711-94E6-D84F0CBF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2B1AD-85AE-423D-888F-840DDB2D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DB5DC-4C63-415A-95D2-22B7BF4A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F0042-032B-4CCB-82FA-46E8B95D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C9563-442B-4EA1-B4E6-A4AE2C43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6D61C-DA65-4C29-98C6-DF4F7602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25EC0-080B-46CD-8D78-5629584F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31F3A-792B-4D94-A7B6-7425F4C4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642-D998-43EF-B637-84E5E8A1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3347D-B65D-4D75-BC67-55F067FC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162AD-3311-4140-8AEB-2A26E19B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C39A3-EB60-4E7E-94D8-4A4BA58C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A6281-813D-4762-806A-468A12A0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93C12-AC33-41CD-A448-C4EA0BB8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82E97-6A35-46BA-B26A-1EC13154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CBB9A-B49D-4C19-AB86-243A3F91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66CFA-23E5-4AA8-B2FF-F5B04BAE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D18F3-EBD8-435B-BFEA-7EE8A621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D5D9D-813F-4503-B638-41DB77E8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9C1D-C616-4E2F-9F7C-D6BFE6FF549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CD5E-0287-42E1-A68A-74832BDE120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0506-C68D-4D00-87CF-4E0D7A9D02C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D12D-E34C-481B-9FED-757AF90B589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9443-4FDE-48D4-83A7-1622DA2008A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4EAC-16F5-458F-81E6-0B530C66F48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CBC8-51B4-4F35-AAEE-4E8BAF8B742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8CF5-75D2-4884-8C37-20074F3F4A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D705-2C87-4329-B158-369AA068F54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0E5B-E5DB-4027-AF8C-BF2D3CE7BA9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0D63-D0BD-4014-B056-63336039EA0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BB96-1958-4729-9FD1-D9E752124C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10B6-0E86-4450-BB00-C874FA68EF1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7F6D-7B28-4007-9580-61CB5C75C05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EFA2-850D-4A5A-8253-893238656A8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E105-7351-4D1A-B06E-CD7504F178B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9289-14FC-44A5-B52D-0090A196623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45CB-20C9-4071-8FD4-8713183B1DB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2 апреля 1961 года –  состоялся первый полет советского человека в космос.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Franklin Gothic Book"/>
              </a:rPr>
              <a:t>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ый советский космонавт</a:t>
            </a:r>
            <a:r>
              <a:rPr b="1" lang="ru-RU" sz="1400" spc="-1" strike="noStrike">
                <a:solidFill>
                  <a:srgbClr val="ffff00"/>
                </a:solidFill>
                <a:latin typeface="Franklin Gothic Book"/>
              </a:rPr>
              <a:t>                   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0" y="1500120"/>
            <a:ext cx="3714840" cy="4572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09" name="Прямоугольник 5"/>
          <p:cNvSpPr/>
          <p:nvPr/>
        </p:nvSpPr>
        <p:spPr>
          <a:xfrm>
            <a:off x="0" y="500040"/>
            <a:ext cx="171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Гагарин                          Юрий                      Алекс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3786120" y="2471760"/>
            <a:ext cx="5357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-208080" y="-212760"/>
            <a:ext cx="9779040" cy="7083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1714680" y="4178160"/>
            <a:ext cx="52862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Прямоугольник 1" descr=""/>
          <p:cNvPicPr/>
          <p:nvPr/>
        </p:nvPicPr>
        <p:blipFill>
          <a:blip r:embed="rId1"/>
          <a:stretch/>
        </p:blipFill>
        <p:spPr>
          <a:xfrm>
            <a:off x="-189000" y="-96840"/>
            <a:ext cx="9558360" cy="7027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2357280" y="3643200"/>
            <a:ext cx="4048200" cy="32148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-500040" y="-622440"/>
            <a:ext cx="9650520" cy="3841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0" y="3218040"/>
            <a:ext cx="3429000" cy="3639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17" name="Picture 2" descr=""/>
          <p:cNvPicPr/>
          <p:nvPr/>
        </p:nvPicPr>
        <p:blipFill>
          <a:blip r:embed="rId3"/>
          <a:stretch/>
        </p:blipFill>
        <p:spPr>
          <a:xfrm>
            <a:off x="5929200" y="3171960"/>
            <a:ext cx="3214800" cy="36860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18" name="Стрелка вниз 4"/>
          <p:cNvSpPr/>
          <p:nvPr/>
        </p:nvSpPr>
        <p:spPr>
          <a:xfrm>
            <a:off x="2071800" y="785880"/>
            <a:ext cx="46080" cy="10713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трелка вниз 5"/>
          <p:cNvSpPr/>
          <p:nvPr/>
        </p:nvSpPr>
        <p:spPr>
          <a:xfrm>
            <a:off x="7286760" y="785880"/>
            <a:ext cx="71280" cy="928800"/>
          </a:xfrm>
          <a:prstGeom prst="downArrow">
            <a:avLst>
              <a:gd name="adj1" fmla="val 50000"/>
              <a:gd name="adj2" fmla="val 5013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644040" cy="38833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2"/>
          <a:stretch/>
        </p:blipFill>
        <p:spPr>
          <a:xfrm>
            <a:off x="0" y="3714840"/>
            <a:ext cx="3929040" cy="31431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422" name="Picture 5" descr=""/>
          <p:cNvPicPr/>
          <p:nvPr/>
        </p:nvPicPr>
        <p:blipFill>
          <a:blip r:embed="rId3"/>
          <a:stretch/>
        </p:blipFill>
        <p:spPr>
          <a:xfrm>
            <a:off x="5572080" y="3693960"/>
            <a:ext cx="3571920" cy="31640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23" name="Стрелка вниз 7"/>
          <p:cNvSpPr/>
          <p:nvPr/>
        </p:nvSpPr>
        <p:spPr>
          <a:xfrm>
            <a:off x="2500200" y="1785960"/>
            <a:ext cx="71640" cy="714240"/>
          </a:xfrm>
          <a:prstGeom prst="downArrow">
            <a:avLst>
              <a:gd name="adj1" fmla="val 50000"/>
              <a:gd name="adj2" fmla="val 4984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низ 8"/>
          <p:cNvSpPr/>
          <p:nvPr/>
        </p:nvSpPr>
        <p:spPr>
          <a:xfrm>
            <a:off x="6429240" y="1785960"/>
            <a:ext cx="71640" cy="714240"/>
          </a:xfrm>
          <a:prstGeom prst="downArrow">
            <a:avLst>
              <a:gd name="adj1" fmla="val 50000"/>
              <a:gd name="adj2" fmla="val 4984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-249120" y="-237960"/>
            <a:ext cx="9399600" cy="3889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2214720"/>
            <a:ext cx="9144000" cy="4643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 u="sng">
                <a:solidFill>
                  <a:srgbClr val="ffc000"/>
                </a:solidFill>
                <a:uFillTx/>
                <a:latin typeface="Franklin Gothic Book"/>
              </a:rPr>
              <a:t>Сенситивный период развития КС-</a:t>
            </a:r>
            <a:endParaRPr b="0" lang="en-US" sz="69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efef85"/>
                </a:solidFill>
                <a:latin typeface="Franklin Gothic Book"/>
              </a:rPr>
              <a:t> </a:t>
            </a:r>
            <a:r>
              <a:rPr b="0" i="1" lang="ru-RU" sz="3700" spc="-1" strike="noStrike" u="sng">
                <a:solidFill>
                  <a:srgbClr val="efef85"/>
                </a:solidFill>
                <a:uFillTx/>
                <a:latin typeface="Franklin Gothic Book"/>
              </a:rPr>
              <a:t>возраст 11-12 лет</a:t>
            </a:r>
            <a:r>
              <a:rPr b="0" i="1" lang="ru-RU" sz="3700" spc="-1" strike="noStrike">
                <a:solidFill>
                  <a:srgbClr val="efef85"/>
                </a:solidFill>
                <a:latin typeface="Franklin Gothic Book"/>
              </a:rPr>
              <a:t>, этот возрастной период определяется как особенно поддающийся целенаправленной тренировке.</a:t>
            </a:r>
            <a:br>
              <a:rPr sz="3700"/>
            </a:br>
            <a:r>
              <a:rPr b="0" i="1" lang="ru-RU" sz="3700" spc="-1" strike="noStrike">
                <a:solidFill>
                  <a:srgbClr val="efef85"/>
                </a:solidFill>
                <a:latin typeface="Franklin Gothic Book"/>
              </a:rPr>
              <a:t>У мальчиков уровень развития КС с возрастом выше, чем у девочек.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9156960" cy="1030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0" y="571680"/>
            <a:ext cx="7858080" cy="2500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29" name="Прямоугольник 3"/>
          <p:cNvSpPr/>
          <p:nvPr/>
        </p:nvSpPr>
        <p:spPr>
          <a:xfrm>
            <a:off x="0" y="300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Medium"/>
              </a:rPr>
              <a:t>Перек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0" y="3714840"/>
            <a:ext cx="7962840" cy="31431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10476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25718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33" name="Прямоугольник 3"/>
          <p:cNvSpPr/>
          <p:nvPr/>
        </p:nvSpPr>
        <p:spPr>
          <a:xfrm>
            <a:off x="3422520" y="3071880"/>
            <a:ext cx="26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тойка на лопат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-23760" y="3500280"/>
            <a:ext cx="9167760" cy="3360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5:22:36Z</dcterms:created>
  <dc:creator>александра.</dc:creator>
  <dc:description/>
  <dc:language>en-US</dc:language>
  <cp:lastModifiedBy>admin</cp:lastModifiedBy>
  <dcterms:modified xsi:type="dcterms:W3CDTF">2011-12-11T12:00:12Z</dcterms:modified>
  <cp:revision>161</cp:revision>
  <dc:subject/>
  <dc:title>Слайд 1</dc:title>
</cp:coreProperties>
</file>