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CBD-9DF3-4225-862E-1A8AE05A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36D-016A-4FD2-8BA0-8D17323E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AD8-90DE-4E69-9AB1-45E10A95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42B-ED64-49F3-8BED-A0627184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F9852-BB32-4FAC-8278-FB2D6987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932B3-3B26-4E9C-8E21-E882113E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561B6-CEAB-4EE8-B477-09FF8F4E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0A8C0-1506-4F89-B994-37C4918B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839B3-87AD-4539-BF73-54195D3A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CD748-8F34-4713-9D48-58982EE6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96AC7-A7C7-4769-AF67-55EE890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7C5D-FBD9-4660-BCAE-857AE198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6A395-DB9F-4C38-BEF3-F25ACEF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CA82E-7508-4FFB-A2A4-4FA0AE11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38C88-95C9-4B20-821B-6B3CBF7F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1985E-5EBA-4E01-AB47-BFDBED04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58E7C-2DEB-4744-92CB-C525E938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133D-38FB-4CD3-91CF-3D1FE8B7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4498-2F17-49A0-9778-959713CA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B7FD-658D-4215-93F4-4F1D463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26624-A465-413B-A8FA-24D03EDC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63C6-969E-4E2A-8C2B-84FED44F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08D-0826-4C7F-B683-6CBC0737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14F7-D234-4745-A7AF-63B67128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1DDB-9A4C-4375-A7CF-EDEF5742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FC7D-120D-4DCE-AC9A-133A3722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B29E-6E64-4BEC-82CA-7EEC1C80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D3CF-4213-48C6-BD1A-596395D9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8A7E-EAEC-4A69-9F72-728552E2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E040-B480-45BD-952A-181E78AC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FA415-6BCF-484A-9433-28FAE52D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89C7A-C967-4472-93EB-081B1F0F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E4DF8-7398-426B-B7D4-190E41E1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ECA-B309-44F9-B3CA-B07A97AD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B0900-E288-4348-842A-7D8BAE01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9E072-2B3D-43B4-9B5E-7E421E80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25163-D3F8-4840-A602-2E6DB62A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FE0CF-0BA1-49CF-9F52-A90157DC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F95AE-3AD5-4734-A688-E5781C7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40899-D164-4990-A1D8-F9D8643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043B5-9DC6-463C-AC0A-0978892E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6AD63-9A09-4E1C-BAFA-E603F4E6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19952-0D27-4877-BB01-BB25092A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0B1-7685-42B8-9013-5B1E5B08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597-D0D2-4E60-9BB4-5A2B9FA0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4F5-9D1B-4527-99E9-0482DFA1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71A-7E6D-4575-BBBE-1EED5B7A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AB7-FE11-4C98-9625-02F3A14D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CC1F-72B8-4C50-A847-082978C06061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A600-20D5-40AA-9253-35F7701901F0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DF66-AE3D-45C7-A485-656A29929232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EBD7-3F3A-464D-B264-2D76161035BC}" type="slidenum">
              <a:rPr b="0" lang="ru-RU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181400" y="1962000"/>
            <a:ext cx="4969080" cy="302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214200" y="928800"/>
            <a:ext cx="4265640" cy="5468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14200" y="1356840"/>
            <a:ext cx="85010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В 1833 г. 15-летний Иван Тургенев (такой возраст студентов, при тогдашних невысоких требованиях, был явлением обычным) </a:t>
            </a:r>
            <a:r>
              <a:rPr b="0" lang="ru-RU" sz="2800" spc="-1" strike="noStrike" u="sng">
                <a:solidFill>
                  <a:srgbClr val="f2f2f2"/>
                </a:solidFill>
                <a:uFillTx/>
                <a:latin typeface="Comic Sans MS"/>
              </a:rPr>
              <a:t>поступил на словесный факультет московского университета. </a:t>
            </a: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Год спустя, из-за поступившего в гвардейскую артиллерию старшего брата, семья переехала в Санкт-Петербург, и Иван Тургенев тогда же перешёл в </a:t>
            </a:r>
            <a:r>
              <a:rPr b="0" lang="ru-RU" sz="2800" spc="-1" strike="noStrike" u="sng">
                <a:solidFill>
                  <a:srgbClr val="f2f2f2"/>
                </a:solidFill>
                <a:uFillTx/>
                <a:latin typeface="Comic Sans MS"/>
              </a:rPr>
              <a:t>Петербургский университет</a:t>
            </a: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, который </a:t>
            </a:r>
            <a:r>
              <a:rPr b="0" lang="ru-RU" sz="2800" spc="-1" strike="noStrike" u="sng">
                <a:solidFill>
                  <a:srgbClr val="f2f2f2"/>
                </a:solidFill>
                <a:uFillTx/>
                <a:latin typeface="Comic Sans MS"/>
              </a:rPr>
              <a:t>в 1837 </a:t>
            </a:r>
            <a:r>
              <a:rPr b="0" lang="ru-RU" sz="2800" spc="-1" strike="noStrike">
                <a:solidFill>
                  <a:srgbClr val="f2f2f2"/>
                </a:solidFill>
                <a:latin typeface="Comic Sans MS"/>
              </a:rPr>
              <a:t>году успешно закончил со степенью кандидат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3011400" y="426960"/>
            <a:ext cx="2712960" cy="1365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3409920" cy="4071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4765680" y="1566720"/>
            <a:ext cx="3535200" cy="45770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85480" y="856800"/>
            <a:ext cx="5972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 юного Тургенева обратил внимани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профессор русской словесности П. А. Плетнев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 одобрил его первые поэтические опыт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тудентом 3-го курса он представил на суд Плетнёва написанную пятистопным ямбом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драму «Стениo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скоре отдал Плетнёву ряд стихотворений, из которых два Плетнёв 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1838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году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напечатал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своём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«Современнике»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929200" y="1785960"/>
            <a:ext cx="2697120" cy="3595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мае 1838 года Тургенев отправился в Берлинский  университет, желая получи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пециальное философское образование.  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мецкая классическая философия окрыляла русского человека 30-х годов, эпохи безвременья, эпохи николаевской реакции, осложненной господством в стране крепостниче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Прямоугольник 3" descr=""/>
          <p:cNvPicPr/>
          <p:nvPr/>
        </p:nvPicPr>
        <p:blipFill>
          <a:blip r:embed="rId1"/>
          <a:stretch/>
        </p:blipFill>
        <p:spPr>
          <a:xfrm>
            <a:off x="719280" y="2560680"/>
            <a:ext cx="7839000" cy="1157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Лебедев Ю. В. «Иван Сергеевич Тургенев» (Кн. для учащихся ст. классов средней школы. Москва.: Просвещение, 1989.-206 с.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ikipedia.r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www.spasskoye-lutovinovo.r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-360" y="1500120"/>
            <a:ext cx="9001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ван Сергеевич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Тургенев родился 28 октября 1818 года.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етские годы он провел в богатой материнской усадьбе Спасское-Лутовиново Мценского уезд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Орловской губернии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 По матери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Варваре Петровн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- Тургенев принадлежал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к старинному дворянскому роду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утовиновых, которые жили в Орловской губернии . Лутовиновы жили широко и размашисто, ни в чем себе не отказывая, ничем не ограничивая властолюбивых и безудержных своих натур. Эти черты лутовиновского характера унаследовала и мать писателя. 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2444760" y="781200"/>
            <a:ext cx="3889440" cy="803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3463920" cy="4357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4929120" y="1785960"/>
            <a:ext cx="3729240" cy="4603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2" descr=""/>
          <p:cNvPicPr/>
          <p:nvPr/>
        </p:nvPicPr>
        <p:blipFill>
          <a:blip r:embed="rId1"/>
          <a:stretch/>
        </p:blipFill>
        <p:spPr>
          <a:xfrm>
            <a:off x="-6480" y="938160"/>
            <a:ext cx="5658120" cy="1427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5214960" y="285840"/>
            <a:ext cx="3343320" cy="3360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4357800" y="3786120"/>
            <a:ext cx="3921120" cy="252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214200" y="2643120"/>
            <a:ext cx="4059360" cy="3071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0" y="11430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Отец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, Сергей Николаевич,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принадлежал к 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славному в российских летописях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роду Тургеневых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, выраставшему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из татарского корня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. В 1440 году из Золотой Орды к великому князю Василию Васильевичу выехал татарский мурза Лев Турген, принял русское подданство, а при крещении в христианскую веру и русское имя Иван.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От Ивана Тургенева и пошла на Руси дворянская фамилия Тургеневых.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Отец Тургенева,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Сергей Николаевич, участвовал в Бородинском сражении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, где был ранен и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mic Sans MS"/>
              </a:rPr>
              <a:t>за храбрость награжден Георгиевским крестом</a:t>
            </a: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. Воспоминаниями о русской славе 1812 года делился с маленьким Тургеневым и брат отца, Николай Николаевич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85880" y="857160"/>
            <a:ext cx="3833640" cy="528804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4893120" y="2857680"/>
            <a:ext cx="415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тец Тургенев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ергей Никола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4200" y="164304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Благодаря родительским заботам, Тургене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получил блестящее образование.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Он с детских лет читал 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свободно говорил на трех европейских языках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- немецком, французском и английском - и приобщался к духовным сокровищам спасской библиотек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юбил посещать театральные представления. У Тургенева остались воспоминания о том, как на Спасской сцене В. А. Жуковский исполнял роль волшебника.  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42920" y="1523880"/>
            <a:ext cx="87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Спасском саду мальчик познакомился со знатоками и ценителями птичьего пения, людьми с доброй и вольной душой. Отсюда вынес он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трастную любовь к среднерусской природе.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ктер и поэт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еонтий Серебряков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тал для мальчика настоящим учителем родного языка и литературы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4262400" cy="5745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160960" y="1143000"/>
            <a:ext cx="347328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1:03:30Z</dcterms:created>
  <dc:creator>Алёна Трофименко</dc:creator>
  <dc:description/>
  <dc:language>en-US</dc:language>
  <cp:lastModifiedBy>шеф</cp:lastModifiedBy>
  <dcterms:modified xsi:type="dcterms:W3CDTF">2010-12-06T15:12:23Z</dcterms:modified>
  <cp:revision>21</cp:revision>
  <dc:subject/>
  <dc:title>Слайд 1</dc:title>
</cp:coreProperties>
</file>