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531-D246-4A6A-967C-1C462621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68D-25AB-4BA6-BA32-D37A957B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4A7-E662-4938-93BB-DC7484C2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B76-5F16-4BE5-9E62-42155C73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2EA2D-EF34-4512-997E-5093D779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AB891-3CF2-4F79-8AAA-AEEBDD44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D02B7-4110-4693-8AF0-56630D8B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642E3-728E-473F-85A3-7A761824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6B16C-7817-4DDB-BB4E-21D6439E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F1046-D853-4585-9C13-54262FBA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CDA9A-CDC0-43E4-88E1-3C41AD2B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F77-41A3-4580-8D36-C9BA40FD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65B92-0AF9-447C-B63D-2A89AB9C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D32BA-0D3C-4045-88BA-A627476E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340DA-87FD-4891-ADFC-371AD32A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D844F-52BC-41C0-947D-2D8A667D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1249C-AA3B-46F8-99E8-AD34B53C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11D4B-31B9-4A58-A271-6D2F980A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8EC1-613A-402A-80E8-D29627D5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EFBCE-53A4-4DCE-B55A-776E9F3F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FE9E6-8596-4E2D-956C-95119C98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95063-C93C-4387-9121-34B6C486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8D9-57F5-4695-A98C-56FD5742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6C2B5-B4CB-4371-8F71-90445653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33F1-8E1C-4827-9DFA-F32C38C4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D7EB-3506-460C-8FB5-F4C45632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61D7-FD78-45C6-A786-C175DC09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8B7DC-79F5-4040-92AE-393AB36E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11564-52B3-4AE8-8DF7-558B56CD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D4F6D-1B6D-4978-98DE-D104BAF8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8E3440-3211-4C39-AD9E-A79899B1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7191BE-604D-4EC3-9EB8-9E43216F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780C1C-798E-4169-BE68-B91697A6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43B-EB4D-45D2-A817-385DC1F9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34BDAF-E9C2-4BA4-97F6-A23F40AF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201797-4FD0-4A52-990D-646FAE1D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528270-1E9F-442E-838A-D97245D8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C5F9B5-837E-4346-91B9-E09A7B2B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045818-EF4B-4053-BE7A-2717C4A3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796A26-8A7D-4D54-AB2C-4FF51284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6EDF14-2331-46EB-9A45-CB781203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600D28-7A9D-4D6D-9B68-9C69E94F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B1485E-7BD4-47B0-B9C4-F49F6499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829-B62C-4E3A-BCC2-D6DF15B3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DAF-B845-4C5D-8268-0BC0A4E3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9D1-DCDC-419A-AFB4-70E5CA78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563-5AAF-4F9B-86AD-9FC57F15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F77-3C69-4D05-BD9C-7D51ED91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6D7B-1845-4CE6-94EF-DD226E65C1D5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D789-FDF1-4975-94AB-7809A9C83224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AD89-CB61-47BA-95BE-BBE05E542256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3DA6-7A31-4569-BEBF-E516D009CF0A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4181400" y="1962000"/>
            <a:ext cx="4969080" cy="3024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214200" y="928800"/>
            <a:ext cx="4265640" cy="5468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14200" y="1356840"/>
            <a:ext cx="850104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f2f2f2"/>
                </a:solidFill>
                <a:latin typeface="Comic Sans MS"/>
              </a:rPr>
              <a:t>В 1833 г. 15-летний Иван Тургенев (такой возраст студентов, при тогдашних невысоких требованиях, был явлением обычным) </a:t>
            </a:r>
            <a:r>
              <a:rPr b="0" lang="ru-RU" sz="2800" spc="-1" strike="noStrike" u="sng">
                <a:solidFill>
                  <a:srgbClr val="f2f2f2"/>
                </a:solidFill>
                <a:uFillTx/>
                <a:latin typeface="Comic Sans MS"/>
              </a:rPr>
              <a:t>поступил на словесный факультет московского университета. </a:t>
            </a:r>
            <a:r>
              <a:rPr b="0" lang="ru-RU" sz="2800" spc="-1" strike="noStrike">
                <a:solidFill>
                  <a:srgbClr val="f2f2f2"/>
                </a:solidFill>
                <a:latin typeface="Comic Sans MS"/>
              </a:rPr>
              <a:t>Год спустя, из-за поступившего в гвардейскую артиллерию старшего брата, семья переехала в Санкт-Петербург, и Иван Тургенев тогда же перешёл в </a:t>
            </a:r>
            <a:r>
              <a:rPr b="0" lang="ru-RU" sz="2800" spc="-1" strike="noStrike" u="sng">
                <a:solidFill>
                  <a:srgbClr val="f2f2f2"/>
                </a:solidFill>
                <a:uFillTx/>
                <a:latin typeface="Comic Sans MS"/>
              </a:rPr>
              <a:t>Петербургский университет</a:t>
            </a:r>
            <a:r>
              <a:rPr b="0" lang="ru-RU" sz="2800" spc="-1" strike="noStrike">
                <a:solidFill>
                  <a:srgbClr val="f2f2f2"/>
                </a:solidFill>
                <a:latin typeface="Comic Sans MS"/>
              </a:rPr>
              <a:t>, который </a:t>
            </a:r>
            <a:r>
              <a:rPr b="0" lang="ru-RU" sz="2800" spc="-1" strike="noStrike" u="sng">
                <a:solidFill>
                  <a:srgbClr val="f2f2f2"/>
                </a:solidFill>
                <a:uFillTx/>
                <a:latin typeface="Comic Sans MS"/>
              </a:rPr>
              <a:t>в 1837 </a:t>
            </a:r>
            <a:r>
              <a:rPr b="0" lang="ru-RU" sz="2800" spc="-1" strike="noStrike">
                <a:solidFill>
                  <a:srgbClr val="f2f2f2"/>
                </a:solidFill>
                <a:latin typeface="Comic Sans MS"/>
              </a:rPr>
              <a:t>году успешно закончил со степенью кандидат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Заголовок 2" descr=""/>
          <p:cNvPicPr/>
          <p:nvPr/>
        </p:nvPicPr>
        <p:blipFill>
          <a:blip r:embed="rId1"/>
          <a:stretch/>
        </p:blipFill>
        <p:spPr>
          <a:xfrm>
            <a:off x="3011400" y="426960"/>
            <a:ext cx="2712960" cy="1365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714240" y="785880"/>
            <a:ext cx="3409920" cy="4071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4765680" y="1566720"/>
            <a:ext cx="3535200" cy="45770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85480" y="856800"/>
            <a:ext cx="5972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а юного Тургенева обратил внимание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профессор русской словесности П. А. Плетнев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и одобрил его первые поэтические опыт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тудентом 3-го курса он представил на суд Плетнёва написанную пятистопным ямбом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драму «Стениo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скоре отдал Плетнёву ряд стихотворений, из которых два Плетнёв в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1838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году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напечатал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своём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«Современнике»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5929200" y="1785960"/>
            <a:ext cx="2697120" cy="35956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мае 1838 года Тургенев отправился в Берлинский  университет, желая получить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пециальное философское образование.  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емецкая классическая философия окрыляла русского человека 30-х годов, эпохи безвременья, эпохи николаевской реакции, осложненной господством в стране крепостничеств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3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Прямоугольник 3" descr=""/>
          <p:cNvPicPr/>
          <p:nvPr/>
        </p:nvPicPr>
        <p:blipFill>
          <a:blip r:embed="rId1"/>
          <a:stretch/>
        </p:blipFill>
        <p:spPr>
          <a:xfrm>
            <a:off x="719280" y="2560680"/>
            <a:ext cx="7839000" cy="1157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Лебедев Ю. В. «Иван Сергеевич Тургенев» (Кн. для учащихся ст. классов средней школы. Москва.: Просвещение, 1989.-206 с.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Wikipedia.r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www.spasskoye-lutovinovo.r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-360" y="1500120"/>
            <a:ext cx="9001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ван Сергеевич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Тургенев родился 28 октября 1818 года.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Детские годы он провел в богатой материнской усадьбе Спасское-Лутовиново Мценского уезда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Орловской губернии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 По матери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Варваре Петровне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- Тургенев принадлежал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к старинному дворянскому роду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утовиновых, которые жили в Орловской губернии . Лутовиновы жили широко и размашисто, ни в чем себе не отказывая, ничем не ограничивая властолюбивых и безудержных своих натур. Эти черты лутовиновского характера унаследовала и мать писателя.  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2" descr=""/>
          <p:cNvPicPr/>
          <p:nvPr/>
        </p:nvPicPr>
        <p:blipFill>
          <a:blip r:embed="rId1"/>
          <a:stretch/>
        </p:blipFill>
        <p:spPr>
          <a:xfrm>
            <a:off x="2444760" y="781200"/>
            <a:ext cx="3889440" cy="803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714240" y="571680"/>
            <a:ext cx="3463920" cy="4357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4929120" y="1785960"/>
            <a:ext cx="3729240" cy="46036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2" descr=""/>
          <p:cNvPicPr/>
          <p:nvPr/>
        </p:nvPicPr>
        <p:blipFill>
          <a:blip r:embed="rId1"/>
          <a:stretch/>
        </p:blipFill>
        <p:spPr>
          <a:xfrm>
            <a:off x="-6480" y="938160"/>
            <a:ext cx="5658120" cy="1427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5214960" y="285840"/>
            <a:ext cx="3343320" cy="3360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4357800" y="3786120"/>
            <a:ext cx="3921120" cy="252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214200" y="2643120"/>
            <a:ext cx="4059360" cy="3071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0" y="11430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mic Sans MS"/>
              </a:rPr>
              <a:t>Отец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, Сергей Николаевич,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mic Sans MS"/>
              </a:rPr>
              <a:t>принадлежал к 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славному в российских летописях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mic Sans MS"/>
              </a:rPr>
              <a:t>роду Тургеневых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, выраставшему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mic Sans MS"/>
              </a:rPr>
              <a:t>из татарского корня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. В 1440 году из Золотой Орды к великому князю Василию Васильевичу выехал татарский мурза Лев Турген, принял русское подданство, а при крещении в христианскую веру и русское имя Иван.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mic Sans MS"/>
              </a:rPr>
              <a:t>От Ивана Тургенева и пошла на Руси дворянская фамилия Тургеневых.</a:t>
            </a: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Отец Тургенева,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mic Sans MS"/>
              </a:rPr>
              <a:t>Сергей Николаевич, участвовал в Бородинском сражении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, где был ранен и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mic Sans MS"/>
              </a:rPr>
              <a:t>за храбрость награжден Георгиевским крестом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. Воспоминаниями о русской славе 1812 года делился с маленьким Тургеневым и брат отца, Николай Николаевич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3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785880" y="857160"/>
            <a:ext cx="3833640" cy="528804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4893120" y="2857680"/>
            <a:ext cx="415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тец Тургенев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ергей Никола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14200" y="164304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Благодаря родительским заботам, Тургенев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получил блестящее образование.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Он с детских лет читал 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свободно говорил на трех европейских языках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- немецком, французском и английском - и приобщался к духовным сокровищам спасской библиотек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юбил посещать театральные представления. У Тургенева остались воспоминания о том, как на Спасской сцене В. А. Жуковский исполнял роль волшебника.  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3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42920" y="1523880"/>
            <a:ext cx="8786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Спасском саду мальчик познакомился со знатоками и ценителями птичьего пения, людьми с доброй и вольной душой. Отсюда вынес он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трастную любовь к среднерусской природе.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ктер и поэт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Леонтий Серебряков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тал для мальчика настоящим учителем родного языка и литературы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3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4262400" cy="5745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5160960" y="1143000"/>
            <a:ext cx="3473280" cy="4572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1:03:30Z</dcterms:created>
  <dc:creator>Алёна Трофименко</dc:creator>
  <dc:description/>
  <dc:language>en-US</dc:language>
  <cp:lastModifiedBy>шеф</cp:lastModifiedBy>
  <dcterms:modified xsi:type="dcterms:W3CDTF">2010-12-06T15:12:23Z</dcterms:modified>
  <cp:revision>21</cp:revision>
  <dc:subject/>
  <dc:title>Слайд 1</dc:title>
</cp:coreProperties>
</file>