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gif" ContentType="image/gif"/>
  <Override PartName="/ppt/media/image7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10.png" ContentType="image/png"/>
  <Override PartName="/ppt/media/image4.gif" ContentType="image/gif"/>
  <Override PartName="/ppt/media/image1.jpeg" ContentType="image/jpeg"/>
  <Override PartName="/ppt/media/image22.gif" ContentType="image/gif"/>
  <Override PartName="/ppt/media/image17.jpeg" ContentType="image/jpeg"/>
  <Override PartName="/ppt/media/image21.gif" ContentType="image/gif"/>
  <Override PartName="/ppt/media/image18.png" ContentType="image/png"/>
  <Override PartName="/ppt/media/image19.png" ContentType="image/png"/>
  <Override PartName="/ppt/media/image16.gif" ContentType="image/gif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2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9D58-124E-45D5-B654-E13D5140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0ED1-12FC-43A1-9905-0A72798F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0ACA-6D36-4096-B2C0-56A835A0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EA5A-8C12-4D15-9380-FA01A496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6FDC-3A88-4021-92FF-A2346415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57D6-12B4-4811-B9DD-FB6C1AD3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4665-EB2B-4818-A791-2B1D887E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827D-98F6-4356-AA9E-13AA0ED3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E6B1-A40A-42C9-9399-3E272C25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D362-B7E3-40C7-BB09-0F8CEF78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7336-E6C9-4E0F-B0F3-3C8C969F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DFF4-B2FA-40A5-BA22-90737DCE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2B3E-331F-45EA-9D42-722B4A66604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18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Презентация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книг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1244129271_v-strane-nevyuchennyx-urokov"/>
          <p:cNvPicPr/>
          <p:nvPr/>
        </p:nvPicPr>
        <p:blipFill>
          <a:blip r:embed="rId1"/>
          <a:stretch/>
        </p:blipFill>
        <p:spPr>
          <a:xfrm>
            <a:off x="539640" y="1628640"/>
            <a:ext cx="3397320" cy="4869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003640" y="5013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авил Витковский Дании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 «Б» класс,    Гимназия №3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ководитель: Шкробор М.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« В страну невыученных уроков» я отправился вместе с Витей и Кузей.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  решали задачки, вспоминали правила правописания, преодолевали трудности - это было очень смешное   и познавательное путешеств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4" descr="i?id=451614006-47-72"/>
          <p:cNvPicPr/>
          <p:nvPr/>
        </p:nvPicPr>
        <p:blipFill>
          <a:blip r:embed="rId1"/>
          <a:stretch/>
        </p:blipFill>
        <p:spPr>
          <a:xfrm>
            <a:off x="3313080" y="3141720"/>
            <a:ext cx="2594160" cy="340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j0288870"/>
          <p:cNvPicPr/>
          <p:nvPr/>
        </p:nvPicPr>
        <p:blipFill>
          <a:blip r:embed="rId2"/>
          <a:stretch/>
        </p:blipFill>
        <p:spPr>
          <a:xfrm>
            <a:off x="4067280" y="5178600"/>
            <a:ext cx="6620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ыло над чем подумать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ример, как правильно  писать клюЧ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 или клюЧ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,замо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и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ли замо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е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? С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ка или С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ка? Сонце или СоЛнц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равиль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тветы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замочек, ключик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обака, солнц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Кадр из мультфильма В СТРАНЕ НЕВЫУЧЕННЫХ УРОКОВ №6"/>
          <p:cNvPicPr/>
          <p:nvPr/>
        </p:nvPicPr>
        <p:blipFill>
          <a:blip r:embed="rId1"/>
          <a:stretch/>
        </p:blipFill>
        <p:spPr>
          <a:xfrm>
            <a:off x="5292720" y="3933720"/>
            <a:ext cx="2762280" cy="2202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р19"/>
          <p:cNvPicPr/>
          <p:nvPr/>
        </p:nvPicPr>
        <p:blipFill>
          <a:blip r:embed="rId2"/>
          <a:stretch/>
        </p:blipFill>
        <p:spPr>
          <a:xfrm>
            <a:off x="7885080" y="549360"/>
            <a:ext cx="97164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 сказочной стране мы встретились с важными знаками 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препинания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" name="Picture 4" descr="56bb007a41c5"/>
          <p:cNvPicPr/>
          <p:nvPr/>
        </p:nvPicPr>
        <p:blipFill>
          <a:blip r:embed="rId1"/>
          <a:stretch/>
        </p:blipFill>
        <p:spPr>
          <a:xfrm>
            <a:off x="1916280" y="1981080"/>
            <a:ext cx="5310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риговор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о делу невежды Виктора Перестукина: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Казнить, нельзя помиловать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ой приговор вынесла Вите Запятая, которая злилась на него за то, что он забывал проставлять ее в предложен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 узнали, что запятая очень важна в предложени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бы Витя   поставил неправильно запятую в своем приговоре (казнить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льзя помиловать.) он мог бы погибнуть в волшебной стран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" descr="i?id=210301807-19-72"/>
          <p:cNvPicPr/>
          <p:nvPr/>
        </p:nvPicPr>
        <p:blipFill>
          <a:blip r:embed="rId1"/>
          <a:stretch/>
        </p:blipFill>
        <p:spPr>
          <a:xfrm>
            <a:off x="7093080" y="4581360"/>
            <a:ext cx="1716120" cy="2276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28"/>
          <p:cNvPicPr/>
          <p:nvPr/>
        </p:nvPicPr>
        <p:blipFill>
          <a:blip r:embed="rId2"/>
          <a:stretch/>
        </p:blipFill>
        <p:spPr>
          <a:xfrm>
            <a:off x="7885080" y="3645000"/>
            <a:ext cx="8748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Мы познакомились с глаголом повелительного наклонения, который всем приказывает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4" descr="000565e"/>
          <p:cNvPicPr/>
          <p:nvPr/>
        </p:nvPicPr>
        <p:blipFill>
          <a:blip r:embed="rId1"/>
          <a:stretch/>
        </p:blipFill>
        <p:spPr>
          <a:xfrm>
            <a:off x="1692360" y="1700280"/>
            <a:ext cx="568476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2848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Витя Перестукин вернулся из путешествия по Стране невыученных уроков он понял, что ему мешает хорошо учиться один человек. И этот человек он с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4" descr="nabor"/>
          <p:cNvPicPr/>
          <p:nvPr/>
        </p:nvPicPr>
        <p:blipFill>
          <a:blip r:embed="rId1"/>
          <a:stretch/>
        </p:blipFill>
        <p:spPr>
          <a:xfrm>
            <a:off x="1258920" y="4295880"/>
            <a:ext cx="2060640" cy="223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Кадр из мультфильма В СТРАНЕ НЕВЫУЧЕННЫХ УРОКОВ №6"/>
          <p:cNvPicPr/>
          <p:nvPr/>
        </p:nvPicPr>
        <p:blipFill>
          <a:blip r:embed="rId2"/>
          <a:stretch/>
        </p:blipFill>
        <p:spPr>
          <a:xfrm>
            <a:off x="4716360" y="3751200"/>
            <a:ext cx="34830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Я согласен с Витей Перестукиным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ы хорошо учиться надо  много трудиться, не лениться и уметь дружи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4067280" y="2781360"/>
            <a:ext cx="27702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Это было очень интересное и   веселое путешествие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Picture 4" descr="image357"/>
          <p:cNvPicPr/>
          <p:nvPr/>
        </p:nvPicPr>
        <p:blipFill>
          <a:blip r:embed="rId1"/>
          <a:stretch/>
        </p:blipFill>
        <p:spPr>
          <a:xfrm>
            <a:off x="4181400" y="2060640"/>
            <a:ext cx="4962600" cy="343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nabor"/>
          <p:cNvPicPr/>
          <p:nvPr/>
        </p:nvPicPr>
        <p:blipFill>
          <a:blip r:embed="rId2"/>
          <a:stretch/>
        </p:blipFill>
        <p:spPr>
          <a:xfrm>
            <a:off x="0" y="0"/>
            <a:ext cx="1130400" cy="1224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684360" y="2060640"/>
            <a:ext cx="381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дешь по стране ты безлюд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сам себе песню поеш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рога не кажется трудно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гда вместе с другом  идеш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то, что он друг, ты не знаеш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с ним ты не хочешь дружи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только его потеряеш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грустно становится жи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7" descr="37r3"/>
          <p:cNvPicPr/>
          <p:nvPr/>
        </p:nvPicPr>
        <p:blipFill>
          <a:blip r:embed="rId3"/>
          <a:stretch/>
        </p:blipFill>
        <p:spPr>
          <a:xfrm>
            <a:off x="7308720" y="1052640"/>
            <a:ext cx="158292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4360" y="309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рочитай, не пожалеешь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123"/>
          <p:cNvPicPr/>
          <p:nvPr/>
        </p:nvPicPr>
        <p:blipFill>
          <a:blip r:embed="rId1"/>
          <a:stretch/>
        </p:blipFill>
        <p:spPr>
          <a:xfrm>
            <a:off x="6732720" y="4465800"/>
            <a:ext cx="1871640" cy="210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1244129271_v-strane-nevyuchennyx-urokov"/>
          <p:cNvPicPr/>
          <p:nvPr/>
        </p:nvPicPr>
        <p:blipFill>
          <a:blip r:embed="rId2"/>
          <a:stretch/>
        </p:blipFill>
        <p:spPr>
          <a:xfrm>
            <a:off x="2771640" y="1773360"/>
            <a:ext cx="27147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ак на мою книжную полку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опала  эта книг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840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нигу  Лии Гераскиной в «Стране невыученных уроков» мне  подарили  в классе на день рождения .  Я  прочитал название книги и  удивился, что это за такая страна в которой не учат уроки? Вот бы там побывать!  Затем дома  прочитал несколько страничек,  увлекся и решил дочитать до кон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19" descr="D:\Мои документы\АННА\презентации\Коллекция картинок (Microsoft)\j0396682.wmf"/>
          <p:cNvPicPr/>
          <p:nvPr/>
        </p:nvPicPr>
        <p:blipFill>
          <a:blip r:embed="rId1"/>
          <a:stretch/>
        </p:blipFill>
        <p:spPr>
          <a:xfrm>
            <a:off x="3564000" y="5732640"/>
            <a:ext cx="182556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очему мне понравилась эта сказочная повесть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тому что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на добрая и очень поучительная , в  ней   рассказывается о дружбе, приключениях и веселых ситуациях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4" descr="64"/>
          <p:cNvPicPr/>
          <p:nvPr/>
        </p:nvPicPr>
        <p:blipFill>
          <a:blip r:embed="rId1"/>
          <a:stretch/>
        </p:blipFill>
        <p:spPr>
          <a:xfrm>
            <a:off x="5148360" y="4941720"/>
            <a:ext cx="30956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ниге рассказывается о мальчике, которого звали Виктор Перестукин. Он не любил учить уроки, получал много двоек. Больше всего на свете ему хотелось бегать и играть. Однажды учебники разозлились на двоечника Виктора и отправили его в Страну невыученных уроков исправлять свои двойки. Витя взял с собой в сказочное путешествие своего друга кота Куз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35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Знакомьтесь: главные герои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ученик 4 класса Витя  Перестукин  и  его друг кот Кузя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9" descr="i?id=354646805-70-72"/>
          <p:cNvPicPr/>
          <p:nvPr/>
        </p:nvPicPr>
        <p:blipFill>
          <a:blip r:embed="rId1"/>
          <a:stretch/>
        </p:blipFill>
        <p:spPr>
          <a:xfrm>
            <a:off x="1908000" y="1700280"/>
            <a:ext cx="489132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Пять двоек!- крикнули хором учебники и отправили Витю Перестукина в «Страну невыученных уроков»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4" descr="v"/>
          <p:cNvPicPr/>
          <p:nvPr/>
        </p:nvPicPr>
        <p:blipFill>
          <a:blip r:embed="rId1"/>
          <a:stretch/>
        </p:blipFill>
        <p:spPr>
          <a:xfrm>
            <a:off x="468360" y="1484280"/>
            <a:ext cx="6912000" cy="518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AN349"/>
          <p:cNvPicPr/>
          <p:nvPr/>
        </p:nvPicPr>
        <p:blipFill>
          <a:blip r:embed="rId2"/>
          <a:stretch/>
        </p:blipFill>
        <p:spPr>
          <a:xfrm>
            <a:off x="6516720" y="4292640"/>
            <a:ext cx="177804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де живут ошибки Вит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ы он среди событи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ных страха и тревог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 себе помочь бы смо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19" descr="D:\Мои документы\АННА\презентации\Коллекция картинок (Microsoft)\j0396682.wmf"/>
          <p:cNvPicPr/>
          <p:nvPr/>
        </p:nvPicPr>
        <p:blipFill>
          <a:blip r:embed="rId1"/>
          <a:stretch/>
        </p:blipFill>
        <p:spPr>
          <a:xfrm>
            <a:off x="912960" y="549360"/>
            <a:ext cx="1825560" cy="97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i?id=451614006-47-72"/>
          <p:cNvPicPr/>
          <p:nvPr/>
        </p:nvPicPr>
        <p:blipFill>
          <a:blip r:embed="rId2"/>
          <a:stretch/>
        </p:blipFill>
        <p:spPr>
          <a:xfrm>
            <a:off x="5724360" y="1916280"/>
            <a:ext cx="29228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Что ожидает Витю в волшебной стране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"В стране невыученных уроков" лентяй  Витя Перестукин встречает все свои двойки, невыполненные задания и ошибки, например,  корову, которая питается животными, летающего кенгуру, хлебное дерево. Чтобы выбраться из волшебной страны, Вите придется решить все задачи. А поможет ему в этом его верный друг, кот Куз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школа-2"/>
          <p:cNvPicPr/>
          <p:nvPr/>
        </p:nvPicPr>
        <p:blipFill>
          <a:blip r:embed="rId1"/>
          <a:stretch/>
        </p:blipFill>
        <p:spPr>
          <a:xfrm>
            <a:off x="7350120" y="5300640"/>
            <a:ext cx="14112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Хлебное дерево и плотоядная коров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" name="Picture 4" descr="Безымянный"/>
          <p:cNvPicPr/>
          <p:nvPr/>
        </p:nvPicPr>
        <p:blipFill>
          <a:blip r:embed="rId1"/>
          <a:stretch/>
        </p:blipFill>
        <p:spPr>
          <a:xfrm>
            <a:off x="1116000" y="1700280"/>
            <a:ext cx="614844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53:47Z</dcterms:created>
  <dc:creator>1</dc:creator>
  <dc:description/>
  <dc:language>en-US</dc:language>
  <cp:lastModifiedBy>Margo</cp:lastModifiedBy>
  <dcterms:modified xsi:type="dcterms:W3CDTF">2011-12-01T14:22:05Z</dcterms:modified>
  <cp:revision>8</cp:revision>
  <dc:subject/>
  <dc:title>По страницам книги Л. Гераскиной «В стране невыученных уроков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