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22.gif" ContentType="image/gif"/>
  <Override PartName="/ppt/media/image17.jpeg" ContentType="image/jpeg"/>
  <Override PartName="/ppt/media/image21.gif" ContentType="image/gif"/>
  <Override PartName="/ppt/media/image18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AA8-80B7-490D-A2AD-882849D2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14E-E2B1-4B09-AFAB-8EE1D25E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41C-3AF1-4952-98CC-E6AEFB0E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AF4-5C15-4A0C-A887-19569D7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9F2-8E34-4315-BE71-83BD8083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DC1-1659-4C93-A382-F107D17D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6A1-375D-4167-94BF-791EC694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980-FDB2-4EAF-AB6A-8042C8C8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0BE-945B-4450-AC98-F0943D2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2F0-99B6-497D-B9CD-FC978EC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8E7-1FD5-4909-8717-112C3A6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64D-1B14-4F12-B262-9033BCB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524B-47C8-4318-B0E4-A4FA59F536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8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резентация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книг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1244129271_v-strane-nevyuchennyx-urokov"/>
          <p:cNvPicPr/>
          <p:nvPr/>
        </p:nvPicPr>
        <p:blipFill>
          <a:blip r:embed="rId1"/>
          <a:stretch/>
        </p:blipFill>
        <p:spPr>
          <a:xfrm>
            <a:off x="539640" y="1628640"/>
            <a:ext cx="3397320" cy="4869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003640" y="5013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л Витковский Дани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«Б» класс,    Гимназия №3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Шкробор М.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 В страну невыученных уроков» я отправился вместе с Витей и Кузей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 решали задачки, вспоминали правила правописания, преодолевали трудности - это было очень смешное   и познавательное путешеств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i?id=451614006-47-72"/>
          <p:cNvPicPr/>
          <p:nvPr/>
        </p:nvPicPr>
        <p:blipFill>
          <a:blip r:embed="rId1"/>
          <a:stretch/>
        </p:blipFill>
        <p:spPr>
          <a:xfrm>
            <a:off x="3313080" y="3141720"/>
            <a:ext cx="2594160" cy="34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j0288870"/>
          <p:cNvPicPr/>
          <p:nvPr/>
        </p:nvPicPr>
        <p:blipFill>
          <a:blip r:embed="rId2"/>
          <a:stretch/>
        </p:blipFill>
        <p:spPr>
          <a:xfrm>
            <a:off x="4067280" y="5178600"/>
            <a:ext cx="6620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ыло над чем подумать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, как правильно  писать клюЧ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или клюЧ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,зам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и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замо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ка или 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ка? Сонце или СоЛнц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ави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вет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замочек, ключи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обака, солнц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Кадр из мультфильма В СТРАНЕ НЕВЫУЧЕННЫХ УРОКОВ №6"/>
          <p:cNvPicPr/>
          <p:nvPr/>
        </p:nvPicPr>
        <p:blipFill>
          <a:blip r:embed="rId1"/>
          <a:stretch/>
        </p:blipFill>
        <p:spPr>
          <a:xfrm>
            <a:off x="5292720" y="3933720"/>
            <a:ext cx="2762280" cy="220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р19"/>
          <p:cNvPicPr/>
          <p:nvPr/>
        </p:nvPicPr>
        <p:blipFill>
          <a:blip r:embed="rId2"/>
          <a:stretch/>
        </p:blipFill>
        <p:spPr>
          <a:xfrm>
            <a:off x="7885080" y="549360"/>
            <a:ext cx="9716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сказочной стране мы встретились с важными знаками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епинания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4" descr="56bb007a41c5"/>
          <p:cNvPicPr/>
          <p:nvPr/>
        </p:nvPicPr>
        <p:blipFill>
          <a:blip r:embed="rId1"/>
          <a:stretch/>
        </p:blipFill>
        <p:spPr>
          <a:xfrm>
            <a:off x="1916280" y="1981080"/>
            <a:ext cx="531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иговор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 делу невежды Виктора Перестукина: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азнить, нельзя помиловать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приговор вынесла Вите Запятая, которая злилась на него за то, что он забывал проставлять ее в предложе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узнали, что запятая очень важна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бы Витя   поставил неправильно запятую в своем приговоре (казнить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ьзя помиловать.) он мог бы погибнуть в волшебной стр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i?id=210301807-19-72"/>
          <p:cNvPicPr/>
          <p:nvPr/>
        </p:nvPicPr>
        <p:blipFill>
          <a:blip r:embed="rId1"/>
          <a:stretch/>
        </p:blipFill>
        <p:spPr>
          <a:xfrm>
            <a:off x="7093080" y="4581360"/>
            <a:ext cx="1716120" cy="227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8"/>
          <p:cNvPicPr/>
          <p:nvPr/>
        </p:nvPicPr>
        <p:blipFill>
          <a:blip r:embed="rId2"/>
          <a:stretch/>
        </p:blipFill>
        <p:spPr>
          <a:xfrm>
            <a:off x="7885080" y="3645000"/>
            <a:ext cx="874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Мы познакомились с глаголом повелительного наклонения, который всем приказывает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4" descr="000565e"/>
          <p:cNvPicPr/>
          <p:nvPr/>
        </p:nvPicPr>
        <p:blipFill>
          <a:blip r:embed="rId1"/>
          <a:stretch/>
        </p:blipFill>
        <p:spPr>
          <a:xfrm>
            <a:off x="1692360" y="1700280"/>
            <a:ext cx="5684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2848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Витя Перестукин вернулся из путешествия по Стране невыученных уроков он понял, что ему мешает хорошо учиться один человек. И этот человек он с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nabor"/>
          <p:cNvPicPr/>
          <p:nvPr/>
        </p:nvPicPr>
        <p:blipFill>
          <a:blip r:embed="rId1"/>
          <a:stretch/>
        </p:blipFill>
        <p:spPr>
          <a:xfrm>
            <a:off x="1258920" y="4295880"/>
            <a:ext cx="2060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др из мультфильма В СТРАНЕ НЕВЫУЧЕННЫХ УРОКОВ №6"/>
          <p:cNvPicPr/>
          <p:nvPr/>
        </p:nvPicPr>
        <p:blipFill>
          <a:blip r:embed="rId2"/>
          <a:stretch/>
        </p:blipFill>
        <p:spPr>
          <a:xfrm>
            <a:off x="4716360" y="3751200"/>
            <a:ext cx="34830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Я согласен с Витей Перестукиным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хорошо учиться надо  много трудиться, не лениться и уметь друж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277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Это было очень интересное и   веселое путешествие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image357"/>
          <p:cNvPicPr/>
          <p:nvPr/>
        </p:nvPicPr>
        <p:blipFill>
          <a:blip r:embed="rId1"/>
          <a:stretch/>
        </p:blipFill>
        <p:spPr>
          <a:xfrm>
            <a:off x="4181400" y="2060640"/>
            <a:ext cx="4962600" cy="343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nabor"/>
          <p:cNvPicPr/>
          <p:nvPr/>
        </p:nvPicPr>
        <p:blipFill>
          <a:blip r:embed="rId2"/>
          <a:stretch/>
        </p:blipFill>
        <p:spPr>
          <a:xfrm>
            <a:off x="0" y="0"/>
            <a:ext cx="113040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4360" y="206064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ешь по стране ты безлю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ам себе песню поеш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га не кажется трудн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гда вместе с другом  идеш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о, что он друг, ты не знаеш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 ним ты не хочешь друж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только его потеряеш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грустно становится жи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37r3"/>
          <p:cNvPicPr/>
          <p:nvPr/>
        </p:nvPicPr>
        <p:blipFill>
          <a:blip r:embed="rId3"/>
          <a:stretch/>
        </p:blipFill>
        <p:spPr>
          <a:xfrm>
            <a:off x="7308720" y="1052640"/>
            <a:ext cx="15829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4360" y="309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читай, не пожалееш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23"/>
          <p:cNvPicPr/>
          <p:nvPr/>
        </p:nvPicPr>
        <p:blipFill>
          <a:blip r:embed="rId1"/>
          <a:stretch/>
        </p:blipFill>
        <p:spPr>
          <a:xfrm>
            <a:off x="6732720" y="4465800"/>
            <a:ext cx="1871640" cy="21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244129271_v-strane-nevyuchennyx-urokov"/>
          <p:cNvPicPr/>
          <p:nvPr/>
        </p:nvPicPr>
        <p:blipFill>
          <a:blip r:embed="rId2"/>
          <a:stretch/>
        </p:blipFill>
        <p:spPr>
          <a:xfrm>
            <a:off x="2771640" y="1773360"/>
            <a:ext cx="27147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на мою книжную полку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пала  эта книг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8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у  Лии Гераскиной в «Стране невыученных уроков» мне  подарили  в классе на день рождения .  Я  прочитал название книги и  удивился, что это за такая страна в которой не учат уроки? Вот бы там побывать!  Затем дома  прочитал несколько страничек,  увлекся и решил дочитать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9" descr="D:\Мои документы\АННА\презентации\Коллекция картинок (Microsoft)\j0396682.wmf"/>
          <p:cNvPicPr/>
          <p:nvPr/>
        </p:nvPicPr>
        <p:blipFill>
          <a:blip r:embed="rId1"/>
          <a:stretch/>
        </p:blipFill>
        <p:spPr>
          <a:xfrm>
            <a:off x="3564000" y="5732640"/>
            <a:ext cx="1825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чему мне понравилась эта сказочная повест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ому что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на добрая и очень поучительная , в  ней   рассказывается о дружбе, приключениях и веселых ситуациях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64"/>
          <p:cNvPicPr/>
          <p:nvPr/>
        </p:nvPicPr>
        <p:blipFill>
          <a:blip r:embed="rId1"/>
          <a:stretch/>
        </p:blipFill>
        <p:spPr>
          <a:xfrm>
            <a:off x="5148360" y="4941720"/>
            <a:ext cx="3095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ниге рассказывается о мальчике, которого звали Виктор Перестукин. Он не любил учить уроки, получал много двоек. Больше всего на свете ему хотелось бегать и играть. Однажды учебники разозлились на двоечника Виктора и отправили его в Страну невыученных уроков исправлять свои двойки. Витя взял с собой в сказочное путешествие своего друга кота Куз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5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накомьтесь: главные герои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ченик 4 класса Витя  Перестукин  и  его друг кот Куз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9" descr="i?id=354646805-70-72"/>
          <p:cNvPicPr/>
          <p:nvPr/>
        </p:nvPicPr>
        <p:blipFill>
          <a:blip r:embed="rId1"/>
          <a:stretch/>
        </p:blipFill>
        <p:spPr>
          <a:xfrm>
            <a:off x="1908000" y="1700280"/>
            <a:ext cx="48913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ять двоек!- крикнули хором учебники и отправили Витю Перестукина в «Страну невыученных уроков»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v"/>
          <p:cNvPicPr/>
          <p:nvPr/>
        </p:nvPicPr>
        <p:blipFill>
          <a:blip r:embed="rId1"/>
          <a:stretch/>
        </p:blipFill>
        <p:spPr>
          <a:xfrm>
            <a:off x="468360" y="1484280"/>
            <a:ext cx="6912000" cy="518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N349"/>
          <p:cNvPicPr/>
          <p:nvPr/>
        </p:nvPicPr>
        <p:blipFill>
          <a:blip r:embed="rId2"/>
          <a:stretch/>
        </p:blipFill>
        <p:spPr>
          <a:xfrm>
            <a:off x="6516720" y="4292640"/>
            <a:ext cx="17780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живут ошибки Вит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он среди событ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ых страха и тревог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 себе помочь бы см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9" descr="D:\Мои документы\АННА\презентации\Коллекция картинок (Microsoft)\j0396682.wmf"/>
          <p:cNvPicPr/>
          <p:nvPr/>
        </p:nvPicPr>
        <p:blipFill>
          <a:blip r:embed="rId1"/>
          <a:stretch/>
        </p:blipFill>
        <p:spPr>
          <a:xfrm>
            <a:off x="912960" y="549360"/>
            <a:ext cx="1825560" cy="97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i?id=451614006-47-72"/>
          <p:cNvPicPr/>
          <p:nvPr/>
        </p:nvPicPr>
        <p:blipFill>
          <a:blip r:embed="rId2"/>
          <a:stretch/>
        </p:blipFill>
        <p:spPr>
          <a:xfrm>
            <a:off x="5724360" y="1916280"/>
            <a:ext cx="2922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то ожидает Витю в волшебной стран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В стране невыученных уроков" лентяй  Витя Перестукин встречает все свои двойки, невыполненные задания и ошибки, например,  корову, которая питается животными, летающего кенгуру, хлебное дерево. Чтобы выбраться из волшебной страны, Вите придется решить все задачи. А поможет ему в этом его верный друг, кот Куз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школа-2"/>
          <p:cNvPicPr/>
          <p:nvPr/>
        </p:nvPicPr>
        <p:blipFill>
          <a:blip r:embed="rId1"/>
          <a:stretch/>
        </p:blipFill>
        <p:spPr>
          <a:xfrm>
            <a:off x="7350120" y="5300640"/>
            <a:ext cx="1411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Хлебное дерево и плотоядная коро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1116000" y="1700280"/>
            <a:ext cx="6148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53:47Z</dcterms:created>
  <dc:creator>1</dc:creator>
  <dc:description/>
  <dc:language>en-US</dc:language>
  <cp:lastModifiedBy>Margo</cp:lastModifiedBy>
  <dcterms:modified xsi:type="dcterms:W3CDTF">2011-12-01T14:22:05Z</dcterms:modified>
  <cp:revision>8</cp:revision>
  <dc:subject/>
  <dc:title>По страницам книги Л. Гераскиной «В стране невыученных уро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