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276200" y="1092240"/>
            <a:ext cx="479592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37960" y="5406840"/>
            <a:ext cx="5079960" cy="43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1137960" y="5407200"/>
            <a:ext cx="5081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60436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0880" y="4265280"/>
            <a:ext cx="860436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868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9800" y="1596600"/>
            <a:ext cx="419868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0880" y="4265280"/>
            <a:ext cx="419868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9800" y="4265280"/>
            <a:ext cx="419868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277020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50040" y="1596600"/>
            <a:ext cx="277020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59200" y="1596600"/>
            <a:ext cx="277020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0880" y="4265280"/>
            <a:ext cx="277020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50040" y="4265280"/>
            <a:ext cx="277020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59200" y="4265280"/>
            <a:ext cx="277020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868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9800" y="1596600"/>
            <a:ext cx="419868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0880" y="189000"/>
            <a:ext cx="860436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868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596600"/>
            <a:ext cx="419868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0880" y="4265280"/>
            <a:ext cx="419868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868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596600"/>
            <a:ext cx="419868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9800" y="4265280"/>
            <a:ext cx="419868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868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800" y="1596600"/>
            <a:ext cx="419868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265280"/>
            <a:ext cx="8604360" cy="24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10800000">
            <a:off x="-1800" y="2880"/>
            <a:ext cx="1008036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45240"/>
            <a:ext cx="10080720" cy="91440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108160" y="6788160"/>
            <a:ext cx="2260800" cy="23328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678720"/>
            <a:ext cx="5894280" cy="71748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384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87640">
              <a:lnSpc>
                <a:spcPct val="95000"/>
              </a:lnSpc>
              <a:spcAft>
                <a:spcPts val="1426"/>
              </a:spcAft>
              <a:buSzPct val="130457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3840" indent="-21600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5480" indent="-21420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7480" indent="-21600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7480" indent="-21600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7480" indent="-216000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79640" y="1260360"/>
            <a:ext cx="8099280" cy="485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Down">
              <a:avLst>
                <a:gd name="adj" fmla="val 1481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ffffff"/>
                    </a:gs>
                  </a:gsLst>
                  <a:lin ang="2700000"/>
                </a:gradFill>
                <a:latin typeface="Tahoma"/>
              </a:rPr>
              <a:t>Направления и формы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2700000"/>
              </a:gradFill>
              <a:latin typeface="Tahoma"/>
              <a:ea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ffffff"/>
                    </a:gs>
                  </a:gsLst>
                  <a:lin ang="2700000"/>
                </a:gradFill>
                <a:latin typeface="Tahoma"/>
              </a:rPr>
              <a:t>внеурочной деятельности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2700000"/>
              </a:gradFill>
              <a:latin typeface="Tahoma"/>
              <a:ea typeface="Tahoma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720720"/>
            <a:ext cx="918072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1079640"/>
            <a:ext cx="9720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Внеурочная деятельность школьников </a:t>
            </a:r>
            <a:r>
              <a:rPr b="0" lang="ru-RU" sz="32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– понятие, объединяющее все виды деятельности школьников (кроме учебной), в которых возможно и целесообразно решение задач их воспитания и социализ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23800" y="360360"/>
            <a:ext cx="919656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В Базисном учебном плане общеобразовательных учреждений Российской Федерации выделены основные </a:t>
            </a:r>
            <a:r>
              <a:rPr b="1" lang="ru-RU" sz="28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направления </a:t>
            </a:r>
            <a:r>
              <a:rPr b="0" lang="ru-RU" sz="28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внеурочной деятельно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9280" y="1962000"/>
            <a:ext cx="37796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228600" algn="just">
              <a:lnSpc>
                <a:spcPct val="93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спортивно-оздоровительное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just">
              <a:lnSpc>
                <a:spcPct val="93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художественно-эстетическое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just">
              <a:lnSpc>
                <a:spcPct val="93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научно-познавательное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just">
              <a:lnSpc>
                <a:spcPct val="93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военно-патриотическое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just">
              <a:lnSpc>
                <a:spcPct val="93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общественно полезная деятельность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just">
              <a:lnSpc>
                <a:spcPct val="93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проектная деятельнос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28800" y="1241280"/>
            <a:ext cx="879156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Формы организации </a:t>
            </a:r>
            <a:r>
              <a:rPr b="1" lang="ru-RU" sz="26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внеурочной деятельности отличаются от уроков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·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экскурси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·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кружк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·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секци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·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круглый стол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·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конференци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·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диспуты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·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КВН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·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школьные научные обществ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·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олимпиады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·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соревновани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·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georgia;times new roman"/>
                <a:ea typeface="georgia;times new roman"/>
              </a:rPr>
              <a:t>поисковые и научные исследования и т. д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260360" y="1440000"/>
            <a:ext cx="7199280" cy="41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Down">
              <a:avLst>
                <a:gd name="adj" fmla="val 1481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ffffff"/>
                    </a:gs>
                  </a:gsLst>
                  <a:lin ang="2700000"/>
                </a:gradFill>
                <a:latin typeface="Tahoma"/>
              </a:rPr>
              <a:t>Формы внеурочной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2700000"/>
              </a:gradFill>
              <a:latin typeface="Tahoma"/>
              <a:ea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ffffff"/>
                    </a:gs>
                  </a:gsLst>
                  <a:lin ang="2700000"/>
                </a:gradFill>
                <a:latin typeface="Tahoma"/>
              </a:rPr>
              <a:t>деятельност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2700000"/>
              </a:gradFill>
              <a:latin typeface="Tahoma"/>
              <a:ea typeface="Tahom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ffffff"/>
                    </a:gs>
                  </a:gsLst>
                  <a:lin ang="2700000"/>
                </a:gradFill>
                <a:latin typeface="Tahoma"/>
              </a:rPr>
              <a:t>по направлениям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2700000"/>
              </a:gradFill>
              <a:latin typeface="Tahoma"/>
              <a:ea typeface="Tahoma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20720" y="900000"/>
            <a:ext cx="8459640" cy="5580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0360" y="720720"/>
            <a:ext cx="8999640" cy="144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9640" y="2160720"/>
            <a:ext cx="8280360" cy="2700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1800360"/>
            <a:ext cx="8999640" cy="3060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60360" y="900000"/>
            <a:ext cx="9360000" cy="5580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