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AA4-8805-4ED8-8DBB-567098E3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661-2B57-4428-9137-7D6D4A58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C1D22-79E2-435A-8FF1-3BA3E30B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13302-BC9B-4E83-8B47-DE7748A7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F9454-4B72-4254-8775-8C5AA3AD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F3630-40C2-4E1C-85CC-8FE5160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F626A-3CED-44E5-BA8C-954A38F4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F0461-8DF1-40DA-BEDF-29F31D72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DBB44-6E9A-4B39-B994-26575FCC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44BB1-CE8B-484B-A129-9FA7C025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59C3C-3CF2-42C6-BCCF-802D9DC0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469-D498-4DA9-A52B-268B50EC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F95-94F0-494B-ABFD-3F1F78BC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401F-9FBC-4931-8A77-A05E6BD2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911D-4FA0-41ED-8F9A-75EA1A7B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4E59-A92D-463C-A1E9-174DB3B5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C307-9D45-41A7-8516-DA419E2D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C033-69F6-4F98-BAB0-2FA5F289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7FC-49C4-4838-8E56-A8E5F867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479C-D2F4-4A85-B2A7-6AF232EA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8D4-A540-4572-9979-364E4307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3F39-F475-4902-8E89-1EFD0243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63F0-9055-4887-B338-EEA89A8D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DDF6-F331-46E9-9697-02F98FD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97F4-7597-4FF6-8AF3-83FD08B5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3520-E1FC-45E0-9ACD-0BDB8A23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4533-8E7B-4B7A-90DE-BCDDB96E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07E8C-C1F8-4B35-8422-214A15FF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1FF4-D96F-4E27-8AA2-291100D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63C2-9CB4-43C7-87EC-AB5DE4A7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2909-9E32-43D4-9292-9D5817B7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0FB-1B0F-449A-9B0D-C625E876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30CA-56CB-4F4E-9CBE-8A595FBC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F46F-84F2-412E-A90F-0012A8CE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9D31-C1C9-4BDD-B047-A41464CB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C011-E6F4-4DF7-9C1E-C0712409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D604-16F5-4352-B663-B4ED5D02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8A76-1DB5-496E-82B4-7C5951DF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91DA7-E204-44BD-9986-16DE01A5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1E66A-E631-4E23-BD62-E97F5151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E170-5EAF-4902-8607-70CA611C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3E80-39BD-4D91-9666-6E02BA7E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A83-A83F-4F31-A1C3-E221909A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C638B-A87A-4C0D-BF3C-16C26A99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0075-33EC-417D-8EAC-8B21457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E2FCA-9E0D-4E2F-A6D4-D4E25C00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AF48-17B3-4BA0-9D6A-219DDDC0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AA79-AA37-4BE0-9207-57E9106C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625A-5B06-48AA-B405-D311F7D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FE9E-5E56-4BF9-87B5-A4CCED69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C5142-1DE9-48E6-82B3-601BD63B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3E0D-559C-4BE3-9E63-014CC227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CBB9B-B65E-490B-B5F6-7F5E5675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50C-50D3-4ADF-8267-3AE5FC44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D3080-65A8-488A-80D7-267A7B5B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1E71-D75D-41CF-9A10-A519F14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FE4E3-F874-4C4A-9DD6-11F08756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DAB42-4C82-4F7E-AF0E-2D009900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6A77F-51A8-491E-8313-2F55553B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FD9F-FA55-4743-B99F-655DB213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04CA-CAA2-498D-9C99-03E885C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9E456-6142-4C09-90E3-F893BF1D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995D9-E7F7-4480-9B08-39D026F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BEB3D-53A0-4516-A1E8-58F5235F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136-232F-4DB0-8800-604BCB88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2CED-F48B-415E-9305-5FABF706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DE6D4-892C-4C33-ACEE-806564C4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7B16-9A19-43C0-82DE-3E49FA35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BE214-6643-4D8E-AE63-D62D41D5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CA4A-3F72-4856-88D7-4080FA9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880A-824A-4971-A96A-CCEC28E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2A996-6F57-41EB-AB33-E2AE410A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FB41-BC05-45DB-BFCC-441473A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E7D93-E9F6-4B7E-8BF9-271415E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CD568-A591-4E17-B4D5-AEC332E6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5C4-2219-428D-90CE-54A1C94F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F186F-7B44-495C-BADE-5CA0E37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0BB28-35F7-4743-8D86-CC9CB934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507B3-AD77-444D-9A0B-8866B9CE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DC91-3206-4930-85F9-2252A996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B5F59-67DB-4E78-8B7E-BF1230DA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330C5-566A-47D8-89B9-139DE452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C9B2-403C-4013-95F1-45414AE1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B6C1-D686-4F23-AAEC-BBEC412D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9E4F2-56FE-4CB3-BF00-B03936CF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3A807-23EF-4428-85D2-BD20378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6A4-9A8A-4C06-800F-DDB1E328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703D-7DEF-42AB-B305-568E70D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D3739-C0BD-4CB5-9A95-C6808E33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89407-34FD-4B4F-A41F-937D3838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DCC21-A778-4EE6-BE2D-00CD64B4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397B0-F5A6-44B4-BF33-B2CF64A8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5D83B-3BDC-444A-9EDF-2617CC61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8DB96-008E-4C1C-8885-EF78810B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5D134-E01E-427D-A4FA-A0285F56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082AA-2132-44FF-AC64-CF9E5A4F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E7718-5B8A-420D-AFE2-CE436455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5D0-441C-4974-9B87-A1C8DEC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327EE-8999-4E1D-8F7D-26DBAF57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9BF2E-86BB-4E12-AF80-68E2E77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380DB-010B-461D-8086-343608D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D9B86-72FB-4748-BC07-C76AB88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25A6E-479D-4EB9-A9E3-20456509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E0218-5F81-4B4A-9679-DA497CDF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D269C-04A2-4AF4-A022-CBBA7566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A9CE3-A5B9-4A99-9E30-3B2C033C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61AAF-33E1-4074-828E-8A48C13D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44F61-AE07-4B07-9FDA-B54B3F14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7B9-E1AD-46F2-93B1-1D8AA09516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CB02-C5FF-4546-A0EF-27A5B2DE0C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BB86-299F-463A-A104-3543B948A1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0C5F-9DDA-4709-B2BB-BA8EC24B4D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A451-7892-4BF6-BC3D-966A031044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5F3B-9DCC-4879-AF1A-0FB401D474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D3C7-3615-4B0D-85E1-EBCBD9515E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97E5-163A-4C39-9947-C1EAFB2252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D3DF-034C-46F6-A4E4-997C818D97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изические качества -</a:t>
            </a:r>
            <a:endParaRPr b="0" lang="en-US" sz="5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ожденные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генетически унаследован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рфофункциональные качеств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я которым возможна физическа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териально выраженная)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сть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щая свое полное проявление в целесообразной двигательной деятельност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Уровень развития и проявления выносливости зависит от целого ряда факторов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наличия энергетических ресурсов в организме человек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уровня функциональных возможностей различных систем организма (сердечно-сосудистой, ЦНС, эндокринной, терморегуляционной, нервно-мышечной и др.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быстроты активизации и степени согласованности в работе этих систе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устойчивости физиологических и психических функций к неблагоприятным сдвигам во внутренней среде организма (нарастанию кислородного долга, повышению молочной кислоты в крови и др.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экономичности использования энергетического и функционального потенциала организм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подготовленности опорно-двигательного аппара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совершенства технико-тактического мастерст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Franklin Gothic Book"/>
              </a:rPr>
              <a:t>личностно-психологических особенностей (интереса к работе, свойств темперамента, уровня предельной мобилизации таких волевых качеств, как целеустремленность, упорство, настойчивость, выдержка, терпеливость и т.п.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Схема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Схема 3" descr=""/>
          <p:cNvPicPr/>
          <p:nvPr/>
        </p:nvPicPr>
        <p:blipFill>
          <a:blip r:embed="rId1"/>
          <a:stretch/>
        </p:blipFill>
        <p:spPr>
          <a:xfrm>
            <a:off x="-19080" y="-1652760"/>
            <a:ext cx="9259920" cy="851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Схема 3" descr=""/>
          <p:cNvPicPr/>
          <p:nvPr/>
        </p:nvPicPr>
        <p:blipFill>
          <a:blip r:embed="rId1"/>
          <a:stretch/>
        </p:blipFill>
        <p:spPr>
          <a:xfrm>
            <a:off x="-19080" y="-1504800"/>
            <a:ext cx="9182160" cy="83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Схема 3" descr=""/>
          <p:cNvPicPr/>
          <p:nvPr/>
        </p:nvPicPr>
        <p:blipFill>
          <a:blip r:embed="rId1"/>
          <a:stretch/>
        </p:blipFill>
        <p:spPr>
          <a:xfrm>
            <a:off x="-19080" y="-285840"/>
            <a:ext cx="9266400" cy="715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5714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Arial Black"/>
              </a:rPr>
              <a:t>Сенситивный период развития выносливости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3571920"/>
            <a:ext cx="4572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от дошкольного возраста до 30 лет 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(а к нагрузкам умеренной интенсивности и свыше)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Наиболее интенсивный прирост наблюдае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с 14 до 20 лет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6" descr="http://geekrunner.ru/wp-content/uploads/2011/04/beg_muranovo_cross_2010_10-500x333.jpg"/>
          <p:cNvPicPr/>
          <p:nvPr/>
        </p:nvPicPr>
        <p:blipFill>
          <a:blip r:embed="rId1"/>
          <a:stretch/>
        </p:blipFill>
        <p:spPr>
          <a:xfrm>
            <a:off x="4786200" y="3357720"/>
            <a:ext cx="4357800" cy="350028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Развитие выносливост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то процесс повышения уровня работоспособности мышц, т.е. возможности максимально длительно напрягаться в статическом и сокращаться в динамическом  режим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-328680" y="-371520"/>
            <a:ext cx="9479160" cy="2163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Главная задача при развитии выносливости у детей школьного возраста состоит в создании условий для неуклонного повышения общей аэробной выносливости на основе различных видов двигательной деятельности, предусмотренных для освоения в обязательных программах по физической культур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Существуют также задачи по развитию скоростной, силовой и координационно-двигательной выносливости. Решить их — значит добиться разностороннего и гармоничного развития двигательных способносте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Наконец, еще одна задача вытекает из потребности достижения максимально высокого уровня развития тех видов и типов выносливости, которые играют особенно важную роль в видах спорта, избранных в качестве предмета спортивной специализа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91440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Средствами развития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 Black"/>
              </a:rPr>
              <a:t>общей</a:t>
            </a: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 Black"/>
              </a:rPr>
              <a:t>(аэробной) выносливости </a:t>
            </a: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являются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упражнения, вызывающие максимальную производительность сердечно-сосудистой и дыхательной систем. Мышечная работа обеспечивается за счет преимущественно аэробного источни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5" descr="http://lrnews.ru/photo/theme/029/805/main.jpg"/>
          <p:cNvPicPr/>
          <p:nvPr/>
        </p:nvPicPr>
        <p:blipFill>
          <a:blip r:embed="rId1"/>
          <a:stretch/>
        </p:blipFill>
        <p:spPr>
          <a:xfrm>
            <a:off x="5143680" y="4611600"/>
            <a:ext cx="4000320" cy="22464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ля развития выносливости применяются самые разнообразные физические упражнения, которые можно выполнять относительно продолжитель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Средствами развития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 Black"/>
              </a:rPr>
              <a:t>специальной выносливости </a:t>
            </a: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(скоростной, силовой, координационной ) являются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264312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пециально -подготовительные упражнения, максимально приближенные к соревновательным по форме, структуре и особенностям воздействия на функциональные системы организма, специфические соревновательные упражнения и общеподготовительные сред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-158760" y="-6480"/>
            <a:ext cx="9540720" cy="2792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1) интенсивность упражнени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2) продолжительность упражнени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3) число повторений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4) продолжительность интервалов отдыха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5) характер отдых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3"/>
          <p:cNvSpPr/>
          <p:nvPr/>
        </p:nvSpPr>
        <p:spPr>
          <a:xfrm>
            <a:off x="0" y="0"/>
            <a:ext cx="9144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основным физическим качествам относя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сил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носл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гибк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ловк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-189000" y="-231840"/>
            <a:ext cx="9339480" cy="1663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0" y="1553760"/>
            <a:ext cx="91440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1) метод слитного (непрерывного) упражнения с нагрузкой умеренной и переменной интенсивности;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2) метод повторного интервального упражнения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3) метод круговой тренировки;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4) игровой метод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5) соревновательный метод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Для развития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 Black"/>
              </a:rPr>
              <a:t>специальной выносливости</a:t>
            </a: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 применяются 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1553760"/>
            <a:ext cx="91440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1) методы непрерывного упражнения (равномерный и переменный)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2) методы интервального прерывного упражнения (интервальный и повторный);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3) соревновательный;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4) игровой методы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"/>
          <p:cNvSpPr/>
          <p:nvPr/>
        </p:nvSpPr>
        <p:spPr>
          <a:xfrm>
            <a:off x="0" y="-973440"/>
            <a:ext cx="9144000" cy="80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2040" rIns="392040" tIns="847440" bIns="228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есты для определения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 уровня развития вынослив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При помощи тестов на выносливость определяется прежде всего функциональное состояние сердечно-сосудистой и дыхательной систем. Использование этих тестов позволяет дать количественную оценку способности этих систем выдерживать определенную физическую нагрузку или нормально функционировать в экстремальных условиях. При тестировании выносливости используются показатели частоты сердечных сокращений и кровяного давления (измеряется тонометром). Предполагается, что величина и характер изменений указанных переменных свидетельствует о состоянии сердечно-сосудистой и дыхательной систем, а это, в свою очередь, служит хорошим индикатором общей (аэробной) выносливост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Контрольные упражнения </a:t>
            </a: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(тесты</a:t>
            </a: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) для определения уровня развития выносливости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4" name="Схема 3" descr=""/>
          <p:cNvPicPr/>
          <p:nvPr/>
        </p:nvPicPr>
        <p:blipFill>
          <a:blip r:embed="rId1"/>
          <a:stretch/>
        </p:blipFill>
        <p:spPr>
          <a:xfrm>
            <a:off x="-19080" y="1706400"/>
            <a:ext cx="93520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-6480"/>
            <a:ext cx="9210960" cy="481644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2"/>
          <p:cNvSpPr/>
          <p:nvPr/>
        </p:nvSpPr>
        <p:spPr>
          <a:xfrm>
            <a:off x="0" y="2143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Список использованной литературы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.И.Лях; А.А.Зданевич -  ФИЗИЧЕСКАЯ КУЛЬТУРА  ДЛЯ 5-11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Журналы - Физическая культура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-371520" y="-42840"/>
            <a:ext cx="9522000" cy="134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Это способность противостоять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физическому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утомлению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в процессе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мышечной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ranklin Gothic Book"/>
              </a:rPr>
              <a:t>деятельности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7" descr="Картинка 86 из 6706"/>
          <p:cNvPicPr/>
          <p:nvPr/>
        </p:nvPicPr>
        <p:blipFill>
          <a:blip r:embed="rId2"/>
          <a:stretch/>
        </p:blipFill>
        <p:spPr>
          <a:xfrm>
            <a:off x="4067280" y="2571840"/>
            <a:ext cx="50767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304920" y="-268200"/>
            <a:ext cx="9455400" cy="1573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это состояние организма, возникающее вследствие длительной или напряженной деятельности и характеризующееся снижением работоспособ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Оно возникает через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определенный промежут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времени после нача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работы и выражается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повышенной труд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или невозмож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продолжить деятель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с прежней эффективность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5" descr="http://im7-tub-ru.yandex.net/i?id=477956527-71-72"/>
          <p:cNvPicPr/>
          <p:nvPr/>
        </p:nvPicPr>
        <p:blipFill>
          <a:blip r:embed="rId2"/>
          <a:stretch/>
        </p:blipFill>
        <p:spPr>
          <a:xfrm>
            <a:off x="5929200" y="3214800"/>
            <a:ext cx="321480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В ЛЮБОЙ ЧЕЛОВЕЧЕСКОЙ ДЕЯТЕЛЬНОСТИ ПРЕДСТАВЛЕНЫ РАЗНЫЕ ТИПЫ УТОМЛЕНИЯ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Схема 3" descr=""/>
          <p:cNvPicPr/>
          <p:nvPr/>
        </p:nvPicPr>
        <p:blipFill>
          <a:blip r:embed="rId1"/>
          <a:stretch/>
        </p:blipFill>
        <p:spPr>
          <a:xfrm>
            <a:off x="-231840" y="1133640"/>
            <a:ext cx="9620280" cy="573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-158760" y="-201600"/>
            <a:ext cx="9474120" cy="2354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1.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Фазу компенсированного утомления, 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гда, несмотря на возрастающие затруднения, человек может некоторое время сохранять прежнюю интенсивность работы за счет больших, чем прежде, волевых усилий и частичного изменения биомеханической структуры двигательных действ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2.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Фазу декомпенсированного утомления, 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гда человек, несмотря на все старания, не может сохранить необходимую интенсивность работы. Если продолжить работу в этом состоянии, то через некоторое время наступит отказ от ее выполн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3.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Фазу полного 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Мерилом выносливости является  </a:t>
            </a:r>
            <a:r>
              <a:rPr b="1" lang="ru-RU" sz="6000" spc="-1" strike="noStrike">
                <a:solidFill>
                  <a:srgbClr val="ff0000"/>
                </a:solidFill>
                <a:latin typeface="Franklin Gothic Book"/>
              </a:rPr>
              <a:t>время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в течение которого осуществляется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мышечная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деятельност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определенного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характера и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интенсивности.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Картинка 4 из 5850"/>
          <p:cNvPicPr/>
          <p:nvPr/>
        </p:nvPicPr>
        <p:blipFill>
          <a:blip r:embed="rId1"/>
          <a:stretch/>
        </p:blipFill>
        <p:spPr>
          <a:xfrm>
            <a:off x="4643280" y="2643120"/>
            <a:ext cx="41436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Схема 3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6956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-158760" y="-115920"/>
            <a:ext cx="9309240" cy="2048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Внешних (поведенческих),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которые характеризуют результативность двигательной деятельности человека во время утом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Внутренних (функциональных)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которые отражают определенные изменения в функционировании различных органов и систем организма, обеспечивающих выполнение данной деятельнос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6:54:30Z</dcterms:created>
  <dc:creator>Vera</dc:creator>
  <dc:description/>
  <dc:language>en-US</dc:language>
  <cp:lastModifiedBy>admin</cp:lastModifiedBy>
  <dcterms:modified xsi:type="dcterms:W3CDTF">2011-11-14T15:26:58Z</dcterms:modified>
  <cp:revision>185</cp:revision>
  <dc:subject/>
  <dc:title>Слайд 1</dc:title>
</cp:coreProperties>
</file>