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861-ADB4-420C-91DA-6DA839F8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5A7-F94A-4003-99D5-07DA14B7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BCD75-D4CF-44B7-A462-17772883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0E71B-EE79-4A81-8FF6-D807B22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23F0B-ED3B-4362-9D57-708D1A7C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73C37-BF87-4C81-BC77-7D8FE0E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4D89E-6C17-4622-ABDB-105B32E5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91317-04CC-4257-ACC6-67D75AA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56BB3-F3F6-4951-818E-FBFF34B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CEFFE-756A-4F98-BDBA-86159756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54296-00EC-4726-8314-C7E12B58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342-CCCF-418E-AB8F-3638A0DF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29D-1D29-4D83-B2DB-3A19B6A4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2721-ECD9-4C9F-BD4B-7AD585A1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9CBB-EFF9-49AB-AF59-DFE59AC9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3FB1-6B4F-4DE8-A0B4-1B9618B3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B2D1-7511-4B2B-8CB1-4F148E0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2DC-E636-4CBC-9781-E3DF3D72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1042-0038-4B13-891A-60A3A618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86C-6C38-4912-BE1A-F4492D7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266-9943-43D7-907D-0E8214BD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45F2-2B38-445B-969E-B2D83C0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EB8D-777E-4B56-9CC6-BC7EA02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BA9A-87C9-4297-8528-4CF73FB1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480B-1B35-43C1-B3E9-396F5BAD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B6B0-BA2F-4DA8-9FAA-A41E7888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40B8-173A-489C-BC96-8A3EAEF5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4852-738A-4865-9331-24E23AA9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6C72-E0A8-450D-B59C-85B7DF35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DABC-F768-4110-92F9-CD539E17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62DF-2A22-4D72-B3F6-CA79A68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C38-61B2-4951-87CD-832BF79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EB4B-32D8-4439-B994-6774FF70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F747-2FF9-4773-B541-FAC18AF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2581-0D1B-46C2-85ED-93D1021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25D4-B36C-49B5-9C1D-E113E366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A690-AB07-4AB6-A75E-333DF66B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C646-A670-467D-98F7-D030D533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0636-45D2-4807-A570-83A72F6B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FDF0-29DA-4EB6-ABBB-22339B2A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2D95-27F5-40A3-9C20-D8349B6A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4F76-B186-450D-A689-3C2E16B2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F4A-6DBE-4874-9B16-C419DE47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BF45-53BB-4186-9D61-6A0486C2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3112-4FAC-4882-A575-B141D4E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8C63-1413-4C6C-BBCC-C7E6ED3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6B66-F982-41D7-BC3B-DD3B99C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A36C-6B9D-43EE-8AC9-EEB3F7B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3DEA-952D-429D-B7E3-16C696F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F2E9-11AC-452A-9AD3-D01B0F77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A9DC-1A4D-4210-90A6-CEE7DCA0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5594-5E23-4EC0-BC25-7329B7F4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E225-3B1B-47CC-8BC5-0127B7C0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159-4F9E-4223-856A-1DC9D9F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191D-B726-4D24-8F5C-39EFBA64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90AC0-27FC-4503-AB4D-A985C6D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3CFE-38B7-433A-945B-B6DAFB12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136BD-63D4-468D-9412-DFDB114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1CD6-0A52-41BF-A296-A434B6CC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DB82-F4C4-4E10-8F74-92829166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7B7FE-2DBE-42AF-AF7A-2C4C097E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7B5A-6A07-46AB-801B-24AE556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D2E1-E9F4-4EBB-80B7-BC85E4B7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A409-4E8D-4B42-944F-CFAA7DFA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317-319D-4899-B4FD-1E59D5C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E665-55AC-49C8-828D-572AAFAA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A6EC2-D1D8-442F-BF1B-8DD876A5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F3DE2-6B24-4BEB-B527-9C3A8F4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D41A-9A3C-49F5-8BCB-1512E4F6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853C-0767-483C-958D-E7AC06CD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0F7C-AF2D-417E-B40E-D020B069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8474-FE9F-4DC0-A9AE-73D83FD1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1D3A-260A-48CD-8BB1-A6FA0AF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47914-7F23-430F-BA48-B7741D53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B64E-BE99-4506-ABB4-8064A2A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3C0-580C-4DA1-9800-D4111876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524E-91D0-4D6F-AA29-681609BC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8F923-8D6F-46E3-9759-696B58A6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0C21A-A820-4BCC-BFD1-79026AFB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ABC6-6A9B-4CC3-84C2-CDB977E6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ACE6-2947-4B3A-894A-5B88F8D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8CEE-8641-436F-82A4-B9BB054F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99122-6661-4596-9179-82D9CF1D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8086-CD93-4F0C-ADB4-B6C2EBAF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7A9E3-DCCD-444A-B8E0-CF168362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872F1-97DD-4E30-94CD-763BEE7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6FF-1CAA-40E7-9424-6DA206D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3AA9B-8FAC-4A35-803E-53402608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E4D1C-FA3E-4AC2-99D1-17B0923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926B0-F954-4609-BC4F-F973FD0E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BC90-6622-48B8-AD45-1EEEB9BF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0BC5B-FE92-41D7-A86F-7EE094D3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F9F63-D4BF-4A96-8775-C572E47A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0681-9906-41B6-AA33-4E89628B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1475-C90A-4D72-A90B-55C6DEE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02156-6AB2-496E-8332-0C4C2C95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10513-1CD4-4CF6-9F75-E2C8AC63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ADB-AA89-4796-8660-E5CB65D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83C24-FB67-4C1C-977F-B33422F9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FD77-0AB1-42FF-8E2B-E35FA267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F47F8-5AF1-4205-8E17-322F92C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B3A9-FE70-4E21-84CC-EE5B9A40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AB8C-61CE-4CEA-8EA4-DF493818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9F57-AF8B-4153-97CF-448A0230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6032D-AC96-445E-8229-42ECD365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24F17-F2AD-48E0-BA1A-E49FDB85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E3D20-FD2C-4E2D-8A5E-079E8393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E0C69-B814-4DA4-B946-D8E5B86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2BDA-305C-41ED-A9F1-AB1F23A98C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6426-001D-4A53-BC42-A59B2D2AEB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4453-D983-4F4A-A89E-9100D94549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29A3-A848-4162-B039-6FAE89E9D8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D7CB-22AD-43FC-988E-4F7DD4A966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960-A208-459F-812F-A6227F3557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8DF0-4F84-493B-ADE5-1D8C1BE65E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763-EFB7-424F-8F74-65ED0ADBA6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42BB-FCA7-4419-8576-F196EB3EB3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фофункциональные 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териально выраженная)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Уровень развития и проявления выносливости зависит от целого ряда факторов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наличия энергетических ресурсов в организме человек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уровня функциональных возможностей различных систем организма (сердечно-сосудистой, ЦНС, эндокринной, терморегуляционной, нервно-мышечной и др.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быстроты активизации и степени согласованности в работе этих систе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устойчивости физиологических и психических функций к неблагоприятным сдвигам во внутренней среде организма (нарастанию кислородного долга, повышению молочной кислоты в крови и др.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экономичности использования энергетического и функционального потенциала организм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подготовленности опорно-двигательного аппара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совершенства технико-тактического мастер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личностно-психологических особенностей (интереса к работе, свойств темперамента, уровня предельной мобилизации таких волевых качеств, как целеустремленность, упорство, настойчивость, выдержка, терпеливость и т.п.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Схема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Схема 3" descr=""/>
          <p:cNvPicPr/>
          <p:nvPr/>
        </p:nvPicPr>
        <p:blipFill>
          <a:blip r:embed="rId1"/>
          <a:stretch/>
        </p:blipFill>
        <p:spPr>
          <a:xfrm>
            <a:off x="-19080" y="-1652760"/>
            <a:ext cx="9259920" cy="851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Схема 3" descr=""/>
          <p:cNvPicPr/>
          <p:nvPr/>
        </p:nvPicPr>
        <p:blipFill>
          <a:blip r:embed="rId1"/>
          <a:stretch/>
        </p:blipFill>
        <p:spPr>
          <a:xfrm>
            <a:off x="-19080" y="-1504800"/>
            <a:ext cx="9182160" cy="83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Схема 3" descr=""/>
          <p:cNvPicPr/>
          <p:nvPr/>
        </p:nvPicPr>
        <p:blipFill>
          <a:blip r:embed="rId1"/>
          <a:stretch/>
        </p:blipFill>
        <p:spPr>
          <a:xfrm>
            <a:off x="-19080" y="-285840"/>
            <a:ext cx="9266400" cy="715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5714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Arial Black"/>
              </a:rPr>
              <a:t>Сенситивный период развития выносливости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3571920"/>
            <a:ext cx="4572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от дошкольного возраста до 30 лет 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(а к нагрузкам умеренной интенсивности и свыше)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Наиболее интенсивный прирост наблюдае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с 14 до 20 лет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6" descr="http://geekrunner.ru/wp-content/uploads/2011/04/beg_muranovo_cross_2010_10-500x333.jpg"/>
          <p:cNvPicPr/>
          <p:nvPr/>
        </p:nvPicPr>
        <p:blipFill>
          <a:blip r:embed="rId1"/>
          <a:stretch/>
        </p:blipFill>
        <p:spPr>
          <a:xfrm>
            <a:off x="4786200" y="3357720"/>
            <a:ext cx="4357800" cy="350028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Развитие выносливост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о процесс повышения уровня работоспособности мышц, т.е. возможности максимально длительно напрягаться в статическом и сокращаться в динамическом  режим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-328680" y="-371520"/>
            <a:ext cx="9479160" cy="2163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Главная задача при развитии выносливости у детей школьного возраста состоит в создании условий для неуклонного повышения общей аэробной выносливости на основе различных видов двигательной деятельности, предусмотренных для освоения в обязательных программах по физической культур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уществуют также задачи по развитию скоростной, силовой и координационно-двигательной выносливости. Решить их — значит добиться разностороннего и гармоничного развития двигательных способносте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Наконец, еще одна задача вытекает из потребности достижения максимально высокого уровня развития тех видов и типов выносливости, которые играют особенно важную роль в видах спорта, избранных в качестве предмета спортивной специализ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Средствами развития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 Black"/>
              </a:rPr>
              <a:t>общей</a:t>
            </a: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 Black"/>
              </a:rPr>
              <a:t>(аэробной) выносливости </a:t>
            </a: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являются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упражнения, вызывающие максимальную производительность сердечно-сосудистой и дыхательной систем. Мышечная работа обеспечивается за счет преимущественно аэробного источни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5" descr="http://lrnews.ru/photo/theme/029/805/main.jpg"/>
          <p:cNvPicPr/>
          <p:nvPr/>
        </p:nvPicPr>
        <p:blipFill>
          <a:blip r:embed="rId1"/>
          <a:stretch/>
        </p:blipFill>
        <p:spPr>
          <a:xfrm>
            <a:off x="5143680" y="4611600"/>
            <a:ext cx="4000320" cy="22464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ля развития выносливости применяются самые разнообразные физические упражнения, которые можно выполнять относительно продолжитель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Средствами развития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 Black"/>
              </a:rPr>
              <a:t>специальной выносливости </a:t>
            </a: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(скоростной, силовой, координационной ) являются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264312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пециально -подготовительные упражнения, максимально приближенные к соревновательным по форме, структуре и особенностям воздействия на функциональные системы организма, специфические соревновательные упражнения и общеподготовительные сред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540720" cy="2792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1) интенсивность упражнен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2) продолжительность упражнен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3) число повторени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4) продолжительность интервалов отдыха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5) характер отдых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-189000" y="-231840"/>
            <a:ext cx="9339480" cy="1663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0" y="1553760"/>
            <a:ext cx="91440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1) метод слитного (непрерывного) упражнения с нагрузкой умеренной и переменной интенсивности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2) метод повторного интервального упражнения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3) метод круговой тренировки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4) игровой метод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5) соревновательный метод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ля развития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 Black"/>
              </a:rPr>
              <a:t>специальной выносливости</a:t>
            </a: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 применяются 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1553760"/>
            <a:ext cx="91440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1) методы непрерывного упражнения (равномерный и переменный)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2) методы интервального прерывного упражнения (интервальный и повторный)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3) соревновательный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4) игровой методы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0" y="-973440"/>
            <a:ext cx="9144000" cy="80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2040" rIns="392040" tIns="847440" bIns="228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есты для определения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 уровня развития вынослив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При помощи тестов на выносливость определяется прежде всего функциональное состояние сердечно-сосудистой и дыхательной систем. Использование этих тестов позволяет дать количественную оценку способности этих систем выдерживать определенную физическую нагрузку или нормально функционировать в экстремальных условиях. При тестировании выносливости используются показатели частоты сердечных сокращений и кровяного давления (измеряется тонометром). Предполагается, что величина и характер изменений указанных переменных свидетельствует о состоянии сердечно-сосудистой и дыхательной систем, а это, в свою очередь, служит хорошим индикатором общей (аэробной) выносливост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Контрольные упражнения </a:t>
            </a: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(тесты</a:t>
            </a: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) для определения уровня развития выносливост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4" name="Схема 3" descr=""/>
          <p:cNvPicPr/>
          <p:nvPr/>
        </p:nvPicPr>
        <p:blipFill>
          <a:blip r:embed="rId1"/>
          <a:stretch/>
        </p:blipFill>
        <p:spPr>
          <a:xfrm>
            <a:off x="-19080" y="1706400"/>
            <a:ext cx="93520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-6480"/>
            <a:ext cx="9210960" cy="481644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2"/>
          <p:cNvSpPr/>
          <p:nvPr/>
        </p:nvSpPr>
        <p:spPr>
          <a:xfrm>
            <a:off x="0" y="2143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писок использованной литературы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.И.Лях; А.А.Зданевич -  ФИЗИЧЕСКАЯ КУЛЬТУРА  ДЛЯ 5-11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Журналы - Физическая культура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-371520" y="-42840"/>
            <a:ext cx="9522000" cy="134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Это способность противостоять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физическому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утомлению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в процессе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мышечной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деятельности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7" descr="Картинка 86 из 6706"/>
          <p:cNvPicPr/>
          <p:nvPr/>
        </p:nvPicPr>
        <p:blipFill>
          <a:blip r:embed="rId2"/>
          <a:stretch/>
        </p:blipFill>
        <p:spPr>
          <a:xfrm>
            <a:off x="4067280" y="2571840"/>
            <a:ext cx="50767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304920" y="-268200"/>
            <a:ext cx="9455400" cy="1573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это состояние организма, возникающее вследствие длительной или напряженной деятельности и характеризующееся снижением работоспособ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Оно возникает через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определенный промежут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времени после нача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работы и выражается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повышенной труд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или невозмож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продолжить дея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с прежней эффективность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5" descr="http://im7-tub-ru.yandex.net/i?id=477956527-71-72"/>
          <p:cNvPicPr/>
          <p:nvPr/>
        </p:nvPicPr>
        <p:blipFill>
          <a:blip r:embed="rId2"/>
          <a:stretch/>
        </p:blipFill>
        <p:spPr>
          <a:xfrm>
            <a:off x="5929200" y="3214800"/>
            <a:ext cx="321480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В ЛЮБОЙ ЧЕЛОВЕЧЕСКОЙ ДЕЯТЕЛЬНОСТИ ПРЕДСТАВЛЕНЫ РАЗНЫЕ ТИПЫ УТОМЛЕНИЯ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-231840" y="1133640"/>
            <a:ext cx="9620280" cy="573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-158760" y="-201600"/>
            <a:ext cx="9474120" cy="2354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1.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Фазу компенсированного утомления,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гда, несмотря на возрастающие затруднения, человек может некоторое время сохранять прежнюю интенсивность работы за счет больших, чем прежде, волевых усилий и частичного изменения биомеханической структуры двигательных действ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2.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Фазу декомпенсированного утомления,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гда человек, несмотря на все старания, не может сохранить необходимую интенсивность работы. Если продолжить работу в этом состоянии, то через некоторое время наступит отказ от ее выполн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3.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Фазу полного 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Мерилом выносливости является  </a:t>
            </a:r>
            <a:r>
              <a:rPr b="1" lang="ru-RU" sz="6000" spc="-1" strike="noStrike">
                <a:solidFill>
                  <a:srgbClr val="ff0000"/>
                </a:solidFill>
                <a:latin typeface="Franklin Gothic Book"/>
              </a:rPr>
              <a:t>время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в течение которого осуществляется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мышечная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деятельност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определенного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характера и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интенсивности.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Картинка 4 из 5850"/>
          <p:cNvPicPr/>
          <p:nvPr/>
        </p:nvPicPr>
        <p:blipFill>
          <a:blip r:embed="rId1"/>
          <a:stretch/>
        </p:blipFill>
        <p:spPr>
          <a:xfrm>
            <a:off x="4643280" y="2643120"/>
            <a:ext cx="41436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Схема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6956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158760" y="-115920"/>
            <a:ext cx="9309240" cy="2048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Внешних (поведенческих),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которые характеризуют результативность двигательной деятельности человека во время утом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Внутренних (функциональных)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которые отражают определенные изменения в функционировании различных органов и систем организма, обеспечивающих выполнение данной деятель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6:54:30Z</dcterms:created>
  <dc:creator>Vera</dc:creator>
  <dc:description/>
  <dc:language>en-US</dc:language>
  <cp:lastModifiedBy>admin</cp:lastModifiedBy>
  <dcterms:modified xsi:type="dcterms:W3CDTF">2011-11-14T15:26:58Z</dcterms:modified>
  <cp:revision>185</cp:revision>
  <dc:subject/>
  <dc:title>Слайд 1</dc:title>
</cp:coreProperties>
</file>