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1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D4C-AFEE-4CC4-93A3-9F6C3B50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445-E660-4720-8F9D-B78761EF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6AE-F995-48A0-A53E-26CC419A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3A3-8985-47DB-AE25-E77B794B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435D3-B9B3-43A7-A382-83C483C3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6BC65-616C-4936-B529-9B4E0428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7E818-CA96-4A0B-B0DF-DB395D6D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B939-9DD7-4A27-B80A-9B952C9F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C63CF-6628-419D-85CF-49706C84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621BB-FBAA-46C8-95EF-FC39AA08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63238-458C-450B-A781-0FB16AA6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DB5-7B39-48AF-9AB6-902CCF4E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DEBF7-467F-46A8-AEEF-7958308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BCAF2-53FD-49B1-A4AC-0340451C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C753B-73A3-49A3-B15B-BD08776E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B61E7-DBD6-46C6-8B26-76BE592D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2478F-3643-4027-B4BC-FF2CDF67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A99-AA89-409F-8D24-F0F23288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615-0600-418F-AD04-A3305501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826-32A8-41F4-B614-47CC3022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7E5-A81F-49D5-BF78-B0303048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90F-4CFE-4006-BE92-17B58BC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DB7-D983-4913-9337-FD39BB7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845-8037-41B5-83F7-313549D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76A5-BF39-43DC-BAD7-0E14EAE5B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6995-77EB-4A71-B235-2D33BD092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6867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ЦИАЛЬНАЯ УСПЕШНОСТЬ ВЫПУСКНИКОВ МСКОУ СКОШ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1640" y="51055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Подготовил классный руководитель ПИЩЕНКОВА С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76640" y="0"/>
            <a:ext cx="6867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ПУСК 2001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7339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80988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73392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862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ИТОРИНГ СОЦИАЛЬНО-ТРУДОВОЙ АДАПТАЦИИ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УСКНИКОВ 2001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96252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1148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52578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Всего в классе 13 выпуск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11 человек закончили ПЛ-68  по специальности штукатур-маляр, парикмахер, шве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Многие получили вторую специальность :сварщик, водитель, продавец,столя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676520" y="609480"/>
          <a:ext cx="64008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6400800" cy="4114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275400"/>
            <a:ext cx="68673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5410080"/>
            <a:ext cx="677556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</a:rPr>
              <a:t>Трудятся на предприятиях города и района по следующим специальностям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водитель, сварщик,  продавец, штукатур- маляр, разнорабочий на стройке, помощник воспитателя, кладовщик, токарь, столяр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371600" y="380880"/>
          <a:ext cx="70866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7086600" cy="4419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7880" y="-351720"/>
            <a:ext cx="68673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4876920"/>
            <a:ext cx="677556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Живут в браке- 8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Разведён- 1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Не имеют своей семьи- 4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Имеют детей- 7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3581280" cy="2438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3657600" cy="24573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3818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133720" y="1981080"/>
            <a:ext cx="331128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9223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90640" y="1847880"/>
            <a:ext cx="47768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11T18:22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