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1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E3D-B2CA-4574-B0F6-CABC49C9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810-02B2-4FD1-8CE8-BBEF260A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A1A-DAD3-4106-9BDB-6D4882B1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952-6601-4BC7-A50D-0EC9517C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7653A-B36A-4369-BB92-45999061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C0740-79E3-4C21-B6A2-9B27386B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B22E9-3069-4D6F-8516-2432193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3E849-7ED4-4419-9575-A3D220D9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88758-849B-4CA4-88A1-80F4E69A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96716-7F1D-4D7F-BEBD-E81A8240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0D52F-2DDE-4866-A39A-BF0FAB82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451-0068-4C98-B866-4B20EDEE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D3EB3-BA54-48C5-921F-99BAD2A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02F63-3FD8-4DAE-AEA7-A9D1619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EEE23-67F6-4ED1-8C99-84CBE4E2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9FAA9-BF1A-4BC7-B7F1-A1722B15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939D6-ED1A-4169-A600-7C71B077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B14-8F60-4CE7-BEDC-BECF1EBB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D36-82FD-45EA-91BA-30420D83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938-E07D-4815-A311-8B81FF23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851-F246-40C1-B857-D4FE7B0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7A8-2D3E-4635-9D59-7BBB8B24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110-DEDA-4C50-9745-E9A954E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75F-064B-4A9C-A33C-4C42437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E01-E77E-4C7C-8EF5-A84A2F072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518A-B971-435E-9B63-7E8DD8FAA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6867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ЦИАЛЬНАЯ УСПЕШНОСТЬ ВЫПУСКНИКОВ МСКОУ СКОШ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1640" y="51055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Подготовил классный руководитель ПИЩЕНКОВА С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76640" y="0"/>
            <a:ext cx="6867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ПУСК 2001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7339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80988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73392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862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ИТОРИНГ СОЦИАЛЬНО-ТРУДОВОЙ АДАПТАЦИИ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УСКНИКОВ 2001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96252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1148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52578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Всего в классе 13 выпуск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11 человек закончили ПЛ-68  по специальности штукатур-маляр, парикмахер, шве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Многие получили вторую специальность :сварщик, водитель, продавец,столя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676520" y="609480"/>
          <a:ext cx="64008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6400800" cy="4114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275400"/>
            <a:ext cx="68673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5410080"/>
            <a:ext cx="677556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</a:rPr>
              <a:t>Трудятся на предприятиях города и района по следующим специальностям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водитель, сварщик,  продавец, штукатур- маляр, разнорабочий на стройке, помощник воспитателя, кладовщик, токарь, столяр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371600" y="380880"/>
          <a:ext cx="70866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7086600" cy="4419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7880" y="-351720"/>
            <a:ext cx="68673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4876920"/>
            <a:ext cx="677556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Живут в браке- 8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Разведён- 1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Не имеют своей семьи- 4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Имеют детей- 7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3581280" cy="2438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3657600" cy="24573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3818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133720" y="1981080"/>
            <a:ext cx="331128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9223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90640" y="1847880"/>
            <a:ext cx="47768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11T18:22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