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gif" ContentType="image/gif"/>
  <Override PartName="/ppt/media/image1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gif" ContentType="image/gif"/>
  <Override PartName="/ppt/media/image5.gif" ContentType="image/gif"/>
  <Override PartName="/ppt/media/image14.jpeg" ContentType="image/jpeg"/>
  <Override PartName="/ppt/media/image13.jpeg" ContentType="image/jpeg"/>
  <Override PartName="/ppt/media/image22.jpeg" ContentType="image/jpeg"/>
  <Override PartName="/ppt/media/image26.png" ContentType="image/png"/>
  <Override PartName="/ppt/media/image23.gif" ContentType="image/gif"/>
  <Override PartName="/ppt/media/image19.jpeg" ContentType="image/jpeg"/>
  <Override PartName="/ppt/media/image4.png" ContentType="image/png"/>
  <Override PartName="/ppt/media/image1.gif" ContentType="image/gif"/>
  <Override PartName="/ppt/media/image21.jpeg" ContentType="image/jpeg"/>
  <Override PartName="/ppt/media/image17.gif" ContentType="image/gif"/>
  <Override PartName="/ppt/media/image16.gif" ContentType="image/gif"/>
  <Override PartName="/ppt/media/image25.jpeg" ContentType="image/jpeg"/>
  <Override PartName="/ppt/media/image2.png" ContentType="image/png"/>
  <Override PartName="/ppt/media/image1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1B3D-1374-4E4F-B055-7B2F1276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CE48-B524-45F4-B1D0-3D487344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65BC-6E42-4078-BD73-B3E6382C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4530-7567-40DA-A37B-E7C16B2AF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9FCC-8D54-4833-A998-6E4C589A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E1CA-5AAF-4878-98C0-64B3ABA4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D0A5-B052-493F-9ACB-2A0306BF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8B64-3746-4377-A6A1-10F70976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F83C-07AA-4B6D-9738-8764B276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9D73-BB6A-4CE5-BB42-6A078540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AB6B-4F54-42C3-BCD7-88899E78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5EDD-E063-4AC4-A03A-01A198CD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B3C6-E69C-4C19-BB4E-847D262875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826920" y="692280"/>
            <a:ext cx="741708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к сохранить зубы </a:t>
            </a:r>
            <a:endParaRPr b="0" i="1" lang="en-US" sz="2800" spc="1" strike="noStrike">
              <a:ln w="0">
                <a:noFill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доровыми</a:t>
            </a:r>
            <a:endParaRPr b="0" i="1" lang="en-US" sz="2800" spc="1" strike="noStrike">
              <a:ln w="0">
                <a:noFill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Picture 4" descr="2 РЕБЕНОК"/>
          <p:cNvPicPr/>
          <p:nvPr/>
        </p:nvPicPr>
        <p:blipFill>
          <a:blip r:embed="rId1"/>
          <a:stretch/>
        </p:blipFill>
        <p:spPr>
          <a:xfrm>
            <a:off x="468360" y="4221000"/>
            <a:ext cx="2016000" cy="2303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 rot="20997000">
            <a:off x="4000320" y="5072040"/>
            <a:ext cx="514332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ерасимова Елена Владими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БОУ «Гимназия 1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2"/>
          <p:cNvSpPr txBox="1"/>
          <p:nvPr/>
        </p:nvSpPr>
        <p:spPr>
          <a:xfrm>
            <a:off x="0" y="285840"/>
            <a:ext cx="9144000" cy="119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ffff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АВИЛА ПО УХОДУ ЗА ЗУБАМИ</a:t>
            </a:r>
            <a:endParaRPr b="0" lang="en-US" sz="2400" spc="1" strike="noStrike">
              <a:ln w="12600">
                <a:solidFill>
                  <a:srgbClr val="ccffff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0" y="2595960"/>
            <a:ext cx="9144000" cy="32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жедневная гигиена полости рта включает в себ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щательную чистку зубов минимум дважды в ден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ищение полости рта после каждого приема пищи (чистка, полоскание или жевательная резинка без сахара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ход за межзубными промежутками с помощью зубной нити или зубочист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ярное посещение стоматоло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2700360" y="1989000"/>
            <a:ext cx="33336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Правило № 1 . Гигиена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pic>
        <p:nvPicPr>
          <p:cNvPr id="71" name="Picture 5" descr="ПЕЛИКАН"/>
          <p:cNvPicPr/>
          <p:nvPr/>
        </p:nvPicPr>
        <p:blipFill>
          <a:blip r:embed="rId2"/>
          <a:stretch/>
        </p:blipFill>
        <p:spPr>
          <a:xfrm>
            <a:off x="0" y="1643040"/>
            <a:ext cx="1400040" cy="1305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челюсть"/>
          <p:cNvPicPr/>
          <p:nvPr/>
        </p:nvPicPr>
        <p:blipFill>
          <a:blip r:embed="rId3"/>
          <a:stretch/>
        </p:blipFill>
        <p:spPr>
          <a:xfrm>
            <a:off x="7215120" y="5000760"/>
            <a:ext cx="1657440" cy="1622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500"/>
                            </p:stCondLst>
                            <p:childTnLst>
                              <p:par>
                                <p:cTn id="302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teeth250_2"/>
          <p:cNvPicPr/>
          <p:nvPr/>
        </p:nvPicPr>
        <p:blipFill>
          <a:blip r:embed="rId2"/>
          <a:stretch/>
        </p:blipFill>
        <p:spPr>
          <a:xfrm>
            <a:off x="7016760" y="0"/>
            <a:ext cx="2127240" cy="21272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0" y="102600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«противокариесном» питании важны два фактора:  полноценный набор пищевых продуктов и умеренная частота приема     углевод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3-4-разовом питании необходимо, чтобы в рационе были продукты четырех основных групп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хлебные, молочные, мясные и фруктово-овощн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очищения зубов от болезнетворного налета и укрепления десен в ежедневный рацион необходимо включить грубую пищу: яблоки, морковь и другие жесткие овощи или фрукты в сыром вид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райтесь разумно потреблять богатую углеводами пищу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ным строительным материалом для зубов является кальций.         Кальций содержится в орехах, зеленых овощах, молоке и молочных продуктах (особенно обезжиренных), в том числе во всех видах сы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0" y="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99"/>
                </a:solidFill>
                <a:latin typeface="Arial"/>
              </a:rPr>
              <a:t>           </a:t>
            </a:r>
            <a:r>
              <a:rPr b="1" i="1" lang="ru-RU" sz="3600" spc="-1" strike="noStrike">
                <a:solidFill>
                  <a:srgbClr val="ff9999"/>
                </a:solidFill>
                <a:latin typeface="Arial"/>
              </a:rPr>
              <a:t>Правило № 2.  Пит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2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a4"/>
          <p:cNvPicPr/>
          <p:nvPr/>
        </p:nvPicPr>
        <p:blipFill>
          <a:blip r:embed="rId1"/>
          <a:stretch/>
        </p:blipFill>
        <p:spPr>
          <a:xfrm>
            <a:off x="0" y="4797360"/>
            <a:ext cx="2357280" cy="20606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0" y="7923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ень холодная или горячая пища вредна для эмали зуб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ще вреднее - резкий перепад температуры. Из-за разницы температуры на эмали образуются микротрещ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1800360" y="2639160"/>
            <a:ext cx="734364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лизистая оболочка десен защищает ротовую полость от болезнетворных микробов и требует особой заб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ровоточивость и воспаление десен – одна из частых причин появления неприятного запаха изо рта и выпадения зуб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свою очередь к заболеваниям десен могут привести: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лохая гигиена полости р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урен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пецифика потребляемой пищ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достаток витамин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50920" y="234828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i="1" lang="ru-RU" sz="2400" spc="-1" strike="noStrike">
                <a:solidFill>
                  <a:srgbClr val="6600ff"/>
                </a:solidFill>
                <a:latin typeface="Arial"/>
              </a:rPr>
              <a:t>Правило № 4. Уход за десн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428760" y="28584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ccff"/>
                </a:solidFill>
                <a:latin typeface="Arial"/>
              </a:rPr>
              <a:t>Правило № 3. Температура пищ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428760" y="28584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ccff"/>
                </a:solidFill>
                <a:latin typeface="Arial"/>
              </a:rPr>
              <a:t>Правило № 3. Температура пищ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8000"/>
                            </p:stCondLst>
                            <p:childTnLst>
                              <p:par>
                                <p:cTn id="35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паста с фтром"/>
          <p:cNvPicPr/>
          <p:nvPr/>
        </p:nvPicPr>
        <p:blipFill>
          <a:blip r:embed="rId2"/>
          <a:stretch/>
        </p:blipFill>
        <p:spPr>
          <a:xfrm>
            <a:off x="7203960" y="0"/>
            <a:ext cx="1940040" cy="2305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"/>
          <p:cNvSpPr/>
          <p:nvPr/>
        </p:nvSpPr>
        <p:spPr>
          <a:xfrm>
            <a:off x="0" y="14518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тор также является необходимым микроэлементом для наших зуб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Урале, в Мордовии, Москве и Подмосковье в водопроводной воде фтора достаточно, а вот  Петербург и весь Северо-Западный регион нуждается в дополнительном источнике фтора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ынке сейчас появилось множество препаратов, содержащих большое количество фтора: зубных паст, поливитаминных комплексов, эликсиров, жевательных рези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нужно помнить, что слишком большое количество фтора так же вредит организму, как и его недостаток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071720" y="785880"/>
            <a:ext cx="60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6600"/>
                </a:solidFill>
                <a:latin typeface="Arial"/>
              </a:rPr>
              <a:t>Правило № 5.    Ф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3 РЕБЕНОК"/>
          <p:cNvPicPr/>
          <p:nvPr/>
        </p:nvPicPr>
        <p:blipFill>
          <a:blip r:embed="rId3"/>
          <a:stretch/>
        </p:blipFill>
        <p:spPr>
          <a:xfrm>
            <a:off x="0" y="0"/>
            <a:ext cx="1085760" cy="15238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400"/>
                            </p:stCondLst>
                            <p:childTnLst>
                              <p:par>
                                <p:cTn id="38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400"/>
                            </p:stCondLst>
                            <p:childTnLst>
                              <p:par>
                                <p:cTn id="3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2643120"/>
            <a:ext cx="9144000" cy="45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ярное посещение стоматолога – залог здоровых зубов.      Почем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Во-первых, потому что профессиональная чистка снимает зубной налет так, как ни одна зубная па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Во-вторых, только врач сможет вовремя обнаружить кариес, предотвратить его развит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-третьих, грамотный специалист даст вам рекомендации по выбору зубной пасты и других средств гигиены, подходящих именно для вас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krolik"/>
          <p:cNvPicPr/>
          <p:nvPr/>
        </p:nvPicPr>
        <p:blipFill>
          <a:blip r:embed="rId1"/>
          <a:stretch/>
        </p:blipFill>
        <p:spPr>
          <a:xfrm>
            <a:off x="7236000" y="260280"/>
            <a:ext cx="1733400" cy="20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ш3"/>
          <p:cNvPicPr/>
          <p:nvPr/>
        </p:nvPicPr>
        <p:blipFill>
          <a:blip r:embed="rId2"/>
          <a:stretch/>
        </p:blipFill>
        <p:spPr>
          <a:xfrm>
            <a:off x="0" y="333360"/>
            <a:ext cx="1746360" cy="172872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1643040" y="714240"/>
            <a:ext cx="578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6600"/>
                </a:solidFill>
                <a:latin typeface="Arial"/>
              </a:rPr>
              <a:t>Правило № 6. Регулярное посещение стоматолог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3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200"/>
                            </p:stCondLst>
                            <p:childTnLst>
                              <p:par>
                                <p:cTn id="40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200"/>
                            </p:stCondLst>
                            <p:childTnLst>
                              <p:par>
                                <p:cTn id="40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7200"/>
                            </p:stCondLst>
                            <p:childTnLst>
                              <p:par>
                                <p:cTn id="408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285840" y="1773720"/>
            <a:ext cx="864396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опреки общему мнению,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здоровые зубы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не должны быть белыми, хотя их цвет должен находиться в пределах оттенков белого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 некоторых людей зубы имеют темный оттенок, и каждый зуб с возрастом становится все темнее, потому что дентин разрушается и становится менее прозрачным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Зуб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может потускнеть изнутри в том случае, когда он болен, но в большинстве случаев это происходит из-за избыточного количества фтора (флюороза), полученного с большим количеством проглоченной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зубной пасты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 детей поверхностные пятна вокруг шейки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и между зубами могут позеленеть из-за жизнедеятельности бактерий. Такой налет не опасен и легко удаляется, но его нельзя удалить обычной чисткой, для этого приходится обращаться к стоматологу или гигиенисту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3"/>
          <p:cNvSpPr txBox="1"/>
          <p:nvPr/>
        </p:nvSpPr>
        <p:spPr>
          <a:xfrm>
            <a:off x="1285920" y="500040"/>
            <a:ext cx="59292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9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УБНОЙ НАЛЁТ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2" name="Picture 4" descr="КЛЯКСА"/>
          <p:cNvPicPr/>
          <p:nvPr/>
        </p:nvPicPr>
        <p:blipFill>
          <a:blip r:embed="rId1"/>
          <a:stretch/>
        </p:blipFill>
        <p:spPr>
          <a:xfrm>
            <a:off x="7724880" y="214200"/>
            <a:ext cx="1419120" cy="1524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3000"/>
                            </p:stCondLst>
                            <p:childTnLst>
                              <p:par>
                                <p:cTn id="42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250920" y="333360"/>
            <a:ext cx="8208720" cy="8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6600ff"/>
                  </a:solidFill>
                  <a:miter/>
                </a:ln>
                <a:solidFill>
                  <a:srgbClr val="8859c1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АВИЛА ПО УХОДУ ЗА ЗУБАМИ</a:t>
            </a:r>
            <a:endParaRPr b="0" i="1" lang="en-US" sz="3200" spc="1" strike="noStrike">
              <a:ln w="9360">
                <a:solidFill>
                  <a:srgbClr val="6600ff"/>
                </a:solidFill>
                <a:miter/>
              </a:ln>
              <a:solidFill>
                <a:srgbClr val="8859c1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WordArt 3"/>
          <p:cNvSpPr txBox="1"/>
          <p:nvPr/>
        </p:nvSpPr>
        <p:spPr>
          <a:xfrm>
            <a:off x="250920" y="1341360"/>
            <a:ext cx="756108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1.  ЧИСТИТЬ ЗУБЫ НАДО 2 РАЗА В ДЕНЬ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250920" y="2205000"/>
            <a:ext cx="83534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2. ПОЛОСКАТЬ РОТ ПОСЛЕ КАЖДОГО ПРИЕМА ПИЩ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sp>
        <p:nvSpPr>
          <p:cNvPr id="96" name="WordArt 5"/>
          <p:cNvSpPr txBox="1"/>
          <p:nvPr/>
        </p:nvSpPr>
        <p:spPr>
          <a:xfrm>
            <a:off x="250920" y="3213000"/>
            <a:ext cx="741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3. НЕОБХОДИМО ПРАВИЛЬНО ПИТАТЬС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250920" y="4221000"/>
            <a:ext cx="8424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4. НЕЛЬЗЯ ЗУБАМИ РАСКУСЫВАТЬ ТВЕРДЫЕ ПРЕДМЕТЫ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sp>
        <p:nvSpPr>
          <p:cNvPr id="98" name="WordArt 7"/>
          <p:cNvSpPr txBox="1"/>
          <p:nvPr/>
        </p:nvSpPr>
        <p:spPr>
          <a:xfrm>
            <a:off x="250920" y="5084640"/>
            <a:ext cx="8353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5. РЕКОМЕНДУЕТСЯ ПОСЕЩАТЬ СТОМАТОЛОГ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2 РАЗА В ГОД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</p:spTree>
  </p:cSld>
  <p:transition>
    <p:wheel spokes="3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30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0"/>
                            </p:stCondLst>
                            <p:childTnLst>
                              <p:par>
                                <p:cTn id="4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357120" y="2421000"/>
            <a:ext cx="8358120" cy="57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ИСОК ЛИТЕРАТУРЫ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1520" y="2998800"/>
          <a:ext cx="208080" cy="8841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666666"/>
                          </a:solidFill>
                          <a:latin typeface="Arial"/>
                          <a:ea typeface="Arial"/>
                        </a:rPr>
                        <a:t> 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Rectangle 23"/>
          <p:cNvSpPr/>
          <p:nvPr/>
        </p:nvSpPr>
        <p:spPr>
          <a:xfrm>
            <a:off x="285840" y="3512880"/>
            <a:ext cx="657216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ww pasty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убная паста—Википед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убные щетки —Википед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4" descr="паста1"/>
          <p:cNvPicPr/>
          <p:nvPr/>
        </p:nvPicPr>
        <p:blipFill>
          <a:blip r:embed="rId1"/>
          <a:stretch/>
        </p:blipFill>
        <p:spPr>
          <a:xfrm>
            <a:off x="0" y="0"/>
            <a:ext cx="9144000" cy="20764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8"/>
          <p:cNvSpPr/>
          <p:nvPr/>
        </p:nvSpPr>
        <p:spPr>
          <a:xfrm rot="20244000">
            <a:off x="6004440" y="5519880"/>
            <a:ext cx="31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НЕЦ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5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350"/>
                            </p:stCondLst>
                            <p:childTnLst>
                              <p:par>
                                <p:cTn id="4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214200" y="285840"/>
            <a:ext cx="8460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1c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c1c1d"/>
                </a:solidFill>
                <a:latin typeface="Arial"/>
              </a:rPr>
              <a:t>Иметь красивые  зубы - значит  иметь красивую улыб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1c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c1c1d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c1c1d"/>
                </a:solidFill>
                <a:latin typeface="Arial"/>
              </a:rPr>
              <a:t>Иметь красивую  улыбку  - значит быть  здоров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1c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c1c1d"/>
                </a:solidFill>
                <a:latin typeface="Arial"/>
              </a:rPr>
              <a:t>Быть здоровым – значит быть счастлив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f1"/>
          <p:cNvPicPr/>
          <p:nvPr/>
        </p:nvPicPr>
        <p:blipFill>
          <a:blip r:embed="rId1"/>
          <a:stretch/>
        </p:blipFill>
        <p:spPr>
          <a:xfrm>
            <a:off x="5508720" y="3500280"/>
            <a:ext cx="2519280" cy="3003840"/>
          </a:xfrm>
          <a:prstGeom prst="rect">
            <a:avLst/>
          </a:prstGeom>
          <a:ln w="0">
            <a:noFill/>
          </a:ln>
        </p:spPr>
      </p:pic>
    </p:spTree>
  </p:cSld>
  <p:transition advTm="0">
    <p:wedg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220"/>
                            </p:stCondLst>
                            <p:childTnLst>
                              <p:par>
                                <p:cTn id="35" nodeType="afterEffect" fill="hold" presetClass="entr" presetID="21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611280" y="404640"/>
            <a:ext cx="216036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Цель :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7" name="WordArt 3"/>
          <p:cNvSpPr txBox="1"/>
          <p:nvPr/>
        </p:nvSpPr>
        <p:spPr>
          <a:xfrm>
            <a:off x="3132000" y="620640"/>
            <a:ext cx="5761080" cy="11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Выяснить причины болезни зубов и </a:t>
            </a:r>
            <a:endParaRPr b="0" lang="en-US" sz="2000" spc="1" strike="noStrike">
              <a:ln w="9360">
                <a:solidFill>
                  <a:srgbClr val="ff66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2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условия сохранения зубов здоровыми</a:t>
            </a:r>
            <a:endParaRPr b="0" lang="en-US" sz="2000" spc="1" strike="noStrike">
              <a:ln w="9360">
                <a:solidFill>
                  <a:srgbClr val="ff66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2195640" y="2276640"/>
            <a:ext cx="4105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 :</a:t>
            </a:r>
            <a:endParaRPr b="0" lang="en-US" sz="24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755640" y="3213000"/>
            <a:ext cx="597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   </a:t>
            </a:r>
            <a:r>
              <a:rPr b="0" lang="en-US" sz="20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- УЗНАТЬ КАК УСТРОЕНЫ ЗУБЫ</a:t>
            </a:r>
            <a:endParaRPr b="0" lang="en-US" sz="2000" spc="1" strike="noStrike">
              <a:ln w="9360">
                <a:solidFill>
                  <a:srgbClr val="80008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611280" y="4149720"/>
            <a:ext cx="806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- ПОЗНАКОМИТЬСЯ С ПРАВИЛАМИ ЧИСТКИ ЗУБОВ</a:t>
            </a:r>
            <a:endParaRPr b="0" lang="en-US" sz="2000" spc="1" strike="noStrike">
              <a:ln w="9360">
                <a:solidFill>
                  <a:srgbClr val="80808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51" name="WordArt 7"/>
          <p:cNvSpPr txBox="1"/>
          <p:nvPr/>
        </p:nvSpPr>
        <p:spPr>
          <a:xfrm>
            <a:off x="684360" y="5157720"/>
            <a:ext cx="7920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- БОЛЬШЕ УЗНАТЬ О ФАКТОРАХ, ВЛИЯЮЩИХ </a:t>
            </a:r>
            <a:endParaRPr b="0" lang="en-US" sz="2000" spc="1" strike="noStrike">
              <a:ln w="9360">
                <a:solidFill>
                  <a:srgbClr val="80008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НА СОСТОЯНИЕ ЗУБОВ</a:t>
            </a:r>
            <a:endParaRPr b="0" lang="en-US" sz="2000" spc="1" strike="noStrike">
              <a:ln w="9360">
                <a:solidFill>
                  <a:srgbClr val="80008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pic>
        <p:nvPicPr>
          <p:cNvPr id="52" name="Picture 8" descr="F2DRCAJJNIY2CA1XJKB8CA70MK4SCATT44YSCA0ZVATXCAIOE0H4CA2BXXN5CAHEHEJBCAQ7BF9XCABLRMURCA9VD4VKCAKVZ35ZCAGSJ6MOCAERHLVDCA1HPXXBCAPDD0C4CAL4ZL82CAMJF003CAT9BOKY"/>
          <p:cNvPicPr/>
          <p:nvPr/>
        </p:nvPicPr>
        <p:blipFill>
          <a:blip r:embed="rId1"/>
          <a:stretch/>
        </p:blipFill>
        <p:spPr>
          <a:xfrm>
            <a:off x="7308720" y="2133720"/>
            <a:ext cx="1462320" cy="1650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8">
                                  <p:stCondLst>
                                    <p:cond delay="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500"/>
                            </p:stCondLst>
                            <p:childTnLst>
                              <p:par>
                                <p:cTn id="50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51" dur="1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5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500"/>
                            </p:stCondLst>
                            <p:childTnLst>
                              <p:par>
                                <p:cTn id="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500"/>
                            </p:stCondLst>
                            <p:childTnLst>
                              <p:par>
                                <p:cTn id="67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1000"/>
                            </p:stCondLst>
                            <p:childTnLst>
                              <p:par>
                                <p:cTn id="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1071720"/>
            <a:ext cx="892980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уб – костное  образование  во рту  для схватывания, откусывания  и разжевывания  пищ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чные  зуб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у детей  выпадают  после шести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уб мудр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появляется  ближе  к 20  годам  или позднее. Называется так, потому что   прорезается  значительно  позже  всех остальных зубов, когда  человек  становится  старше, мудр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енные  з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ы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убы  защищены  твердым  слоем  дентина,  покрытого  еще  более  прочной  белой эмалью, которая  является  самым  твердым  веществом  человеческого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тное  вещество, называющееся  цементом, соединяет  зубы  и челюстную  к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214280" y="285840"/>
            <a:ext cx="678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ff"/>
                </a:solidFill>
                <a:latin typeface="Arial"/>
              </a:rPr>
              <a:t>Какие бывают зуб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doc07"/>
          <p:cNvPicPr/>
          <p:nvPr/>
        </p:nvPicPr>
        <p:blipFill>
          <a:blip r:embed="rId2"/>
          <a:stretch/>
        </p:blipFill>
        <p:spPr>
          <a:xfrm>
            <a:off x="8088480" y="0"/>
            <a:ext cx="1055520" cy="1803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6" nodeType="afterEffect" fill="hold" presetClass="entr" presetID="19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3"/>
          <p:cNvPicPr/>
          <p:nvPr/>
        </p:nvPicPr>
        <p:blipFill>
          <a:blip r:embed="rId2"/>
          <a:stretch/>
        </p:blipFill>
        <p:spPr>
          <a:xfrm>
            <a:off x="1422360" y="0"/>
            <a:ext cx="77216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WordArt 3"/>
          <p:cNvSpPr txBox="1"/>
          <p:nvPr/>
        </p:nvSpPr>
        <p:spPr>
          <a:xfrm rot="5400000">
            <a:off x="-2402640" y="2726640"/>
            <a:ext cx="6524640" cy="1071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ОЕНИЕ ЗУБА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2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137520"/>
            <a:ext cx="9144000" cy="62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99"/>
                </a:solidFill>
                <a:latin typeface="Arial"/>
              </a:rPr>
              <a:t>Эма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маль представляет собой белую жесткую ткань, покрывающую поверхность зуб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маль на 95 % состоит из минералов и является самой прочной частью человеческого орган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льшая твердость эмали и высокое сопротивление нагрузкам обеспечивает выполнение эмалью функций жевательного инструмента, а также защищает наши зубы от внешних раздражителей и болезнетворных бактер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99"/>
                </a:solidFill>
                <a:latin typeface="Arial"/>
              </a:rPr>
              <a:t>Дес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есны - это ткань, покрывающая собой кость, которая окружает наши зуб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еобходимо постоянно поддерживать свои десны в здоровом состоянии, иначе плохой уход за деснами может привести к печальным результата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Болезнь десен может подвергнуть разрушению корни зуб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baby09"/>
          <p:cNvPicPr/>
          <p:nvPr/>
        </p:nvPicPr>
        <p:blipFill>
          <a:blip r:embed="rId1"/>
          <a:stretch/>
        </p:blipFill>
        <p:spPr>
          <a:xfrm>
            <a:off x="0" y="2928960"/>
            <a:ext cx="1728720" cy="15843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7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500"/>
                            </p:stCondLst>
                            <p:childTnLst>
                              <p:par>
                                <p:cTn id="163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9500"/>
                            </p:stCondLst>
                            <p:childTnLst>
                              <p:par>
                                <p:cTn id="176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9144000" cy="68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00"/>
                </a:solidFill>
                <a:latin typeface="Arial"/>
              </a:rPr>
              <a:t>Зубная кость (дент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ентин составляет основу зуба. Это жесткая ткань, находящаяся между эмалью и корнем зуб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аже при том, что дентин является довольно твердым веществом, он все равно нуждается в покрытии эмалью, чтобы защитить его от вредного влияния бактерий, в находящихся в слюне.</a:t>
            </a:r>
            <a:r>
              <a:rPr b="1" lang="ru-RU" sz="2600" spc="-1" strike="noStrike">
                <a:solidFill>
                  <a:srgbClr val="ff6600"/>
                </a:solidFill>
                <a:latin typeface="Arial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Пуль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ульпа - это мягкая ткань, содержащая кровеносные сосуды, нервы и связующую ткань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ульпа обеспечивает питание зуба в процессе его роста и развития. Полностью развитый зуб может обходиться и без пульпы, если эта ткань повреждена, то Ваш зубной врач может ее удали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doc02"/>
          <p:cNvPicPr/>
          <p:nvPr/>
        </p:nvPicPr>
        <p:blipFill>
          <a:blip r:embed="rId2"/>
          <a:stretch/>
        </p:blipFill>
        <p:spPr>
          <a:xfrm>
            <a:off x="7873920" y="2786040"/>
            <a:ext cx="1270080" cy="1285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5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4200"/>
                            </p:stCondLst>
                            <p:childTnLst>
                              <p:par>
                                <p:cTn id="2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5" dur="1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Разрушение твердой ткани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зубов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(или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кариес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) - чаще всего именно это заболевание является причиной поражения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зубов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ричиной болезни является кислота, которая сначала разрушает эмаль, а затем и дентин, вызывая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зубную боль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Кислую среду, которая провоцирует развитие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кариеса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, создают бактерии при переработке крахмалосодержащей или сладкой пищ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3"/>
          <p:cNvSpPr txBox="1"/>
          <p:nvPr/>
        </p:nvSpPr>
        <p:spPr>
          <a:xfrm>
            <a:off x="2340000" y="260280"/>
            <a:ext cx="4103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ffff"/>
                  </a:solidFill>
                  <a:miter/>
                </a:ln>
                <a:solidFill>
                  <a:srgbClr val="c00000"/>
                </a:solidFill>
                <a:latin typeface="Times New Roman"/>
              </a:rPr>
              <a:t>КАРИЕС</a:t>
            </a:r>
            <a:endParaRPr b="0" lang="en-US" sz="2400" spc="1" strike="noStrike">
              <a:ln w="9360">
                <a:solidFill>
                  <a:srgbClr val="ccffff"/>
                </a:solidFill>
                <a:miter/>
              </a:ln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pic>
        <p:nvPicPr>
          <p:cNvPr id="64" name="Picture 4" descr="2 КЛЯКСА"/>
          <p:cNvPicPr/>
          <p:nvPr/>
        </p:nvPicPr>
        <p:blipFill>
          <a:blip r:embed="rId2"/>
          <a:stretch/>
        </p:blipFill>
        <p:spPr>
          <a:xfrm>
            <a:off x="395280" y="404640"/>
            <a:ext cx="152388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500"/>
                            </p:stCondLst>
                            <p:childTnLst>
                              <p:par>
                                <p:cTn id="2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1 - Разрушающее действие кислоты и эрозия эмали и дентина приводит к кариесу; 2 - Воспаление пульпы причиняет острую боль; 3 - Пульпа; 4 - Дентин; 5 - Эмаль"/>
          <p:cNvPicPr/>
          <p:nvPr/>
        </p:nvPicPr>
        <p:blipFill>
          <a:blip r:embed="rId2"/>
          <a:srcRect l="9449" t="0" r="11549" b="0"/>
          <a:stretch/>
        </p:blipFill>
        <p:spPr>
          <a:xfrm>
            <a:off x="0" y="0"/>
            <a:ext cx="4363920" cy="44337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214200" y="4937760"/>
            <a:ext cx="892980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риес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в основном возникает или в потрескавшейся части зуба, или между зубами; чаще всего он поражает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олочные зубы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4286160" y="0"/>
            <a:ext cx="48578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убной кариес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является наиболее распространенной проблемой, поражающей зубы. (1 - Разрушающее действие кислоты и эрозия эмали и дентина приводит к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риесу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; 2 - Воспаление пульпы причиняет острую боль; 3 - Пульпа; 4 - Дентин; 5 - Эмал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2800"/>
                            </p:stCondLst>
                            <p:childTnLst>
                              <p:par>
                                <p:cTn id="279" nodeType="after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8:50:31Z</dcterms:created>
  <dc:creator>user</dc:creator>
  <dc:description/>
  <dc:language>en-US</dc:language>
  <cp:lastModifiedBy>Ленчик</cp:lastModifiedBy>
  <dcterms:modified xsi:type="dcterms:W3CDTF">2011-10-03T21:23:36Z</dcterms:modified>
  <cp:revision>52</cp:revision>
  <dc:subject/>
  <dc:title>Слайд 1</dc:title>
</cp:coreProperties>
</file>