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9.jpeg" ContentType="image/jpeg"/>
  <Override PartName="/ppt/media/image36.jpeg" ContentType="image/jpeg"/>
  <Override PartName="/ppt/media/image11.jpeg" ContentType="image/jpeg"/>
  <Override PartName="/ppt/media/image31.gif" ContentType="image/gif"/>
  <Override PartName="/ppt/media/image7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37.jpeg" ContentType="image/jpeg"/>
  <Override PartName="/ppt/media/image30.png" ContentType="image/png"/>
  <Override PartName="/ppt/media/image13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move the slide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0218-53C2-482F-87D1-0AC935DFA19B}" type="slidenum">
              <a:rPr b="0" lang="ru-RU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B2A5-ACD0-4FEF-B888-11A24522A233}" type="slidenum">
              <a:rPr b="0" lang="ru-RU" sz="1200" spc="-1" strike="noStrike">
                <a:solidFill>
                  <a:srgbClr val="0033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B619-65FC-4422-9729-09A041F619D3}" type="slidenum">
              <a:rPr b="0" lang="ru-RU" sz="1200" spc="-1" strike="noStrike">
                <a:solidFill>
                  <a:srgbClr val="0033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079A-6559-444D-BB2D-7DDA94C4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4D6-C7BD-4F5E-A9C9-2E93403C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4941-C2CE-416C-B1BD-65CCBD38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051D-6DA6-4AC3-9C74-2965BA42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2396-8F47-43A5-9897-A0E59923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0AE3-51BF-496F-8786-8A1A6646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9A92-9D9A-4F2A-AF40-E6DC4400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D62A-0F65-4929-9AC8-3DF71BCC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2066-67B7-45BD-ACC9-3E0F7B9F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8C93-0F37-4AF8-8F21-899174FA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DCA6-436E-43D9-A9E2-A5F75058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59BE-D5A9-4388-BBBD-12E89BEA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6640-B7CC-4287-B899-C6D89847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E105-CA2C-4783-B5B4-92F9103D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C618-F3E0-4891-835C-52C6BA56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0297-8C37-4E4C-A99D-08DB3F05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72F5-0D4D-40B0-9C8F-711F8CB8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E394-B55F-41A5-B8ED-0E46D5FE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7CA-D732-4712-8FA5-178B4F6D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866-710D-497E-BB65-1728DCE3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C5C-F8AD-4615-8365-5AB8FACA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684-1C1C-462C-B64B-614E433A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D444-EDD0-4248-8D09-25CE3FB1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3CA-5084-4DAA-85BA-4D7D80E5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58B9-DC01-4006-B7D1-A0077B707A40}" type="slidenum"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2AE1-6731-4851-A4DE-5CFEE7E2462E}" type="slidenum"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8064720" cy="12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666699"/>
                </a:solidFill>
                <a:latin typeface="Century Gothic"/>
              </a:rPr>
              <a:t>Беларуская народная педагогіка </a:t>
            </a:r>
            <a:br>
              <a:rPr sz="3600"/>
            </a:br>
            <a:r>
              <a:rPr b="1" lang="be-BY" sz="3600" spc="-1" strike="noStrike">
                <a:solidFill>
                  <a:srgbClr val="666699"/>
                </a:solidFill>
                <a:latin typeface="Century Gothic"/>
              </a:rPr>
              <a:t>ў святле</a:t>
            </a:r>
            <a:r>
              <a:rPr b="1" lang="en-US" sz="3600" spc="-1" strike="noStrike">
                <a:solidFill>
                  <a:srgbClr val="666699"/>
                </a:solidFill>
                <a:latin typeface="Century Gothic"/>
              </a:rPr>
              <a:t> </a:t>
            </a:r>
            <a:r>
              <a:rPr b="1" lang="be-BY" sz="3600" spc="-1" strike="noStrike">
                <a:solidFill>
                  <a:srgbClr val="666699"/>
                </a:solidFill>
                <a:latin typeface="Century Gothic"/>
              </a:rPr>
              <a:t>прыкмет і павер’</a:t>
            </a:r>
            <a:r>
              <a:rPr b="1" lang="en-US" sz="3600" spc="-1" strike="noStrike">
                <a:solidFill>
                  <a:srgbClr val="666699"/>
                </a:solidFill>
                <a:latin typeface="Century Gothic"/>
              </a:rPr>
              <a:t> </a:t>
            </a:r>
            <a:r>
              <a:rPr b="1" lang="be-BY" sz="3600" spc="-1" strike="noStrike">
                <a:solidFill>
                  <a:srgbClr val="666699"/>
                </a:solidFill>
                <a:latin typeface="Century Gothic"/>
              </a:rPr>
              <a:t>яў</a:t>
            </a:r>
            <a:r>
              <a:rPr b="0" lang="be-BY" sz="4000" spc="-1" strike="noStrike">
                <a:solidFill>
                  <a:srgbClr val="6666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419640" y="4652640"/>
            <a:ext cx="51098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3a566e"/>
                </a:solidFill>
                <a:latin typeface="Arial"/>
              </a:rPr>
              <a:t>Аўтар: Атрашкевіч Аляксандра, 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3a566e"/>
                </a:solidFill>
                <a:latin typeface="Arial"/>
              </a:rPr>
              <a:t>вучаніца 11”В” класса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0" y="83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3a566e"/>
                </a:solidFill>
                <a:latin typeface="Tahoma"/>
              </a:rPr>
              <a:t>ДУА «Гімназія № 10 г.</a:t>
            </a:r>
            <a:r>
              <a:rPr b="1" lang="be-BY" sz="1800" spc="-1" strike="noStrike">
                <a:solidFill>
                  <a:srgbClr val="3a566e"/>
                </a:solidFill>
                <a:latin typeface="Tahoma"/>
              </a:rPr>
              <a:t> </a:t>
            </a:r>
            <a:r>
              <a:rPr b="1" lang="be-BY" sz="2400" spc="-1" strike="noStrike">
                <a:solidFill>
                  <a:srgbClr val="3a566e"/>
                </a:solidFill>
                <a:latin typeface="Tahoma"/>
              </a:rPr>
              <a:t>Мінска»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94" name="Рисунок 1" descr=""/>
          <p:cNvPicPr/>
          <p:nvPr/>
        </p:nvPicPr>
        <p:blipFill>
          <a:blip r:embed="rId2"/>
          <a:stretch/>
        </p:blipFill>
        <p:spPr>
          <a:xfrm>
            <a:off x="870120" y="3083040"/>
            <a:ext cx="2371680" cy="2736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124000" y="1413000"/>
            <a:ext cx="4824360" cy="0"/>
          </a:xfrm>
          <a:prstGeom prst="line">
            <a:avLst/>
          </a:prstGeom>
          <a:ln w="57240">
            <a:solidFill>
              <a:srgbClr val="3a5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96" name="Picture 8" descr="K:\картинки\1215570603_donaldzolan20yi6.jpg"/>
          <p:cNvPicPr/>
          <p:nvPr/>
        </p:nvPicPr>
        <p:blipFill>
          <a:blip r:embed="rId3"/>
          <a:stretch/>
        </p:blipFill>
        <p:spPr>
          <a:xfrm>
            <a:off x="0" y="0"/>
            <a:ext cx="9304200" cy="744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K:\картинки\642590589.jpg"/>
          <p:cNvPicPr/>
          <p:nvPr/>
        </p:nvPicPr>
        <p:blipFill>
          <a:blip r:embed="rId2"/>
          <a:stretch/>
        </p:blipFill>
        <p:spPr>
          <a:xfrm>
            <a:off x="-41400" y="0"/>
            <a:ext cx="9185400" cy="6904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755640" y="4221000"/>
            <a:ext cx="7542360" cy="174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хаванне беражлівасці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важлівых адносін да бацькоў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K:\картинки\1071-2.jpg"/>
          <p:cNvPicPr/>
          <p:nvPr/>
        </p:nvPicPr>
        <p:blipFill>
          <a:blip r:embed="rId2"/>
          <a:stretch/>
        </p:blipFill>
        <p:spPr>
          <a:xfrm>
            <a:off x="5940360" y="692280"/>
            <a:ext cx="2637000" cy="2573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5113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0000"/>
                </a:solidFill>
                <a:latin typeface="Arial"/>
              </a:rPr>
              <a:t>Прыкмета</a:t>
            </a:r>
            <a:r>
              <a:rPr b="1" lang="be-BY" sz="24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1" lang="be-BY" sz="2400" spc="-1" strike="noStrike">
                <a:solidFill>
                  <a:srgbClr val="3a566e"/>
                </a:solidFill>
                <a:latin typeface="Arial"/>
              </a:rPr>
              <a:t> </a:t>
            </a:r>
            <a:r>
              <a:rPr b="1" lang="be-BY" sz="2400" spc="-1" strike="noStrike">
                <a:solidFill>
                  <a:srgbClr val="003300"/>
                </a:solidFill>
                <a:latin typeface="Arial"/>
              </a:rPr>
              <a:t>яму не трэба шыць кашулек з новага палатна, каб яно расло і, вырасшы, не траціла марна грошы.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771280" y="3357360"/>
            <a:ext cx="57610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0000"/>
                </a:solidFill>
                <a:latin typeface="Arial"/>
              </a:rPr>
              <a:t>Павер’е</a:t>
            </a:r>
            <a:r>
              <a:rPr b="1" lang="be-BY" sz="2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be-BY" sz="2400" spc="-1" strike="noStrike">
                <a:solidFill>
                  <a:srgbClr val="3a566e"/>
                </a:solidFill>
                <a:latin typeface="Arial"/>
              </a:rPr>
              <a:t> </a:t>
            </a:r>
            <a:r>
              <a:rPr b="1" lang="be-BY" sz="2400" spc="-1" strike="noStrike">
                <a:solidFill>
                  <a:srgbClr val="003300"/>
                </a:solidFill>
                <a:latin typeface="Arial"/>
              </a:rPr>
              <a:t>дзіця будзе “абжорнае” ўсё жыццё, калі праз калыску стануць перадаваць што-небудзь ядомае; “варавітае” - калі праз калыску кідаюць якія-небудзь рэчы і адзежу, і “язычлівае” - калі той, хто калыша, з некім перагаворваецца.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41" name="Picture 6" descr="031"/>
          <p:cNvPicPr/>
          <p:nvPr/>
        </p:nvPicPr>
        <p:blipFill>
          <a:blip r:embed="rId3"/>
          <a:stretch/>
        </p:blipFill>
        <p:spPr>
          <a:xfrm>
            <a:off x="641520" y="2968560"/>
            <a:ext cx="211284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979640" y="2349360"/>
            <a:ext cx="50673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Разумовае выхаванне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3645000"/>
            <a:ext cx="784872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«Па адзежы сустракаюць, а па розуму праважаюць»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42600" y="1356840"/>
            <a:ext cx="77454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3300"/>
                </a:solidFill>
                <a:latin typeface="Arial"/>
                <a:ea typeface="Arial"/>
              </a:rPr>
              <a:t>каб у дзіцяці была добрая памяць, нельга шыць на дзіцяці, бо праз гэта яно губляе памяць (“памяць зашываецца”) ;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45" name="Picture 6" descr="1381474"/>
          <p:cNvPicPr/>
          <p:nvPr/>
        </p:nvPicPr>
        <p:blipFill>
          <a:blip r:embed="rId2"/>
          <a:stretch/>
        </p:blipFill>
        <p:spPr>
          <a:xfrm>
            <a:off x="765000" y="2843280"/>
            <a:ext cx="2905200" cy="3051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3449160" y="836640"/>
            <a:ext cx="190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ff0000"/>
                </a:solidFill>
                <a:latin typeface="Candara"/>
              </a:rPr>
              <a:t>Павер’і:</a:t>
            </a:r>
            <a:r>
              <a:rPr b="1" lang="be-BY" sz="2800" spc="-1" strike="noStrike">
                <a:solidFill>
                  <a:srgbClr val="cc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7" name="Text Box 9"/>
          <p:cNvSpPr/>
          <p:nvPr/>
        </p:nvSpPr>
        <p:spPr>
          <a:xfrm flipV="1" rot="10817400">
            <a:off x="3851280" y="2923920"/>
            <a:ext cx="461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3300"/>
                </a:solidFill>
                <a:latin typeface="Arial"/>
              </a:rPr>
              <a:t>не трэба дзіцяці даваць першы спечаны блін, бо не хутка чытаць навучыцца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06472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200" spc="-1" strike="noStrike">
                <a:solidFill>
                  <a:srgbClr val="3a566e"/>
                </a:solidFill>
                <a:latin typeface="Tahoma"/>
              </a:rPr>
              <a:t>Маральнае выхаванне</a:t>
            </a:r>
            <a:r>
              <a:rPr b="1" lang="be-BY" sz="3400" spc="-1" strike="noStrike">
                <a:solidFill>
                  <a:srgbClr val="3a566e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84360" y="16286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00"/>
                </a:solidFill>
                <a:latin typeface="Candara"/>
              </a:rPr>
              <a:t>Павер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’</a:t>
            </a:r>
            <a:r>
              <a:rPr b="1" lang="be-BY" sz="2800" spc="-1" strike="noStrike">
                <a:solidFill>
                  <a:srgbClr val="ff0000"/>
                </a:solidFill>
                <a:latin typeface="Candara"/>
              </a:rPr>
              <a:t>і: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84360" y="4292640"/>
            <a:ext cx="3960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003300"/>
                </a:solidFill>
                <a:latin typeface="Arial"/>
              </a:rPr>
              <a:t>хто за ядою пакідае  недаедкі і агрызкі, таму чэрці прысняцца.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51" name="Picture 12" descr="Raub04"/>
          <p:cNvPicPr/>
          <p:nvPr/>
        </p:nvPicPr>
        <p:blipFill>
          <a:blip r:embed="rId2"/>
          <a:stretch/>
        </p:blipFill>
        <p:spPr>
          <a:xfrm>
            <a:off x="5148360" y="2852640"/>
            <a:ext cx="3384360" cy="31147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46195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61280" indent="-1612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003300"/>
                </a:solidFill>
                <a:latin typeface="Arial"/>
              </a:rPr>
              <a:t>хто мае брыдкую звычку качаць з мякіша галачку, таго на тым свеце чэрці будуць частаваць гарачай смалою;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53" name="Picture 8" descr="bread_013"/>
          <p:cNvPicPr/>
          <p:nvPr/>
        </p:nvPicPr>
        <p:blipFill>
          <a:blip r:embed="rId3"/>
          <a:stretch/>
        </p:blipFill>
        <p:spPr>
          <a:xfrm>
            <a:off x="0" y="0"/>
            <a:ext cx="9255240" cy="694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9" descr="492"/>
          <p:cNvPicPr/>
          <p:nvPr/>
        </p:nvPicPr>
        <p:blipFill>
          <a:blip r:embed="rId2"/>
          <a:stretch/>
        </p:blipFill>
        <p:spPr>
          <a:xfrm>
            <a:off x="6443640" y="836640"/>
            <a:ext cx="2160720" cy="1825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626436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200" spc="-1" strike="noStrike">
                <a:solidFill>
                  <a:srgbClr val="3a566e"/>
                </a:solidFill>
                <a:latin typeface="Arial"/>
              </a:rPr>
              <a:t>Этыкет у педагогіцы</a:t>
            </a:r>
            <a:endParaRPr b="0" lang="en-US" sz="42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55450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0000"/>
                </a:solidFill>
                <a:latin typeface="Arial"/>
              </a:rPr>
              <a:t>Павер’е: </a:t>
            </a:r>
            <a:r>
              <a:rPr b="1" lang="be-BY" sz="2400" spc="-1" strike="noStrike">
                <a:solidFill>
                  <a:srgbClr val="003300"/>
                </a:solidFill>
                <a:latin typeface="Arial"/>
              </a:rPr>
              <a:t>хто ў шапцы есць, таго людзі будуць лічыць дурнем. 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68360" y="2565000"/>
            <a:ext cx="619128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0000"/>
                </a:solidFill>
                <a:latin typeface="Arial"/>
              </a:rPr>
              <a:t>Прыкмета: </a:t>
            </a:r>
            <a:r>
              <a:rPr b="1" lang="be-BY" sz="2400" spc="-1" strike="noStrike">
                <a:solidFill>
                  <a:srgbClr val="003300"/>
                </a:solidFill>
                <a:latin typeface="Arial"/>
              </a:rPr>
              <a:t>нельга пляваць у твар чалавеку, бо на ім нязменна знаходзіцца рука Бога або анёла- ахоўніка і пляўком можна абразіць іх, а не чалавека. У выпадку, калі плявок у твар выкліканы лекавымі патрэбамі  (сурокі), трэба папярэдне і пасля  пляўка тройчы перахрысціць апляваны твар.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58" name="Picture 8" descr="history_log"/>
          <p:cNvPicPr/>
          <p:nvPr/>
        </p:nvPicPr>
        <p:blipFill>
          <a:blip r:embed="rId3"/>
          <a:stretch/>
        </p:blipFill>
        <p:spPr>
          <a:xfrm>
            <a:off x="684360" y="2565360"/>
            <a:ext cx="1476360" cy="331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84360" y="1844280"/>
            <a:ext cx="77752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ff0000"/>
                </a:solidFill>
                <a:latin typeface="Arial"/>
              </a:rPr>
              <a:t>Прыкмета: </a:t>
            </a:r>
            <a:r>
              <a:rPr b="1" lang="be-BY" sz="2600" spc="-1" strike="noStrike">
                <a:solidFill>
                  <a:srgbClr val="003300"/>
                </a:solidFill>
                <a:latin typeface="Arial"/>
              </a:rPr>
              <a:t>калі дзіця малое, то перад купаннем ваду, як сведчылі нашы продкі, трэба перахрысціць, а пасля купання пацалаваць дзіця тройчы, сплёўваючы  штораз на ваду, каб злое атагнаць.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60436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200" spc="-1" strike="noStrike">
                <a:solidFill>
                  <a:srgbClr val="3a566e"/>
                </a:solidFill>
                <a:latin typeface="Arial"/>
              </a:rPr>
              <a:t>Рэлігійнае выхаванне</a:t>
            </a:r>
            <a:endParaRPr b="0" lang="en-US" sz="42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61" name="Picture 5" descr="pogruzhenie"/>
          <p:cNvPicPr/>
          <p:nvPr/>
        </p:nvPicPr>
        <p:blipFill>
          <a:blip r:embed="rId2"/>
          <a:stretch/>
        </p:blipFill>
        <p:spPr>
          <a:xfrm>
            <a:off x="5435640" y="3836880"/>
            <a:ext cx="3241800" cy="216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5792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3a566e"/>
                </a:solidFill>
                <a:latin typeface="Arial"/>
              </a:rPr>
              <a:t>Фізічнае выхаванне</a:t>
            </a:r>
            <a:endParaRPr b="0" lang="en-US" sz="4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605772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ff0000"/>
                </a:solidFill>
                <a:latin typeface="Arial"/>
              </a:rPr>
              <a:t>Прыкмета: </a:t>
            </a:r>
            <a:r>
              <a:rPr b="1" lang="be-BY" sz="2600" spc="-1" strike="noStrike">
                <a:solidFill>
                  <a:srgbClr val="003300"/>
                </a:solidFill>
                <a:latin typeface="Arial"/>
              </a:rPr>
              <a:t>кутаць  дзіця неабходна  ў мужскую рубаху і завязваць у рукаў хлябец , і соль, і жыта, каб яму нічога злога не злучылася.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6360" y="3716280"/>
            <a:ext cx="51829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ff0000"/>
                </a:solidFill>
                <a:latin typeface="Arial"/>
              </a:rPr>
              <a:t>Павер’е: </a:t>
            </a:r>
            <a:r>
              <a:rPr b="1" lang="be-BY" sz="2600" spc="-1" strike="noStrike">
                <a:solidFill>
                  <a:srgbClr val="003300"/>
                </a:solidFill>
                <a:latin typeface="Arial"/>
              </a:rPr>
              <a:t>маці забаранялася  хадзіць на пахаванне свайго першынца, бо, па вераваннях беларусаў, гэта прывядзе да смерці астатніх дзяцей.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65" name="Picture 7" descr="rub_F_all_sm"/>
          <p:cNvPicPr/>
          <p:nvPr/>
        </p:nvPicPr>
        <p:blipFill>
          <a:blip r:embed="rId2"/>
          <a:stretch/>
        </p:blipFill>
        <p:spPr>
          <a:xfrm>
            <a:off x="6780240" y="1744560"/>
            <a:ext cx="1938240" cy="194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36986f07db16a8a6bf55745da955e1de"/>
          <p:cNvPicPr/>
          <p:nvPr/>
        </p:nvPicPr>
        <p:blipFill>
          <a:blip r:embed="rId3"/>
          <a:stretch/>
        </p:blipFill>
        <p:spPr>
          <a:xfrm>
            <a:off x="569880" y="439560"/>
            <a:ext cx="1370160" cy="1370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man_dress"/>
          <p:cNvPicPr/>
          <p:nvPr/>
        </p:nvPicPr>
        <p:blipFill>
          <a:blip r:embed="rId4"/>
          <a:stretch/>
        </p:blipFill>
        <p:spPr>
          <a:xfrm>
            <a:off x="684360" y="3429000"/>
            <a:ext cx="2305080" cy="248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4000" y="1989000"/>
            <a:ext cx="7848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ff0000"/>
                </a:solidFill>
                <a:latin typeface="Arial"/>
              </a:rPr>
              <a:t>Павер’е: </a:t>
            </a:r>
            <a:r>
              <a:rPr b="1" lang="be-BY" sz="2600" spc="-1" strike="noStrike">
                <a:solidFill>
                  <a:srgbClr val="003300"/>
                </a:solidFill>
                <a:latin typeface="Arial"/>
              </a:rPr>
              <a:t>дом трэба будаваць на стары месяц (старом). “Калі ў старом, так усё будзе добра і дом будзе доўга стаяць і моцны”. Яшчэ лічылі, што “ў панядзелак ніколі  і нідзе  не варта закладзінаў рабіць, найлепш пачынаць у суботу”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6985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400" spc="-1" strike="noStrike">
                <a:solidFill>
                  <a:srgbClr val="3a566e"/>
                </a:solidFill>
                <a:latin typeface="Tahoma"/>
              </a:rPr>
              <a:t>Патрыятычнае выхаванне</a:t>
            </a:r>
            <a:r>
              <a:rPr b="1" lang="be-BY" sz="3400" spc="-1" strike="noStrike">
                <a:solidFill>
                  <a:srgbClr val="3a566e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70" name="Picture 5" descr="house"/>
          <p:cNvPicPr/>
          <p:nvPr/>
        </p:nvPicPr>
        <p:blipFill>
          <a:blip r:embed="rId2"/>
          <a:stretch/>
        </p:blipFill>
        <p:spPr>
          <a:xfrm>
            <a:off x="5148360" y="40766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header_027"/>
          <p:cNvPicPr/>
          <p:nvPr/>
        </p:nvPicPr>
        <p:blipFill>
          <a:blip r:embed="rId3"/>
          <a:stretch/>
        </p:blipFill>
        <p:spPr>
          <a:xfrm>
            <a:off x="1692360" y="4508640"/>
            <a:ext cx="2717640" cy="1325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611280" y="155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a50021"/>
                </a:solidFill>
                <a:latin typeface="Arial"/>
              </a:rPr>
              <a:t>«Бацькоў не цурайся, а ад Радзімы не адракайся»</a:t>
            </a:r>
            <a:r>
              <a:rPr b="0" i="1" lang="be-BY" sz="1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842920" y="1915920"/>
            <a:ext cx="5761080" cy="2160360"/>
          </a:xfrm>
          <a:prstGeom prst="rect">
            <a:avLst/>
          </a:prstGeom>
          <a:noFill/>
          <a:ln w="9360">
            <a:solidFill>
              <a:srgbClr val="dae6f6">
                <a:alpha val="0"/>
              </a:srgbClr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3300"/>
                </a:solidFill>
                <a:latin typeface="Arial"/>
              </a:rPr>
              <a:t>Рэгламентуюць паводзіны бацькоў, што павінна было аказаць дабратворны ўплыў на здароўе і лёс дзіцяці.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0920" y="4365360"/>
            <a:ext cx="41749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3300"/>
                </a:solidFill>
                <a:latin typeface="Arial"/>
              </a:rPr>
              <a:t>Прадказваюць, якім  дзіця вырасце, якія рысы характару для яго будуць уласцівыя.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400" spc="-1" strike="noStrike">
                <a:solidFill>
                  <a:srgbClr val="3a566e"/>
                </a:solidFill>
                <a:latin typeface="Arial"/>
              </a:rPr>
              <a:t>Прыкметы і павер</a:t>
            </a:r>
            <a:r>
              <a:rPr b="1" lang="en-US" sz="3400" spc="-1" strike="noStrike">
                <a:solidFill>
                  <a:srgbClr val="3a566e"/>
                </a:solidFill>
                <a:latin typeface="Arial"/>
              </a:rPr>
              <a:t>’</a:t>
            </a:r>
            <a:r>
              <a:rPr b="1" lang="be-BY" sz="3400" spc="-1" strike="noStrike">
                <a:solidFill>
                  <a:srgbClr val="3a566e"/>
                </a:solidFill>
                <a:latin typeface="Arial"/>
              </a:rPr>
              <a:t>і </a:t>
            </a:r>
            <a:br>
              <a:rPr sz="3400"/>
            </a:br>
            <a:r>
              <a:rPr b="1" lang="be-BY" sz="3400" spc="-1" strike="noStrike">
                <a:solidFill>
                  <a:srgbClr val="3a566e"/>
                </a:solidFill>
                <a:latin typeface="Arial"/>
              </a:rPr>
              <a:t>ў беларускай народнай педагогіцы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76" name="Picture 7" descr="20080218131019"/>
          <p:cNvPicPr/>
          <p:nvPr/>
        </p:nvPicPr>
        <p:blipFill>
          <a:blip r:embed="rId2"/>
          <a:stretch/>
        </p:blipFill>
        <p:spPr>
          <a:xfrm>
            <a:off x="684360" y="1916280"/>
            <a:ext cx="2122200" cy="2492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mamareb3"/>
          <p:cNvPicPr/>
          <p:nvPr/>
        </p:nvPicPr>
        <p:blipFill>
          <a:blip r:embed="rId3"/>
          <a:stretch/>
        </p:blipFill>
        <p:spPr>
          <a:xfrm>
            <a:off x="4788000" y="3476520"/>
            <a:ext cx="381636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300" spc="-1" strike="noStrike">
                <a:solidFill>
                  <a:srgbClr val="3a566e"/>
                </a:solidFill>
                <a:latin typeface="Arial"/>
              </a:rPr>
              <a:t>Мэта працы</a:t>
            </a:r>
            <a:endParaRPr b="0" lang="en-US" sz="43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98" name="Picture 6" descr="school0301"/>
          <p:cNvPicPr/>
          <p:nvPr/>
        </p:nvPicPr>
        <p:blipFill>
          <a:blip r:embed="rId2"/>
          <a:stretch/>
        </p:blipFill>
        <p:spPr>
          <a:xfrm>
            <a:off x="755640" y="855720"/>
            <a:ext cx="1295280" cy="127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280" y="2205000"/>
            <a:ext cx="3745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600" spc="-1" strike="noStrike">
                <a:solidFill>
                  <a:srgbClr val="000000"/>
                </a:solidFill>
                <a:latin typeface="Century Gothic"/>
              </a:rPr>
              <a:t>Выявіць і раскрыць сістэму прыкмет і павер’яў беларусаў, праз якую нашы продкі імкнуліся выхаваць дзіця.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00" name="Picture 10" descr="34142243_Bernard_Jean_Corneille_Pothast_18821966_Mother_And_Children_In_An_Interior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643280" y="2421000"/>
            <a:ext cx="3708720" cy="307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K:\картинки\1215570602_donaldzolan05bv3.jpg"/>
          <p:cNvPicPr/>
          <p:nvPr/>
        </p:nvPicPr>
        <p:blipFill>
          <a:blip r:embed="rId4"/>
          <a:stretch/>
        </p:blipFill>
        <p:spPr>
          <a:xfrm>
            <a:off x="0" y="0"/>
            <a:ext cx="9221760" cy="702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0920" y="5792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000" spc="-1" strike="noStrike">
                <a:solidFill>
                  <a:srgbClr val="3a566e"/>
                </a:solidFill>
                <a:latin typeface="Tahoma"/>
              </a:rPr>
              <a:t>У народнай педагогіцы прываблівае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5832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be-BY" sz="2600" spc="-1" strike="noStrike">
                <a:solidFill>
                  <a:srgbClr val="cc0000"/>
                </a:solidFill>
                <a:latin typeface="Arial"/>
              </a:rPr>
              <a:t>Натуральнасць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185760" indent="-185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be-BY" sz="2600" spc="-1" strike="noStrike">
                <a:solidFill>
                  <a:srgbClr val="cc0000"/>
                </a:solidFill>
                <a:latin typeface="Arial"/>
              </a:rPr>
              <a:t>Непарыўнасць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185760" indent="-185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be-BY" sz="2600" spc="-1" strike="noStrike">
                <a:solidFill>
                  <a:srgbClr val="cc0000"/>
                </a:solidFill>
                <a:latin typeface="Arial"/>
              </a:rPr>
              <a:t>Вялікія творчыя магчымасці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92560" y="3382560"/>
            <a:ext cx="5325840" cy="26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003300"/>
                </a:solidFill>
                <a:latin typeface="Arial"/>
              </a:rPr>
              <a:t>Як і дзяржаўная афіцыйная педагогіка, яна характарызуецца</a:t>
            </a:r>
            <a:r>
              <a:rPr b="0" lang="be-BY" sz="2600" spc="-1" strike="noStrike">
                <a:solidFill>
                  <a:srgbClr val="3a566e"/>
                </a:solidFill>
                <a:latin typeface="Arial"/>
              </a:rPr>
              <a:t>  </a:t>
            </a:r>
            <a:r>
              <a:rPr b="0" lang="be-BY" sz="2600" spc="-1" strike="noStrike">
                <a:solidFill>
                  <a:srgbClr val="cc0000"/>
                </a:solidFill>
                <a:latin typeface="Arial"/>
              </a:rPr>
              <a:t>дэмакратычнасцю  і гуманнасцю</a:t>
            </a:r>
            <a:r>
              <a:rPr b="0" lang="be-BY" sz="2600" spc="-1" strike="noStrike">
                <a:solidFill>
                  <a:srgbClr val="3a566e"/>
                </a:solidFill>
                <a:latin typeface="Arial"/>
              </a:rPr>
              <a:t>, </a:t>
            </a:r>
            <a:r>
              <a:rPr b="0" lang="be-BY" sz="2600" spc="-1" strike="noStrike">
                <a:solidFill>
                  <a:srgbClr val="003300"/>
                </a:solidFill>
                <a:latin typeface="Arial"/>
              </a:rPr>
              <a:t>што  выяўляецца перш за ўсё вынікам рэалізацыі</a:t>
            </a:r>
            <a:r>
              <a:rPr b="0" lang="be-BY" sz="2600" spc="-1" strike="noStrike">
                <a:solidFill>
                  <a:srgbClr val="3a566e"/>
                </a:solidFill>
                <a:latin typeface="Arial"/>
              </a:rPr>
              <a:t> </a:t>
            </a:r>
            <a:r>
              <a:rPr b="0" lang="be-BY" sz="2600" spc="-1" strike="noStrike">
                <a:solidFill>
                  <a:srgbClr val="cc0000"/>
                </a:solidFill>
                <a:latin typeface="Arial"/>
              </a:rPr>
              <a:t>прынцыпу асобаснага падыходу да выхавання чалавека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81" name="Picture 6" descr="1071-2"/>
          <p:cNvPicPr/>
          <p:nvPr/>
        </p:nvPicPr>
        <p:blipFill>
          <a:blip r:embed="rId2"/>
          <a:stretch/>
        </p:blipFill>
        <p:spPr>
          <a:xfrm>
            <a:off x="730080" y="3454560"/>
            <a:ext cx="2448000" cy="2388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596085_normal"/>
          <p:cNvPicPr/>
          <p:nvPr/>
        </p:nvPicPr>
        <p:blipFill>
          <a:blip r:embed="rId3"/>
          <a:stretch/>
        </p:blipFill>
        <p:spPr>
          <a:xfrm>
            <a:off x="6659640" y="1571760"/>
            <a:ext cx="1849320" cy="184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280" y="2781000"/>
            <a:ext cx="768996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7600" spc="-1" strike="noStrike">
                <a:solidFill>
                  <a:srgbClr val="3a566e"/>
                </a:solidFill>
                <a:latin typeface="Goudy Stout"/>
              </a:rPr>
              <a:t>Дзякуй за ўвагу</a:t>
            </a:r>
            <a:endParaRPr b="0" lang="en-US" sz="76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620640"/>
            <a:ext cx="8820000" cy="5472360"/>
          </a:xfrm>
          <a:prstGeom prst="rightArrow">
            <a:avLst>
              <a:gd name="adj1" fmla="val 79306"/>
              <a:gd name="adj2" fmla="val 39920"/>
            </a:avLst>
          </a:prstGeom>
          <a:gradFill rotWithShape="0">
            <a:gsLst>
              <a:gs pos="0">
                <a:srgbClr val="a6bf7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060640"/>
            <a:ext cx="6337440" cy="1439640"/>
          </a:xfrm>
          <a:prstGeom prst="roundRect">
            <a:avLst>
              <a:gd name="adj" fmla="val 9106"/>
            </a:avLst>
          </a:prstGeom>
          <a:solidFill>
            <a:srgbClr val="ccff99"/>
          </a:solidFill>
          <a:ln w="57240">
            <a:solidFill>
              <a:srgbClr val="a6bf7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3a566e"/>
                </a:solidFill>
                <a:latin typeface="Tahoma"/>
              </a:rPr>
              <a:t>Раскрыць прыкметы і павер’і беларусаў</a:t>
            </a:r>
            <a:r>
              <a:rPr b="1" lang="be-BY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003300"/>
                </a:solidFill>
                <a:latin typeface="Tahoma"/>
              </a:rPr>
              <a:t>на прыкладзе </a:t>
            </a:r>
            <a:r>
              <a:rPr b="1" lang="be-BY" sz="2000" spc="-1" strike="noStrike">
                <a:solidFill>
                  <a:srgbClr val="3a566e"/>
                </a:solidFill>
                <a:latin typeface="Tahoma"/>
              </a:rPr>
              <a:t>працоўнага, патрыятычнага,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3a566e"/>
                </a:solidFill>
                <a:latin typeface="Tahoma"/>
              </a:rPr>
              <a:t>разумовага, маральнага, рэлігійнага і фізічнага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3a566e"/>
                </a:solidFill>
                <a:latin typeface="Tahoma"/>
              </a:rPr>
              <a:t>выхавання</a:t>
            </a:r>
            <a:r>
              <a:rPr b="1" lang="be-BY" sz="2000" spc="-1" strike="noStrike">
                <a:solidFill>
                  <a:srgbClr val="003300"/>
                </a:solidFill>
                <a:latin typeface="Tahoma"/>
              </a:rPr>
              <a:t> нашых продкаў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3716280"/>
            <a:ext cx="6337440" cy="1008000"/>
          </a:xfrm>
          <a:prstGeom prst="roundRect">
            <a:avLst>
              <a:gd name="adj" fmla="val 9106"/>
            </a:avLst>
          </a:prstGeom>
          <a:solidFill>
            <a:srgbClr val="ffffcc"/>
          </a:solidFill>
          <a:ln w="57240">
            <a:solidFill>
              <a:srgbClr val="a6bf7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3a566e"/>
                </a:solidFill>
                <a:latin typeface="Tahoma"/>
              </a:rPr>
              <a:t>Выявіць рысы характару беларусаў,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003300"/>
                </a:solidFill>
                <a:latin typeface="Tahoma"/>
              </a:rPr>
              <a:t>якія імкнуліся выхаваць нашы продкі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003300"/>
                </a:solidFill>
                <a:latin typeface="Tahoma"/>
              </a:rPr>
              <a:t>праз сістэму прыкмет і павер’яў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2924280"/>
            <a:ext cx="1944720" cy="79200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566e"/>
                </a:solidFill>
                <a:latin typeface="Tahoma"/>
              </a:rPr>
              <a:t>Задачы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765000"/>
            <a:ext cx="6337440" cy="1079640"/>
          </a:xfrm>
          <a:prstGeom prst="roundRect">
            <a:avLst>
              <a:gd name="adj" fmla="val 9106"/>
            </a:avLst>
          </a:prstGeom>
          <a:solidFill>
            <a:srgbClr val="ffffcc"/>
          </a:solidFill>
          <a:ln w="57240">
            <a:solidFill>
              <a:srgbClr val="a6bf7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3a566e"/>
                </a:solidFill>
                <a:latin typeface="Tahoma"/>
              </a:rPr>
              <a:t>Выявіць адметныя рысы</a:t>
            </a:r>
            <a:r>
              <a:rPr b="1" lang="be-BY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be-BY" sz="2000" spc="-1" strike="noStrike">
                <a:solidFill>
                  <a:srgbClr val="003300"/>
                </a:solidFill>
                <a:latin typeface="Tahoma"/>
              </a:rPr>
              <a:t>такога жанру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be-BY" sz="2000" spc="-1" strike="noStrike">
                <a:solidFill>
                  <a:srgbClr val="003300"/>
                </a:solidFill>
                <a:latin typeface="Tahoma"/>
              </a:rPr>
              <a:t>вуснай народнай творчасці,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003300"/>
                </a:solidFill>
                <a:latin typeface="Tahoma"/>
              </a:rPr>
              <a:t>як </a:t>
            </a:r>
            <a:r>
              <a:rPr b="1" lang="be-BY" sz="2000" spc="-1" strike="noStrike">
                <a:solidFill>
                  <a:srgbClr val="3a566e"/>
                </a:solidFill>
                <a:latin typeface="Tahoma"/>
              </a:rPr>
              <a:t>прыкметы і павер’і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941720"/>
            <a:ext cx="6337440" cy="1079640"/>
          </a:xfrm>
          <a:prstGeom prst="roundRect">
            <a:avLst>
              <a:gd name="adj" fmla="val 9106"/>
            </a:avLst>
          </a:prstGeom>
          <a:solidFill>
            <a:srgbClr val="ccff99"/>
          </a:solidFill>
          <a:ln w="57240">
            <a:solidFill>
              <a:srgbClr val="a6bf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3a566e"/>
                </a:solidFill>
                <a:latin typeface="Tahoma"/>
              </a:rPr>
              <a:t>Прасачыць, як выхаванне</a:t>
            </a:r>
            <a:r>
              <a:rPr b="1" lang="be-BY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be-BY" sz="2000" spc="-1" strike="noStrike">
                <a:solidFill>
                  <a:srgbClr val="003300"/>
                </a:solidFill>
                <a:latin typeface="Tahoma"/>
              </a:rPr>
              <a:t>адпаведных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3a566e"/>
                </a:solidFill>
                <a:latin typeface="Tahoma"/>
              </a:rPr>
              <a:t>рысаў характару</a:t>
            </a:r>
            <a:r>
              <a:rPr b="1" lang="be-BY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be-BY" sz="2000" spc="-1" strike="noStrike">
                <a:solidFill>
                  <a:srgbClr val="003300"/>
                </a:solidFill>
                <a:latin typeface="Tahoma"/>
              </a:rPr>
              <a:t>звязана з </a:t>
            </a:r>
            <a:r>
              <a:rPr b="1" lang="be-BY" sz="2000" spc="-1" strike="noStrike">
                <a:solidFill>
                  <a:srgbClr val="3a566e"/>
                </a:solidFill>
                <a:latin typeface="Tahoma"/>
              </a:rPr>
              <a:t>менталітэтам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003300"/>
                </a:solidFill>
                <a:latin typeface="Tahoma"/>
              </a:rPr>
              <a:t>беларускага народа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08" name="Picture 6" descr="K:\картинки\113583-2560x16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K:\картинки\kniga.jpg"/>
          <p:cNvPicPr/>
          <p:nvPr/>
        </p:nvPicPr>
        <p:blipFill>
          <a:blip r:embed="rId2"/>
          <a:stretch/>
        </p:blipFill>
        <p:spPr>
          <a:xfrm>
            <a:off x="0" y="0"/>
            <a:ext cx="9191520" cy="6859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Arial"/>
              </a:rPr>
              <a:t>Крыніцы</a:t>
            </a:r>
            <a:endParaRPr b="0" lang="en-US" sz="4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51280" y="5300640"/>
            <a:ext cx="3492360" cy="1557360"/>
          </a:xfrm>
          <a:prstGeom prst="rect">
            <a:avLst/>
          </a:prstGeom>
          <a:solidFill>
            <a:srgbClr val="808080">
              <a:alpha val="40000"/>
            </a:srgbClr>
          </a:solidFill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cc"/>
                </a:solidFill>
                <a:latin typeface="Candara"/>
              </a:rPr>
              <a:t>Зямля стаіць 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cc"/>
                </a:solidFill>
                <a:latin typeface="Candara"/>
              </a:rPr>
              <a:t>пасярод свету: 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cc"/>
                </a:solidFill>
                <a:latin typeface="Candara"/>
              </a:rPr>
              <a:t>Беларускія народныя прыкметы і павер’і 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12" name="Picture 6" descr="ziamla stajic_pasiarod_svietu"/>
          <p:cNvPicPr/>
          <p:nvPr/>
        </p:nvPicPr>
        <p:blipFill>
          <a:blip r:embed="rId3"/>
          <a:stretch/>
        </p:blipFill>
        <p:spPr>
          <a:xfrm rot="382800">
            <a:off x="6017760" y="1375920"/>
            <a:ext cx="3021120" cy="3807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zyccia_adviecny_lad"/>
          <p:cNvPicPr/>
          <p:nvPr/>
        </p:nvPicPr>
        <p:blipFill>
          <a:blip r:embed="rId4"/>
          <a:stretch/>
        </p:blipFill>
        <p:spPr>
          <a:xfrm rot="21313800">
            <a:off x="179280" y="1413000"/>
            <a:ext cx="3075120" cy="3887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0" y="5445000"/>
            <a:ext cx="3816360" cy="1413000"/>
          </a:xfrm>
          <a:prstGeom prst="rect">
            <a:avLst/>
          </a:prstGeom>
          <a:solidFill>
            <a:srgbClr val="80808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cc"/>
                </a:solidFill>
                <a:latin typeface="Candara"/>
              </a:rPr>
              <a:t>Жыцця адвечны лад: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cc"/>
                </a:solidFill>
                <a:latin typeface="Candara"/>
              </a:rPr>
              <a:t>Беларускія народныя прыкметы і павер’і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1360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200" spc="-1" strike="noStrike">
                <a:solidFill>
                  <a:srgbClr val="3a566e"/>
                </a:solidFill>
                <a:latin typeface="Arial"/>
              </a:rPr>
              <a:t>Актуальнасць</a:t>
            </a:r>
            <a:endParaRPr b="0" lang="en-US" sz="42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7129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003300"/>
                </a:solidFill>
                <a:latin typeface="Arial"/>
              </a:rPr>
              <a:t>Выкарыстанне прыкмет і павер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’</a:t>
            </a:r>
            <a:r>
              <a:rPr b="1" i="1" lang="be-BY" sz="2800" spc="-1" strike="noStrike">
                <a:solidFill>
                  <a:srgbClr val="003300"/>
                </a:solidFill>
                <a:latin typeface="Arial"/>
              </a:rPr>
              <a:t>я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  <a:ea typeface="Arial"/>
              </a:rPr>
              <a:t>ў у выхаванні дзіцяці дазволіць авалодаць крыніцай педагагічных ідэй, бо народная і навуковая педагогіка – адно дрэва выхавання. 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  <a:ea typeface="Arial"/>
              </a:rPr>
              <a:t>Зварот да педагагічных ідэй дазволіць выхаваць духоўна багатую і ўсебакова развітую асобу.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17" name="Picture 5" descr="K:\картинки\450668_433466.jpg"/>
          <p:cNvPicPr/>
          <p:nvPr/>
        </p:nvPicPr>
        <p:blipFill>
          <a:blip r:embed="rId2"/>
          <a:stretch/>
        </p:blipFill>
        <p:spPr>
          <a:xfrm>
            <a:off x="0" y="0"/>
            <a:ext cx="9228240" cy="6942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K:\картинки\000047.jpg"/>
          <p:cNvPicPr/>
          <p:nvPr/>
        </p:nvPicPr>
        <p:blipFill>
          <a:blip r:embed="rId1"/>
          <a:stretch/>
        </p:blipFill>
        <p:spPr>
          <a:xfrm>
            <a:off x="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00720" y="1176480"/>
            <a:ext cx="453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ацоўнае выхаванне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“</a:t>
            </a: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аца - усяму галава”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71320" y="1571400"/>
            <a:ext cx="8103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ff0000"/>
                </a:solidFill>
                <a:latin typeface="Tahoma"/>
              </a:rPr>
              <a:t>Павер’е: </a:t>
            </a:r>
            <a:r>
              <a:rPr b="0" lang="be-BY" sz="2600" spc="-1" strike="noStrike">
                <a:solidFill>
                  <a:srgbClr val="003300"/>
                </a:solidFill>
                <a:latin typeface="Tahoma"/>
              </a:rPr>
              <a:t>“першую самастойную работу трэба даваць дзіцяці менавіта ў той дзень, калі дзіця нарадзілася, не баючыся нават таго, калі гэта прыпадзе на свята: дзіця хутка зразумее работу і заўсёды будзе шчыра працаваць”.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 algn="just">
              <a:spcBef>
                <a:spcPts val="13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ahoma"/>
              </a:rPr>
              <a:t>Прыкмета</a:t>
            </a:r>
            <a:r>
              <a:rPr b="1" lang="be-BY" sz="2600" spc="-1" strike="noStrike">
                <a:solidFill>
                  <a:srgbClr val="ff0000"/>
                </a:solidFill>
                <a:latin typeface="Tahoma"/>
              </a:rPr>
              <a:t>: </a:t>
            </a:r>
            <a:r>
              <a:rPr b="0" lang="be-BY" sz="2600" spc="-1" strike="noStrike">
                <a:solidFill>
                  <a:srgbClr val="003300"/>
                </a:solidFill>
                <a:latin typeface="Tahoma"/>
              </a:rPr>
              <a:t>дзіця ў маленстве “не павінна вельмі ўлягаць у працу, бо ў будучым яно наогул будзе лянівае, у прыватнасці, будзе ўхіляцца ад любімай у дзяцінстве работы”.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357280" y="857160"/>
            <a:ext cx="4321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 u="sng">
                <a:solidFill>
                  <a:srgbClr val="3a566e"/>
                </a:solidFill>
                <a:uFillTx/>
                <a:latin typeface="Candara"/>
              </a:rPr>
              <a:t>Магія першага дня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" descr="K:\картинки\question_mark_person1.jpg"/>
          <p:cNvPicPr/>
          <p:nvPr/>
        </p:nvPicPr>
        <p:blipFill>
          <a:blip r:embed="rId1"/>
          <a:stretch/>
        </p:blipFill>
        <p:spPr>
          <a:xfrm>
            <a:off x="0" y="-19080"/>
            <a:ext cx="6877080" cy="6877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rozga"/>
          <p:cNvPicPr/>
          <p:nvPr/>
        </p:nvPicPr>
        <p:blipFill>
          <a:blip r:embed="rId2"/>
          <a:stretch/>
        </p:blipFill>
        <p:spPr>
          <a:xfrm>
            <a:off x="0" y="2928960"/>
            <a:ext cx="2952720" cy="1189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512dae735fc9a8ded8d0523a7956f390_600"/>
          <p:cNvPicPr/>
          <p:nvPr/>
        </p:nvPicPr>
        <p:blipFill>
          <a:blip r:embed="rId3"/>
          <a:stretch/>
        </p:blipFill>
        <p:spPr>
          <a:xfrm>
            <a:off x="3059280" y="3716280"/>
            <a:ext cx="3241440" cy="1501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book_8"/>
          <p:cNvPicPr/>
          <p:nvPr/>
        </p:nvPicPr>
        <p:blipFill>
          <a:blip r:embed="rId4"/>
          <a:stretch/>
        </p:blipFill>
        <p:spPr>
          <a:xfrm>
            <a:off x="6443640" y="4797360"/>
            <a:ext cx="2441520" cy="18320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4"/>
          <p:cNvSpPr/>
          <p:nvPr/>
        </p:nvSpPr>
        <p:spPr>
          <a:xfrm>
            <a:off x="258840" y="249228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996633"/>
                </a:solidFill>
                <a:latin typeface="Candara"/>
              </a:rPr>
              <a:t>Дабрачыннасць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4965480" y="3141720"/>
            <a:ext cx="14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000"/>
                </a:solidFill>
                <a:latin typeface="Candara"/>
              </a:rPr>
              <a:t>Багацце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7574760" y="4221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3a566e"/>
                </a:solidFill>
                <a:latin typeface="Candara"/>
              </a:rPr>
              <a:t>Розум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43280" y="620280"/>
            <a:ext cx="45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a50021"/>
                </a:solidFill>
                <a:latin typeface="Tahoma"/>
              </a:rPr>
              <a:t>Як  прадвызначыць будучыню дзіцяці?</a:t>
            </a:r>
            <a:endParaRPr b="0" lang="en-US" sz="32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7848360" cy="7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400" spc="-1" strike="noStrike">
                <a:solidFill>
                  <a:srgbClr val="3a566e"/>
                </a:solidFill>
                <a:latin typeface="Arial"/>
              </a:rPr>
              <a:t>Будучая прафесія дзіцяці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55640" y="1628280"/>
            <a:ext cx="590364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ff0000"/>
                </a:solidFill>
                <a:latin typeface="Arial"/>
              </a:rPr>
              <a:t>Павер’е:</a:t>
            </a:r>
            <a:r>
              <a:rPr b="0" lang="be-BY" sz="2600" spc="-1" strike="noStrike">
                <a:solidFill>
                  <a:srgbClr val="3a566e"/>
                </a:solidFill>
                <a:latin typeface="Arial"/>
              </a:rPr>
              <a:t> </a:t>
            </a:r>
            <a:r>
              <a:rPr b="0" lang="be-BY" sz="2600" spc="-1" strike="noStrike">
                <a:solidFill>
                  <a:srgbClr val="003300"/>
                </a:solidFill>
                <a:latin typeface="Arial"/>
              </a:rPr>
              <a:t>“як дзіця пачынае бавіцца з цацкамі, навучыцца іх хапаць ручкамі, трэба перад ім палажыць розныя рэчы.</a:t>
            </a:r>
            <a:r>
              <a:rPr b="0" lang="be-BY" sz="2600" spc="-1" strike="noStrike">
                <a:solidFill>
                  <a:srgbClr val="3a566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32" name="Picture 4" descr="018"/>
          <p:cNvPicPr/>
          <p:nvPr/>
        </p:nvPicPr>
        <p:blipFill>
          <a:blip r:embed="rId2"/>
          <a:stretch/>
        </p:blipFill>
        <p:spPr>
          <a:xfrm>
            <a:off x="6372360" y="2997360"/>
            <a:ext cx="2052360" cy="2968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image_31524"/>
          <p:cNvPicPr/>
          <p:nvPr/>
        </p:nvPicPr>
        <p:blipFill>
          <a:blip r:embed="rId3"/>
          <a:stretch/>
        </p:blipFill>
        <p:spPr>
          <a:xfrm>
            <a:off x="755640" y="1773360"/>
            <a:ext cx="1657440" cy="1657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755640" y="3430440"/>
            <a:ext cx="54007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003300"/>
                </a:solidFill>
                <a:latin typeface="Arial"/>
              </a:rPr>
              <a:t>За што дзіця хопіцца, к таму яно ў жыцці будзе здольным, тое яму будзе шанцаваць. Тое трэба прыкмячаць, і ў той бок кіраваць дзіця, калі хочаце, каб з яго выйшаў добры чалавек”.</a:t>
            </a: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35" name="Picture 7" descr="K:\картинки\nataliewood6.jpg"/>
          <p:cNvPicPr/>
          <p:nvPr/>
        </p:nvPicPr>
        <p:blipFill>
          <a:blip r:embed="rId4"/>
          <a:stretch/>
        </p:blipFill>
        <p:spPr>
          <a:xfrm>
            <a:off x="15840" y="0"/>
            <a:ext cx="9128160" cy="6940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7:37:06Z</dcterms:created>
  <dc:creator>Юлия</dc:creator>
  <dc:description/>
  <dc:language>en-US</dc:language>
  <cp:lastModifiedBy>пользователь</cp:lastModifiedBy>
  <dcterms:modified xsi:type="dcterms:W3CDTF">2011-12-12T09:07:06Z</dcterms:modified>
  <cp:revision>58</cp:revision>
  <dc:subject/>
  <dc:title>Беларуская народная педагогіка ў святле прыкмет і павер’яў</dc:title>
</cp:coreProperties>
</file>