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6AA8-EA6E-4F1A-86E5-044F1D9E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283D-50A8-479D-B5D8-BBA36E2A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251F-A09F-4A2B-99A6-EF68205F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0E3-9263-444B-A7C5-311A8C7F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108D-5284-4C3E-AEF4-91BBBC03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41B-D234-4FC1-88C2-6038F5D9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4A8-DFFF-4423-BEB7-08703946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AAF-AC99-4B6E-BBD0-8441897A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2C0-2B12-4120-94B0-B389AC03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FC77-757B-4B1B-B4D8-51B4D0CA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0A63-8261-4B50-A581-28280954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413-45CD-409B-BC96-A02A4238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B1E4-BF1C-4D13-85D2-2621BC21F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Экологический календарь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хаминова Ирина Назировна   учитель начальных классов  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У СОШ№2 ГП Терек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4868640"/>
            <a:ext cx="8496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Задачи: продолжать формирование экологического сознания детей; дать понятие об экологии,  о необходимости охраны природы; познакомить с экологическим календарём как проявлением культуры высокоразвитого общества,  осознавшего уникальность природы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3"/>
          <a:stretch/>
        </p:blipFill>
        <p:spPr>
          <a:xfrm>
            <a:off x="-252360" y="0"/>
            <a:ext cx="9648720" cy="702936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611280" y="765000"/>
            <a:ext cx="799308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ежду живой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неживой природой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ществует тесная 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язь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вод: человек всему живому на Земле сосе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а планета Земля - большой гостеприимный дом, в котором человек- только один из жильцов наряду с другими многочисленными равноправными жителями. Изучением отношений и связей и неживой природой, растениями и животными, природой и человеком занимается наука ЭКОЛОГИЯ. Оно происходит от двух греческих слов: «ойкос»– дом и «логос» - слово, знание. ЭКОЛОГИЯ – это наука об устройстве жизни в нашем общем доме – на планете Зем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такое календарь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Зачем нужны календар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Какие бывают календар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превратить обычный календарь в экологическ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1 января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- Всероссийский день заповед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2 марта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2 марта - Всемирный день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апреля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- Международный день п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2 апреля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– День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 июня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–Всемирный день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 октября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– Международный день защиты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Красная книг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Информиру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ка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ы животных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тений в 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2708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ризывает изу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дкие виды растений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4005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редупреждает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астение или живот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 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11640" y="522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Советует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ак сохра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дкие виды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00720" y="1341360"/>
            <a:ext cx="2716200" cy="26384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79280" y="3933720"/>
            <a:ext cx="2394000" cy="2664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3144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чез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охраняющи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321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д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148428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осстанавливающи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1480" y="256536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еопределё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8000" y="1125360"/>
            <a:ext cx="1152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484000" y="1484280"/>
            <a:ext cx="1081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125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6000" y="105264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2720" y="1484280"/>
            <a:ext cx="122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2846160" cy="31687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450040" y="3284640"/>
            <a:ext cx="2977920" cy="33130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Виды животных и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е рви лесные и полевые цветы для бук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Ходи по тропинкам, чтобы не топтать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е шуми  в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е убивай  без причины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е ломай  ветки деревьев и кустар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е загрязняй водоё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84720" y="4653000"/>
            <a:ext cx="2087640" cy="2068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093080" y="2060640"/>
            <a:ext cx="1769760" cy="1660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236000" y="5084640"/>
            <a:ext cx="1657080" cy="1473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900000" y="5157720"/>
            <a:ext cx="1965600" cy="1525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вила друзей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гиональный компон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Привести 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небрежного отношения к природе, что приведёт к экологическому неблагополуч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охраны природы, по возможности назвав учреждения и лиц, осуществляющих в нашем городе эти мероприя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бота в рабочих тетрад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Домашнее задание: стр. 48 – 51 учебника, задание №3 стр. 33 рабочей тет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25200" y="-1000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4680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НЕЖИВАЯ И ЖИВАЯ ПРИРОДА ЯВЛЕНИЯ ПРИР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3419640" y="3500280"/>
            <a:ext cx="3095640" cy="3095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Посмотри, мой милый друг,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Что находится во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Небо светло-голуб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2205000"/>
            <a:ext cx="51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олнце светит золот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3213000"/>
            <a:ext cx="525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Тучка в небе проплы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285264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етер листьями игр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3933720"/>
            <a:ext cx="2508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оле, речка и тра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4365720"/>
            <a:ext cx="4802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Горы, воздух и ли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4724280"/>
            <a:ext cx="4534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тицы, звери и ле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50846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Гром, туманы и 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5445000"/>
            <a:ext cx="59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Человек и время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Это всё вокруг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468360" y="549360"/>
            <a:ext cx="828036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ПРИРОДА</a:t>
            </a:r>
            <a:endParaRPr b="1" lang="en-US" sz="1800" spc="1" strike="noStrike">
              <a:ln w="5724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0" y="5057640"/>
            <a:ext cx="9144000" cy="1800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Объясните, что вы понимает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под словом</a:t>
            </a:r>
            <a:r>
              <a:rPr b="1" lang="en-US" sz="3600" spc="-1" strike="noStrike">
                <a:solidFill>
                  <a:srgbClr val="800000"/>
                </a:solidFill>
                <a:latin typeface="Comic Sans MS"/>
              </a:rPr>
              <a:t> «природ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6"/>
          <p:cNvSpPr txBox="1"/>
          <p:nvPr/>
        </p:nvSpPr>
        <p:spPr>
          <a:xfrm>
            <a:off x="1403280" y="189000"/>
            <a:ext cx="727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5400000"/>
                </a:gradFill>
                <a:latin typeface="Arial"/>
              </a:rPr>
              <a:t>Живая природа</a:t>
            </a:r>
            <a:endParaRPr b="1" lang="en-US" sz="1800" spc="1" strike="noStrike">
              <a:ln w="381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8"/>
          <p:cNvSpPr txBox="1"/>
          <p:nvPr/>
        </p:nvSpPr>
        <p:spPr>
          <a:xfrm>
            <a:off x="611280" y="3162240"/>
            <a:ext cx="8064360" cy="14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0099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СТЕНИЯ</a:t>
            </a:r>
            <a:endParaRPr b="1" lang="en-US" sz="1800" spc="1" strike="noStrike">
              <a:ln w="57240">
                <a:solidFill>
                  <a:srgbClr val="0099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1403280" y="189000"/>
            <a:ext cx="727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5400000"/>
                </a:gradFill>
                <a:latin typeface="Arial"/>
              </a:rPr>
              <a:t>Живая природа</a:t>
            </a:r>
            <a:endParaRPr b="1" lang="en-US" sz="1800" spc="1" strike="noStrike">
              <a:ln w="381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2050920" y="1052640"/>
            <a:ext cx="5400720" cy="5805360"/>
          </a:xfrm>
          <a:prstGeom prst="rect">
            <a:avLst/>
          </a:prstGeom>
          <a:ln w="0">
            <a:noFill/>
          </a:ln>
        </p:spPr>
      </p:pic>
      <p:sp>
        <p:nvSpPr>
          <p:cNvPr id="63" name="WordArt 6"/>
          <p:cNvSpPr txBox="1"/>
          <p:nvPr/>
        </p:nvSpPr>
        <p:spPr>
          <a:xfrm>
            <a:off x="611280" y="3162240"/>
            <a:ext cx="8064360" cy="14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ИВОТНЫЕ</a:t>
            </a:r>
            <a:endParaRPr b="1" lang="en-US" sz="1800" spc="1" strike="noStrike">
              <a:ln w="57240">
                <a:solidFill>
                  <a:srgbClr val="ff99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826920" y="260280"/>
            <a:ext cx="727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5400000"/>
                </a:gradFill>
                <a:latin typeface="Arial"/>
              </a:rPr>
              <a:t>Живая природа</a:t>
            </a:r>
            <a:endParaRPr b="1" lang="en-US" sz="1800" spc="1" strike="noStrike">
              <a:ln w="381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771640" y="1700280"/>
            <a:ext cx="3745080" cy="647640"/>
          </a:xfrm>
          <a:prstGeom prst="rect">
            <a:avLst/>
          </a:prstGeom>
          <a:solidFill>
            <a:srgbClr val="b9fff2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ЖИВЫЕ С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68360" y="3284640"/>
            <a:ext cx="2089080" cy="64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ДЫШ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3492360" y="3284640"/>
            <a:ext cx="2232000" cy="64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ПИТ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6372360" y="3357720"/>
            <a:ext cx="2232000" cy="64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РАСТ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1547640" y="5084640"/>
            <a:ext cx="309564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РАЗМНОЖ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5435640" y="5084640"/>
            <a:ext cx="223200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УМИР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 flipH="1">
            <a:off x="2195640" y="2421000"/>
            <a:ext cx="720720" cy="72072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 flipH="1">
            <a:off x="2339640" y="2492280"/>
            <a:ext cx="1368360" cy="230508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>
            <a:off x="4643280" y="2492280"/>
            <a:ext cx="0" cy="72072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5580000" y="2492280"/>
            <a:ext cx="936720" cy="237672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156360" y="2492280"/>
            <a:ext cx="576360" cy="72072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260280"/>
            <a:ext cx="727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5400000"/>
                </a:gradFill>
                <a:latin typeface="Arial"/>
              </a:rPr>
              <a:t>Неживая природа</a:t>
            </a:r>
            <a:endParaRPr b="1" lang="en-US" sz="1800" spc="1" strike="noStrike">
              <a:ln w="381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68360" y="3284640"/>
            <a:ext cx="2089080" cy="64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СОЛ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979640" y="4724280"/>
            <a:ext cx="223200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6372360" y="3357720"/>
            <a:ext cx="2232000" cy="64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5219640" y="4797360"/>
            <a:ext cx="2232000" cy="64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Г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 flipH="1">
            <a:off x="2195280" y="1413000"/>
            <a:ext cx="1655640" cy="172872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 flipH="1">
            <a:off x="3419280" y="1557360"/>
            <a:ext cx="865080" cy="287964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4932360" y="1628640"/>
            <a:ext cx="1009800" cy="273528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5724360" y="1484280"/>
            <a:ext cx="1008360" cy="172872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1908000" y="404640"/>
            <a:ext cx="604872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Предметы, сделанные </a:t>
            </a:r>
            <a:br>
              <a:rPr sz="3600"/>
            </a:b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руками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684360" y="476280"/>
            <a:ext cx="72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684360" y="2492280"/>
            <a:ext cx="2663640" cy="100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строения,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соору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372360" y="2492280"/>
            <a:ext cx="2447640" cy="100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техника,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971640" y="4149720"/>
            <a:ext cx="3097080" cy="100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произведения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4716360" y="4221000"/>
            <a:ext cx="3097440" cy="100836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предметы б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 flipH="1">
            <a:off x="2556000" y="1628640"/>
            <a:ext cx="576000" cy="7192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5076720" y="1773360"/>
            <a:ext cx="1008000" cy="22320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 flipH="1">
            <a:off x="3276720" y="1773360"/>
            <a:ext cx="1512720" cy="23032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6445080" y="1700280"/>
            <a:ext cx="503280" cy="71892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57:42Z</dcterms:created>
  <dc:creator>Admin</dc:creator>
  <dc:description/>
  <dc:language>en-US</dc:language>
  <cp:lastModifiedBy>User</cp:lastModifiedBy>
  <dcterms:modified xsi:type="dcterms:W3CDTF">2011-12-12T09:27:44Z</dcterms:modified>
  <cp:revision>8</cp:revision>
  <dc:subject/>
  <dc:title>Экологический календарь.</dc:title>
</cp:coreProperties>
</file>