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0EC-FC0D-4E27-97B9-CE5DB596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1E1-0E16-4B65-855E-17B7D1AB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4AB-2E32-4DCD-83F9-7F88CA55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A59-668F-4B9C-904C-60B33E8D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383-BD29-427E-9E5C-DEE16703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512-7BD0-471E-BA15-85B0F318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A1D-B9C4-459C-A606-2AF5B376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144-694E-4C59-A77E-BF35A89A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E40-CA3B-4091-854C-0746AFB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E09-5706-4E28-BFA1-1604088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E0F-4835-4E34-B412-3AB9472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928-62FE-472A-9BD0-944550F7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3603-CA31-4830-9A35-AFBB36811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Экологический календар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хаминова Ирина Назировна   учитель начальных классов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У СОШ№2 ГП Терек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86864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Задачи: продолжать формирование экологического сознания детей; дать понятие об экологии,  о необходимости охраны природы; познакомить с экологическим календарём как проявлением культуры высокоразвитого общества,  осознавшего уникальность природы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-252360" y="0"/>
            <a:ext cx="9648720" cy="7029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611280" y="765000"/>
            <a:ext cx="799308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жду живой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неживой природой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ществует тесная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язь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вод: человек всему живому на Земле сос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а планета Земля - большой гостеприимный дом, в котором человек- только один из жильцов наряду с другими многочисленными равноправными жителями. Изучением отношений и связей и неживой природой, растениями и животными, природой и человеком занимается наука ЭКОЛОГИЯ. Оно происходит от двух греческих слов: «ойкос»– дом и «логос» - слово, знание. ЭКОЛОГИЯ – это наука об устройстве жизни в нашем общем доме – на планете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календарь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Зачем нужны календа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акие бывают календа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евратить обычный календарь в экологическ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 январ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- Всероссийский день заповед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2 марта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2 марта - Всемирный день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апрел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- Международный день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2 апрел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– День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 июн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–Всемирный день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 октября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– Международный день защиты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Красная кни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нформир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 живот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ений в 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2708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зывает изу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дкие виды растений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4005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едупреждает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астение или живо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 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Советует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к сохра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дкие виды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00720" y="1341360"/>
            <a:ext cx="2716200" cy="263844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2394000" cy="266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314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чез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охраня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321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д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148428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осстанавлива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1480" y="25653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еопределё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8000" y="1125360"/>
            <a:ext cx="1152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84000" y="1484280"/>
            <a:ext cx="1081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2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105264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1484280"/>
            <a:ext cx="122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846160" cy="31687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450040" y="3284640"/>
            <a:ext cx="2977920" cy="33130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Виды животных и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рви лесные и полевые цветы для бук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Ходи по тропинкам, чтобы не топтать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шуми  в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убивай  без причины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ломай  ветки деревьев и кустар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загрязняй водоё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84720" y="4653000"/>
            <a:ext cx="2087640" cy="2068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093080" y="2060640"/>
            <a:ext cx="1769760" cy="166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236000" y="5084640"/>
            <a:ext cx="1657080" cy="1473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00000" y="5157720"/>
            <a:ext cx="1965600" cy="1525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вила друзе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иональный компон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ривести 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ебрежного отношения к природе, что приведёт к экологическому неблагополуч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храны природы, по возможности назвав учреждения и лиц, осуществляющих в нашем городе эти меро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а в рабочих тетрад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Домашнее задание: стр. 48 – 51 учебника, задание №3 стр. 33 рабочей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5200" y="-100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4680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НЕЖИВАЯ И ЖИВАЯ ПРИРОДА ЯВЛЕНИЯ ПРИР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3095640" cy="3095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Посмотри, мой милый друг,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Что находится в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Небо светло-голуб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205000"/>
            <a:ext cx="51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олнце светит золот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213000"/>
            <a:ext cx="525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учка в небе пропл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285264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етер листьями игр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933720"/>
            <a:ext cx="2508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ле, речка и т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4365720"/>
            <a:ext cx="480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Горы, воздух и ли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4724280"/>
            <a:ext cx="4534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тицы, звери и л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5084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Гром, туманы и 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44500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еловек и время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Это всё вокруг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468360" y="549360"/>
            <a:ext cx="8280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ПРИРОДА</a:t>
            </a:r>
            <a:endParaRPr b="1" lang="en-US" sz="1800" spc="1" strike="noStrike">
              <a:ln w="5724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5057640"/>
            <a:ext cx="9144000" cy="1800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Объясните, что вы понимае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под словом</a:t>
            </a:r>
            <a:r>
              <a:rPr b="1" lang="en-US" sz="3600" spc="-1" strike="noStrike">
                <a:solidFill>
                  <a:srgbClr val="800000"/>
                </a:solidFill>
                <a:latin typeface="Comic Sans MS"/>
              </a:rPr>
              <a:t> «природ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1403280" y="18900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5400000"/>
                </a:gradFill>
                <a:latin typeface="Arial"/>
              </a:rPr>
              <a:t>Живая природа</a:t>
            </a:r>
            <a:endParaRPr b="1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8"/>
          <p:cNvSpPr txBox="1"/>
          <p:nvPr/>
        </p:nvSpPr>
        <p:spPr>
          <a:xfrm>
            <a:off x="611280" y="3162240"/>
            <a:ext cx="80643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0099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ЕНИЯ</a:t>
            </a:r>
            <a:endParaRPr b="1" lang="en-US" sz="1800" spc="1" strike="noStrike">
              <a:ln w="57240">
                <a:solidFill>
                  <a:srgbClr val="0099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403280" y="18900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5400000"/>
                </a:gradFill>
                <a:latin typeface="Arial"/>
              </a:rPr>
              <a:t>Живая природа</a:t>
            </a:r>
            <a:endParaRPr b="1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2050920" y="1052640"/>
            <a:ext cx="5400720" cy="580536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611280" y="3162240"/>
            <a:ext cx="806436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Е</a:t>
            </a:r>
            <a:endParaRPr b="1" lang="en-US" sz="1800" spc="1" strike="noStrike">
              <a:ln w="57240">
                <a:solidFill>
                  <a:srgbClr val="ff99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826920" y="26028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5400000"/>
                </a:gradFill>
                <a:latin typeface="Arial"/>
              </a:rPr>
              <a:t>Живая природа</a:t>
            </a:r>
            <a:endParaRPr b="1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771640" y="1700280"/>
            <a:ext cx="3745080" cy="647640"/>
          </a:xfrm>
          <a:prstGeom prst="rect">
            <a:avLst/>
          </a:prstGeom>
          <a:solidFill>
            <a:srgbClr val="b9fff2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ЖИВЫЕ С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68360" y="3284640"/>
            <a:ext cx="208908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ДЫШ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492360" y="3284640"/>
            <a:ext cx="223200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ПИТ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372360" y="3357720"/>
            <a:ext cx="223200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РАС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547640" y="5084640"/>
            <a:ext cx="309564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РАЗМНОЖ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5435640" y="5084640"/>
            <a:ext cx="223200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УМИР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H="1">
            <a:off x="2195640" y="2421000"/>
            <a:ext cx="720720" cy="720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H="1">
            <a:off x="2339640" y="2492280"/>
            <a:ext cx="1368360" cy="23050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4643280" y="249228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5580000" y="2492280"/>
            <a:ext cx="936720" cy="2376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56360" y="2492280"/>
            <a:ext cx="576360" cy="720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26028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ddebcf"/>
                    </a:gs>
                  </a:gsLst>
                  <a:lin ang="5400000"/>
                </a:gradFill>
                <a:latin typeface="Arial"/>
              </a:rPr>
              <a:t>Неживая природа</a:t>
            </a:r>
            <a:endParaRPr b="1" lang="en-US" sz="1800" spc="1" strike="noStrike">
              <a:ln w="381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ddebc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8360" y="3284640"/>
            <a:ext cx="208908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979640" y="4724280"/>
            <a:ext cx="223200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372360" y="3357720"/>
            <a:ext cx="223200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219640" y="4797360"/>
            <a:ext cx="223200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2195280" y="1413000"/>
            <a:ext cx="1655640" cy="1728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 flipH="1">
            <a:off x="3419280" y="1557360"/>
            <a:ext cx="865080" cy="28796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4932360" y="1628640"/>
            <a:ext cx="1009800" cy="27352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724360" y="1484280"/>
            <a:ext cx="1008360" cy="172872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908000" y="404640"/>
            <a:ext cx="604872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Предметы, сделанные </a:t>
            </a:r>
            <a:br>
              <a:rPr sz="3600"/>
            </a:b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руками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684360" y="476280"/>
            <a:ext cx="7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84360" y="2492280"/>
            <a:ext cx="266364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строения,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соору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372360" y="2492280"/>
            <a:ext cx="244764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техника,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971640" y="4149720"/>
            <a:ext cx="3097080" cy="10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произведения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716360" y="4221000"/>
            <a:ext cx="3097440" cy="1008360"/>
          </a:xfrm>
          <a:prstGeom prst="rect">
            <a:avLst/>
          </a:prstGeom>
          <a:solidFill>
            <a:srgbClr val="ffffff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предметы 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H="1">
            <a:off x="2556000" y="1628640"/>
            <a:ext cx="576000" cy="719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5076720" y="1773360"/>
            <a:ext cx="1008000" cy="2232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 flipH="1">
            <a:off x="3276720" y="1773360"/>
            <a:ext cx="1512720" cy="230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6445080" y="1700280"/>
            <a:ext cx="503280" cy="71892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57:42Z</dcterms:created>
  <dc:creator>Admin</dc:creator>
  <dc:description/>
  <dc:language>en-US</dc:language>
  <cp:lastModifiedBy>User</cp:lastModifiedBy>
  <dcterms:modified xsi:type="dcterms:W3CDTF">2011-12-12T09:27:44Z</dcterms:modified>
  <cp:revision>8</cp:revision>
  <dc:subject/>
  <dc:title>Экологический календарь.</dc:title>
</cp:coreProperties>
</file>