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0.jpeg" ContentType="image/jpeg"/>
  <Override PartName="/ppt/media/image2.gif" ContentType="image/gif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.gif" ContentType="image/gif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4B9E-DE9C-41C8-9201-72E8B9487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ACBF-36C2-44C1-9849-71384C43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D349-1931-48BD-9F47-C7E27CB81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AF55-37CB-4044-9302-142B99F5E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EF9E-791B-4420-9F33-3302B5BCA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B226E-0F6B-4181-A63D-1F3633EB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3807-7702-43B9-A78E-A13EB247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612C3-CB2E-4C2E-A17C-777A9D97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0F3D-5705-4791-9974-4CAE0B23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21CC1-CC29-400A-A40F-A2776308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6FBAA-BE66-4272-9B64-38511E9A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2652-EEB9-443D-912E-342C7225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301C-758F-40DB-B99F-9BC02795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B38D-9619-42DD-8353-8DBAFF60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D411-0097-4F56-9DDE-0BCB1545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F780-0A05-41C5-A6E6-E4D63C79C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0AEC-415B-42BF-A92C-5A462C11E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28DF-7AFE-4CE9-94D2-55AF1C0F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A647-EF69-488B-88A4-11EA5AF6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69A5-E40C-4A5B-A9B7-94409DC0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1BED-CDEB-4E96-ACC4-975226E4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D3DB-799D-4BAC-9CAA-3D4E36E1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95FF-1832-4D01-B1F5-EE077B1F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A913-0DF2-460C-B3D0-4C9AFCA9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5653-659A-40CC-8BFC-B3B91A7FA7A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32680" y="51300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9560" y="275760"/>
                  <a:ext cx="8092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29040" y="141624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7080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73200" y="20628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299A-DFE1-4E34-95E9-4429DAA96EE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4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643320"/>
            <a:ext cx="7315200" cy="43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5400" spc="-1" strike="noStrike">
                <a:solidFill>
                  <a:srgbClr val="00b200"/>
                </a:solidFill>
                <a:latin typeface="Comic Sans MS"/>
              </a:rPr>
              <a:t>Фразеалаг</a:t>
            </a:r>
            <a:r>
              <a:rPr b="0" lang="be-BY" sz="5400" spc="-1" strike="noStrike">
                <a:solidFill>
                  <a:srgbClr val="00b200"/>
                </a:solidFill>
                <a:latin typeface="Comic Sans MS"/>
              </a:rPr>
              <a:t>ічнае багацце беларускай мовы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4" descr="weddingbells"/>
          <p:cNvPicPr/>
          <p:nvPr/>
        </p:nvPicPr>
        <p:blipFill>
          <a:blip r:embed="rId1"/>
          <a:stretch/>
        </p:blipFill>
        <p:spPr>
          <a:xfrm>
            <a:off x="357120" y="2928960"/>
            <a:ext cx="1665360" cy="1440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weddingbells"/>
          <p:cNvPicPr/>
          <p:nvPr/>
        </p:nvPicPr>
        <p:blipFill>
          <a:blip r:embed="rId2"/>
          <a:stretch/>
        </p:blipFill>
        <p:spPr>
          <a:xfrm>
            <a:off x="6572160" y="2857680"/>
            <a:ext cx="1906560" cy="1439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image920"/>
          <p:cNvPicPr/>
          <p:nvPr/>
        </p:nvPicPr>
        <p:blipFill>
          <a:blip r:embed="rId3"/>
          <a:stretch/>
        </p:blipFill>
        <p:spPr>
          <a:xfrm>
            <a:off x="574560" y="571680"/>
            <a:ext cx="1228680" cy="164304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7" descr="нар.jpg"/>
          <p:cNvPicPr/>
          <p:nvPr/>
        </p:nvPicPr>
        <p:blipFill>
          <a:blip r:embed="rId4"/>
          <a:stretch/>
        </p:blipFill>
        <p:spPr>
          <a:xfrm>
            <a:off x="6000840" y="4500720"/>
            <a:ext cx="2143080" cy="221436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8" descr="мудр.jpeg"/>
          <p:cNvPicPr/>
          <p:nvPr/>
        </p:nvPicPr>
        <p:blipFill>
          <a:blip r:embed="rId5"/>
          <a:stretch/>
        </p:blipFill>
        <p:spPr>
          <a:xfrm>
            <a:off x="2500200" y="4071960"/>
            <a:ext cx="24433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Заголовок 1" descr=""/>
          <p:cNvPicPr/>
          <p:nvPr/>
        </p:nvPicPr>
        <p:blipFill>
          <a:blip r:embed="rId2"/>
          <a:stretch/>
        </p:blipFill>
        <p:spPr>
          <a:xfrm>
            <a:off x="1073160" y="139680"/>
            <a:ext cx="6870600" cy="18972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99ccff"/>
                </a:solidFill>
                <a:latin typeface="Comic Sans MS"/>
              </a:rPr>
              <a:t>Раз- падняцца, усміхнуцца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99ccff"/>
                </a:solidFill>
                <a:latin typeface="Comic Sans MS"/>
              </a:rPr>
              <a:t>Два- сагнуцца, разагнуцца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99ccff"/>
                </a:solidFill>
                <a:latin typeface="Comic Sans MS"/>
              </a:rPr>
              <a:t>Тры- галоўкай паківаць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99ccff"/>
                </a:solidFill>
                <a:latin typeface="Comic Sans MS"/>
              </a:rPr>
              <a:t>На чатыры- рукі шырэй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99ccff"/>
                </a:solidFill>
                <a:latin typeface="Comic Sans MS"/>
              </a:rPr>
              <a:t>Пяць- рукамі памахаць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99ccff"/>
                </a:solidFill>
                <a:latin typeface="Comic Sans MS"/>
              </a:rPr>
              <a:t>Шэсць- прысесці і за парты ціха сесці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99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ffff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00080" y="151920"/>
            <a:ext cx="6215040" cy="1600200"/>
          </a:xfrm>
          <a:prstGeom prst="rect">
            <a:avLst/>
          </a:prstGeom>
          <a:solidFill>
            <a:srgbClr val="92d050"/>
          </a:solidFill>
          <a:ln w="9360">
            <a:solidFill>
              <a:srgbClr val="ff3399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400" spc="-1" strike="noStrike">
                <a:solidFill>
                  <a:srgbClr val="3333cc"/>
                </a:solidFill>
                <a:latin typeface="Comic Sans MS"/>
              </a:rPr>
              <a:t>Знатакі мовы! </a:t>
            </a:r>
            <a:br>
              <a:rPr sz="4400"/>
            </a:br>
            <a:r>
              <a:rPr b="0" lang="be-BY" sz="4400" spc="-1" strike="noStrike">
                <a:solidFill>
                  <a:srgbClr val="3333cc"/>
                </a:solidFill>
                <a:latin typeface="Comic Sans MS"/>
              </a:rPr>
              <a:t>Будзьце ўважлівымі</a:t>
            </a:r>
            <a:r>
              <a:rPr b="0" lang="be-BY" sz="4400" spc="-1" strike="noStrike">
                <a:solidFill>
                  <a:srgbClr val="6600ff"/>
                </a:solidFill>
                <a:latin typeface="Comic Sans MS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600" spc="-1" strike="noStrike">
                <a:solidFill>
                  <a:srgbClr val="000000"/>
                </a:solidFill>
                <a:latin typeface="Comic Sans MS"/>
              </a:rPr>
              <a:t>У дадзеных урыўках з твораў мастацкай літаратуры беларускіх пісьменнікаў знайсці фразеалагізмы, выпісаць і растлумачыць іх сэнс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6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800" spc="-1" strike="noStrike">
                <a:solidFill>
                  <a:srgbClr val="000000"/>
                </a:solidFill>
                <a:latin typeface="Comic Sans MS"/>
              </a:rPr>
              <a:t>Вырас ён (хлопчык) ужо, у гады ўвайшоў, а ўсё толькі з дзецьмі гуляе, як маленькі. І празвалі яго людзі Іванкам  Прастачко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800" spc="-1" strike="noStrike">
                <a:solidFill>
                  <a:srgbClr val="000000"/>
                </a:solidFill>
                <a:latin typeface="Comic Sans MS"/>
              </a:rPr>
              <a:t>Свет забыў цяпер Сымонка, скрыпцы душу ўсю аддаў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be-BY" sz="1800" spc="-1" strike="noStrike">
                <a:solidFill>
                  <a:srgbClr val="000000"/>
                </a:solidFill>
                <a:latin typeface="Comic Sans MS"/>
              </a:rPr>
              <a:t>Зараз дзяжурныя дэпо зададуць драпака ў бомбасховішча”,-шапнуў Жэня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800" spc="-1" strike="noStrike">
                <a:solidFill>
                  <a:srgbClr val="000000"/>
                </a:solidFill>
                <a:latin typeface="Comic Sans MS"/>
              </a:rPr>
              <a:t>-Толькі не рабіце перад судом дэманстрацыйных выпадаў і мітынгу. Не дражніце гусей, бо вашага пратэсту ніхто не пачуе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6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50560" y="333360"/>
            <a:ext cx="8569080" cy="597528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 u="sng">
                <a:solidFill>
                  <a:srgbClr val="ff3300"/>
                </a:solidFill>
                <a:uFillTx/>
                <a:latin typeface="Comic Sans MS"/>
              </a:rPr>
              <a:t>Праблемнае пытанне: ці з’яўляюцца фразеалагізмы членам сказа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000000"/>
                </a:solidFill>
                <a:latin typeface="Comic Sans MS"/>
              </a:rPr>
              <a:t>Не спалі ў шапку</a:t>
            </a:r>
            <a:r>
              <a:rPr b="0" lang="be-BY" sz="3200" spc="-1" strike="noStrike">
                <a:solidFill>
                  <a:srgbClr val="000000"/>
                </a:solidFill>
                <a:latin typeface="Comic Sans MS"/>
              </a:rPr>
              <a:t> і польскія патрыёт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Comic Sans MS"/>
              </a:rPr>
              <a:t>І не трэба верыць тым крыкунам, што  абяцаюць народу </a:t>
            </a:r>
            <a:r>
              <a:rPr b="1" lang="be-BY" sz="3200" spc="-1" strike="noStrike">
                <a:solidFill>
                  <a:srgbClr val="000000"/>
                </a:solidFill>
                <a:latin typeface="Comic Sans MS"/>
              </a:rPr>
              <a:t>залатыя гор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ff0000"/>
                </a:solidFill>
                <a:latin typeface="Comic Sans MS"/>
              </a:rPr>
              <a:t>Усе словы, якія ўваходзяць у склад фразеалагізма, выступаюць  у  ролі аднаго члена сказ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ffff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-642960"/>
            <a:ext cx="6870600" cy="292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000000"/>
                </a:solidFill>
                <a:latin typeface="Comic Sans MS"/>
              </a:rPr>
              <a:t>Ці ўсе словы зразумелыя ў фразеалагізмах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13880" y="1785600"/>
            <a:ext cx="76964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3333cc"/>
                </a:solidFill>
                <a:latin typeface="Comic Sans MS"/>
              </a:rPr>
              <a:t>Ні кала ні двар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Comic Sans MS"/>
              </a:rPr>
              <a:t>Слова </a:t>
            </a:r>
            <a:r>
              <a:rPr b="1" lang="be-BY" sz="3200" spc="-1" strike="noStrike">
                <a:solidFill>
                  <a:srgbClr val="3333ff"/>
                </a:solidFill>
                <a:latin typeface="Comic Sans MS"/>
              </a:rPr>
              <a:t>кол</a:t>
            </a:r>
            <a:r>
              <a:rPr b="0" lang="be-BY" sz="3200" spc="-1" strike="noStrike">
                <a:solidFill>
                  <a:srgbClr val="000000"/>
                </a:solidFill>
                <a:latin typeface="Comic Sans MS"/>
              </a:rPr>
              <a:t> некалі меў значэнне “ўчастак ворнай зямлі, надзел каля хаты”.Першапачатковае значэнне выразу было канкрэтным паказчыкам беднасці чалавека-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be-BY" sz="3200" spc="-1" strike="noStrike">
                <a:solidFill>
                  <a:srgbClr val="000000"/>
                </a:solidFill>
                <a:latin typeface="Comic Sans MS"/>
              </a:rPr>
              <a:t>ні зямлі, ні гаспадаркі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be-BY" sz="3200" spc="-1" strike="noStrike">
                <a:solidFill>
                  <a:srgbClr val="3333cc"/>
                </a:solidFill>
                <a:latin typeface="Comic Sans MS"/>
              </a:rPr>
              <a:t>Кол</a:t>
            </a:r>
            <a:r>
              <a:rPr b="0" lang="be-BY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Рисунок 3" descr="участок.jpeg"/>
          <p:cNvPicPr/>
          <p:nvPr/>
        </p:nvPicPr>
        <p:blipFill>
          <a:blip r:embed="rId1"/>
          <a:stretch/>
        </p:blipFill>
        <p:spPr>
          <a:xfrm>
            <a:off x="5429160" y="4857840"/>
            <a:ext cx="30006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7286400" cy="19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400" spc="-1" strike="noStrike">
                <a:solidFill>
                  <a:srgbClr val="000000"/>
                </a:solidFill>
                <a:latin typeface="Comic Sans MS"/>
              </a:rPr>
              <a:t>Ці ўсе словы зразумелыя ў фразеалагізмах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3333cc"/>
                </a:solidFill>
                <a:latin typeface="Comic Sans MS"/>
              </a:rPr>
              <a:t>Бібікі біц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Comic Sans MS"/>
              </a:rPr>
              <a:t>Слова </a:t>
            </a:r>
            <a:r>
              <a:rPr b="1" lang="be-BY" sz="2800" spc="-1" strike="noStrike">
                <a:solidFill>
                  <a:srgbClr val="3333cc"/>
                </a:solidFill>
                <a:latin typeface="Comic Sans MS"/>
              </a:rPr>
              <a:t>бібікі</a:t>
            </a:r>
            <a:r>
              <a:rPr b="0" lang="be-BY" sz="2800" spc="-1" strike="noStrike">
                <a:solidFill>
                  <a:srgbClr val="000000"/>
                </a:solidFill>
                <a:latin typeface="Comic Sans MS"/>
              </a:rPr>
              <a:t> ўжываецца ў значэнні “гузікі”. Гэта дае падставу даследчыкам мовы меркаваць, што першапачаткова бібікі біць мела значэнне “гуляць у пэўную гульню з гузікамі”. Пазней гэты выраз пачаў ужывацца ў значэнні “гультаяваць, бяздзейнічаць, займацца пустой бескарыснай справай”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Рисунок 4" descr="картінка.jpg"/>
          <p:cNvPicPr/>
          <p:nvPr/>
        </p:nvPicPr>
        <p:blipFill>
          <a:blip r:embed="rId2"/>
          <a:stretch/>
        </p:blipFill>
        <p:spPr>
          <a:xfrm>
            <a:off x="6858000" y="4998960"/>
            <a:ext cx="2073240" cy="185904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5" descr="пуговицы.jpeg"/>
          <p:cNvPicPr/>
          <p:nvPr/>
        </p:nvPicPr>
        <p:blipFill>
          <a:blip r:embed="rId3"/>
          <a:stretch/>
        </p:blipFill>
        <p:spPr>
          <a:xfrm rot="788400">
            <a:off x="7468920" y="1307880"/>
            <a:ext cx="1571400" cy="108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400" spc="-1" strike="noStrike">
                <a:solidFill>
                  <a:srgbClr val="6600ff"/>
                </a:solidFill>
                <a:latin typeface="Comic Sans MS"/>
              </a:rPr>
              <a:t>Знатакі мовы!</a:t>
            </a:r>
            <a:br>
              <a:rPr sz="4400"/>
            </a:br>
            <a:r>
              <a:rPr b="0" lang="be-BY" sz="4400" spc="-1" strike="noStrike">
                <a:solidFill>
                  <a:srgbClr val="6600ff"/>
                </a:solidFill>
                <a:latin typeface="Comic Sans MS"/>
              </a:rPr>
              <a:t>Будзьце ўважлівымі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642680" y="1999800"/>
            <a:ext cx="5357880" cy="407196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6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9966ff"/>
                </a:solidFill>
                <a:latin typeface="Comic Sans MS"/>
              </a:rPr>
              <a:t>З</a:t>
            </a:r>
            <a:r>
              <a:rPr b="0" lang="ru-RU" sz="2400" spc="-1" strike="noStrike">
                <a:solidFill>
                  <a:srgbClr val="9966ff"/>
                </a:solidFill>
                <a:latin typeface="Comic Sans MS"/>
              </a:rPr>
              <a:t>акончыце фразеалагізмы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6600ff"/>
                </a:solidFill>
                <a:latin typeface="Comic Sans MS"/>
              </a:rPr>
              <a:t>Як гром..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66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6600ff"/>
                </a:solidFill>
                <a:latin typeface="Comic Sans MS"/>
              </a:rPr>
              <a:t>Як дзве..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66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6600ff"/>
                </a:solidFill>
                <a:latin typeface="Comic Sans MS"/>
              </a:rPr>
              <a:t>Надзьмуўся як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66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6600ff"/>
                </a:solidFill>
                <a:latin typeface="Comic Sans MS"/>
              </a:rPr>
              <a:t>Мядзведзь наступіў..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66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6600ff"/>
                </a:solidFill>
                <a:latin typeface="Comic Sans MS"/>
              </a:rPr>
              <a:t>Камень на камені.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66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6600ff"/>
                </a:solidFill>
                <a:latin typeface="Comic Sans MS"/>
              </a:rPr>
              <a:t>Хоць кол..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66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6600ff"/>
                </a:solidFill>
                <a:latin typeface="Comic Sans MS"/>
              </a:rPr>
              <a:t>3 вялікага грому..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66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6600ff"/>
                </a:solidFill>
                <a:latin typeface="Comic Sans MS"/>
              </a:rPr>
              <a:t>Hi слыху..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66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30584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Праблемнае  пытанне :</a:t>
            </a:r>
            <a:br>
              <a:rPr sz="2800"/>
            </a:br>
            <a:r>
              <a:rPr b="1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ці могуць у фразеалагізмаў быць сінонімы і антонімы 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56760" y="2428920"/>
            <a:ext cx="8280360" cy="3395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Хоць вока выкалі (хоць іголкі збірай);   Трымаць язык за зубамі (распускаць язык)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000000"/>
                </a:solidFill>
                <a:latin typeface="Comic Sans MS"/>
              </a:rPr>
              <a:t>Блізка- рукой падаць,пад бока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000000"/>
                </a:solidFill>
                <a:latin typeface="Comic Sans MS"/>
              </a:rPr>
              <a:t>Раптоўна- як гром з яснага неба,як з-пад зямлі вырас, як з неба зваліцца, як снег на галав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b0f0"/>
            </a:gs>
            <a:gs pos="100000">
              <a:srgbClr val="ffff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ff66"/>
          </a:solidFill>
          <a:ln w="9360">
            <a:solidFill>
              <a:srgbClr val="bf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400" spc="-1" strike="noStrike">
                <a:solidFill>
                  <a:srgbClr val="666699"/>
                </a:solidFill>
                <a:latin typeface="Comic Sans MS"/>
              </a:rPr>
              <a:t>Знатакі мовы! </a:t>
            </a:r>
            <a:br>
              <a:rPr sz="4400"/>
            </a:br>
            <a:r>
              <a:rPr b="0" lang="be-BY" sz="4400" spc="-1" strike="noStrike">
                <a:solidFill>
                  <a:srgbClr val="666699"/>
                </a:solidFill>
                <a:latin typeface="Comic Sans MS"/>
              </a:rPr>
              <a:t>Будзьце ўважлівымі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13880" y="2071800"/>
            <a:ext cx="7696440" cy="3357360"/>
          </a:xfrm>
          <a:prstGeom prst="rect">
            <a:avLst/>
          </a:prstGeom>
          <a:solidFill>
            <a:srgbClr val="fff5a3"/>
          </a:solidFill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200" spc="-1" strike="noStrike">
                <a:solidFill>
                  <a:srgbClr val="000000"/>
                </a:solidFill>
                <a:latin typeface="Comic Sans MS"/>
              </a:rPr>
              <a:t>Д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а ўстойлівых словазлучэнняў  падбярыце  антанімічныя фразеалагізмы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Ні свет ні зара -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лёгкі на нагу -</a:t>
            </a:r>
            <a:r>
              <a:rPr b="0" lang="be-BY" sz="22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be-BY" sz="2200" spc="-1" strike="noStrike">
                <a:solidFill>
                  <a:srgbClr val="000000"/>
                </a:solidFill>
                <a:latin typeface="Comic Sans MS"/>
              </a:rPr>
              <a:t>Даведка: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на шапачны разбор, цяжкі на нагу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Апусціць галаву</a:t>
            </a:r>
            <a:r>
              <a:rPr b="0" lang="be-BY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рукой падаць </a:t>
            </a:r>
            <a:r>
              <a:rPr b="0" lang="be-BY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be-BY" sz="2200" spc="-1" strike="noStrike">
                <a:solidFill>
                  <a:srgbClr val="000000"/>
                </a:solidFill>
                <a:latin typeface="Comic Sans MS"/>
              </a:rPr>
              <a:t>Даведка: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задраць галаву; блізкі свет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7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f5a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400" spc="-1" strike="noStrike">
                <a:solidFill>
                  <a:srgbClr val="000000"/>
                </a:solidFill>
                <a:latin typeface="Comic Sans MS"/>
              </a:rPr>
              <a:t>Знатакі мовы! </a:t>
            </a:r>
            <a:br>
              <a:rPr sz="4400"/>
            </a:br>
            <a:r>
              <a:rPr b="0" lang="be-BY" sz="4400" spc="-1" strike="noStrike">
                <a:solidFill>
                  <a:srgbClr val="000000"/>
                </a:solidFill>
                <a:latin typeface="Comic Sans MS"/>
              </a:rPr>
              <a:t>Будзьце ўважлівымі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828440"/>
            <a:ext cx="7696080" cy="4529160"/>
          </a:xfrm>
          <a:prstGeom prst="rect">
            <a:avLst/>
          </a:prstGeom>
          <a:solidFill>
            <a:srgbClr val="fff9c2"/>
          </a:solidFill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be-BY" sz="2000" spc="-1" strike="noStrike">
                <a:solidFill>
                  <a:srgbClr val="000000"/>
                </a:solidFill>
                <a:latin typeface="Comic Sans MS"/>
              </a:rPr>
              <a:t>Да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ў i словазлучэнняў, якія </a:t>
            </a:r>
            <a:r>
              <a:rPr b="0" lang="be-BY" sz="2000" spc="-1" strike="noStrike">
                <a:solidFill>
                  <a:srgbClr val="000000"/>
                </a:solidFill>
                <a:latin typeface="Comic Sans MS"/>
              </a:rPr>
              <a:t>запісаны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падбярыце фразеалагізмы-сінонімы з ліку дадзеных </a:t>
            </a:r>
            <a:r>
              <a:rPr b="0" lang="be-BY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be-BY" sz="2000" spc="-1" strike="noStrike">
                <a:solidFill>
                  <a:srgbClr val="000000"/>
                </a:solidFill>
                <a:latin typeface="Comic Sans MS"/>
              </a:rPr>
              <a:t>Б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лізка —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обра пр</a:t>
            </a:r>
            <a:r>
              <a:rPr b="0" lang="be-BY" sz="2000" spc="-1" strike="noStrike">
                <a:solidFill>
                  <a:srgbClr val="000000"/>
                </a:solidFill>
                <a:latin typeface="Comic Sans MS"/>
              </a:rPr>
              <a:t>ацаваць-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чакана, раптоўна</a:t>
            </a:r>
            <a:r>
              <a:rPr b="0" lang="be-BY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000000"/>
                </a:solidFill>
                <a:latin typeface="Comic Sans MS"/>
              </a:rPr>
              <a:t>Даведка: п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д бокам</a:t>
            </a:r>
            <a:r>
              <a:rPr b="0" lang="be-BY" sz="2000" spc="-1" strike="noStrike">
                <a:solidFill>
                  <a:srgbClr val="000000"/>
                </a:solidFill>
                <a:latin typeface="Comic Sans MS"/>
              </a:rPr>
              <a:t>, д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 сёмага поту</a:t>
            </a:r>
            <a:r>
              <a:rPr b="0" lang="be-BY" sz="2000" spc="-1" strike="noStrike">
                <a:solidFill>
                  <a:srgbClr val="000000"/>
                </a:solidFill>
                <a:latin typeface="Comic Sans MS"/>
              </a:rPr>
              <a:t>, з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касаўшы рукавы</a:t>
            </a:r>
            <a:r>
              <a:rPr b="0" lang="be-BY" sz="2000" spc="-1" strike="noStrike">
                <a:solidFill>
                  <a:srgbClr val="000000"/>
                </a:solidFill>
                <a:latin typeface="Comic Sans MS"/>
              </a:rPr>
              <a:t>, н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ўсю моц</a:t>
            </a:r>
            <a:r>
              <a:rPr b="0" lang="be-BY" sz="2000" spc="-1" strike="noStrike">
                <a:solidFill>
                  <a:srgbClr val="000000"/>
                </a:solidFill>
                <a:latin typeface="Comic Sans MS"/>
              </a:rPr>
              <a:t>, я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 з-пад зямлі вырас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be-BY" sz="20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е без выключэння —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хлусіць, гаварыць абы-ш</a:t>
            </a:r>
            <a:r>
              <a:rPr b="0" lang="be-BY" sz="2000" spc="-1" strike="noStrike">
                <a:solidFill>
                  <a:srgbClr val="000000"/>
                </a:solidFill>
                <a:latin typeface="Comic Sans MS"/>
              </a:rPr>
              <a:t>то-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хутка бегчы —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000000"/>
                </a:solidFill>
                <a:latin typeface="Comic Sans MS"/>
              </a:rPr>
              <a:t>Даведка:  у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е як адзін</a:t>
            </a:r>
            <a:r>
              <a:rPr b="0" lang="be-BY" sz="2000" spc="-1" strike="noStrike">
                <a:solidFill>
                  <a:srgbClr val="000000"/>
                </a:solidFill>
                <a:latin typeface="Comic Sans MS"/>
              </a:rPr>
              <a:t>, н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верзці сем карабоў</a:t>
            </a:r>
            <a:r>
              <a:rPr b="0" lang="be-BY" sz="2000" spc="-1" strike="noStrike">
                <a:solidFill>
                  <a:srgbClr val="000000"/>
                </a:solidFill>
                <a:latin typeface="Comic Sans MS"/>
              </a:rPr>
              <a:t>, н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малоц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лупства</a:t>
            </a:r>
            <a:r>
              <a:rPr b="0" lang="be-BY" sz="2000" spc="-1" strike="noStrike">
                <a:solidFill>
                  <a:srgbClr val="000000"/>
                </a:solidFill>
                <a:latin typeface="Comic Sans MS"/>
              </a:rPr>
              <a:t>, я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 з прывязі сарваўс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4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4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5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5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99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1000080" y="281160"/>
          <a:ext cx="7072200" cy="6445080"/>
        </p:xfrm>
        <a:graphic>
          <a:graphicData uri="http://schemas.openxmlformats.org/drawingml/2006/table">
            <a:tbl>
              <a:tblPr/>
              <a:tblGrid>
                <a:gridCol w="3740040"/>
                <a:gridCol w="3332160"/>
              </a:tblGrid>
              <a:tr h="73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ыкметы словазлучэння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ыкметы фразеалагізма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Кожнае слова захоўвае сваё лексічнае значэнне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Словы страчваюць сваю сэнсавую самастойнасць, маюць адзіны, цэласны сэн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 Любое са слоў можна замяніць другімі словам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 У іх складзе нельга замяняць адно слова іншы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7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Ствараюцца ў працэсе маўлення, не патрабуюць запамін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Не ўтвараюцца непасрэдна ў гаворцы, гутарцы, не ствараюцца кожны раз нанава, а выкарыстоўваюцца як гатовыя, вядомыя спалучэн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8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  Кожнае слова выступае ў ролі пэўнага члена сказ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 Выступаюць у ролі аднаго члена ск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6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 Да словазлучэнняў нельга падабраць сінонімы і антонім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e-BY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0" lang="be-BY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 Да фразеалагізмаў можна     падабраць      сінонімы, антонім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28640" y="-142920"/>
            <a:ext cx="5715000" cy="22147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400" spc="-1" strike="noStrike">
                <a:solidFill>
                  <a:srgbClr val="ff0000"/>
                </a:solidFill>
                <a:latin typeface="Comic Sans MS"/>
              </a:rPr>
              <a:t>Эпіграф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549080" y="2214360"/>
            <a:ext cx="603252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600" spc="-1" strike="noStrike">
                <a:solidFill>
                  <a:srgbClr val="000000"/>
                </a:solidFill>
                <a:latin typeface="Comic Sans MS"/>
              </a:rPr>
              <a:t>Мова,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600" spc="-1" strike="noStrike">
                <a:solidFill>
                  <a:srgbClr val="000000"/>
                </a:solidFill>
                <a:latin typeface="Comic Sans MS"/>
              </a:rPr>
              <a:t>Пявучая родная мова,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600" spc="-1" strike="noStrike">
                <a:solidFill>
                  <a:srgbClr val="000000"/>
                </a:solidFill>
                <a:latin typeface="Comic Sans MS"/>
              </a:rPr>
              <a:t>Ты- уладарка нявызнаных скарбаў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600" spc="-1" strike="noStrike">
                <a:solidFill>
                  <a:srgbClr val="000000"/>
                </a:solidFill>
                <a:latin typeface="Comic Sans MS"/>
              </a:rPr>
              <a:t>Столькі значэнняў, гучанняў і фарбаў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600" spc="-1" strike="noStrike">
                <a:solidFill>
                  <a:srgbClr val="000000"/>
                </a:solidFill>
                <a:latin typeface="Comic Sans MS"/>
              </a:rPr>
              <a:t>Мае ў сабе тваё кожнае слова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600" spc="-1" strike="noStrike">
                <a:solidFill>
                  <a:srgbClr val="000000"/>
                </a:solidFill>
                <a:latin typeface="Comic Sans MS"/>
              </a:rPr>
              <a:t>Аляксей Зарыцкі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1187280" y="549360"/>
            <a:ext cx="662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анцыя “Загадкавы  свет  фразеалогіі”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4" name="Рисунок 9" descr="буратіно.jpeg"/>
          <p:cNvPicPr/>
          <p:nvPr/>
        </p:nvPicPr>
        <p:blipFill>
          <a:blip r:embed="rId3"/>
          <a:stretch/>
        </p:blipFill>
        <p:spPr>
          <a:xfrm>
            <a:off x="6643800" y="3857760"/>
            <a:ext cx="1785960" cy="165240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10" descr="images.jpeg"/>
          <p:cNvPicPr/>
          <p:nvPr/>
        </p:nvPicPr>
        <p:blipFill>
          <a:blip r:embed="rId4"/>
          <a:stretch/>
        </p:blipFill>
        <p:spPr>
          <a:xfrm>
            <a:off x="1214280" y="2143080"/>
            <a:ext cx="1857600" cy="164304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11" descr="дамоклов меч.jpeg"/>
          <p:cNvPicPr/>
          <p:nvPr/>
        </p:nvPicPr>
        <p:blipFill>
          <a:blip r:embed="rId5"/>
          <a:stretch/>
        </p:blipFill>
        <p:spPr>
          <a:xfrm>
            <a:off x="2143080" y="4286160"/>
            <a:ext cx="1785960" cy="200052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12" descr="зарубі.jpeg"/>
          <p:cNvPicPr/>
          <p:nvPr/>
        </p:nvPicPr>
        <p:blipFill>
          <a:blip r:embed="rId6"/>
          <a:stretch/>
        </p:blipFill>
        <p:spPr>
          <a:xfrm>
            <a:off x="4786200" y="4929120"/>
            <a:ext cx="1447920" cy="135756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13" descr="калос.jpeg"/>
          <p:cNvPicPr/>
          <p:nvPr/>
        </p:nvPicPr>
        <p:blipFill>
          <a:blip r:embed="rId7"/>
          <a:stretch/>
        </p:blipFill>
        <p:spPr>
          <a:xfrm>
            <a:off x="4572000" y="2071800"/>
            <a:ext cx="18572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Рисунок 14" descr="images.jpeg"/>
          <p:cNvPicPr/>
          <p:nvPr/>
        </p:nvPicPr>
        <p:blipFill>
          <a:blip r:embed="rId1"/>
          <a:srcRect l="0" t="15695" r="0" b="15695"/>
          <a:stretch/>
        </p:blipFill>
        <p:spPr>
          <a:xfrm>
            <a:off x="428760" y="3000240"/>
            <a:ext cx="2786040" cy="20005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499920" y="2571840"/>
            <a:ext cx="49230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800" spc="-1" strike="noStrike">
                <a:solidFill>
                  <a:srgbClr val="000000"/>
                </a:solidFill>
                <a:latin typeface="Comic Sans MS"/>
              </a:rPr>
              <a:t>У далёкія часы ў невялікім мястэчку здарылася пакража. Абкрадзеныя звярнуліся да знахара. Той, уважліва выслухаўшы і нічога не сказаўшы, павёў іх на базар і крыкнуў: “Гэй! Паглядзіце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be-BY" sz="1800" spc="-1" strike="noStrike">
                <a:solidFill>
                  <a:srgbClr val="000000"/>
                </a:solidFill>
                <a:latin typeface="Comic Sans MS"/>
              </a:rPr>
              <a:t>На злодзеі  шапка гарыць!” Злодзей мімаволі схапіўся за шапку і гэтым выдаў сяб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WordArt 3"/>
          <p:cNvSpPr txBox="1"/>
          <p:nvPr/>
        </p:nvSpPr>
        <p:spPr>
          <a:xfrm>
            <a:off x="1071720" y="0"/>
            <a:ext cx="6527520" cy="23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На злодзеі і шапка гарыц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250920" y="69228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WordArt 6"/>
          <p:cNvSpPr txBox="1"/>
          <p:nvPr/>
        </p:nvSpPr>
        <p:spPr>
          <a:xfrm>
            <a:off x="5857920" y="500040"/>
            <a:ext cx="112392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18900000"/>
                </a:gradFill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189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958080" cy="177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800" spc="-1" strike="noStrike">
                <a:solidFill>
                  <a:srgbClr val="00b050"/>
                </a:solidFill>
                <a:latin typeface="Comic Sans MS"/>
              </a:rPr>
              <a:t>Калос на гліняных нагах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18572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800" spc="-1" strike="noStrike">
                <a:solidFill>
                  <a:srgbClr val="000000"/>
                </a:solidFill>
                <a:latin typeface="Comic Sans MS"/>
              </a:rPr>
              <a:t>Паводле біблейскай легенды, вавілонскі цар Навухаданосар убачыў у сне велізарнага страшнага ідала, галава якога была з золата, грудзі і рукі- са срэбра, чэрава і клубы-  медныя, галёнкі- жалезныя, ногі- часткова жалезныя, часткова гліняныя. Нечакана ад гары адарваўся камень,стукнуўся па нагах ідала і разбіў іх. Ідал абрушыўся на зямлю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800" spc="-1" strike="noStrike">
                <a:solidFill>
                  <a:srgbClr val="000000"/>
                </a:solidFill>
                <a:latin typeface="Comic Sans MS"/>
              </a:rPr>
              <a:t>З тых часоў выраз калос на гліняных нагах абазначае “што- небудзь знешне вялікаснае, але на самой справе слабае, гатовае разбурыцца.”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Рисунок 3" descr="калос.jpeg"/>
          <p:cNvPicPr/>
          <p:nvPr/>
        </p:nvPicPr>
        <p:blipFill>
          <a:blip r:embed="rId1"/>
          <a:stretch/>
        </p:blipFill>
        <p:spPr>
          <a:xfrm>
            <a:off x="4572000" y="4286160"/>
            <a:ext cx="2581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6600" spc="-1" strike="noStrike">
                <a:solidFill>
                  <a:srgbClr val="9966ff"/>
                </a:solidFill>
                <a:latin typeface="Comic Sans MS"/>
              </a:rPr>
              <a:t>Дамоклаў меч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643200" y="1785600"/>
            <a:ext cx="55008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400" spc="-1" strike="noStrike">
                <a:solidFill>
                  <a:srgbClr val="000000"/>
                </a:solidFill>
                <a:latin typeface="Comic Sans MS"/>
              </a:rPr>
              <a:t>Паводле старажытнагрэчаскага падання, у Сіракузскага тырана Дыянісія Старэйшага (432- 367 гады да нашай эры) быў вяльможа Дамокл, які зайздросціў свайму ўладару і лічыў яго самым шчаслівым. Аднойчы тыран, даведаўшыся пра зайздрасць свайго падданага, запрасіў Дамокла да сябе і пасадзіў на сваё месца. Дамокл заўважыў над сваёй галавой цяжкі меч, які быў падвешаны на тонкім конскім воласе. “Вось, Дамокл,- сказаў Дыянісій, -ты лічыш маё становішча зайздросным, дык пабудзь у ім. Як ты думаеш, ці спакойны я на сваім троне?” Дамокл ад страху , што будзе перасечаны мячом, калі зробіць нязначны рух, нічога не адказаў. Ён зразумеў, што меч- знак нетрываласці шчасця Дыянісія, сімвал небяспекі, якая ўвесь час падпільноўвае тырана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400" spc="-1" strike="noStrike">
                <a:solidFill>
                  <a:srgbClr val="000000"/>
                </a:solidFill>
                <a:latin typeface="Comic Sans MS"/>
              </a:rPr>
              <a:t>З таго часу выраз дамоклаў меч мае значэнне “пастаянная небяспека, неадступная пагроза”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Рисунок 4" descr="дамоклов меч.jpeg"/>
          <p:cNvPicPr/>
          <p:nvPr/>
        </p:nvPicPr>
        <p:blipFill>
          <a:blip r:embed="rId1"/>
          <a:stretch/>
        </p:blipFill>
        <p:spPr>
          <a:xfrm>
            <a:off x="642960" y="1928880"/>
            <a:ext cx="3000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57120" y="1785600"/>
            <a:ext cx="835344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800" spc="-1" strike="noStrike">
                <a:solidFill>
                  <a:srgbClr val="000000"/>
                </a:solidFill>
                <a:latin typeface="Comic Sans MS"/>
              </a:rPr>
              <a:t>У старажытныя часы пры амаль усеагульнай непісьменнасці своеасаблівай квітанцыяй пры разліках была бірка- палачка або дошчачка, на якой выразаліся зарубкі. Кожная зарубка адпавядала пэўнаму ліку. Бірка з зарубкамі расшчэплівалася на дзве палавінкі: адна аддавалася, напрыклад, гандляру, другая- пакупніку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800" spc="-1" strike="noStrike">
                <a:solidFill>
                  <a:srgbClr val="000000"/>
                </a:solidFill>
                <a:latin typeface="Comic Sans MS"/>
              </a:rPr>
              <a:t>Калі адзін з іх губляў бірку, то ў такой сітуацыі можна было пачуць : “А ты другі раз зарубі сабе на носе, ужо не згубіш”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800" spc="-1" strike="noStrike">
                <a:solidFill>
                  <a:srgbClr val="000000"/>
                </a:solidFill>
                <a:latin typeface="Comic Sans MS"/>
              </a:rPr>
              <a:t>З той пары гэты выраз , падхоплены іншымі людзьмі, стаў агуль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800" spc="-1" strike="noStrike">
                <a:solidFill>
                  <a:srgbClr val="000000"/>
                </a:solidFill>
                <a:latin typeface="Comic Sans MS"/>
              </a:rPr>
              <a:t>наўжывальным і мае значэнне “добра запомніць”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WordArt 3"/>
          <p:cNvSpPr txBox="1"/>
          <p:nvPr/>
        </p:nvSpPr>
        <p:spPr>
          <a:xfrm>
            <a:off x="2268360" y="333360"/>
            <a:ext cx="5112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рубіць сабе  на нос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2" name="Рисунок 3" descr="буратіно.jpeg"/>
          <p:cNvPicPr/>
          <p:nvPr/>
        </p:nvPicPr>
        <p:blipFill>
          <a:blip r:embed="rId3"/>
          <a:stretch/>
        </p:blipFill>
        <p:spPr>
          <a:xfrm>
            <a:off x="6000840" y="4572000"/>
            <a:ext cx="1890720" cy="192888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4" descr="зарубі.jpeg"/>
          <p:cNvPicPr/>
          <p:nvPr/>
        </p:nvPicPr>
        <p:blipFill>
          <a:blip r:embed="rId4"/>
          <a:stretch/>
        </p:blipFill>
        <p:spPr>
          <a:xfrm>
            <a:off x="2214720" y="4714920"/>
            <a:ext cx="20001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2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ff0066"/>
                </a:solidFill>
                <a:latin typeface="Comic Sans MS"/>
              </a:rPr>
              <a:t>Станцыя “Абагульняем, сістэматызуем веды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-360" y="2000160"/>
            <a:ext cx="771516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70c0"/>
                </a:solidFill>
                <a:latin typeface="Comic Sans MS"/>
              </a:rPr>
              <a:t>   </a:t>
            </a:r>
            <a:r>
              <a:rPr b="1" lang="ru-RU" sz="7200" spc="-1" strike="noStrike">
                <a:solidFill>
                  <a:srgbClr val="0070c0"/>
                </a:solidFill>
                <a:latin typeface="Comic Sans MS"/>
              </a:rPr>
              <a:t>Выкананне       </a:t>
            </a:r>
            <a:r>
              <a:rPr b="1" lang="en-US" sz="7200" spc="-1" strike="noStrike">
                <a:solidFill>
                  <a:srgbClr val="0070c0"/>
                </a:solidFill>
                <a:latin typeface="Comic Sans MS"/>
              </a:rPr>
              <a:t>  </a:t>
            </a:r>
            <a:r>
              <a:rPr b="1" lang="ru-RU" sz="7200" spc="-1" strike="noStrike">
                <a:solidFill>
                  <a:srgbClr val="0070c0"/>
                </a:solidFill>
                <a:latin typeface="Comic Sans MS"/>
              </a:rPr>
              <a:t>міні-тэста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4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685800" y="836640"/>
            <a:ext cx="7696080" cy="4649760"/>
          </a:xfrm>
          <a:prstGeom prst="rect">
            <a:avLst/>
          </a:prstGeom>
          <a:noFill/>
          <a:ln w="9360">
            <a:solidFill>
              <a:srgbClr val="ff66cc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be-BY" sz="4800" spc="-1" strike="noStrike">
                <a:solidFill>
                  <a:srgbClr val="000000"/>
                </a:solidFill>
                <a:latin typeface="Comic Sans MS"/>
              </a:rPr>
              <a:t>Рэфлексія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000000"/>
                </a:solidFill>
                <a:latin typeface="Comic Sans MS"/>
              </a:rPr>
              <a:t>Як ты працаваў на ўроку?  Выберы фразеалагізм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)</a:t>
            </a:r>
            <a:r>
              <a:rPr b="0" lang="be-BY" sz="2000" spc="-1" strike="noStrike">
                <a:solidFill>
                  <a:srgbClr val="000000"/>
                </a:solidFill>
                <a:latin typeface="Comic Sans MS"/>
              </a:rPr>
              <a:t> З аганьком; 2) абы з рук; 3) з душой ; 4) цераз пень калоду ; 5) закасаўшы рукав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000000"/>
                </a:solidFill>
                <a:latin typeface="Comic Sans MS"/>
              </a:rPr>
              <a:t>Як ты зразумеў тэму? З чым пойдзеш з урока?Падмацуй адказ фразеалагізма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000000"/>
                </a:solidFill>
                <a:latin typeface="Comic Sans MS"/>
              </a:rPr>
              <a:t>1) Светлая галава; 2) садовая галава ; 3) пустая галава 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000000"/>
                </a:solidFill>
                <a:latin typeface="Comic Sans MS"/>
              </a:rPr>
              <a:t>4)    галава варыць ; 5) дубовая галава.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1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6" dur="2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1" dur="2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6" dur="20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1" dur="20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6" dur="20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1" dur="2000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71840" y="3429000"/>
            <a:ext cx="4214880" cy="1643040"/>
          </a:xfrm>
          <a:prstGeom prst="rect">
            <a:avLst/>
          </a:prstGeom>
          <a:solidFill>
            <a:srgbClr val="fff5a3"/>
          </a:solidFill>
          <a:ln w="9360">
            <a:solidFill>
              <a:srgbClr val="ff0066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000000"/>
                </a:solidFill>
                <a:latin typeface="Comic Sans MS"/>
              </a:rPr>
              <a:t>П.56,  1. Скласці гумарыстычны дыялог, выкарыстоўваючы фразеалагізм</a:t>
            </a:r>
            <a:br>
              <a:rPr sz="2000"/>
            </a:br>
            <a:r>
              <a:rPr b="0" lang="be-BY" sz="2000" spc="-1" strike="noStrike">
                <a:solidFill>
                  <a:srgbClr val="000000"/>
                </a:solidFill>
                <a:latin typeface="Comic Sans MS"/>
              </a:rPr>
              <a:t>  2. Практ. 555 (п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ffff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42600" y="213840"/>
            <a:ext cx="6870600" cy="364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7030a0"/>
                </a:solidFill>
                <a:latin typeface="Comic Sans MS"/>
              </a:rPr>
              <a:t>Дзякуй </a:t>
            </a:r>
            <a:br>
              <a:rPr sz="4400"/>
            </a:br>
            <a:r>
              <a:rPr b="1" lang="be-BY" sz="4400" spc="-1" strike="noStrike">
                <a:solidFill>
                  <a:srgbClr val="7030a0"/>
                </a:solidFill>
                <a:latin typeface="Comic Sans MS"/>
              </a:rPr>
              <a:t>за плённую працу!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14720" y="713880"/>
            <a:ext cx="4286160" cy="714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9966ff"/>
                </a:solidFill>
                <a:latin typeface="Comic Sans MS"/>
              </a:rPr>
              <a:t>Мэта</a:t>
            </a:r>
            <a:r>
              <a:rPr b="1" lang="ru-RU" sz="4400" spc="-1" strike="noStrike">
                <a:solidFill>
                  <a:srgbClr val="9966ff"/>
                </a:solidFill>
                <a:latin typeface="Comic Sans MS"/>
              </a:rPr>
              <a:t> ўрок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440" y="1828800"/>
            <a:ext cx="8062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Comic Sans MS"/>
              </a:rPr>
              <a:t>- п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знаёміц</a:t>
            </a:r>
            <a:r>
              <a:rPr b="0" lang="be-BY" sz="2800" spc="-1" strike="noStrike">
                <a:solidFill>
                  <a:srgbClr val="000000"/>
                </a:solidFill>
                <a:latin typeface="Comic Sans MS"/>
              </a:rPr>
              <a:t>ца  з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паняццем «фразеалагізм»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 з </a:t>
            </a:r>
            <a:r>
              <a:rPr b="0" lang="be-BY" sz="2800" spc="-1" strike="noStrike">
                <a:solidFill>
                  <a:srgbClr val="000000"/>
                </a:solidFill>
                <a:latin typeface="Comic Sans MS"/>
              </a:rPr>
              <a:t> адметнасцямі,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саблівасцямі  ўжывання   фразеалагізмаў  у  </a:t>
            </a:r>
            <a:r>
              <a:rPr b="0" lang="be-BY" sz="2800" spc="-1" strike="noStrike">
                <a:solidFill>
                  <a:srgbClr val="000000"/>
                </a:solidFill>
                <a:latin typeface="Comic Sans MS"/>
              </a:rPr>
              <a:t>мов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 папоўніць фразеалагічны слоўнік </a:t>
            </a:r>
            <a:r>
              <a:rPr b="0" lang="be-BY" sz="2800" spc="-1" strike="noStrike">
                <a:solidFill>
                  <a:srgbClr val="000000"/>
                </a:solidFill>
                <a:latin typeface="Comic Sans MS"/>
              </a:rPr>
              <a:t>кожнага вучн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be-B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be-BY" sz="2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звіваць уменні і навыкі выкарыстання фразеалагізмаў  у маўленні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ffff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ff"/>
                </a:solidFill>
                <a:latin typeface="Comic Sans MS"/>
              </a:rPr>
              <a:t>Станцыя </a:t>
            </a:r>
            <a:br>
              <a:rPr sz="3200"/>
            </a:br>
            <a:r>
              <a:rPr b="1" lang="ru-RU" sz="3200" spc="-1" strike="noStrike">
                <a:solidFill>
                  <a:srgbClr val="9966ff"/>
                </a:solidFill>
                <a:latin typeface="Comic Sans MS"/>
              </a:rPr>
              <a:t>«Фразеалагічная размінка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79280" y="1413000"/>
            <a:ext cx="8713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а каго гавораць, што ён вады не замуціць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be-BY" sz="2800" spc="-1" strike="noStrike">
                <a:solidFill>
                  <a:srgbClr val="ff0000"/>
                </a:solidFill>
                <a:latin typeface="Times New Roman"/>
              </a:rPr>
              <a:t>Што можна назваць казкаю пра белага бычка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be-BY" sz="2800" spc="-1" strike="noStrike">
                <a:solidFill>
                  <a:srgbClr val="ff0000"/>
                </a:solidFill>
                <a:latin typeface="Times New Roman"/>
              </a:rPr>
              <a:t>Пра каго можна сказаць, што ён кату па пяту або   вераб’ю па калена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be-BY" sz="2800" spc="-1" strike="noStrike">
                <a:solidFill>
                  <a:srgbClr val="ff0000"/>
                </a:solidFill>
                <a:latin typeface="Times New Roman"/>
              </a:rPr>
              <a:t>Што значыць прыйсці ў свіныя галасы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be-BY" sz="2800" spc="-1" strike="noStrike">
                <a:solidFill>
                  <a:srgbClr val="ff0000"/>
                </a:solidFill>
                <a:latin typeface="Times New Roman"/>
              </a:rPr>
              <a:t>Пра каго кажуць, што ён выйшаў у людзі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10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10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755640" y="1413000"/>
            <a:ext cx="76960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Comic Sans MS"/>
              </a:rPr>
              <a:t>Фразеалогія ( ад грэч.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hrasis </a:t>
            </a:r>
            <a:r>
              <a:rPr b="0" lang="be-BY" sz="2800" spc="-1" strike="noStrike">
                <a:solidFill>
                  <a:srgbClr val="000000"/>
                </a:solidFill>
                <a:latin typeface="Comic Sans MS"/>
              </a:rPr>
              <a:t>-  “выраз” і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gos-</a:t>
            </a:r>
            <a:r>
              <a:rPr b="0" lang="be-BY" sz="2800" spc="-1" strike="noStrike">
                <a:solidFill>
                  <a:srgbClr val="000000"/>
                </a:solidFill>
                <a:latin typeface="Comic Sans MS"/>
              </a:rPr>
              <a:t>“навука, вучэнне”)  - раздзел навукі пра мову, які вывучае і апісвае фразеалагізмы, іх паходжанне, значэнне і класіфікацы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Comic Sans MS"/>
              </a:rPr>
              <a:t>Фразеалагізм (фразема)- устойлівае спалучэнне слоў з адзіным цэласным значэнне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WordArt 5"/>
          <p:cNvSpPr txBox="1"/>
          <p:nvPr/>
        </p:nvSpPr>
        <p:spPr>
          <a:xfrm>
            <a:off x="611280" y="260280"/>
            <a:ext cx="7416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eorgia"/>
              </a:rPr>
              <a:t>СТАНЦыЯ   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eorgia"/>
              </a:rPr>
              <a:t>  </a:t>
            </a: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eorgia"/>
              </a:rPr>
              <a:t>«Тэрміналагічная"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ff"/>
            </a:gs>
            <a:gs pos="100000">
              <a:srgbClr val="ffe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5"/>
          <p:cNvSpPr txBox="1"/>
          <p:nvPr/>
        </p:nvSpPr>
        <p:spPr>
          <a:xfrm>
            <a:off x="468360" y="1844640"/>
            <a:ext cx="84884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анцыя “Назіраем, робім высновы”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ff7c8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352000" cy="14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роблем</a:t>
            </a:r>
            <a:r>
              <a:rPr b="1" lang="be-BY" sz="3200" spc="-1" strike="noStrike">
                <a:solidFill>
                  <a:srgbClr val="000000"/>
                </a:solidFill>
                <a:latin typeface="Comic Sans MS"/>
              </a:rPr>
              <a:t>нае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пытанне: ц</a:t>
            </a:r>
            <a:r>
              <a:rPr b="1" lang="be-BY" sz="3200" spc="-1" strike="noStrike">
                <a:solidFill>
                  <a:srgbClr val="000000"/>
                </a:solidFill>
                <a:latin typeface="Comic Sans MS"/>
              </a:rPr>
              <a:t>і адрозніваюцца словазлучэнні ад фразеалагізмаў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828440"/>
            <a:ext cx="7696080" cy="43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000000"/>
                </a:solidFill>
                <a:latin typeface="Comic Sans MS"/>
              </a:rPr>
              <a:t>Бела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Comic Sans MS"/>
              </a:rPr>
              <a:t>вопратк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Comic Sans MS"/>
              </a:rPr>
              <a:t>хустк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Comic Sans MS"/>
              </a:rPr>
              <a:t>дошк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Comic Sans MS"/>
              </a:rPr>
              <a:t>варон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Comic Sans MS"/>
              </a:rPr>
              <a:t>Белая варона = чалавек, які выдзяляецца паводзінамі  ці знешнасцю сярод іншых людзе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2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ffff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6199200" cy="110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7030a0"/>
                </a:solidFill>
                <a:latin typeface="Comic Sans MS"/>
              </a:rPr>
              <a:t>Праявіце  кемлівасць: адрозніце словазлучэнні ад фразеалагізм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714680" y="1857240"/>
            <a:ext cx="5667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be-BY" sz="3200" spc="-1" strike="noStrike">
                <a:solidFill>
                  <a:srgbClr val="000000"/>
                </a:solidFill>
                <a:latin typeface="Comic Sans MS"/>
              </a:rPr>
              <a:t>Піса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Comic Sans MS"/>
              </a:rPr>
              <a:t>на дошцы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Comic Sans MS"/>
              </a:rPr>
              <a:t>у сшытку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Comic Sans MS"/>
              </a:rPr>
              <a:t>прыгож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Comic Sans MS"/>
              </a:rPr>
              <a:t>віламі па вадз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ff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000000"/>
                </a:solidFill>
                <a:latin typeface="Comic Sans MS"/>
              </a:rPr>
              <a:t>Ці можна так казаць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Comic Sans MS"/>
              </a:rPr>
              <a:t>Хлопчыка вымушаны былі вывесці 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Comic Sans MS"/>
              </a:rPr>
              <a:t>светлую ваду  ( вывесці на чыстую ваду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be-BY" sz="3200" spc="-1" strike="noStrike">
                <a:solidFill>
                  <a:srgbClr val="000000"/>
                </a:solidFill>
                <a:latin typeface="Comic Sans MS"/>
              </a:rPr>
              <a:t>Ён кату па кіпці ( кату па пяту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be-BY" sz="3200" spc="-1" strike="noStrike">
                <a:solidFill>
                  <a:srgbClr val="ff3399"/>
                </a:solidFill>
                <a:latin typeface="Comic Sans MS"/>
              </a:rPr>
              <a:t>У фразеалагізмах нельга замяняц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ff3399"/>
                </a:solidFill>
                <a:latin typeface="Comic Sans MS"/>
              </a:rPr>
              <a:t>словы, яны маюць адзіны цэласны сэнс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Юлия</dc:creator>
  <dc:description/>
  <dc:language>en-US</dc:language>
  <cp:lastModifiedBy>Юлия</cp:lastModifiedBy>
  <dcterms:modified xsi:type="dcterms:W3CDTF">2011-04-07T16:07:51Z</dcterms:modified>
  <cp:revision>68</cp:revision>
  <dc:subject/>
  <dc:title>PowerPoint Presentation</dc:title>
</cp:coreProperties>
</file>