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.gif" ContentType="image/gi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A2F-2FBE-4B9C-98F9-03D7B424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360-0002-4E86-94AE-3A659258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0E4-59AC-4EC9-84D9-FC58727A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52C-35E8-40DB-BCB2-079310DF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EBE7-9310-49FB-B9B4-F856A416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233E-7FA5-4CB3-A9E6-EBB18FA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432-335D-44EB-BAA5-85D9077F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27A7-B7BD-44A4-B37B-2378539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4D46-016D-48B9-9F2D-A538945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40CB-F8C6-4301-A394-B480DEC1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9C75-E23A-4C8A-ACE3-48BD6FC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14E-2891-4807-B012-84053117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A8F5-4ABE-46C4-B2A9-D17670F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C977-EB05-43FF-BD58-C7B7BC0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96B2-AE4F-42A7-9268-F12D4152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8901-DDF6-4C76-B728-5682FFA6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2EB0-A3AB-4146-8745-DCBBC5B6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794-13E2-40DA-AF29-53B4FEB7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3C3-5B3F-4A08-98EE-7F612873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31E-63DA-4975-A2EE-259D1412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2D0-CEDC-4BE2-8792-3D7FEFA9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1B2-1C4F-4FF8-ADA0-DC2AD93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0B7-9132-4C98-B38F-EC9220B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DB6-89FA-46C0-9FD9-C3A80F2A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7E2B-36C0-4D99-8B43-6E435E1DA51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2680" y="5130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9560" y="275760"/>
                  <a:ext cx="8092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9040" y="141624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08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3200" y="20628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4F9-11A0-483D-BBFA-F03672B5087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4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643320"/>
            <a:ext cx="731520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Фразеалаг</a:t>
            </a:r>
            <a:r>
              <a:rPr b="0" lang="be-BY" sz="5400" spc="-1" strike="noStrike">
                <a:solidFill>
                  <a:srgbClr val="00b200"/>
                </a:solidFill>
                <a:latin typeface="Comic Sans MS"/>
              </a:rPr>
              <a:t>ічнае багацце беларускай мов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weddingbells"/>
          <p:cNvPicPr/>
          <p:nvPr/>
        </p:nvPicPr>
        <p:blipFill>
          <a:blip r:embed="rId1"/>
          <a:stretch/>
        </p:blipFill>
        <p:spPr>
          <a:xfrm>
            <a:off x="357120" y="2928960"/>
            <a:ext cx="1665360" cy="144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weddingbells"/>
          <p:cNvPicPr/>
          <p:nvPr/>
        </p:nvPicPr>
        <p:blipFill>
          <a:blip r:embed="rId2"/>
          <a:stretch/>
        </p:blipFill>
        <p:spPr>
          <a:xfrm>
            <a:off x="6572160" y="2857680"/>
            <a:ext cx="190656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image920"/>
          <p:cNvPicPr/>
          <p:nvPr/>
        </p:nvPicPr>
        <p:blipFill>
          <a:blip r:embed="rId3"/>
          <a:stretch/>
        </p:blipFill>
        <p:spPr>
          <a:xfrm>
            <a:off x="574560" y="571680"/>
            <a:ext cx="1228680" cy="16430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нар.jpg"/>
          <p:cNvPicPr/>
          <p:nvPr/>
        </p:nvPicPr>
        <p:blipFill>
          <a:blip r:embed="rId4"/>
          <a:stretch/>
        </p:blipFill>
        <p:spPr>
          <a:xfrm>
            <a:off x="6000840" y="450072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мудр.jpeg"/>
          <p:cNvPicPr/>
          <p:nvPr/>
        </p:nvPicPr>
        <p:blipFill>
          <a:blip r:embed="rId5"/>
          <a:stretch/>
        </p:blipFill>
        <p:spPr>
          <a:xfrm>
            <a:off x="2500200" y="4071960"/>
            <a:ext cx="2443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2"/>
          <a:stretch/>
        </p:blipFill>
        <p:spPr>
          <a:xfrm>
            <a:off x="1073160" y="139680"/>
            <a:ext cx="6870600" cy="1897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Раз- падняцца, усміхнуцц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Два- сагнуцца, разагнуцц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Тры- галоўкай паківац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На чатыры- рукі шырэ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Пяць- рукамі памахац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Шэсць- прысесці і за парты ціха сесц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0080" y="151920"/>
            <a:ext cx="6215040" cy="1600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33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3333cc"/>
                </a:solidFill>
                <a:latin typeface="Comic Sans MS"/>
              </a:rPr>
              <a:t>Знатакі мовы! </a:t>
            </a:r>
            <a:br>
              <a:rPr sz="4400"/>
            </a:br>
            <a:r>
              <a:rPr b="0" lang="be-BY" sz="4400" spc="-1" strike="noStrike">
                <a:solidFill>
                  <a:srgbClr val="3333cc"/>
                </a:solidFill>
                <a:latin typeface="Comic Sans MS"/>
              </a:rPr>
              <a:t>Будзьце ўважлівымі</a:t>
            </a:r>
            <a:r>
              <a:rPr b="0" lang="be-BY" sz="4400" spc="-1" strike="noStrike">
                <a:solidFill>
                  <a:srgbClr val="6600ff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000000"/>
                </a:solidFill>
                <a:latin typeface="Comic Sans MS"/>
              </a:rPr>
              <a:t>У дадзеных урыўках з твораў мастацкай літаратуры беларускіх пісьменнікаў знайсці фразеалагізмы, выпісаць і растлумачыць іх сэнс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Вырас ён (хлопчык) ужо, у гады ўвайшоў, а ўсё толькі з дзецьмі гуляе, як маленькі. І празвалі яго людзі Іванкам  Прастачк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Свет забыў цяпер Сымонка, скрыпцы душу ўсю аддаў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Зараз дзяжурныя дэпо зададуць драпака ў бомбасховішча”,-шапнуў Жэн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-Толькі не рабіце перад судом дэманстрацыйных выпадаў і мітынгу. Не дражніце гусей, бо вашага пратэсту ніхто не пачу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0560" y="333360"/>
            <a:ext cx="8569080" cy="59752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ff3300"/>
                </a:solidFill>
                <a:uFillTx/>
                <a:latin typeface="Comic Sans MS"/>
              </a:rPr>
              <a:t>Праблемнае пытанне: ці з’яўляюцца фразеалагізмы членам сказ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Не спалі ў шапку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і польскія патрыё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І не трэба верыць тым крыкунам, што  абяцаюць народу 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залатыя го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omic Sans MS"/>
              </a:rPr>
              <a:t>Усе словы, якія ўваходзяць у склад фразеалагізма, выступаюць  у  ролі аднаго члена сказ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642960"/>
            <a:ext cx="68706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Comic Sans MS"/>
              </a:rPr>
              <a:t>Ці ўсе словы зразумелыя ў фразеалагізма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3880" y="1785600"/>
            <a:ext cx="7696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3333cc"/>
                </a:solidFill>
                <a:latin typeface="Comic Sans MS"/>
              </a:rPr>
              <a:t>Ні кала ні двар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Слова </a:t>
            </a:r>
            <a:r>
              <a:rPr b="1" lang="be-BY" sz="3200" spc="-1" strike="noStrike">
                <a:solidFill>
                  <a:srgbClr val="3333ff"/>
                </a:solidFill>
                <a:latin typeface="Comic Sans MS"/>
              </a:rPr>
              <a:t>кол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некалі меў значэнне “ўчастак ворнай зямлі, надзел каля хаты”.Першапачатковае значэнне выразу было канкрэтным паказчыкам беднасці чалавека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ні зямлі, ні гаспадарк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be-BY" sz="3200" spc="-1" strike="noStrike">
                <a:solidFill>
                  <a:srgbClr val="3333cc"/>
                </a:solidFill>
                <a:latin typeface="Comic Sans MS"/>
              </a:rPr>
              <a:t>Кол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исунок 3" descr="участок.jpeg"/>
          <p:cNvPicPr/>
          <p:nvPr/>
        </p:nvPicPr>
        <p:blipFill>
          <a:blip r:embed="rId1"/>
          <a:stretch/>
        </p:blipFill>
        <p:spPr>
          <a:xfrm>
            <a:off x="5429160" y="4857840"/>
            <a:ext cx="3000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28640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Comic Sans MS"/>
              </a:rPr>
              <a:t>Ці ўсе словы зразумелыя ў фразеалагізмах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omic Sans MS"/>
              </a:rPr>
              <a:t>Бібікі біц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Слова </a:t>
            </a:r>
            <a:r>
              <a:rPr b="1" lang="be-BY" sz="2800" spc="-1" strike="noStrike">
                <a:solidFill>
                  <a:srgbClr val="3333cc"/>
                </a:solidFill>
                <a:latin typeface="Comic Sans MS"/>
              </a:rPr>
              <a:t>бібікі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 ўжываецца ў значэнні “гузікі”. Гэта дае падставу даследчыкам мовы меркаваць, што першапачаткова бібікі біць мела значэнне “гуляць у пэўную гульню з гузікамі”. Пазней гэты выраз пачаў ужывацца ў значэнні “гультаяваць, бяздзейнічаць, займацца пустой бескарыснай справай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4" descr="картінка.jpg"/>
          <p:cNvPicPr/>
          <p:nvPr/>
        </p:nvPicPr>
        <p:blipFill>
          <a:blip r:embed="rId2"/>
          <a:stretch/>
        </p:blipFill>
        <p:spPr>
          <a:xfrm>
            <a:off x="6858000" y="4998960"/>
            <a:ext cx="2073240" cy="18590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пуговицы.jpeg"/>
          <p:cNvPicPr/>
          <p:nvPr/>
        </p:nvPicPr>
        <p:blipFill>
          <a:blip r:embed="rId3"/>
          <a:stretch/>
        </p:blipFill>
        <p:spPr>
          <a:xfrm rot="788400">
            <a:off x="7468920" y="1307880"/>
            <a:ext cx="157140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6600ff"/>
                </a:solidFill>
                <a:latin typeface="Comic Sans MS"/>
              </a:rPr>
              <a:t>Знатакі мовы!</a:t>
            </a:r>
            <a:br>
              <a:rPr sz="4400"/>
            </a:br>
            <a:r>
              <a:rPr b="0" lang="be-BY" sz="4400" spc="-1" strike="noStrike">
                <a:solidFill>
                  <a:srgbClr val="6600ff"/>
                </a:solidFill>
                <a:latin typeface="Comic Sans MS"/>
              </a:rPr>
              <a:t>Будзьце ўважлівымі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42680" y="1999800"/>
            <a:ext cx="5357880" cy="40719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9966ff"/>
                </a:solidFill>
                <a:latin typeface="Comic Sans MS"/>
              </a:rPr>
              <a:t>З</a:t>
            </a:r>
            <a:r>
              <a:rPr b="0" lang="ru-RU" sz="2400" spc="-1" strike="noStrike">
                <a:solidFill>
                  <a:srgbClr val="9966ff"/>
                </a:solidFill>
                <a:latin typeface="Comic Sans MS"/>
              </a:rPr>
              <a:t>акончыце фразеалагізмы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Як гром..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Як дзве..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Надзьмуўся як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Мядзведзь наступіў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Камень на камені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Хоць кол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3 вялікага грому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Hi слыху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058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Праблемнае  пытанне :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ці могуць у фразеалагізмаў быць сінонімы і антонімы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760" y="2428920"/>
            <a:ext cx="8280360" cy="339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оць вока выкалі (хоць іголкі збірай);   Трымаць язык за зубамі (распускаць язык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Comic Sans MS"/>
              </a:rPr>
              <a:t>Блізка- рукой падаць,пад бок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Comic Sans MS"/>
              </a:rPr>
              <a:t>Раптоўна- як гром з яснага неба,як з-пад зямлі вырас, як з неба зваліцца, як снег на галав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bf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666699"/>
                </a:solidFill>
                <a:latin typeface="Comic Sans MS"/>
              </a:rPr>
              <a:t>Знатакі мовы! </a:t>
            </a:r>
            <a:br>
              <a:rPr sz="4400"/>
            </a:br>
            <a:r>
              <a:rPr b="0" lang="be-BY" sz="4400" spc="-1" strike="noStrike">
                <a:solidFill>
                  <a:srgbClr val="666699"/>
                </a:solidFill>
                <a:latin typeface="Comic Sans MS"/>
              </a:rPr>
              <a:t>Будзьце ўважлівымі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13880" y="2071800"/>
            <a:ext cx="7696440" cy="335736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ўстойлівых словазлучэнняў  падбярыце  антанімічныя фразеалагізмы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і свет ні зара -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лёгкі на нагу -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Даведка: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шапачны разбор, цяжкі на наг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пусціць галаву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укой падаць 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Даведка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задраць галаву; блізкі свет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7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Comic Sans MS"/>
              </a:rPr>
              <a:t>Знатакі мовы! </a:t>
            </a:r>
            <a:br>
              <a:rPr sz="4400"/>
            </a:br>
            <a:r>
              <a:rPr b="0" lang="be-BY" sz="4400" spc="-1" strike="noStrike">
                <a:solidFill>
                  <a:srgbClr val="000000"/>
                </a:solidFill>
                <a:latin typeface="Comic Sans MS"/>
              </a:rPr>
              <a:t>Будзьце ўважлівымі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440"/>
            <a:ext cx="7696080" cy="4529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Д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ў i словазлучэнняў, якія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запісаны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падбярыце фразеалагізмы-сінонімы з ліку дадзеных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ізка —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бра пр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ацаваць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чакана, раптоўна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Даведка: п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д бокам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сёмага поту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асаўшы рукавы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ўсю моц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з-пад зямлі выр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 без выключэння —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лусіць, гаварыць абы-ш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то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утка бегчы —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Даведка:  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 як адзін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ерзці сем карабоў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малоц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упства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з прывязі сарваў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99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000080" y="281160"/>
          <a:ext cx="7072200" cy="6445080"/>
        </p:xfrm>
        <a:graphic>
          <a:graphicData uri="http://schemas.openxmlformats.org/drawingml/2006/table">
            <a:tbl>
              <a:tblPr/>
              <a:tblGrid>
                <a:gridCol w="3740040"/>
                <a:gridCol w="3332160"/>
              </a:tblGrid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ыкметы словазлучэння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ыкметы фразеалагізма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Кожнае слова захоўвае сваё лексічнае значэнне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Словы страчваюць сваю сэнсавую самастойнасць, маюць адзіны, цэласны сэ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Любое са слоў можна замяніць другімі словам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У іх складзе нельга замяняць адно слова інш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Ствараюцца ў працэсе маўлення, не патрабуюць запамі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Не ўтвараюцца непасрэдна ў гаворцы, гутарцы, не ствараюцца кожны раз нанава, а выкарыстоўваюцца як гатовыя, вядомыя спалучэ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Кожнае слова выступае ў ролі пэўнага члена ска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Выступаюць у ролі аднаго члена 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Да словазлучэнняў нельга падабраць сінонімы і антоні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Да фразеалагізмаў можна     падабраць      сінонімы, антоні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-142920"/>
            <a:ext cx="5715000" cy="221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0000"/>
                </a:solidFill>
                <a:latin typeface="Comic Sans MS"/>
              </a:rPr>
              <a:t>Эпіграф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2214360"/>
            <a:ext cx="603252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Мова,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Пявучая родная мова,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Ты- уладарка нявызнаных скарбаў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Столькі значэнняў, гучанняў і фарбаў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Мае ў сабе тваё кожнае слова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Аляксей Зарыцкі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87280" y="54936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цыя “Загадкавы  свет  фразеалогіі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Рисунок 9" descr="буратіно.jpeg"/>
          <p:cNvPicPr/>
          <p:nvPr/>
        </p:nvPicPr>
        <p:blipFill>
          <a:blip r:embed="rId3"/>
          <a:stretch/>
        </p:blipFill>
        <p:spPr>
          <a:xfrm>
            <a:off x="6643800" y="3857760"/>
            <a:ext cx="1785960" cy="16524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0" descr="images.jpeg"/>
          <p:cNvPicPr/>
          <p:nvPr/>
        </p:nvPicPr>
        <p:blipFill>
          <a:blip r:embed="rId4"/>
          <a:stretch/>
        </p:blipFill>
        <p:spPr>
          <a:xfrm>
            <a:off x="1214280" y="2143080"/>
            <a:ext cx="1857600" cy="1643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1" descr="дамоклов меч.jpeg"/>
          <p:cNvPicPr/>
          <p:nvPr/>
        </p:nvPicPr>
        <p:blipFill>
          <a:blip r:embed="rId5"/>
          <a:stretch/>
        </p:blipFill>
        <p:spPr>
          <a:xfrm>
            <a:off x="2143080" y="4286160"/>
            <a:ext cx="1785960" cy="20005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2" descr="зарубі.jpeg"/>
          <p:cNvPicPr/>
          <p:nvPr/>
        </p:nvPicPr>
        <p:blipFill>
          <a:blip r:embed="rId6"/>
          <a:stretch/>
        </p:blipFill>
        <p:spPr>
          <a:xfrm>
            <a:off x="4786200" y="4929120"/>
            <a:ext cx="1447920" cy="13575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3" descr="калос.jpeg"/>
          <p:cNvPicPr/>
          <p:nvPr/>
        </p:nvPicPr>
        <p:blipFill>
          <a:blip r:embed="rId7"/>
          <a:stretch/>
        </p:blipFill>
        <p:spPr>
          <a:xfrm>
            <a:off x="4572000" y="207180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4" descr="images.jpeg"/>
          <p:cNvPicPr/>
          <p:nvPr/>
        </p:nvPicPr>
        <p:blipFill>
          <a:blip r:embed="rId1"/>
          <a:srcRect l="0" t="15695" r="0" b="15695"/>
          <a:stretch/>
        </p:blipFill>
        <p:spPr>
          <a:xfrm>
            <a:off x="428760" y="3000240"/>
            <a:ext cx="2786040" cy="2000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99920" y="2571840"/>
            <a:ext cx="4923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У далёкія часы ў невялікім мястэчку здарылася пакража. Абкрадзеныя звярнуліся да знахара. Той, уважліва выслухаўшы і нічога не сказаўшы, павёў іх на базар і крыкнуў: “Гэй! Паглядзіце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На злодзеі  шапка гарыць!” Злодзей мімаволі схапіўся за шапку і гэтым выдаў сяб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071720" y="0"/>
            <a:ext cx="6527520" cy="23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 злодзеі і шапка гарыц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50920" y="692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5857920" y="500040"/>
            <a:ext cx="1123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5808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00b050"/>
                </a:solidFill>
                <a:latin typeface="Comic Sans MS"/>
              </a:rPr>
              <a:t>Калос на гліняных нагах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8572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Паводле біблейскай легенды, вавілонскі цар Навухаданосар убачыў у сне велізарнага страшнага ідала, галава якога была з золата, грудзі і рукі- са срэбра, чэрава і клубы-  медныя, галёнкі- жалезныя, ногі- часткова жалезныя, часткова гліняныя. Нечакана ад гары адарваўся камень,стукнуўся па нагах ідала і разбіў іх. Ідал абрушыўся на зямл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З тых часоў выраз калос на гліняных нагах абазначае “што- небудзь знешне вялікаснае, але на самой справе слабае, гатовае разбурыцца.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3" descr="калос.jpeg"/>
          <p:cNvPicPr/>
          <p:nvPr/>
        </p:nvPicPr>
        <p:blipFill>
          <a:blip r:embed="rId1"/>
          <a:stretch/>
        </p:blipFill>
        <p:spPr>
          <a:xfrm>
            <a:off x="4572000" y="4286160"/>
            <a:ext cx="2581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600" spc="-1" strike="noStrike">
                <a:solidFill>
                  <a:srgbClr val="9966ff"/>
                </a:solidFill>
                <a:latin typeface="Comic Sans MS"/>
              </a:rPr>
              <a:t>Дамоклаў меч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43200" y="1785600"/>
            <a:ext cx="5500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Паводле старажытнагрэчаскага падання, у Сіракузскага тырана Дыянісія Старэйшага (432- 367 гады да нашай эры) быў вяльможа Дамокл, які зайздросціў свайму ўладару і лічыў яго самым шчаслівым. Аднойчы тыран, даведаўшыся пра зайздрасць свайго падданага, запрасіў Дамокла да сябе і пасадзіў на сваё месца. Дамокл заўважыў над сваёй галавой цяжкі меч, які быў падвешаны на тонкім конскім воласе. “Вось, Дамокл,- сказаў Дыянісій, -ты лічыш маё становішча зайздросным, дык пабудзь у ім. Як ты думаеш, ці спакойны я на сваім троне?” Дамокл ад страху , што будзе перасечаны мячом, калі зробіць нязначны рух, нічога не адказаў. Ён зразумеў, што меч- знак нетрываласці шчасця Дыянісія, сімвал небяспекі, якая ўвесь час падпільноўвае тыран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З таго часу выраз дамоклаў меч мае значэнне “пастаянная небяспека, неадступная пагроза”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Рисунок 4" descr="дамоклов меч.jpeg"/>
          <p:cNvPicPr/>
          <p:nvPr/>
        </p:nvPicPr>
        <p:blipFill>
          <a:blip r:embed="rId1"/>
          <a:stretch/>
        </p:blipFill>
        <p:spPr>
          <a:xfrm>
            <a:off x="642960" y="1928880"/>
            <a:ext cx="300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7120" y="1785600"/>
            <a:ext cx="83534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У старажытныя часы пры амаль усеагульнай непісьменнасці своеасаблівай квітанцыяй пры разліках была бірка- палачка або дошчачка, на якой выразаліся зарубкі. Кожная зарубка адпавядала пэўнаму ліку. Бірка з зарубкамі расшчэплівалася на дзве палавінкі: адна аддавалася, напрыклад, гандляру, другая- пакупнік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Калі адзін з іх губляў бірку, то ў такой сітуацыі можна было пачуць : “А ты другі раз зарубі сабе на носе, ужо не згубіш”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З той пары гэты выраз , падхоплены іншымі людзьмі, стаў агуль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наўжывальным і мае значэнне “добра запомніць”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2268360" y="333360"/>
            <a:ext cx="511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рубіць сабе  на нос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Рисунок 3" descr="буратіно.jpeg"/>
          <p:cNvPicPr/>
          <p:nvPr/>
        </p:nvPicPr>
        <p:blipFill>
          <a:blip r:embed="rId3"/>
          <a:stretch/>
        </p:blipFill>
        <p:spPr>
          <a:xfrm>
            <a:off x="6000840" y="4572000"/>
            <a:ext cx="1890720" cy="19288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зарубі.jpeg"/>
          <p:cNvPicPr/>
          <p:nvPr/>
        </p:nvPicPr>
        <p:blipFill>
          <a:blip r:embed="rId4"/>
          <a:stretch/>
        </p:blipFill>
        <p:spPr>
          <a:xfrm>
            <a:off x="2214720" y="4714920"/>
            <a:ext cx="2000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0066"/>
                </a:solidFill>
                <a:latin typeface="Comic Sans MS"/>
              </a:rPr>
              <a:t>Станцыя “Абагульняем, сістэматызуем веды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2000160"/>
            <a:ext cx="7715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lang="ru-RU" sz="7200" spc="-1" strike="noStrike">
                <a:solidFill>
                  <a:srgbClr val="0070c0"/>
                </a:solidFill>
                <a:latin typeface="Comic Sans MS"/>
              </a:rPr>
              <a:t>Выкананне       </a:t>
            </a:r>
            <a:r>
              <a:rPr b="1" lang="en-US" sz="7200" spc="-1" strike="noStrike">
                <a:solidFill>
                  <a:srgbClr val="0070c0"/>
                </a:solidFill>
                <a:latin typeface="Comic Sans MS"/>
              </a:rPr>
              <a:t>  </a:t>
            </a:r>
            <a:r>
              <a:rPr b="1" lang="ru-RU" sz="7200" spc="-1" strike="noStrike">
                <a:solidFill>
                  <a:srgbClr val="0070c0"/>
                </a:solidFill>
                <a:latin typeface="Comic Sans MS"/>
              </a:rPr>
              <a:t>міні-тэста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be-BY" sz="4800" spc="-1" strike="noStrike">
                <a:solidFill>
                  <a:srgbClr val="000000"/>
                </a:solidFill>
                <a:latin typeface="Comic Sans MS"/>
              </a:rPr>
              <a:t>Рэфлексі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Як ты працаваў на ўроку?  Выберы фразеалагізм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З аганьком; 2) абы з рук; 3) з душой ; 4) цераз пень калоду ; 5) закасаўшы рукав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Як ты зразумеў тэму? З чым пойдзеш з урока?Падмацуй адказ фразеалагізм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1) Светлая галава; 2) садовая галава ; 3) пустая галава 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4)    галава варыць ; 5) дубовая галава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71840" y="3429000"/>
            <a:ext cx="4214880" cy="1643040"/>
          </a:xfrm>
          <a:prstGeom prst="rect">
            <a:avLst/>
          </a:prstGeom>
          <a:solidFill>
            <a:srgbClr val="fff5a3"/>
          </a:solidFill>
          <a:ln w="9360">
            <a:solidFill>
              <a:srgbClr val="ff0066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П.56,  1. Скласці гумарыстычны дыялог, выкарыстоўваючы фразеалагізм</a:t>
            </a:r>
            <a:br>
              <a:rPr sz="2000"/>
            </a:b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 2. Практ. 555 (п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36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7030a0"/>
                </a:solidFill>
                <a:latin typeface="Comic Sans MS"/>
              </a:rPr>
              <a:t>Дзякуй </a:t>
            </a:r>
            <a:br>
              <a:rPr sz="4400"/>
            </a:br>
            <a:r>
              <a:rPr b="1" lang="be-BY" sz="4400" spc="-1" strike="noStrike">
                <a:solidFill>
                  <a:srgbClr val="7030a0"/>
                </a:solidFill>
                <a:latin typeface="Comic Sans MS"/>
              </a:rPr>
              <a:t>за плённую працу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4720" y="713880"/>
            <a:ext cx="4286160" cy="7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9966ff"/>
                </a:solidFill>
                <a:latin typeface="Comic Sans MS"/>
              </a:rPr>
              <a:t>Мэта</a:t>
            </a:r>
            <a:r>
              <a:rPr b="1" lang="ru-RU" sz="4400" spc="-1" strike="noStrike">
                <a:solidFill>
                  <a:srgbClr val="9966ff"/>
                </a:solidFill>
                <a:latin typeface="Comic Sans MS"/>
              </a:rPr>
              <a:t> ў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- 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знаёміц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ца  з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няццем «фразеалагізм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з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 адметнасцямі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саблівасцямі  ўжывання   фразеалагізмаў  у 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мов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папоўніць фразеалагічны слоўнік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кожнага вуч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іваць уменні і навыкі выкарыстання фразеалагізмаў  у маўленн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Comic Sans MS"/>
              </a:rPr>
              <a:t>Станцыя </a:t>
            </a:r>
            <a:br>
              <a:rPr sz="3200"/>
            </a:br>
            <a:r>
              <a:rPr b="1" lang="ru-RU" sz="3200" spc="-1" strike="noStrike">
                <a:solidFill>
                  <a:srgbClr val="9966ff"/>
                </a:solidFill>
                <a:latin typeface="Comic Sans MS"/>
              </a:rPr>
              <a:t>«Фразеалагічная размі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79280" y="141300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 каго гавораць, што ён вады не замуціц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Што можна назваць казкаю пра белага быч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Пра каго можна сказаць, што ён кату па пяту або   вераб’ю па кален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Што значыць прыйсці ў свіныя галас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Пра каго кажуць, што ён выйшаў у людзі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640" y="141300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Фразеалогія ( ад грэч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rasis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-  “выраз” і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os-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“навука, вучэнне”)  - раздзел навукі пра мову, які вывучае і апісвае фразеалагізмы, іх паходжанне, значэнне і класіфікацы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Фразеалагізм (фразема)- устойлівае спалучэнне слоў з адзіным цэласным значэнн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611280" y="260280"/>
            <a:ext cx="741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СТАНЦыЯ  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 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«Тэрміналагічная"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100000">
              <a:srgbClr val="ffe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468360" y="1844640"/>
            <a:ext cx="8488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цыя “Назіраем, робім высновы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7c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20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блем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нае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пытанне: ц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і адрозніваюцца словазлучэнні ад фразеалагізмаў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Бел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вопрат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хуст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дош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варо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Белая варона = чалавек, які выдзяляецца паводзінамі  ці знешнасцю сярод іншых людз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19920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7030a0"/>
                </a:solidFill>
                <a:latin typeface="Comic Sans MS"/>
              </a:rPr>
              <a:t>Праявіце  кемлівасць: адрозніце словазлучэнні ад фразеалагіз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14680" y="1857240"/>
            <a:ext cx="566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Піс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на дошц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у сшыт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прыгож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віламі па вадз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Comic Sans MS"/>
              </a:rPr>
              <a:t>Ці можна так казац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Хлопчыка вымушаны былі вывесці 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светлую ваду  ( вывесці на чыстую вад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Ён кату па кіпці ( кату па пят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be-BY" sz="3200" spc="-1" strike="noStrike">
                <a:solidFill>
                  <a:srgbClr val="ff3399"/>
                </a:solidFill>
                <a:latin typeface="Comic Sans MS"/>
              </a:rPr>
              <a:t>У фразеалагізмах нельга замяняц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3399"/>
                </a:solidFill>
                <a:latin typeface="Comic Sans MS"/>
              </a:rPr>
              <a:t>словы, яны маюць адзіны цэласны сэн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Юлия</cp:lastModifiedBy>
  <dcterms:modified xsi:type="dcterms:W3CDTF">2011-04-07T16:07:51Z</dcterms:modified>
  <cp:revision>68</cp:revision>
  <dc:subject/>
  <dc:title>PowerPoint Presentation</dc:title>
</cp:coreProperties>
</file>