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BE88-DA0F-43DB-B107-9977F050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D796-3E3E-4296-AD62-1238F0FD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4F2F-B13F-448B-B06E-E65D6803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8C33-6481-49F6-A902-B7CB9492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602B-284F-46B7-A965-575A2FE0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55EA-2A78-4A3E-AA0D-E1382A45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14F-B67E-4305-8B19-C704D20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9C46-2B31-42C4-9CEC-C5EB6CF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F5E8-B1CC-44BA-8590-5FAEB0E9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D72A-64D6-452F-BF7B-C78DC7D3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80A-FAB3-491E-9103-2426396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FC3E-7D89-438C-9831-FD76C90C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44A2-47A8-4ABF-8F0B-12889E4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9FFF-DF44-4159-929C-B2CAADE6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996-1D3E-4967-8924-6047937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D959-10DD-4E00-A647-23D01085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EE0E-419C-4113-A00F-16A272DB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D83A-5B1C-484E-B7AF-C44BF4A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1628-86FC-4BF6-9214-C7D8C07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C7E0-1CF4-4584-BB0C-A5AF962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A7D8-B2BD-42AD-9E29-5B572D4F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5CBE-40A8-4F85-91A8-B4CEE48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6D7F-A649-445B-9EE9-943018D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06BB-8B7E-4255-B6FE-6BF60BC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035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83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B54E-ECF6-416D-84FD-C299D28838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035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83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a3c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9E44-F43A-4549-847C-A70387A8E7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     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</a:t>
            </a: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И.Крамской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 </a:t>
            </a:r>
            <a:r>
              <a:rPr b="1" lang="en-US" sz="1900" spc="-1" strike="noStrike">
                <a:solidFill>
                  <a:srgbClr val="d3f1db"/>
                </a:solidFill>
                <a:latin typeface="Tahoma"/>
              </a:rPr>
              <a:t>Портрет художника </a:t>
            </a:r>
            <a:br>
              <a:rPr sz="1900"/>
            </a:br>
            <a:r>
              <a:rPr b="1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  И. И. Шишкина</a:t>
            </a: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1880г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 Государственный                                        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Русский музей,</a:t>
            </a:r>
            <a:br>
              <a:rPr sz="19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                                                                      Санкт-Петербург</a:t>
            </a: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26" name="" descr=" (476x699, 21Kb)"/>
          <p:cNvPicPr/>
          <p:nvPr/>
        </p:nvPicPr>
        <p:blipFill>
          <a:blip r:embed="rId1"/>
          <a:stretch/>
        </p:blipFill>
        <p:spPr>
          <a:xfrm>
            <a:off x="395280" y="0"/>
            <a:ext cx="4672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d3f1db"/>
                </a:solidFill>
                <a:latin typeface="Tahoma"/>
              </a:rPr>
              <a:t>Вид на острове Валааме</a:t>
            </a: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 </a:t>
            </a:r>
            <a:br>
              <a:rPr sz="19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(Местность Кукко)  1859-1860</a:t>
            </a:r>
            <a:br>
              <a:rPr sz="38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4" name="" descr=" (700x550, 82Kb)"/>
          <p:cNvPicPr/>
          <p:nvPr/>
        </p:nvPicPr>
        <p:blipFill>
          <a:blip r:embed="rId1"/>
          <a:stretch/>
        </p:blipFill>
        <p:spPr>
          <a:xfrm>
            <a:off x="684360" y="1409760"/>
            <a:ext cx="7416720" cy="5187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Буковый лес в Швейцарии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3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6" name="" descr=" (699x562, 65Kb)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534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Камни в лесу. Валаам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Между 1858 и 1860г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8" name="" descr=" (699x511, 62Kb)"/>
          <p:cNvPicPr/>
          <p:nvPr/>
        </p:nvPicPr>
        <p:blipFill>
          <a:blip r:embed="rId1"/>
          <a:stretch/>
        </p:blipFill>
        <p:spPr>
          <a:xfrm>
            <a:off x="755640" y="1052640"/>
            <a:ext cx="7777080" cy="54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Пейзаж с гуляющими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0" name="" descr=" (699x528, 63Kb)"/>
          <p:cNvPicPr/>
          <p:nvPr/>
        </p:nvPicPr>
        <p:blipFill>
          <a:blip r:embed="rId1"/>
          <a:stretch/>
        </p:blipFill>
        <p:spPr>
          <a:xfrm>
            <a:off x="1042920" y="1052640"/>
            <a:ext cx="7344000" cy="554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400" spc="-1" strike="noStrike">
                <a:solidFill>
                  <a:srgbClr val="d3f1db"/>
                </a:solidFill>
                <a:latin typeface="Tahoma"/>
              </a:rPr>
              <a:t>Молодые сосенки у песчаного обрыва.</a:t>
            </a:r>
            <a:br>
              <a:rPr sz="3400"/>
            </a:br>
            <a:br>
              <a:rPr sz="3800"/>
            </a:br>
            <a:endParaRPr b="0" lang="en-US" sz="34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2" name="" descr=" (699x387, 54Kb)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11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Мухоморы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0-1890-е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4" name="" descr=" (700x462, 60Kb)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512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Утро в сосновом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6" name="" descr=" (699x474, 53Kb)"/>
          <p:cNvPicPr/>
          <p:nvPr/>
        </p:nvPicPr>
        <p:blipFill>
          <a:blip r:embed="rId1"/>
          <a:stretch/>
        </p:blipFill>
        <p:spPr>
          <a:xfrm>
            <a:off x="755640" y="1195560"/>
            <a:ext cx="7705800" cy="52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 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Прогулка в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69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8" name="" descr=" (700x559, 86Kb)"/>
          <p:cNvPicPr/>
          <p:nvPr/>
        </p:nvPicPr>
        <p:blipFill>
          <a:blip r:embed="rId1"/>
          <a:stretch/>
        </p:blipFill>
        <p:spPr>
          <a:xfrm>
            <a:off x="1187280" y="1268280"/>
            <a:ext cx="6667560" cy="5321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ождь в дубовом лесу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1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0" name="" descr=" (699x430, 60Kb)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Уголок заросшего сада.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Сныть-трав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84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2" name="" descr=" (700x391, 60Kb)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6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d3f1db"/>
                </a:solidFill>
                <a:latin typeface="Tahoma"/>
              </a:rPr>
              <a:t>Шишкин -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единственный</a:t>
            </a:r>
            <a:r>
              <a:rPr b="1" lang="en-US" sz="4400" spc="-1" strike="noStrike">
                <a:solidFill>
                  <a:srgbClr val="d3f1db"/>
                </a:solidFill>
                <a:latin typeface="Tahoma"/>
              </a:rPr>
              <a:t>. </a:t>
            </a:r>
            <a:r>
              <a:rPr b="0" lang="en-US" sz="4400" spc="-1" strike="noStrike">
                <a:solidFill>
                  <a:srgbClr val="d3f1db"/>
                </a:solidFill>
                <a:latin typeface="Tahoma"/>
              </a:rPr>
              <a:t>В. В. Стас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ы. Вечер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Этюд для картины Дубовая роща 1887г</a:t>
            </a:r>
            <a:br>
              <a:rPr sz="38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4" name="" descr=" (700x469, 77Kb)"/>
          <p:cNvPicPr/>
          <p:nvPr/>
        </p:nvPicPr>
        <p:blipFill>
          <a:blip r:embed="rId1"/>
          <a:stretch/>
        </p:blipFill>
        <p:spPr>
          <a:xfrm>
            <a:off x="684360" y="1217520"/>
            <a:ext cx="7848360" cy="5262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Зим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0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6" name="" descr=" (699x453, 67Kb)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8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Корабельная роща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1898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68" name="" descr=" (700x448, 60Kb)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25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-211680"/>
            <a:ext cx="8096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шкин - чароде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так искусно расставил свои сосны, что создается впечатление бесконечности их числа и неохватности пространства лес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писец знает структуру лесного пейзажа, и он властно заставляет нас следовать за его волшебной кистью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орит картины необычайно богат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открытия импрессионистов учтены художником. Но над всеми этими дополнительными фиолетовыми и оранжевыми, синими, желтыми цветами властвует могучее чувство меры великого художник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не забывает закона Валера, нигде не нарушает натуральность и сдержанность тон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ина Шишкина не кричит, несмотря на масштаб холста, она пое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Благодарю </a:t>
            </a:r>
            <a:br>
              <a:rPr sz="6900"/>
            </a:b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за </a:t>
            </a:r>
            <a:br>
              <a:rPr sz="6900"/>
            </a:br>
            <a:r>
              <a:rPr b="0" lang="en-US" sz="6900" spc="-1" strike="noStrike">
                <a:solidFill>
                  <a:srgbClr val="d3f1db"/>
                </a:solidFill>
                <a:latin typeface="Tahoma"/>
              </a:rPr>
              <a:t>внимание</a:t>
            </a:r>
            <a:endParaRPr b="0" lang="en-US" sz="69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Над презентацией работал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учитель МОУ – СОШ № 17       г.Клина Московской области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Жирненков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Нина Юрьевна</a:t>
            </a:r>
            <a:br>
              <a:rPr sz="4200"/>
            </a:b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2010 – 2011 учебный год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И.И.Шишкин (1832-1898) "</a:t>
            </a:r>
            <a:r>
              <a:rPr b="1" lang="ru-RU" sz="1900" spc="-1" strike="noStrike">
                <a:solidFill>
                  <a:srgbClr val="d3f1db"/>
                </a:solidFill>
                <a:latin typeface="Tahoma"/>
              </a:rPr>
              <a:t>Среди долины ровныя </a:t>
            </a: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..."</a:t>
            </a:r>
            <a:br>
              <a:rPr sz="1900"/>
            </a:br>
            <a:r>
              <a:rPr b="0" lang="ru-RU" sz="1300" spc="-1" strike="noStrike">
                <a:solidFill>
                  <a:srgbClr val="d3f1db"/>
                </a:solidFill>
                <a:latin typeface="Tahoma"/>
              </a:rPr>
              <a:t>1883г, холст, масло. Киевский государственный музей русского искусства, Киев</a:t>
            </a:r>
            <a:br>
              <a:rPr sz="1900"/>
            </a:br>
            <a:br>
              <a:rPr sz="3800"/>
            </a:br>
            <a:endParaRPr b="0" lang="en-US" sz="13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29" name="" descr=" (700x465, 31Kb)"/>
          <p:cNvPicPr/>
          <p:nvPr/>
        </p:nvPicPr>
        <p:blipFill>
          <a:blip r:embed="rId1"/>
          <a:stretch/>
        </p:blipFill>
        <p:spPr>
          <a:xfrm>
            <a:off x="611280" y="1197000"/>
            <a:ext cx="8136000" cy="540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                                        </a:t>
            </a: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1" name="" descr=" (583x699, 68Kb)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2720" y="306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f1db"/>
                </a:solidFill>
                <a:latin typeface="Arial"/>
              </a:rPr>
              <a:t>1865</a:t>
            </a:r>
            <a:r>
              <a:rPr b="0" lang="en-US" sz="3200" spc="-1" strike="noStrike">
                <a:solidFill>
                  <a:srgbClr val="d3f1db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3000" spc="-1" strike="noStrike">
                <a:solidFill>
                  <a:srgbClr val="d3f1db"/>
                </a:solidFill>
                <a:latin typeface="Tahoma"/>
              </a:rPr>
              <a:t>Дубы</a:t>
            </a:r>
            <a:r>
              <a:rPr b="0" lang="en-US" sz="3000" spc="-1" strike="noStrike">
                <a:solidFill>
                  <a:srgbClr val="d3f1db"/>
                </a:solidFill>
                <a:latin typeface="Tahoma"/>
              </a:rPr>
              <a:t> 1887г</a:t>
            </a:r>
            <a:br>
              <a:rPr sz="30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Государственный Русский музей, Санкт-Петербур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4" name="" descr=" (481x698, 67Kb)"/>
          <p:cNvPicPr/>
          <p:nvPr/>
        </p:nvPicPr>
        <p:blipFill>
          <a:blip r:embed="rId1"/>
          <a:stretch/>
        </p:blipFill>
        <p:spPr>
          <a:xfrm>
            <a:off x="2484360" y="1125360"/>
            <a:ext cx="3813120" cy="547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Дубовая роща 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1887 г.</a:t>
            </a:r>
            <a:br>
              <a:rPr sz="3800"/>
            </a:br>
            <a:r>
              <a:rPr b="0" lang="en-US" sz="1900" spc="-1" strike="noStrike">
                <a:solidFill>
                  <a:srgbClr val="d3f1db"/>
                </a:solidFill>
                <a:latin typeface="Tahoma"/>
              </a:rPr>
              <a:t>Киевский государственный музей русского искусства, Киев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6" name="" descr=" (699x465, 68Kb)"/>
          <p:cNvPicPr/>
          <p:nvPr/>
        </p:nvPicPr>
        <p:blipFill>
          <a:blip r:embed="rId1"/>
          <a:stretch/>
        </p:blipFill>
        <p:spPr>
          <a:xfrm>
            <a:off x="611280" y="1197000"/>
            <a:ext cx="8064360" cy="5370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n-US" sz="3400" spc="-1" strike="noStrike">
                <a:solidFill>
                  <a:srgbClr val="d3f1db"/>
                </a:solidFill>
                <a:latin typeface="Tahoma"/>
              </a:rPr>
              <a:t>Сосновый лес</a:t>
            </a:r>
            <a:br>
              <a:rPr sz="3400"/>
            </a:br>
            <a:r>
              <a:rPr b="0" lang="en-US" sz="3400" spc="-1" strike="noStrike">
                <a:solidFill>
                  <a:srgbClr val="d3f1db"/>
                </a:solidFill>
                <a:latin typeface="Tahoma"/>
              </a:rPr>
              <a:t>1885</a:t>
            </a:r>
            <a:br>
              <a:rPr sz="3400"/>
            </a:br>
            <a:br>
              <a:rPr sz="3800"/>
            </a:br>
            <a:endParaRPr b="0" lang="en-US" sz="34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38" name="" descr=" (700x481, 76Kb)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6672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В роще </a:t>
            </a:r>
            <a:br>
              <a:rPr sz="3800"/>
            </a:br>
            <a:r>
              <a:rPr b="1" lang="en-US" sz="3800" spc="-1" strike="noStrike">
                <a:solidFill>
                  <a:srgbClr val="d3f1db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1865</a:t>
            </a:r>
            <a:br>
              <a:rPr sz="3800"/>
            </a:b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0" name="" descr=" (699x414, 43Kb)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d3f1db"/>
                </a:solidFill>
                <a:latin typeface="Tahoma"/>
              </a:rPr>
              <a:t>Смешанный лес </a:t>
            </a: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(Шмецк близ Нарвы)</a:t>
            </a:r>
            <a:br>
              <a:rPr sz="1900"/>
            </a:br>
            <a:r>
              <a:rPr b="0" lang="ru-RU" sz="1900" spc="-1" strike="noStrike">
                <a:solidFill>
                  <a:srgbClr val="d3f1db"/>
                </a:solidFill>
                <a:latin typeface="Tahoma"/>
              </a:rPr>
              <a:t>1888г</a:t>
            </a:r>
            <a:br>
              <a:rPr sz="1900"/>
            </a:br>
            <a:br>
              <a:rPr sz="3800"/>
            </a:br>
            <a:endParaRPr b="0" lang="en-US" sz="19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42" name="" descr=" (700x532, 75Kb)"/>
          <p:cNvPicPr/>
          <p:nvPr/>
        </p:nvPicPr>
        <p:blipFill>
          <a:blip r:embed="rId1"/>
          <a:stretch/>
        </p:blipFill>
        <p:spPr>
          <a:xfrm>
            <a:off x="684360" y="981000"/>
            <a:ext cx="7920000" cy="5691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3:43:12Z</dcterms:created>
  <dc:creator>Роман</dc:creator>
  <dc:description/>
  <dc:language>en-US</dc:language>
  <cp:lastModifiedBy>Роман</cp:lastModifiedBy>
  <dcterms:modified xsi:type="dcterms:W3CDTF">2011-01-02T02:46:29Z</dcterms:modified>
  <cp:revision>3</cp:revision>
  <dc:subject/>
  <dc:title>  Шишкин -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единственный. В. В. Стасов  </dc:title>
</cp:coreProperties>
</file>