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7D12-1844-4259-8072-38F335906E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EC39-7221-4585-9238-08F739017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2C1-F574-4780-A816-5C391CDF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287-4D77-44B8-8DE4-A547AB22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AB73F-A1B4-469D-929B-A42CEDC0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6F55A-31B7-4B5A-BE89-0F305089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05C80-33B4-4455-A969-75D30490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F7442-9951-43EB-9DF9-6B032934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D1077-1255-41DC-8B5B-234CD75C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A3DCF-9C33-42F2-99A0-B9EA3942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49A04-7471-44B9-A332-BCF39825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CF0E2-505B-4811-8571-C915126B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5F944-40C3-4B77-B4E6-D952348E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6BA-C6B4-40FD-842C-0A14111C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4AF-99CE-4820-8AF9-5B3B527E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F4BD-150A-4FF4-A14F-AE5DDF92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6B18-B7A1-4118-BDF0-2FD895D5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4795-037D-4C06-9B04-4594F62F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F0E7-F03D-44F2-AD9F-C3D0A6C8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49D1-2B3D-40D5-AA0F-B839947F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4DDB-6BD9-4F29-A2C1-666E2BC3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BFE3-34B7-48D1-B9B6-A878E72E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39D-A2B6-489C-BDA0-EE90FB2E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8DD5-945F-4339-A723-0DCE06BC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9679-9A20-4652-9356-DB26DC0D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849B-0FF2-4D17-A6F8-AC5C88FC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55AB-FB0F-4681-83D0-D6411A80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179C-B7A2-476F-9AF3-C0C94366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BDC7-A42B-4F4F-BC0A-814C203A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F46B-4483-4716-8A46-79FCCA74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B96A-F68D-4D61-B3DB-E20AB1B9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C442-B86A-4E65-9903-18438482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9A492-EB4B-46B1-AF17-B696979B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30E-961E-4B22-9D1A-B69E4866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F1E3-9FFD-4196-BF4C-0194E079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1DDC-54DF-423E-8A5F-2D07E12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B9AC-6697-4AF2-8A9E-A2DD140D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1D63-A5F2-4D88-B822-FEBB3D0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783C-906E-4D5B-B73E-87776171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4A63-112D-45E0-BB5B-0A4EA3F5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CD5BD-2A3C-419B-BFAF-FAFDC883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C92FA-8A00-4067-9892-171B94C0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FE3BC-BBA4-473A-96CA-37F6275F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2C08-298D-4E7A-882D-951865A0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105-AC5C-4094-BF2C-82BEBCAA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91D3-02D3-4E82-9025-98DF89A1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5589E-7C1B-46A4-9761-DF343B93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0C740-4EF7-483E-A9AB-34547726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32CF-CCAE-4C54-AA56-F724819B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23D7A-4395-4DC8-90F4-2FA6F05A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C3F2-17D6-42D1-8CA0-CD34B830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5EA1-4892-4A96-B384-CC593D4B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D3877-8532-4638-961E-C0F7E72B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793D5-241E-4C9B-9B7E-F47FB0C1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CC847-8336-40DF-9C5C-116257B1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A01-FFCB-454C-8FA8-24344747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0DFF-7DF3-4A9E-A815-D0F50EE2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9D5BE-1A61-482A-B089-0E2F045A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63E4B-7044-4E31-B2BB-6C6565BD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C80CE-F259-44F3-8363-53745BEF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277C7-FF23-4AF4-B095-FD2BB6D3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8C7F2-725C-4785-8323-79C05110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74283-FC84-4026-AAEE-A622DD1C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37E1A-6AC1-4EF6-A93B-EA3A70C0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D7121-6FBE-4F18-B3F5-DAF17B37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1604-0C64-400E-A4C7-55D3FB54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622-D681-4F4B-B549-C295779B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C4993-21C5-455C-B538-06C50C91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6BE11-2F54-4C7E-BF53-1CD7384C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B2A9E-EC24-46F6-92A7-5D232D9B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67488-25A6-4F0B-9FC2-40097301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48F70-DB2D-4FEA-BE9C-9A0D82BA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1F5D1-5400-49D2-BE88-FB00147D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D45E2-10CA-4870-9561-4307774F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6C4B6-297D-4E58-9399-C6EAB4EC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BE1A0-46A7-46A5-B3D2-FFE2DA50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5F06E-BA93-4C62-9B82-69F7FCDF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1F3-AD1D-49AF-B492-E6E1FF51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40C5E-F906-401D-B650-83FC0017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B5FDC-9772-4EA0-A3E7-5F333119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EC073-4090-4D60-AC2C-11B434E8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E08D6-093D-4E01-B973-1E77D27A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1D18-8BB5-4D08-B248-ED75B85E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69A66-9BD9-4BF8-8318-22016E6E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298EC-0F41-4715-83B7-78668E78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7C98A-272F-4228-8235-6751F785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E6D08-ED96-4E73-A240-E2B2274D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8F31D-503B-4F9F-9932-E6BB42F7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631-C6B5-4228-A8DC-B94AB2E2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D7940-787B-45F4-8093-7E21D27C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0165B-977C-4CD0-87AA-69E0460E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E2A0D-C25A-4D30-B202-A539EA12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F9730-4A7E-4B05-91AE-18293ED2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79290-7452-4249-8FF7-EF233537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5E824-D9AE-47DC-A558-E31830D9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54287-4AA5-4429-B3A8-F75B15C1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FB01C-5E34-49E4-BB8E-3ECA21B2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080D1-CEAC-470F-89DE-E1B45B1B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C60CD-0349-4629-AAF6-39105660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0D2-42D6-49DF-AB96-80974428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9EF70-7F49-4FA0-B63A-36A65461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A1BBE-F802-40CB-8109-0125541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C910-8ECE-4D5A-A08A-FFC1EA0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8220D-B086-4A09-A648-D1EF6C0C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63327-B6D2-4D3F-B3E2-E0194FB8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A71A8-F5BE-49A6-9007-13AD0E74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ED32C-B4B4-49B3-B6ED-1D02CC2C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7B605-3571-4DD6-ADBF-5E473BF0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336EB-2065-4DD3-B0F1-C6A7A90A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8DCC6-9262-4E67-B485-11BB1ACB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1C54-B3A7-4325-AAC4-E1EF3D6800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91B0-65D6-4924-8F6B-9439C8E5F8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5453-6BFB-401F-A6C9-0823FB755B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B9E-D47B-420C-AA77-2E25CF9D50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2D4F-4868-4668-9A4D-95A1FC2B54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27BF-239E-4339-9686-C51AF20A3E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6B52-57FE-49EB-94BD-5E9C0444A9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9D9B-5DC5-4071-9260-2B95040C0D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5F19-6FB0-42A4-8A9F-F901853FB7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myliveweb.ru/foto_galereya.php?id=large/slavyanskaya_kultura-1164502373_i_3247_full_1.jpg&amp;NS=9646f772dd3558162f8c8808d1e698d5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438120"/>
            <a:ext cx="8699400" cy="86688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2" descr=""/>
          <p:cNvPicPr/>
          <p:nvPr/>
        </p:nvPicPr>
        <p:blipFill>
          <a:blip r:embed="rId2"/>
          <a:stretch/>
        </p:blipFill>
        <p:spPr>
          <a:xfrm>
            <a:off x="1779480" y="2060640"/>
            <a:ext cx="5585040" cy="194472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5143680" y="2828880"/>
            <a:ext cx="4000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c2c"/>
                </a:solidFill>
                <a:latin typeface="Franklin Gothic Medium"/>
              </a:rPr>
              <a:t>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c2c"/>
                </a:solidFill>
                <a:latin typeface="Franklin Gothic Medium"/>
              </a:rPr>
              <a:t>МОУ «СОШ №1 г.Калини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c2c"/>
                </a:solidFill>
                <a:latin typeface="Franklin Gothic Medium"/>
              </a:rPr>
              <a:t>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4c2c"/>
                </a:solidFill>
                <a:latin typeface="Franklin Gothic Medium"/>
              </a:rPr>
              <a:t>Балдина Мари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96840" y="566640"/>
            <a:ext cx="826596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304920" y="1571760"/>
            <a:ext cx="4552920" cy="4572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1640" y="1413000"/>
            <a:ext cx="441972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Arial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Arial"/>
              </a:rPr>
              <a:t>	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Arial"/>
              </a:rPr>
              <a:t>В 1880 году в Петербурге на Большой Морской была открыта необычайная выставка: демонстрировалась одна картина — "Лунная ночь на Днепре". Она вызвала бурю восторгов. У входа на выставку стояла огромная очередь.</a:t>
            </a:r>
            <a:br>
              <a:rPr sz="2000"/>
            </a:b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Arial"/>
              </a:rPr>
              <a:t>Мастерство Куинджи в передаче лунного света — результат огромной работы, длительных поисков. Его мастерская была лабораторией исследователя. Он много экспериментировал, изучал законы 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цвета,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Arial"/>
              </a:rPr>
              <a:t> отыскивая верный тон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61944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4428720"/>
            <a:ext cx="54291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Times New Roman"/>
              </a:rPr>
              <a:t>Лунный свет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– самое удивительное в этой картине. Его естественность определяется умением использовать световые и цветовые контрасты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643360" y="4572000"/>
            <a:ext cx="350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- Чем интересен лунный свет? Почему он притягивает наше внимани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rcRect l="22998" t="0" r="34001" b="75007"/>
          <a:stretch/>
        </p:blipFill>
        <p:spPr>
          <a:xfrm>
            <a:off x="285840" y="214200"/>
            <a:ext cx="85010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85840" y="471456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Небо можно воспринимать как самостоятельную картину. Оно является главным композиционным звен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214960" y="4785840"/>
            <a:ext cx="392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Оно несет лунный свет, который соединяет землю и небо в единое цело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rcRect l="28389" t="15276" r="34001" b="59724"/>
          <a:stretch/>
        </p:blipFill>
        <p:spPr>
          <a:xfrm>
            <a:off x="428760" y="21420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"/>
          <p:cNvPicPr/>
          <p:nvPr/>
        </p:nvPicPr>
        <p:blipFill>
          <a:blip r:embed="rId1"/>
          <a:srcRect l="41003" t="65282" r="29291" b="14469"/>
          <a:stretch/>
        </p:blipFill>
        <p:spPr>
          <a:xfrm>
            <a:off x="285840" y="214200"/>
            <a:ext cx="8501040" cy="421488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3"/>
          <p:cNvSpPr/>
          <p:nvPr/>
        </p:nvSpPr>
        <p:spPr>
          <a:xfrm>
            <a:off x="441360" y="4500720"/>
            <a:ext cx="82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тряк – типичная примета украинского села. Человеческий мир и мир природы сливаются в этой работе в целостный образ, отличающийся философской глубиной и композиционной продуман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rcRect l="22001" t="69449" r="44002" b="12500"/>
          <a:stretch/>
        </p:blipFill>
        <p:spPr>
          <a:xfrm>
            <a:off x="285840" y="285840"/>
            <a:ext cx="8501040" cy="47862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"/>
          <p:cNvSpPr/>
          <p:nvPr/>
        </p:nvSpPr>
        <p:spPr>
          <a:xfrm>
            <a:off x="517680" y="550080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дь реки искрится и колышется как живая – и здесь куиджиевский иллюзионизм налицо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rcRect l="59002" t="72224" r="7436" b="4167"/>
          <a:stretch/>
        </p:blipFill>
        <p:spPr>
          <a:xfrm>
            <a:off x="428760" y="214200"/>
            <a:ext cx="8286480" cy="45720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"/>
          <p:cNvSpPr/>
          <p:nvPr/>
        </p:nvSpPr>
        <p:spPr>
          <a:xfrm>
            <a:off x="714240" y="4857840"/>
            <a:ext cx="785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беленные стены крестьянских хат зеркально отражают лунный свет, и в этом взаимодействии крепко связывается земное и небес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ередо мной картина Куинджи «Лунная ночь на Днепре»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«И о луне можно написать хорошо…» (А.П.Чехов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Луна – таинственная владычица ноч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7" name="opr08AOF.mp3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208309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8953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1) </a:t>
            </a:r>
            <a:r>
              <a:rPr b="1" lang="ru-RU" sz="2600" spc="-1" strike="noStrike">
                <a:solidFill>
                  <a:srgbClr val="4e3b30"/>
                </a:solidFill>
                <a:latin typeface="Franklin Gothic Book"/>
              </a:rPr>
              <a:t>повторить средства выразительности (эпитет, сравнение, метафора, олицетворение, метонимия, синекдоха); 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600" spc="-1" strike="noStrike">
                <a:solidFill>
                  <a:srgbClr val="4e3b30"/>
                </a:solidFill>
                <a:latin typeface="Franklin Gothic Book"/>
              </a:rPr>
              <a:t>2)   выписать из произведений русской литературы отрывок по лунной тематике (например, «Лунная ночь в Отрадном» и «Святки» из романа Л.Толстого «Война и мир», «Свидание на кладбище» из рассказа А.П.Чехова «Ионыч», из произведений Бунина, из повести Гоголя «Майская ночь, или утопленница», из эпилога романа Булгакова «Мастер и Маргарита» и др.), определить средства выразительности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ера Инбер. Избранное. – Москва, 1950 г. Государственное издательство художественной литератур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.И.Ожегов, Н.Ю.Шведова. Толковый словарь русского языка. Издательство "Азъ", 1992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ри века русской поэзии. -   Изд.: Просвещение, 1979 год, 864 ст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33200" y="666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2" descr=""/>
          <p:cNvPicPr/>
          <p:nvPr/>
        </p:nvPicPr>
        <p:blipFill>
          <a:blip r:embed="rId2"/>
          <a:stretch/>
        </p:blipFill>
        <p:spPr>
          <a:xfrm>
            <a:off x="1214280" y="1571760"/>
            <a:ext cx="6643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Бетховен - Лунная соната (Соната для фортепиано N14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214200" y="1571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http://thewhitewolf.3dn.ru/forum/51-726-1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ww.liveinternet.ru/showjournal.php..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ww.sunhome.ru/image/11091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http://muznarod.net/song/1259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www.russianculture.ru/formp.asp?i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20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20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01760" y="493560"/>
            <a:ext cx="7950240" cy="10004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214200" y="199980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вспомнить основные признаки  художественного стил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совершенствовать навыки работы с текстом художественного стил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повторить тропы речи, выяснить роль выразительных средств в текст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формировать умение создавать тексты художественного стиля с использованием средств выразительности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развивать логическое мышление, память, творческие способности, воображение учащихся, наблюдательность, эстетический вкус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329"/>
                </a:solidFill>
                <a:latin typeface="Franklin Gothic Book"/>
              </a:rPr>
              <a:t>воспитывать культуру речи, любовь к родному языку, интерес к художественным произведениям,  к родной природ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90600" y="500040"/>
            <a:ext cx="8345520" cy="15048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 rot="10800000">
            <a:off x="456480" y="1928520"/>
            <a:ext cx="82580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rmAutofit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097920" y="1534680"/>
            <a:ext cx="4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2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14200" y="142848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 (не)запамятных времен Луна пр(и,е)тягивала к себе не только волны океанов но и взоры об…тателей Земл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каз(ы,о)вая то  узенькие рожки то округляясь в шар залитая то серебря(н,нн)ым то пепельным светом, совершала свой путь луна окруже(н,нн)ая оболоч(?)ками тайн. Луне пр(и,е)писывали доброе но чаще злое начал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Она была таинстве(н,нн)ой владычиц…й ноч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(Вера Инбер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712000" y="1856880"/>
            <a:ext cx="45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95120" y="450720"/>
            <a:ext cx="8802720" cy="901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Овал 3"/>
          <p:cNvSpPr/>
          <p:nvPr/>
        </p:nvSpPr>
        <p:spPr>
          <a:xfrm>
            <a:off x="2428920" y="2714760"/>
            <a:ext cx="3857760" cy="15714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изнаки художественного ст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блако 12"/>
          <p:cNvSpPr/>
          <p:nvPr/>
        </p:nvSpPr>
        <p:spPr>
          <a:xfrm>
            <a:off x="4857840" y="1428840"/>
            <a:ext cx="4000320" cy="1571400"/>
          </a:xfrm>
          <a:prstGeom prst="pie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7529"/>
                </a:solidFill>
                <a:latin typeface="Franklin Gothic Book"/>
              </a:rPr>
              <a:t>выраз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блако 14"/>
          <p:cNvSpPr/>
          <p:nvPr/>
        </p:nvSpPr>
        <p:spPr>
          <a:xfrm>
            <a:off x="500040" y="1357200"/>
            <a:ext cx="3143160" cy="1714680"/>
          </a:xfrm>
          <a:prstGeom prst="pie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7529"/>
                </a:solidFill>
                <a:latin typeface="Franklin Gothic Book"/>
              </a:rPr>
              <a:t>обра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блако 16"/>
          <p:cNvSpPr/>
          <p:nvPr/>
        </p:nvSpPr>
        <p:spPr>
          <a:xfrm>
            <a:off x="428760" y="4286160"/>
            <a:ext cx="4000320" cy="1343160"/>
          </a:xfrm>
          <a:prstGeom prst="pie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7529"/>
                </a:solidFill>
                <a:latin typeface="Franklin Gothic Book"/>
              </a:rPr>
              <a:t>эмоцион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блако 17"/>
          <p:cNvSpPr/>
          <p:nvPr/>
        </p:nvSpPr>
        <p:spPr>
          <a:xfrm>
            <a:off x="5286240" y="4000680"/>
            <a:ext cx="3357720" cy="1500120"/>
          </a:xfrm>
          <a:prstGeom prst="pie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7529"/>
                </a:solidFill>
                <a:latin typeface="Franklin Gothic Book"/>
              </a:rPr>
              <a:t>эстет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98440" y="420840"/>
            <a:ext cx="8699400" cy="8841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285920"/>
            <a:ext cx="6410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квозь волнистые туманы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Пробирается лу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На печальные поляны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Льет печально свет она.   (А.С.Пушкин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Ненастный день потух; ненастной ночи   мг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По небу  стелется одеждою свинцово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Как привидение, за рощею сосново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Луна туманная взошла.      (А.С.Пушкин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Мчатся тучи, вьются туч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Невидимкою лу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Освещает снег летуч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Мутно небо, ночь мутна.   (А.С.Пушкин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Содержимое 4" descr=""/>
          <p:cNvPicPr/>
          <p:nvPr/>
        </p:nvPicPr>
        <p:blipFill>
          <a:blip r:embed="rId2"/>
          <a:stretch/>
        </p:blipFill>
        <p:spPr>
          <a:xfrm>
            <a:off x="6858000" y="2143080"/>
            <a:ext cx="2071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98440" y="420840"/>
            <a:ext cx="8699400" cy="8841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0" y="1571760"/>
            <a:ext cx="6858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Я замираю у окн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и в черной чаше небосвода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как золотая капля мед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веркает сладостно луна  (В.Набоко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вечерней тишине так одинок  и звонок луны изогнутый клинок.     (В.Набоко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Шафранный шар луны всплывае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из-за тучи (В.Набоко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Содержимое 4" descr=""/>
          <p:cNvPicPr/>
          <p:nvPr/>
        </p:nvPicPr>
        <p:blipFill>
          <a:blip r:embed="rId2"/>
          <a:stretch/>
        </p:blipFill>
        <p:spPr>
          <a:xfrm>
            <a:off x="6715080" y="2357280"/>
            <a:ext cx="2214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33440" y="298440"/>
            <a:ext cx="8034120" cy="12682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94920" y="1844640"/>
            <a:ext cx="432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Куиндж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художник света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Св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очарование, и сила света, и его иллюзия были его целью. Конечно, вся суть этого явления заключалась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Куинджи, в его феноменальност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                  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И. Е. Реп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Picture 4" descr="Кликните что-бы увеличить фото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29360" y="2004840"/>
            <a:ext cx="287640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 </a:t>
            </a: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И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лл</a:t>
            </a: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юзия </a:t>
            </a:r>
            <a:r>
              <a:rPr b="0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 1. Обман чувств, нечто кажущееся; 2. </a:t>
            </a:r>
            <a:r>
              <a:rPr b="0" lang="ru-RU" sz="4000" spc="-1" strike="noStrike">
                <a:solidFill>
                  <a:srgbClr val="000000"/>
                </a:solidFill>
                <a:latin typeface="Franklin Gothic Book"/>
              </a:rPr>
              <a:t>перен. Нечто несбыточное, мечта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 </a:t>
            </a: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Фен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мен </a:t>
            </a:r>
            <a:r>
              <a:rPr b="0" lang="ru-RU" sz="4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 о человеке или явлении, выдающемся, исключительном в каком-то отношении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3:38:58Z</dcterms:created>
  <dc:creator>Татьяна</dc:creator>
  <dc:description/>
  <dc:language>en-US</dc:language>
  <cp:lastModifiedBy>Виктор</cp:lastModifiedBy>
  <dcterms:modified xsi:type="dcterms:W3CDTF">2011-08-13T06:40:55Z</dcterms:modified>
  <cp:revision>71</cp:revision>
  <dc:subject/>
  <dc:title>Мастер дивного света</dc:title>
</cp:coreProperties>
</file>