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F6CE-FA4C-4A56-B7C9-1152EF15C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E63C-4728-4F9B-9CEC-ADC447932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B20-3F20-4E10-AA17-A4CB0E47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283-E8F9-4EA1-9BBB-971A0206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04DA-104B-4C9F-8D52-1680FF84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D8F80-3B9F-4B64-991A-C2849581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1749D-E0FB-4304-B377-116D96E2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85A8C-1B9E-49CD-BDE4-EF738CD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C585F-D310-40DB-A721-07F7DC0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4319F-EF66-47CA-8737-5D874F3F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5A201-7578-4C73-89F6-A4C56EC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CDB31-998B-4008-952A-4F0C0936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A8870-1671-4CA1-915B-9D132D42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815-0D83-4344-A887-4F5B4D27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A04-E2CA-4B7E-B569-EB4A625D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8F0-BE27-491A-9D1B-EFE68A5E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3F2A-E46A-4582-8E21-138E2B3F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31F-D1C4-4A7B-9B6E-DE6DF3C0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B2CE-FB20-4DE8-A0DA-9F6A7B4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3B85-7718-46E9-A598-FF563D74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DCEF-E692-44F8-A1F7-67B98E57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8C94-1A27-4DD0-AFD6-FD4C418B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FAA-5C3E-4566-B188-222747D0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7715-B4CE-4F73-89D6-602123F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B28-6320-49D8-A205-344C45D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DBC-A400-41D7-A57F-23F3582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2312-824D-4446-8E88-EAFCEE68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32CF-ED8F-474E-A77A-40529F7E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15A5-939F-4BDB-9E2E-E9082C1A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E0DB-389C-44A5-BA4B-52D8097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4089-A741-41ED-BFBA-ADBB66F8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E8F4-8FBF-4C09-A11D-B19FE77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2F84-8C04-4A8E-A3F7-DD04249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45B-979B-4AE3-BD72-CFDDA9A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422A-22BE-4A34-800F-0868167C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D4AC-CB15-41DE-B685-AD4EC1B8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E7B9-1E25-4585-95E6-ECC0E0E1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2A5E-E00D-46AF-BC96-3E6CC4D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553F-6E24-4CCA-A352-B698DE1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0242-3412-420D-8295-1ED663F1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ED3E-0E89-4A12-9DA5-5E81FD37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89F7-1D97-4998-847C-5ED7FEDB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4C1E-E6CD-4AA4-9432-73464E0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19D5-0A22-4AD0-9354-F55A43B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E44-B89E-4538-82A6-83EE6EA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218B-20EC-4DF4-B76F-0F35C05A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5EEC-42E4-4706-B656-D57FEDFE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47D2-D05E-43AD-B1BC-EF93B897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7807-1F7A-4A48-909A-75B89554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B207-4DC9-4230-86B6-DA407CC7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818E-C045-48F2-A666-239D622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3FB4-199A-4BD4-8D3A-C0D8AD55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BCDA-A4DB-4BE1-B7BB-E98619DE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6DF2-0AB3-452D-A825-BE8890C5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FE665-CA2A-4425-B10D-0B902D86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DAC-3368-453D-90D5-8DA9AEEC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4B17-2596-4AD1-9DD5-4FBBF1C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C488-DF5C-4CBC-9180-DA40FDE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0BAA-1BF5-4A20-B1A2-88EA4AA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C91B-6B0B-4144-8A04-04B9EFE7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7338-4293-4C2E-A659-E3A5897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6010-E343-45E6-8789-D63B9CA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F477-1EAA-494E-AC08-7DA8D12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A84D-1E2F-482C-A29B-C3D7969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D2A2-4EA5-45A4-AB79-99A51150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84C0-B75C-4217-823C-A5752A51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69F-5E77-4E35-811D-CD30E13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73F1B-F22F-40BF-A3DE-D1A3FDF5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269D-EF0D-49B0-BA26-0E1E5D83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5472-D800-47F7-ABDA-E4D1CA25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701AB-CC4C-47C7-ABC2-A026B57E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D1CAC-C89F-41CF-8228-3BF6FA2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5FA6-E1A4-49E4-A863-0B3786F8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BDA1C-8DAB-4DBE-A7F6-4825C86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AD94-C767-405E-A7CC-2157199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C77D-3A93-40A7-A3B3-B4358799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FAB46-98B8-4B0E-A4E8-CF83D8B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6D4-5C6A-4A42-9675-89D6BC4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E7ED-A013-4536-A8D2-BBB38CE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2BFA-E10F-4719-B6D8-98EB4AFC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FDDF-C866-42A3-A20D-1A72F3D1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3DD1-E786-4B56-B72D-D5666D86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87544-F46F-438F-86C0-5D12BCB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7798-A4A4-44BE-A234-6D0EA14E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B956-F237-4B28-93AD-D4391779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BDAE-16AC-4760-8AA4-115D80E6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D42A-F459-44A4-A033-5D7DF25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4924-6966-4BB5-A7A6-6CB2E2B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AAF-D29C-431A-8C19-63EEF06A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AD6F-AF7E-4E11-8E2E-2202B29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B514F-14AB-4A7B-A173-F11948E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8609F-7701-4062-9AE1-68D09DA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68CA2-744B-49B0-88F1-6DCBD131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7EDF-A346-4ADB-8689-9641D50D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65D74-402F-4899-826A-54E38E97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A248-D57C-4F96-8197-AEB14B0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F0ED-CDBE-46B8-96ED-F3DA82C4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8FFE4-A68E-42B1-8031-E2DF856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E99F-73CD-401B-8F95-9AFE91EA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689-A9C5-4FC8-A02B-DCED0B1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86F40-B3C5-4A50-B55F-2D96790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D62E-B23B-4811-8CA6-060812F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01C16-EB53-4A8C-B0FE-12DAD79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856E9-2708-44FD-A5C4-A542129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AD63D-D277-4945-93C6-961E8468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8050-E438-4727-921D-B8465CD0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DBB3-93AB-4622-9BDA-A061F06C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21C69-21FA-42BD-9EB8-331BE093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8E428-BF4D-4715-8B68-CA5B3DDE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154F7-A909-4AFE-BB1A-4AFB33E4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4EE9-F5AD-400A-B655-29A5E50412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754C-7868-499A-B64A-A2549E1261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D1E0-391B-497F-A876-043B7D3E0E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2622-C746-4E9F-9F34-99B8A3DAAA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5EA-8814-4863-AAEB-05E8AC06F5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A14C-91C4-4735-A4A8-49C99F28A5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0D2-A08F-41F6-933F-3AA848FB46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66F2-9BE5-4CBB-950A-9E1FDD17B4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59DD-3B10-40E8-AE99-18B817AFEC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myliveweb.ru/foto_galereya.php?id=large/slavyanskaya_kultura-1164502373_i_3247_full_1.jpg&amp;NS=9646f772dd3558162f8c8808d1e698d5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38120"/>
            <a:ext cx="8699400" cy="86688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2" descr=""/>
          <p:cNvPicPr/>
          <p:nvPr/>
        </p:nvPicPr>
        <p:blipFill>
          <a:blip r:embed="rId2"/>
          <a:stretch/>
        </p:blipFill>
        <p:spPr>
          <a:xfrm>
            <a:off x="1779480" y="2060640"/>
            <a:ext cx="558504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5143680" y="2828880"/>
            <a:ext cx="400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МОУ «СОШ №1 г.Калин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Балдина Ма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96840" y="566640"/>
            <a:ext cx="826596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304920" y="1571760"/>
            <a:ext cx="4552920" cy="4572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1640" y="1413000"/>
            <a:ext cx="441972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	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В 1880 году в Петербурге на Большой Морской была открыта необычайная выставка: демонстрировалась одна картина — "Лунная ночь на Днепре". Она вызвала бурю восторгов. У входа на выставку стояла огромная очередь.</a:t>
            </a:r>
            <a:br>
              <a:rPr sz="2000"/>
            </a:b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Мастерство Куинджи в передаче лунного света — результат огромной работы, длительных поисков. Его мастерская была лабораторией исследователя. Он много экспериментировал, изучал законы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цвета,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 отыскивая верный тон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6194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4428720"/>
            <a:ext cx="542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Times New Roman"/>
              </a:rPr>
              <a:t>Лунный свет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– самое удивительное в этой картине. Его естественность определяется умением использовать световые и цветовые контраст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643360" y="4572000"/>
            <a:ext cx="350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- Чем интересен лунный свет? Почему он притягивает наше внимани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rcRect l="22998" t="0" r="34001" b="75007"/>
          <a:stretch/>
        </p:blipFill>
        <p:spPr>
          <a:xfrm>
            <a:off x="285840" y="214200"/>
            <a:ext cx="85010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5840" y="471456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Небо можно воспринимать как самостоятельную картину. Оно является главным композиционным звен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214960" y="4785840"/>
            <a:ext cx="392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Оно несет лунный свет, который соединяет землю и небо в единое цело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rcRect l="28389" t="15276" r="34001" b="59724"/>
          <a:stretch/>
        </p:blipFill>
        <p:spPr>
          <a:xfrm>
            <a:off x="428760" y="21420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rcRect l="41003" t="65282" r="29291" b="14469"/>
          <a:stretch/>
        </p:blipFill>
        <p:spPr>
          <a:xfrm>
            <a:off x="285840" y="214200"/>
            <a:ext cx="8501040" cy="421488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441360" y="4500720"/>
            <a:ext cx="82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як – типичная примета украинского села. Человеческий мир и мир природы сливаются в этой работе в целостный образ, отличающийся философской глубиной и композиционной продуман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rcRect l="22001" t="69449" r="44002" b="12500"/>
          <a:stretch/>
        </p:blipFill>
        <p:spPr>
          <a:xfrm>
            <a:off x="285840" y="285840"/>
            <a:ext cx="8501040" cy="47862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517680" y="550080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дь реки искрится и колышется как живая – и здесь куиджиевский иллюзионизм налицо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59002" t="72224" r="7436" b="4167"/>
          <a:stretch/>
        </p:blipFill>
        <p:spPr>
          <a:xfrm>
            <a:off x="428760" y="214200"/>
            <a:ext cx="8286480" cy="45720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714240" y="4857840"/>
            <a:ext cx="785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беленные стены крестьянских хат зеркально отражают лунный свет, и в этом взаимодействии крепко связывается земное и небес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ередо мной картина Куинджи «Лунная ночь на Днепре»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«И о луне можно написать хорошо…» (А.П.Чехо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Луна – таинственная владычица ноч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opr08AOF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208309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8953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) </a:t>
            </a:r>
            <a:r>
              <a:rPr b="1" lang="ru-RU" sz="2600" spc="-1" strike="noStrike">
                <a:solidFill>
                  <a:srgbClr val="4e3b30"/>
                </a:solidFill>
                <a:latin typeface="Franklin Gothic Book"/>
              </a:rPr>
              <a:t>повторить средства выразительности (эпитет, сравнение, метафора, олицетворение, метонимия, синекдоха); 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600" spc="-1" strike="noStrike">
                <a:solidFill>
                  <a:srgbClr val="4e3b30"/>
                </a:solidFill>
                <a:latin typeface="Franklin Gothic Book"/>
              </a:rPr>
              <a:t>2)   выписать из произведений русской литературы отрывок по лунной тематике (например, «Лунная ночь в Отрадном» и «Святки» из романа Л.Толстого «Война и мир», «Свидание на кладбище» из рассказа А.П.Чехова «Ионыч», из произведений Бунина, из повести Гоголя «Майская ночь, или утопленница», из эпилога романа Булгакова «Мастер и Маргарита» и др.), определить средства выразительности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ра Инбер. Избранное. – Москва, 1950 г. Государственное издательство художественной литератур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.И.Ожегов, Н.Ю.Шведова. Толковый словарь русского языка. Издательство "Азъ", 1992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ри века русской поэзии. -   Изд.: Просвещение, 1979 год, 864 ст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666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2" descr=""/>
          <p:cNvPicPr/>
          <p:nvPr/>
        </p:nvPicPr>
        <p:blipFill>
          <a:blip r:embed="rId2"/>
          <a:stretch/>
        </p:blipFill>
        <p:spPr>
          <a:xfrm>
            <a:off x="1214280" y="1571760"/>
            <a:ext cx="664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етховен - Лунная соната (Соната для фортепиано N1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214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http://thewhitewolf.3dn.ru/forum/51-726-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ww.liveinternet.ru/showjournal.php..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ww.sunhome.ru/image/11091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http://muznarod.net/song/1259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ww.russianculture.ru/formp.asp?i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01760" y="493560"/>
            <a:ext cx="7950240" cy="1000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14200" y="199980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вспомнить основные признаки  художественного стил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совершенствовать навыки работы с текстом художественного стил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повторить тропы речи, выяснить роль выразительных средств в текст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формировать умение создавать тексты художественного стиля с использованием средств выразительност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развивать логическое мышление, память, творческие способности, воображение учащихся, наблюдательность, эстетический вкус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воспитывать культуру речи, любовь к родному языку, интерес к художественным произведениям,  к родной природ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90600" y="500040"/>
            <a:ext cx="8345520" cy="15048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 rot="10800000">
            <a:off x="456480" y="1928520"/>
            <a:ext cx="82580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097920" y="1534680"/>
            <a:ext cx="4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2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4200" y="142848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 (не)запамятных времен Луна пр(и,е)тягивала к себе не только волны океанов но и взоры об…тателей Земл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каз(ы,о)вая то  узенькие рожки то округляясь в шар залитая то серебря(н,нн)ым то пепельным светом, совершала свой путь луна окруже(н,нн)ая оболоч(?)ками тайн. Луне пр(и,е)писывали доброе но чаще злое начал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на была таинстве(н,нн)ой владычиц…й но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(Вера Инбер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712000" y="1856880"/>
            <a:ext cx="45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802720" cy="901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Овал 3"/>
          <p:cNvSpPr/>
          <p:nvPr/>
        </p:nvSpPr>
        <p:spPr>
          <a:xfrm>
            <a:off x="2428920" y="2714760"/>
            <a:ext cx="3857760" cy="1571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знаки художественного ст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блако 12"/>
          <p:cNvSpPr/>
          <p:nvPr/>
        </p:nvSpPr>
        <p:spPr>
          <a:xfrm>
            <a:off x="4857840" y="1428840"/>
            <a:ext cx="4000320" cy="157140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выраз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блако 14"/>
          <p:cNvSpPr/>
          <p:nvPr/>
        </p:nvSpPr>
        <p:spPr>
          <a:xfrm>
            <a:off x="500040" y="1357200"/>
            <a:ext cx="3143160" cy="171468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об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блако 16"/>
          <p:cNvSpPr/>
          <p:nvPr/>
        </p:nvSpPr>
        <p:spPr>
          <a:xfrm>
            <a:off x="428760" y="4286160"/>
            <a:ext cx="4000320" cy="134316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эмо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блако 17"/>
          <p:cNvSpPr/>
          <p:nvPr/>
        </p:nvSpPr>
        <p:spPr>
          <a:xfrm>
            <a:off x="5286240" y="4000680"/>
            <a:ext cx="3357720" cy="150012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эстет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285920"/>
            <a:ext cx="6410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квозь волнистые туман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робирается лу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а печальные полян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ьет печально свет она.   (А.С.Пушки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енастный день потух; ненастной ночи   мг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о небу  стелется одеждою свинцово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Как привидение, за рощею сосново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уна туманная взошла.      (А.С.Пушки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Мчатся тучи, вьются туч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евидимкою лу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Освещает снег летуч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Мутно небо, ночь мутна.   (А.С.Пушки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Содержимое 4" descr=""/>
          <p:cNvPicPr/>
          <p:nvPr/>
        </p:nvPicPr>
        <p:blipFill>
          <a:blip r:embed="rId2"/>
          <a:stretch/>
        </p:blipFill>
        <p:spPr>
          <a:xfrm>
            <a:off x="6858000" y="2143080"/>
            <a:ext cx="2071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0" y="1571760"/>
            <a:ext cx="6858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Я замираю у окн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 в черной чаше небосвода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ак золотая капля мед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веркает сладостно луна  (В.Набок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вечерней тишине так одинок  и звонок луны изогнутый клинок.     (В.Набок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Шафранный шар луны всплывае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з-за тучи (В.Набок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Содержимое 4" descr=""/>
          <p:cNvPicPr/>
          <p:nvPr/>
        </p:nvPicPr>
        <p:blipFill>
          <a:blip r:embed="rId2"/>
          <a:stretch/>
        </p:blipFill>
        <p:spPr>
          <a:xfrm>
            <a:off x="6715080" y="2357280"/>
            <a:ext cx="221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8034120" cy="1268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432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уиндж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художник света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Св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очарование, и сила света, и его иллюзия были его целью. Конечно, вся суть этого явления заключалась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уинджи, в его феноменальност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. Е. Реп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4" descr="Кликните что-бы увеличить фот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29360" y="2004840"/>
            <a:ext cx="28764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лл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юзия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1. Обман чувств, нечто кажущееся; 2.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перен. Нечто несбыточное, мечта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Фен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ен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о человеке или явлении, выдающемся, исключительном в каком-то отношени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3:38:58Z</dcterms:created>
  <dc:creator>Татьяна</dc:creator>
  <dc:description/>
  <dc:language>en-US</dc:language>
  <cp:lastModifiedBy>Виктор</cp:lastModifiedBy>
  <dcterms:modified xsi:type="dcterms:W3CDTF">2011-08-13T06:40:55Z</dcterms:modified>
  <cp:revision>71</cp:revision>
  <dc:subject/>
  <dc:title>Мастер дивного света</dc:title>
</cp:coreProperties>
</file>