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1AD6-EA04-4B1B-86BA-BB0A836E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E7A-8F20-4B9E-ABF3-A1D328DB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9C2-D8B6-44A6-B87E-A963538A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7EE-E2EA-4ED9-B788-C43A4131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E23E-F39B-40F8-9694-251A8953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2908-8BC5-4CDF-A186-FC6CA359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6515-D626-416B-8D79-A3EE53E5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B95E-CA20-486A-AA4A-1A8697ED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3392-2FBC-44A1-846E-88254064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7F0B-F68D-4980-A23E-072DCE3A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2D99-CD29-40AD-86D0-7F557E3B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0CF4-2E62-4B85-8334-2467B066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1862-519C-4157-938C-7F6C69E7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8026-349C-4670-B70E-5CDD0A83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5210-F6A2-44E8-ACAD-AAB95A9C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FA40-12ED-4BDB-9C53-BC3C4264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8FC1-29D5-4EAD-B0B6-F7C222AF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D5E-5E8E-4B07-99CB-92E858A6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395-0FD4-4ED1-A1A1-784DCC1D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FBA4-C696-40D8-8CFE-3831C147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F75-864B-4773-B136-B3B53704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336-0598-4D58-8DD8-70D53C54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B35E-2EF0-4C28-AEB5-DC267F82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E35-F420-460A-BFB9-E27B8E85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E7C5-7936-4146-A229-2F5D5AFF89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0CB6-8C71-4B8E-890C-FC66DBCDBA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openclass.ru/" TargetMode="External"/><Relationship Id="rId2" Type="http://schemas.openxmlformats.org/officeDocument/2006/relationships/hyperlink" Target="http://deti.mostinfo.ru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TR01036265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0033"/>
                </a:solidFill>
                <a:latin typeface="Georgia"/>
              </a:rPr>
              <a:t>                 </a:t>
            </a: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 </a:t>
            </a:r>
            <a:br>
              <a:rPr sz="4400"/>
            </a:br>
            <a:r>
              <a:rPr b="1" i="1" lang="ru-RU" sz="3600" spc="-1" strike="noStrike">
                <a:solidFill>
                  <a:srgbClr val="330033"/>
                </a:solidFill>
                <a:latin typeface="Georgia"/>
                <a:ea typeface="Arial"/>
              </a:rPr>
              <a:t>Методическое </a:t>
            </a:r>
            <a:br>
              <a:rPr sz="3600"/>
            </a:br>
            <a:r>
              <a:rPr b="1" i="1" lang="ru-RU" sz="3600" spc="-1" strike="noStrike">
                <a:solidFill>
                  <a:srgbClr val="330033"/>
                </a:solidFill>
                <a:latin typeface="Georgia"/>
                <a:ea typeface="Arial"/>
              </a:rPr>
              <a:t>сопровождение внедрения </a:t>
            </a:r>
            <a:br>
              <a:rPr sz="3600"/>
            </a:br>
            <a:r>
              <a:rPr b="1" i="1" lang="ru-RU" sz="3600" spc="-1" strike="noStrike">
                <a:solidFill>
                  <a:srgbClr val="330033"/>
                </a:solidFill>
                <a:latin typeface="Georgia"/>
                <a:ea typeface="Arial"/>
              </a:rPr>
              <a:t>ФГТ в  ДОУ</a:t>
            </a:r>
            <a:r>
              <a:rPr b="1" lang="ru-RU" sz="3600" spc="-1" strike="noStrike">
                <a:solidFill>
                  <a:srgbClr val="330033"/>
                </a:solidFill>
                <a:latin typeface="Georgia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929120" y="4714920"/>
            <a:ext cx="42148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тарший 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овальчук  Л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4143240" y="62866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1 этап – </a:t>
            </a:r>
            <a:br>
              <a:rPr sz="3200"/>
            </a:b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рганизационно-подготовительный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buClr>
                <a:srgbClr val="000000"/>
              </a:buClr>
              <a:buSzPct val="9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нализ состояния готовности  ДОУ и педагогов к внедрению ФГ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анкетирование педагогов ДО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изучение опыта рабо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создание банка данных по внедрению ФГ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определение путей совершенствования                                                                                            методической работы с педагог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ка программы методического   сопровождения внедрения ФГТ дошкольного  образования в практику Д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2 этап - внедренческий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ализация программы внедрения ФГ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троль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за соблюдением графика проведения   мероприятий программы комплексно-тематического планирования образовательного процесса в Д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организации образовательного процесса в соответствии с ФГ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 интеграции образовательных обла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 владения педагогическими технологиями в проектировании образовательной деятельности и применения их в работе с детьми и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3 этап - обобщающ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а эффективности реализации Программы методического сопровождения по всем направл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явление, обобщение  педагогического опыта в условиях внедрения ФГТ в практику Д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ение путей совершенствования методической работы, обеспечивающей сопровождение внедрения ФГТ 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6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Ожидаемый результат реализации проекта</a:t>
            </a: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	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еспечена информационная, методическая, технологическая готовность педагогов для работы с детьми  по  ФГ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вышен уровень сформированности мотивационно- профессиональной компетентности педагого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оведены  требования к условиям, обеспечивающих реализацию основной образовательной программы дошкольного  образования согласно ФГ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дагоги ознакомлены  с технологиями разработки  рабочих программ с учетом образовательных обла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Основные  формы</a:t>
            </a:r>
            <a:r>
              <a:rPr b="0" lang="ru-RU" sz="3200" spc="-1" strike="noStrike">
                <a:solidFill>
                  <a:srgbClr val="330033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реализации проек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стер-клас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методические объеди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обучающие семина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семинары-практику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консуль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открытые просмотры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Georgia"/>
              </a:rPr>
              <a:t>Ресурсное обеспечени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ериально-техническое обеспечение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рудов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нформацион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Внешние связи методической службы по реализации проекта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инистерство образования и науки РМ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ОУ ДПО (ПК)С «Марийский институт образо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УОО администрации ГО «Город Волжс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нтернет-со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Georgia"/>
                <a:hlinkClick r:id="rId1"/>
              </a:rPr>
              <a:t>http://www.openclass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33"/>
                </a:solidFill>
                <a:uFillTx/>
                <a:latin typeface="Georgia"/>
                <a:hlinkClick r:id="rId2"/>
              </a:rPr>
              <a:t>http://deti.mostinfo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festival.nic-snail.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nsporta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Критерии оценки результа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нание программ и технологии разработки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отовность педагогов использовать технологии, отвечающие требованиям ФГ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шение проблемы выбора программ, учебно-методических  пособий с учетом интересов всех субъектов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ровень профессиональной компетентност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Семинар-практикум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«Внедрение федеральных государственных требований в воспитательно-образовательный процесс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Структура рабочей учебной программ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итульный 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новные задачи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ланирование образова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иагностика уровня развития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лагаемые результаты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27756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Нормативно - правовое обеспечение реализации ФГТ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кон РФ «Об образовани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каз Минобрнауки  России от 23.11.2009 № 655 «Об утверждении и введение в действие федеральных государственных требований к структуре основной общеобразовательной программы дошкольного образовани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етодические рекомендации Министерства образования и науки РФ «О разработке основной общеобразовательной программы дошкольного образования» (письмо от 21.10.2010 № 03-24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680" y="2775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Georgia"/>
              </a:rPr>
              <a:t>Ваше мнение…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26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то больше всего заинтересовало в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- В чем заключается  инновационность подхода к организации предметно-развивающей сре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Какие изменения в существующую традиционную систему планирования вносят ФГ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- Что такое - Интегративный подход и к организации развивающих цен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Что можно сказать о планирован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«Кто постигает нов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лелея стар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тот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быть учителем…»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нфу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Цель методической работы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2400" spc="-1" strike="noStrike">
                <a:solidFill>
                  <a:srgbClr val="330033"/>
                </a:solidFill>
                <a:latin typeface="Georgia"/>
              </a:rPr>
              <a:t>обеспечение профессиональной готовности педагогов  к реализации ФГТ  в ДОУ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нформационно-аналитическое сопровождение деятельности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вышение профессиональной компетентности педагогов ДОУ в вопросах организации ОП в соответствии с ФГ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рганизация профессионального общения педагогов изучение инновационного опыта по реализации ФГ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етодическая поддержка педагогов и Д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8209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етодическая раб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(если она грамотно организована)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то основанная на науке и прогрессивном педагогическом и управленческом опыте целостная система взаимосвязанных мер, нацеленная на обесп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фессионального роста педагог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витие его творческого потенци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повышение качества и эффективности учебно-воспит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рост уровня образованности, воспитанности, развитости, социализации и сохранение здоровья детей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ташник М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роблемы в освоении и реализации ФГТ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т глубинного понимания педагогами положений, заложенных в федеральных требов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дагоги ДОУ не готовы к изменениям,  проявляют «протест» или занимают пассивную пози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спытывают трудности в проектировании образовательного проц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Тема проекта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Методическое сопровождение внедрения ФГТ в практику дошкольного образовательного учрежде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277560"/>
            <a:ext cx="77868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Цель проек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77240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5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ка Программы  перехода на ФГТ, ориентированной на изменение профессиональной позиции педагога и совершенствование опыта практ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Задачи проек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анализировать готовность педагогов к внедрению Федеральных государственных требований и выявить профессиональные затруд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рганизовать методическое сопровождение педагогов, внедряющих ФГ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ить результативность проекта и определить перспективы деятельности по подготовке педагогов к переходу на ФГТ  в Д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Сроки и этапы реализа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2133360"/>
            <a:ext cx="78598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 этап.  Организационно-подготовитель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декабрь 2010-январь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 этап. Внедренческ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(август 2011 года – май 2012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 этап. Обобщающ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июнь-август 2012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7:27:29Z</dcterms:created>
  <dc:creator>user1</dc:creator>
  <dc:description/>
  <dc:language>en-US</dc:language>
  <cp:lastModifiedBy>Admin</cp:lastModifiedBy>
  <dcterms:modified xsi:type="dcterms:W3CDTF">2011-12-02T05:16:17Z</dcterms:modified>
  <cp:revision>20</cp:revision>
  <dc:subject/>
  <dc:title>Слайд 1</dc:title>
</cp:coreProperties>
</file>