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F881-722E-46BC-82B8-202172EB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AC2-91AB-49B0-8AD0-24DAB052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732-9A48-472C-932C-5A3990C2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B5D4-111C-4728-B28E-D488DECA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31B0-7AAA-490A-9FAF-604DC5F8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EFCD-04E3-4F9E-81F8-B5102EA8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2542-BAAA-4E8C-B3A1-3B8FEF10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831A-BA28-4203-BC9A-50FBD670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FF12-4AB5-465C-B7CE-FC0D2A4A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B75F-B932-4954-937B-F7A044BE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8F71-A939-4FD2-A67A-25258C86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30CF-0393-46B3-814C-151CDF0D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154D-BE5E-48DB-A2F0-AEAA3FD0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AAA1-1E7B-42A1-8847-DAD72F8D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A652-0B8F-4E99-AD88-A543E127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6745-2049-41DB-B9EE-7BE1EEDD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DAEE-1D66-47E3-8D00-E8EFD485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BCD-1977-4F83-BCAD-086E89D9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6509-F7E9-4C08-927F-DD3819DA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236E-338D-4C58-B494-C461BE85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45A5-8E5D-4FFE-BC66-2990E6EF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FDFC-24D6-4250-8253-AB9693EE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8DF8-E855-48E6-A186-DEA21733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219-7647-4301-8A85-3AA900E2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8487-716D-4660-A45A-48AD02743F4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7B54-30F0-48B2-8BB1-5733BDE6F0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openclass.ru/" TargetMode="External"/><Relationship Id="rId2" Type="http://schemas.openxmlformats.org/officeDocument/2006/relationships/hyperlink" Target="http://deti.mostinfo.ru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TR010362651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71424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0033"/>
                </a:solidFill>
                <a:latin typeface="Georgia"/>
              </a:rPr>
              <a:t>                 </a:t>
            </a: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 </a:t>
            </a:r>
            <a:br>
              <a:rPr sz="4400"/>
            </a:br>
            <a:r>
              <a:rPr b="1" i="1" lang="ru-RU" sz="3600" spc="-1" strike="noStrike">
                <a:solidFill>
                  <a:srgbClr val="330033"/>
                </a:solidFill>
                <a:latin typeface="Georgia"/>
                <a:ea typeface="Arial"/>
              </a:rPr>
              <a:t>Методическое </a:t>
            </a:r>
            <a:br>
              <a:rPr sz="3600"/>
            </a:br>
            <a:r>
              <a:rPr b="1" i="1" lang="ru-RU" sz="3600" spc="-1" strike="noStrike">
                <a:solidFill>
                  <a:srgbClr val="330033"/>
                </a:solidFill>
                <a:latin typeface="Georgia"/>
                <a:ea typeface="Arial"/>
              </a:rPr>
              <a:t>сопровождение внедрения </a:t>
            </a:r>
            <a:br>
              <a:rPr sz="3600"/>
            </a:br>
            <a:r>
              <a:rPr b="1" i="1" lang="ru-RU" sz="3600" spc="-1" strike="noStrike">
                <a:solidFill>
                  <a:srgbClr val="330033"/>
                </a:solidFill>
                <a:latin typeface="Georgia"/>
                <a:ea typeface="Arial"/>
              </a:rPr>
              <a:t>ФГТ в  ДОУ</a:t>
            </a:r>
            <a:r>
              <a:rPr b="1" lang="ru-RU" sz="3600" spc="-1" strike="noStrike">
                <a:solidFill>
                  <a:srgbClr val="330033"/>
                </a:solidFill>
                <a:latin typeface="Georgia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929120" y="4714920"/>
            <a:ext cx="421488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старший 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овальчук  Л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4143240" y="62866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1 этап – </a:t>
            </a:r>
            <a:br>
              <a:rPr sz="3200"/>
            </a:b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организационно-подготовительный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buClr>
                <a:srgbClr val="000000"/>
              </a:buClr>
              <a:buSzPct val="9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нализ состояния готовности  ДОУ и педагогов к внедрению ФГ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анкетирование педагогов ДО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изучение опыта рабо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создание банка данных по внедрению ФГ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определение путей совершенствования                                                                                            методической работы с педагог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ка программы методического   сопровождения внедрения ФГТ дошкольного  образования в практику Д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2 этап - внедренческий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еализация программы внедрения ФГ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троль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за соблюдением графика проведения   мероприятий программы комплексно-тематического планирования образовательного процесса в Д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организации образовательного процесса в соответствии с ФГ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 интеграции образовательных обла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 владения педагогическими технологиями в проектировании образовательной деятельности и применения их в работе с детьми и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3 этап - обобщающ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ценка эффективности реализации Программы методического сопровождения по всем направл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явление, обобщение  педагогического опыта в условиях внедрения ФГТ в практику Д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ение путей совершенствования методической работы, обеспечивающей сопровождение внедрения ФГТ в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6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Ожидаемый результат реализации проекта</a:t>
            </a: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	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еспечена информационная, методическая, технологическая готовность педагогов для работы с детьми  по  ФГ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вышен уровень сформированности мотивационно- профессиональной компетентности педагогов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оведены  требования к условиям, обеспечивающих реализацию основной образовательной программы дошкольного  образования согласно ФГ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дагоги ознакомлены  с технологиями разработки  рабочих программ с учетом образовательных обла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Основные  формы</a:t>
            </a:r>
            <a:r>
              <a:rPr b="0" lang="ru-RU" sz="3200" spc="-1" strike="noStrike">
                <a:solidFill>
                  <a:srgbClr val="330033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реализации проект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стер-клас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методические объеди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обучающие семина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семинары-практику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консуль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открытые просмотры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Georgia"/>
              </a:rPr>
              <a:t>Ресурсное обеспечение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ериально-техническое обеспечение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рудов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нформационн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Внешние связи методической службы по реализации проекта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инистерство образования и науки РМ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ОУ ДПО (ПК)С «Марийский институт образо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УОО администрации ГО «Город Волжс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нтернет-со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Georgia"/>
                <a:hlinkClick r:id="rId1"/>
              </a:rPr>
              <a:t>http://www.openclass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Georgia"/>
                <a:hlinkClick r:id="rId2"/>
              </a:rPr>
              <a:t>http://deti.mostinfo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festival.nic-snail.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nsportal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Критерии оценки результат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нание программ и технологии разработки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отовность педагогов использовать технологии, отвечающие требованиям ФГ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ешение проблемы выбора программ, учебно-методических  пособий с учетом интересов всех субъектов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ровень профессиональной компетентности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Семинар-практикум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«Внедрение федеральных государственных требований в воспитательно-образовательный процесс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Структура рабочей учебной программ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итульный 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новные задачи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ланирование образовате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иагностика уровня развития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полагаемые результаты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27756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Нормативно - правовое обеспечение реализации ФГТ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кон РФ «Об образовани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каз Минобрнауки  России от 23.11.2009 № 655 «Об утверждении и введение в действие федеральных государственных требований к структуре основной общеобразовательной программы дошкольного образования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етодические рекомендации Министерства образования и науки РФ «О разработке основной общеобразовательной программы дошкольного образования» (письмо от 21.10.2010 № 03-24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680" y="27756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Georgia"/>
              </a:rPr>
              <a:t>Ваше мнение…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26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то больше всего заинтересовало в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- В чем заключается  инновационность подхода к организации предметно-развивающей сре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Какие изменения в существующую традиционную систему планирования вносят ФГ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- Что такое - Интегративный подход и к организации развивающих цен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Что можно сказать о планирован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«Кто постигает нов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лелея стар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тот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быть учителем…»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нфу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Цель методической работы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ru-RU" sz="2400" spc="-1" strike="noStrike">
                <a:solidFill>
                  <a:srgbClr val="330033"/>
                </a:solidFill>
                <a:latin typeface="Georgia"/>
              </a:rPr>
              <a:t>обеспечение профессиональной готовности педагогов  к реализации ФГТ  в ДОУ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нформационно-аналитическое сопровождение деятельности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вышение профессиональной компетентности педагогов ДОУ в вопросах организации ОП в соответствии с ФГ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рганизация профессионального общения педагогов изучение инновационного опыта по реализации ФГ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етодическая поддержка педагогов и Д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280" y="981000"/>
            <a:ext cx="8209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етодическая раб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(если она грамотно организована)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то основанная на науке и прогрессивном педагогическом и управленческом опыте целостная система взаимосвязанных мер, нацеленная на обесп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фессионального роста педагог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витие его творческого потенциа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 повышение качества и эффективности учебно-воспит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 рост уровня образованности, воспитанности, развитости, социализации и сохранение здоровья детей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ташник М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Проблемы в освоении и реализации ФГТ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т глубинного понимания педагогами положений, заложенных в федеральных требов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дагоги ДОУ не готовы к изменениям,  проявляют «протест» или занимают пассивную пози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спытывают трудности в проектировании образовательного проце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Тема проекта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Методическое сопровождение внедрения ФГТ в практику дошкольного образовательного учрежде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277560"/>
            <a:ext cx="778680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Цель проект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772400" cy="40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ка Программы  перехода на ФГТ, ориентированной на изменение профессиональной позиции педагога и совершенствование опыта практическ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Задачи проект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анализировать готовность педагогов к внедрению Федеральных государственных требований и выявить профессиональные затруд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рганизовать методическое сопровождение педагогов, внедряющих ФГ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ценить результативность проекта и определить перспективы деятельности по подготовке педагогов к переходу на ФГТ  в Д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Сроки и этапы реализа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560" y="2133360"/>
            <a:ext cx="78598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 этап.  Организационно-подготовительн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декабрь 2010-январь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 этап. Внедренческ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(август 2011 года – май 2012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3 этап. Обобщающ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июнь-август 2012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07:27:29Z</dcterms:created>
  <dc:creator>user1</dc:creator>
  <dc:description/>
  <dc:language>en-US</dc:language>
  <cp:lastModifiedBy>Admin</cp:lastModifiedBy>
  <dcterms:modified xsi:type="dcterms:W3CDTF">2011-12-02T05:16:17Z</dcterms:modified>
  <cp:revision>20</cp:revision>
  <dc:subject/>
  <dc:title>Слайд 1</dc:title>
</cp:coreProperties>
</file>