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2D03-93E4-486F-8EBA-7F21178130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3F14-FBEC-4C59-9178-901739C67F2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571-1D0F-4317-9DA0-D8063496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883-2F94-4AA6-AF27-1AC98638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7C1-358A-4352-8177-AD864718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377-AD85-40B9-95E1-4E84A081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44B-441E-4621-9FCE-F5E7C6B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F9F-A461-459C-8449-630B4384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A75-7645-47A9-92E8-70D37616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E1E-14C8-43D5-A7C9-1F73A3CD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45D-072A-4D3B-A4F2-2102AB19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149-3830-4F70-BD1F-6EEA3C31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257-11A7-426D-80AE-AE66419F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C93-0E49-4AB7-8E4E-F0580F5A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6674-7C9E-473E-9A3D-9735F3EB218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Hyoscyamus_niger2_W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3300"/>
                </a:solidFill>
                <a:latin typeface="Arial"/>
              </a:rPr>
              <a:t>Покрытосеменные </a:t>
            </a:r>
            <a:br>
              <a:rPr sz="4200"/>
            </a:br>
            <a:r>
              <a:rPr b="1" i="1" lang="en-US" sz="4200" spc="-1" strike="noStrike">
                <a:solidFill>
                  <a:srgbClr val="ff3300"/>
                </a:solidFill>
                <a:latin typeface="Arial"/>
              </a:rPr>
              <a:t>Класс двудольные</a:t>
            </a:r>
            <a:br>
              <a:rPr sz="4200"/>
            </a:br>
            <a:br>
              <a:rPr sz="4200"/>
            </a:br>
            <a:r>
              <a:rPr b="1" lang="en-US" sz="4200" spc="-1" strike="noStrike">
                <a:solidFill>
                  <a:srgbClr val="008000"/>
                </a:solidFill>
                <a:latin typeface="Arial"/>
              </a:rPr>
              <a:t>Семейство Паслёновые</a:t>
            </a:r>
            <a:br>
              <a:rPr sz="4200"/>
            </a:br>
            <a:endParaRPr b="0" lang="en-US" sz="4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35280" y="5950080"/>
            <a:ext cx="46083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259"/>
                </a:solidFill>
                <a:latin typeface="Arial"/>
              </a:rPr>
              <a:t>Автор – составитель учитель биологии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259"/>
                </a:solidFill>
                <a:latin typeface="Arial"/>
              </a:rPr>
              <a:t>МОУ «Алексеевская СОШ»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259"/>
                </a:solidFill>
                <a:latin typeface="Arial"/>
              </a:rPr>
              <a:t>Гречухина Н.В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"/>
          <p:cNvSpPr/>
          <p:nvPr/>
        </p:nvSpPr>
        <p:spPr>
          <a:xfrm>
            <a:off x="3495240" y="1890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259"/>
                </a:solidFill>
                <a:latin typeface="Arial"/>
              </a:rPr>
              <a:t>Биология 6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333000"/>
            <a:ext cx="44020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76"/>
                </a:solidFill>
                <a:latin typeface="Arial Narrow"/>
              </a:rPr>
              <a:t>БАКЛАЖАН — SOLANUM MELONGENA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40000" y="836280"/>
            <a:ext cx="4895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cc"/>
                </a:solidFill>
                <a:latin typeface="Times New Roman"/>
              </a:rPr>
              <a:t>Использование.</a:t>
            </a:r>
            <a:r>
              <a:rPr b="1" lang="en-US" sz="2200" spc="-1" strike="noStrike">
                <a:solidFill>
                  <a:srgbClr val="005476"/>
                </a:solidFill>
                <a:latin typeface="Times New Roman"/>
              </a:rPr>
              <a:t> Баклажан — третья по значимости культура из семейства Пасленовы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5476"/>
                </a:solidFill>
                <a:latin typeface="Times New Roman"/>
              </a:rPr>
              <a:t>В свежих плодах баклажана содержится 7% углеводов, 1% белков, 1,3 мг/100 г железа, 0,05 мг/ 100 г тиамина, 0,05 мг/100 г рибофлавина, 0,5 мг/100 г витамина РР, витамина С — всего 9 мг/100 г (в этом отношении баклажан сильно уступает другим пасленовым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cc"/>
                </a:solidFill>
                <a:latin typeface="Times New Roman"/>
              </a:rPr>
              <a:t>Плоды</a:t>
            </a:r>
            <a:r>
              <a:rPr b="1" lang="en-US" sz="2200" spc="-1" strike="noStrike">
                <a:solidFill>
                  <a:srgbClr val="005476"/>
                </a:solidFill>
                <a:latin typeface="Times New Roman"/>
              </a:rPr>
              <a:t> баклажана, зрелые и незрелые, употребляют в пищу в вареном, жареном, запеченном виде, консервируют. Незрелые плоды иногда используют в пряных смеся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cc"/>
                </a:solidFill>
                <a:latin typeface="Times New Roman"/>
              </a:rPr>
              <a:t>Происхождение.</a:t>
            </a:r>
            <a:r>
              <a:rPr b="1" lang="en-US" sz="2200" spc="-1" strike="noStrike">
                <a:solidFill>
                  <a:srgbClr val="005476"/>
                </a:solidFill>
                <a:latin typeface="Times New Roman"/>
              </a:rPr>
              <a:t> Родина баклажана — Индия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" name="" descr="БАКЛАЖАН — SOLANUM MELONGENA"/>
          <p:cNvPicPr/>
          <p:nvPr/>
        </p:nvPicPr>
        <p:blipFill>
          <a:blip r:embed="rId2"/>
          <a:stretch/>
        </p:blipFill>
        <p:spPr>
          <a:xfrm>
            <a:off x="250920" y="115920"/>
            <a:ext cx="3529080" cy="6481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34920" y="259920"/>
            <a:ext cx="52563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476"/>
                </a:solidFill>
                <a:latin typeface="Arial Narrow"/>
              </a:rPr>
              <a:t>ФИЗАЛИС — РHYSALIS PERUVIANA</a:t>
            </a:r>
            <a:endParaRPr b="0" lang="en-US" sz="3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80000" y="1197000"/>
            <a:ext cx="518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Описание растения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Физалис — кустовидное 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травянистое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растение высотой до 1,5 м, с крупными овальными 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листьями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Использование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Это излюбленное 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овощное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растение мексиканцев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Плоды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— многосемянные ягоды — употребляют в пищу в сыром виде или консервируют, используют для приготовления овощной икры, варень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Times New Roman"/>
              </a:rPr>
              <a:t>Они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содержат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8-9% сухого вещества, 3-4% сахаров, 0,2-0,3% пектиновых веществ, богаты витаминами, особенно РР, имеют повышенное содержание желез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Несмотря на довольно широкое распространение, экономического значения культура овощного физалиса 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не имеет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Происхождение.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 Центр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происхождения культуры — тропическая Амери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" name="" descr="ФИЗАЛИС — РHYSALIS PERUVIANA"/>
          <p:cNvPicPr/>
          <p:nvPr/>
        </p:nvPicPr>
        <p:blipFill>
          <a:blip r:embed="rId2"/>
          <a:stretch/>
        </p:blipFill>
        <p:spPr>
          <a:xfrm>
            <a:off x="250920" y="549360"/>
            <a:ext cx="3612960" cy="5473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56000" y="18864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5476"/>
                </a:solidFill>
                <a:latin typeface="Arial Narrow"/>
              </a:rPr>
              <a:t>ТАБАК — NICOTIANA TABACUM</a:t>
            </a:r>
            <a:endParaRPr b="0" lang="en-US" sz="3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321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Однолетнее травянистое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растение   высотой 70-100 см,, реже до 200-300 см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Стебель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прямостоячий, округлый, опушенный, толщиной 10-40 мм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Корневая система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мощная, проникающая на глубину до 2 м, с хорошо выраженным главным стержневым корнем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Форма листовой пластинки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— от округлоовальной до ланцетной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Размер листьев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значительно изменяется в зависимости от условий произрастания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Количество листьев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на растении колеблется от 16 до 50 и более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Окраска листа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от желто-зеленой до темно-зелено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Содержание никотина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в листьях от 0,5 до 3,0%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3" name="" descr="Табак (Nicotiana tabacum L)"/>
          <p:cNvPicPr/>
          <p:nvPr/>
        </p:nvPicPr>
        <p:blipFill>
          <a:blip r:embed="rId2"/>
          <a:stretch/>
        </p:blipFill>
        <p:spPr>
          <a:xfrm>
            <a:off x="250920" y="189000"/>
            <a:ext cx="39607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cc"/>
                </a:solidFill>
                <a:latin typeface="Monotype Corsiva"/>
              </a:rPr>
              <a:t>Петунья гибридная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175280" cy="278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88764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56000" y="3933720"/>
            <a:ext cx="41767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99"/>
                </a:solidFill>
                <a:latin typeface="Monotype Corsiva"/>
              </a:rPr>
              <a:t>Общая характеристика семейств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Паслёновые — довольно крупное семейство, содержащее свыше 90 родов и около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3000 видов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, произрастающих почти по всему миру, большинство — в тропических областях Центральной и Южной Америки. Среди представителей этого семейства много пищевых, декоративных и ядовитых растени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Представители семейства — деревья, кустарники, травы, иногда лиан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Пасленовые содержат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алкалоиды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, вследствие чего многие из них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ядовиты 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и с чем связано также их хозяйственное использование как лекарственных и наркотических растений. К числу последних относятся, например, табак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Nicotiana tabacum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дурман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Datura stramonium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беладонна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 или красавка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Atropa belladonna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белена черная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Hyoscyamus niger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 и др. Некоторые пасленовые используются как декоративные, например физалис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обыкновенный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Physalis alkekengi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петуния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Petunia hybrida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душистый табак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Nicotiana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offinis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 и д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6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66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6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6600"/>
                </a:solidFill>
                <a:latin typeface="Monotype Corsiva"/>
              </a:rPr>
              <a:t>Признаки семейств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Корень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стержнево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Стебель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прямостояч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Жилкование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сетчато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Листорасположение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 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очерёдно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Формула цветка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Ч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en-US" sz="17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Л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en-US" sz="17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Т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П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Соцветие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кис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Плод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ягода (паслён чёрный, томат), коробочка (табак, петуния гибридная, белена чёрная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Продолжительность жизни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однолетние,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многолет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Значение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 пища, лекарственные , сорняки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декоративные раст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975360" y="115920"/>
            <a:ext cx="2049480" cy="381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2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2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72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2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72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22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2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22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72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22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Monotype Corsiva"/>
              </a:rPr>
              <a:t>Многообразие растений семейств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11280" y="692280"/>
            <a:ext cx="4753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76"/>
                </a:solidFill>
                <a:latin typeface="Arial Narrow"/>
              </a:rPr>
              <a:t>Паслён сладко-горький — </a:t>
            </a:r>
            <a:r>
              <a:rPr b="1" i="1" lang="ru-RU" sz="2400" spc="-1" strike="noStrike">
                <a:solidFill>
                  <a:srgbClr val="005476"/>
                </a:solidFill>
                <a:latin typeface="Arial Narrow"/>
              </a:rPr>
              <a:t>Solanum dulcamara</a:t>
            </a:r>
            <a:r>
              <a:rPr b="0" lang="ru-RU" sz="2400" spc="-1" strike="noStrike">
                <a:solidFill>
                  <a:srgbClr val="005476"/>
                </a:solidFill>
                <a:latin typeface="Arial Narrow"/>
              </a:rPr>
              <a:t> L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Многолетнее </a:t>
            </a: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травянистое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растение или </a:t>
            </a:r>
            <a:r>
              <a:rPr b="1" lang="ru-RU" sz="1700" spc="-1" strike="noStrike">
                <a:solidFill>
                  <a:srgbClr val="005476"/>
                </a:solidFill>
                <a:latin typeface="Times New Roman"/>
              </a:rPr>
              <a:t>полукустарник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высотой от 30 см до 2 метров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Стебли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лазящие, от основания ветвистые, у основания — древеснеющие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Листья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очередные, без прилистников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Цветки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обоеполые, собраны по 6-25 в цимозные метельчатые соцветия,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Цветет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с июня до осени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Плод</a:t>
            </a:r>
            <a:r>
              <a:rPr b="0" lang="ru-RU" sz="17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— ярко-красная ягода. Плоды созревают в разное время, начиная с июля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Распространен</a:t>
            </a:r>
            <a:r>
              <a:rPr b="0" lang="ru-RU" sz="17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почти по всей Европейской части России, в Северной Африке. В средней полосе произрастает по сырым зарослям кустарников, ивнякам, по берегам рек и прудов, в оврагах, сырых мусорных местах во всех областях средней полосы России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Растение </a:t>
            </a: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ядовито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, содержит яд — соланин. Ягоды имеют привлекательный вид, но не съедобны, и даже слегка ядовиты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Широко используется в народной медицине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7" name="" descr="Паслён сладко-горький — Solanum dulcamara L."/>
          <p:cNvPicPr/>
          <p:nvPr/>
        </p:nvPicPr>
        <p:blipFill>
          <a:blip r:embed="rId2"/>
          <a:stretch/>
        </p:blipFill>
        <p:spPr>
          <a:xfrm>
            <a:off x="108000" y="1197000"/>
            <a:ext cx="417672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2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7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2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7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2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7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2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7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2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7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907920"/>
            <a:ext cx="5113440" cy="56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Однолетнее травянистое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растение высотой от 30 до 100 см с прямостоячим ветвистым стебл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Листья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длинночерешчатые, в очертании яйцевидные, лопасти широкие с ocтpoй конечной долей, снизу светло-зелены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ки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на относительно коротких черешках, чашечка трубчатая; пять лепестков венчика срощены и образуют узковоронковидный, кверху расширенный, гармони-ковидносложенный белый или светло-голубой цветок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ет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с июня до сентябр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По происхождению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американский вид, распространившийся в Европе как заносное растение главным образом в южных областях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Растение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очень ядовито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, так как содержит большое количество алкалоидов, таких как гиосциамин и скополамин. Действие препаратов, приготовленных из этого растения, на центральную нервную систему используется в медицине, но в качестве народного средства его применять нельз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672000" cy="6193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067280" y="11592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76"/>
                </a:solidFill>
                <a:latin typeface="Arial Narrow"/>
              </a:rPr>
              <a:t>Дурман вонючий  -   Datura stramo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6831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76"/>
                </a:solidFill>
                <a:latin typeface="Arial Narrow"/>
              </a:rPr>
              <a:t>Белена чёрная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4248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cc"/>
                </a:solidFill>
                <a:latin typeface="Arial"/>
              </a:rPr>
              <a:t>Использование:</a:t>
            </a:r>
            <a:r>
              <a:rPr b="0" lang="en-US" sz="1900" spc="-1" strike="noStrike">
                <a:solidFill>
                  <a:srgbClr val="005476"/>
                </a:solidFill>
                <a:latin typeface="Arial"/>
              </a:rPr>
              <a:t> употребляя белену, ведьмы получали возможность летать на помеле. По крайней мере, когда-то многие так думали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476"/>
                </a:solidFill>
                <a:latin typeface="Arial"/>
              </a:rPr>
              <a:t>Это растение содержит </a:t>
            </a:r>
            <a:r>
              <a:rPr b="0" lang="en-US" sz="1900" spc="-1" strike="noStrike">
                <a:solidFill>
                  <a:srgbClr val="ff33cc"/>
                </a:solidFill>
                <a:latin typeface="Arial"/>
              </a:rPr>
              <a:t>галлюциногенные вещества</a:t>
            </a:r>
            <a:r>
              <a:rPr b="0" lang="en-US" sz="1900" spc="-1" strike="noStrike">
                <a:solidFill>
                  <a:srgbClr val="005476"/>
                </a:solidFill>
                <a:latin typeface="Arial"/>
              </a:rPr>
              <a:t>, которые отличаются особой ядовитостью. Может быть, поэтому сейчас его редко сажают в цветниках. Тем не менее благодаря своеобразному внешнему виду белена как нельзя лучше подходит для оформления садиков из дикорастущих видов и композиций, выдержанных в “природном” стиле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476"/>
                </a:solidFill>
                <a:latin typeface="Arial"/>
              </a:rPr>
              <a:t>Веточки с коробочками можно срезать, высушить и использовать для составления композиций из сухоцветов.</a:t>
            </a:r>
            <a:r>
              <a:rPr b="0" lang="en-US" sz="1900" spc="-1" strike="noStrike">
                <a:solidFill>
                  <a:srgbClr val="005476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3" name="" descr="Беле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5920"/>
            <a:ext cx="2619360" cy="3695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340000" y="2997360"/>
            <a:ext cx="243684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5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Monotype Corsiva"/>
              </a:rPr>
              <a:t>Культурные  растения семейств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8000" y="1125000"/>
            <a:ext cx="3816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Однолетнее травянистое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растение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Происходит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из районов Южной Америк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тебель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прямостоячий, ребристы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Листья 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простые, непарноперисторассеченны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оцветие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— завиток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Цветки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имеют 5 сросшихся лепестков белой, синей или розовой окраск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Плод 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— 2-гнездная многосемянная ягода, семена мелкие, плоски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Товарная часть картофеля —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клубни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, образующиеся в результате утолщения верхушек подземных боковых побегов —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толонов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На клубне имеется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8-12 глазков,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состоящих из зачатков листьев и спящих поче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7" name="" descr="Картофель (Solanum tuberosum L.)"/>
          <p:cNvPicPr/>
          <p:nvPr/>
        </p:nvPicPr>
        <p:blipFill>
          <a:blip r:embed="rId2"/>
          <a:stretch/>
        </p:blipFill>
        <p:spPr>
          <a:xfrm>
            <a:off x="179280" y="1197000"/>
            <a:ext cx="4788000" cy="511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73680" y="691560"/>
            <a:ext cx="42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476"/>
                </a:solidFill>
                <a:latin typeface="Arial"/>
              </a:rPr>
              <a:t>Картофель -  Solanum tuberosum 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3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2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12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2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12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62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12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62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12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62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12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62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4186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76"/>
                </a:solidFill>
                <a:latin typeface="Arial Narrow"/>
              </a:rPr>
              <a:t>ТОМАТ — LYCOPERSICON ESCULENTUM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32000" y="189000"/>
            <a:ext cx="4103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Использование.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Томаты едят сырыми, жареными, вареными, консервированными, в виде соусов, отдельно или вместе с другими блюдами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Плоды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широко используют для консервирования: из них готовят пасты, соки, соусы, порошки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Семена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томата содержат до 24% полувысыхающего масла. Оно используется в качестве приправы для салатов, а также в производстве маргарина и мыла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Плоды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томатов содержат: около 94% воды, 1% белка, 0,1% жиров, 4% углеводов, 0,6% клетчатки, органические кислоты, витамины А, С, РР и др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Первые упоминания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о появлении томата в России относятся ко второй половине XVIII в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Томат сначала разводили в окрестностях Бахчисарая, из Крыма растение начало распространяться по югу нашей страны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Более известное в нашем быту название томата — </a:t>
            </a: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помидор 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— происходит от итальянского «золотое яблоко».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1" name="" descr="ТОМАТ — LYCOPERSICON ESCULENTUM"/>
          <p:cNvPicPr/>
          <p:nvPr/>
        </p:nvPicPr>
        <p:blipFill>
          <a:blip r:embed="rId2"/>
          <a:srcRect l="3137" t="4930" r="3609" b="6343"/>
          <a:stretch/>
        </p:blipFill>
        <p:spPr>
          <a:xfrm>
            <a:off x="179280" y="1484280"/>
            <a:ext cx="46800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79640" y="189000"/>
            <a:ext cx="505116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76"/>
                </a:solidFill>
                <a:latin typeface="Arial Narrow"/>
              </a:rPr>
              <a:t>ПЕРЕЦ ОВОЩНОЙ — CAPSICUM ANNUUM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08000" y="907920"/>
            <a:ext cx="525636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Использование.</a:t>
            </a: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 Мякоть плодов богата углеводами и содержит довольно большое количество белка и железа. Особую ценность имеет повышенное содержание витамина С (до 270 мг/100 г в зеленых и до 480 мг/100 г в зрелых плодах), группы В и рутина. В красных плодах очень высокое (по сравнению с более молодыми зелеными) содержание каротина — разница больше чем на порядок, зато витамина РР больше в зеленых плода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Перец используют в пищу в сыром виде (сладкие салатные сорта), а также консервируют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Острый перец — популярная приправа к мясным и другим блюдам, его также применяют при консервирован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Происхождение</a:t>
            </a: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. Перец, как и томат, происходит из Америк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" name="" descr="ПЕРЕЦ ОВОЩНОЙ — CAPSICUM ANNUUM"/>
          <p:cNvPicPr/>
          <p:nvPr/>
        </p:nvPicPr>
        <p:blipFill>
          <a:blip r:embed="rId2"/>
          <a:stretch/>
        </p:blipFill>
        <p:spPr>
          <a:xfrm>
            <a:off x="468360" y="333360"/>
            <a:ext cx="316692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6:48:32Z</dcterms:created>
  <dc:creator>User</dc:creator>
  <dc:description/>
  <dc:language>en-US</dc:language>
  <cp:lastModifiedBy>Пользователь</cp:lastModifiedBy>
  <dcterms:modified xsi:type="dcterms:W3CDTF">2009-04-17T18:23:16Z</dcterms:modified>
  <cp:revision>134</cp:revision>
  <dc:subject/>
  <dc:title>Государственное образовательное учреждение дополнительного образования детей  «Белгородский областной детский эколого-биологический центр»</dc:title>
</cp:coreProperties>
</file>