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7F4-7E49-40BC-B2D0-7CBE4792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159-9239-4BC1-BED2-D64BE90A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21A-8136-4B0D-919B-B158A6F6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AFE-5F2C-401F-892E-986F19AA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548-D648-4AD6-888F-F604AF4B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7F7-12E8-475C-9440-D546FBAA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411-4D21-4416-905C-D7FDD40F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815-F5A7-4F5E-B783-6EF9B767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07C-E0DA-49D9-B333-E98119E1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11D-B636-4AAF-83D8-F40AAA48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BDE-CBF7-4C57-A4CF-C672A7DD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257-A3E8-46D2-BB8C-798B91AD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B28E-AE11-4C85-AB93-B9B6C3D5E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Правила поведения и здоров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Режим д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уждение и подъём – 7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ренняя гимнастика, уборка                           постели, умывание до  7.30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ренний завтрак до 7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рога в школу, начало занятий 8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бывание в школе до 12.00 или 13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завтрак на большой переме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071800" cy="2305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Режим д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рога домой, о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обеденный отдых, помощь по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уро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бодное время, включая ужин, чтение, просмотр телепередач, приготовление ко сну, вечерний туа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н с 22.00 до 7.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18240" y="4581360"/>
            <a:ext cx="2556000" cy="2276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Пит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Еда в определённые часы способствует хорошему усвоению пищи, нормальной жизнедеятельности всего организма,</a:t>
            </a:r>
            <a:br>
              <a:rPr sz="2800"/>
            </a:b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сохранению его здоровья  на 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24360" cy="2852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Витами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овощах и фруктах 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Витамин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Если вы хотите хорошо расти, хорошо видеть и иметь крепкие зубы, вам нужен 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ы хотите быть сильными, не хот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орчаться и плакать по пустяк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м нужен я!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Витамин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ы хотите ре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тужаться,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дрыми, вам нужен я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Витамин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70800" y="3230640"/>
            <a:ext cx="1573200" cy="3627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1628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2411280" cy="2421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Не забывайте перед едой мыть фрукты и овощ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Почему нужно мыть руки и чистить зу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Чистить зубы нужно два раза в день – утром и вече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206960"/>
            <a:ext cx="5016600" cy="265104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362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Если ученик внимателен на уро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напряжённо и собранно работает в течение урока – учебный материал усваивается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Значит, ему придётся потратить меньше времени на подготовку домашних заданий. Больше времени останется на отдых и прогулки, на занятия  любимым де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00720" y="4975200"/>
            <a:ext cx="4643280" cy="188280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Соблюдая определённые правила поведения мы сохраним своё здоровье.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201000">
            <a:off x="0" y="3141360"/>
            <a:ext cx="2735280" cy="1727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Режим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758400">
            <a:off x="5573880" y="4479480"/>
            <a:ext cx="3555720" cy="21589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Правила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492600">
            <a:off x="2700000" y="2997360"/>
            <a:ext cx="4176720" cy="1008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Правильно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4797360"/>
            <a:ext cx="4464000" cy="1773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Хорошее 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на уро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06:15Z</dcterms:created>
  <dc:creator>User</dc:creator>
  <dc:description/>
  <dc:language>en-US</dc:language>
  <cp:lastModifiedBy>admin</cp:lastModifiedBy>
  <dcterms:modified xsi:type="dcterms:W3CDTF">2011-12-12T19:27:03Z</dcterms:modified>
  <cp:revision>10</cp:revision>
  <dc:subject/>
  <dc:title>Правила поведения и здоровье</dc:title>
</cp:coreProperties>
</file>