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7A9C-CAC7-43D6-9425-6713A5C7F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9AA9-524E-4662-9161-7630B425E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83F8-065D-4B7B-83BE-CD570CADF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ED63-8469-4111-A36A-4B1EA8B4B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B609-40FD-4B05-9152-1E0C97D8F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31BC-2889-4D00-8505-C04D58F41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9901-77FD-4ED2-B070-C0ABAC313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457D-EB1A-44BB-8666-34BF27FA8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F02A-569E-4A5B-924C-2A43C260B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99B5-37BA-413B-8BCD-476C0D3B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7255-10D3-4671-8E0A-03D94B8D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A619-E3F6-4D4B-9546-5CF85C96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14F83-1DA4-4F4B-9267-5F461C8D7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00"/>
                </a:solidFill>
                <a:latin typeface="Arial"/>
              </a:rPr>
              <a:t>Правила поведения и здоровь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00"/>
                </a:solidFill>
                <a:latin typeface="Arial"/>
              </a:rPr>
              <a:t>Режим дн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буждение и подъём – 7.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тренняя гимнастика, уборка                           постели, умывание до  7.30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тренний завтрак до 7.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рога в школу, начало занятий 8.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бывание в школе до 12.00 или 13.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завтрак на большой перемен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2071800" cy="230508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00"/>
                </a:solidFill>
                <a:latin typeface="Arial"/>
              </a:rPr>
              <a:t>Режим дн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рога домой, об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леобеденный отдых, помощь по до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готовление урок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вободное время, включая ужин, чтение, просмотр телепередач, приготовление ко сну, вечерний туа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н с 22.00 до 7.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618240" y="4581360"/>
            <a:ext cx="2556000" cy="227664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00"/>
                </a:solidFill>
                <a:latin typeface="Arial"/>
              </a:rPr>
              <a:t>Пит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Еда в определённые часы способствует хорошему усвоению пищи, нормальной жизнедеятельности всего организма,</a:t>
            </a:r>
            <a:br>
              <a:rPr sz="2800"/>
            </a:b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сохранению его здоровья  на будущ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987640" y="4005360"/>
            <a:ext cx="3024360" cy="285264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00"/>
                </a:solidFill>
                <a:latin typeface="Arial"/>
              </a:rPr>
              <a:t>Витамин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В овощах и фруктах витам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Витамин 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Если вы хотите хорошо расти, хорошо видеть и иметь крепкие зубы, вам нужен 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ли вы хотите быть сильными, не хоти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горчаться и плакать по пустяка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ам нужен я!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Витамин 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ли вы хотите реж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стужаться, бы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одрыми, вам нужен я!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Витамин 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570800" y="3230640"/>
            <a:ext cx="1573200" cy="362736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340000" cy="162864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0" y="4437000"/>
            <a:ext cx="2411280" cy="242100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Не забывайте перед едой мыть фрукты и овощ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Почему нужно мыть руки и чистить зуб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Чистить зубы нужно два раза в день – утром и вечер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4206960"/>
            <a:ext cx="5016600" cy="2651040"/>
          </a:xfrm>
          <a:prstGeom prst="rect">
            <a:avLst/>
          </a:prstGeom>
          <a:ln w="9360">
            <a:solidFill>
              <a:srgbClr val="cc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5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5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5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5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362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Если ученик внимателен на уро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напряжённо и собранно работает в течение урока – учебный материал усваивается хорош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Значит, ему придётся потратить меньше времени на подготовку домашних заданий. Больше времени останется на отдых и прогулки, на занятия  любимым де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00720" y="4975200"/>
            <a:ext cx="4643280" cy="1882800"/>
          </a:xfrm>
          <a:prstGeom prst="rect">
            <a:avLst/>
          </a:prstGeom>
          <a:ln w="9360">
            <a:solidFill>
              <a:srgbClr val="99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Соблюдая определённые правила поведения мы сохраним своё здоровье.</a:t>
            </a: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21201000">
            <a:off x="0" y="3141360"/>
            <a:ext cx="2735280" cy="1727280"/>
          </a:xfrm>
          <a:prstGeom prst="ellipse">
            <a:avLst/>
          </a:prstGeom>
          <a:solidFill>
            <a:srgbClr val="66ffff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Режим д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758400">
            <a:off x="5573880" y="4479480"/>
            <a:ext cx="3555720" cy="21589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Правила гигие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492600">
            <a:off x="2700000" y="2997360"/>
            <a:ext cx="4176720" cy="100800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Правильное пит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00000" y="4797360"/>
            <a:ext cx="4464000" cy="17733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Хорошее пове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на урок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18:06:15Z</dcterms:created>
  <dc:creator>User</dc:creator>
  <dc:description/>
  <dc:language>en-US</dc:language>
  <cp:lastModifiedBy>admin</cp:lastModifiedBy>
  <dcterms:modified xsi:type="dcterms:W3CDTF">2011-12-12T19:27:03Z</dcterms:modified>
  <cp:revision>10</cp:revision>
  <dc:subject/>
  <dc:title>Правила поведения и здоровье</dc:title>
</cp:coreProperties>
</file>