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23E-2C58-458F-994C-6875F2A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F1E-0DE0-4DA7-8B52-A2C7E536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12B-9724-4FEF-8246-DCB4C906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298-2406-4149-9458-221C8DAD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1A1E-C5DC-481D-8BE4-56F17471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C02-14C9-4C65-BE35-CF95F28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A1C1-D10D-4C77-98C5-678F937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04E4-A6A0-44C0-9D95-3CDEA01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ADF-6197-436B-9D21-F118DF06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4CF8-825C-4A0B-9202-5A59355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DF7-B509-4A8C-9F5B-602E338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7A7-ECB5-458D-BDBF-2166AAA5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6563-264F-4504-A5B3-758F93D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0816-16C6-4A43-8CD3-DE457DAF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7810-A380-43DE-AF02-896E111C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D202-6BBD-4B52-A3C8-55C584FF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859-A0D7-4D3E-9772-4425F0CF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2FBF-C2C1-40B6-A2D0-E13EC327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2FD3-8121-4302-A1D4-557C7B31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32FA-BAE1-4738-AA4F-8E52AAB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2C47-7589-409B-A6E7-F7327EF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2860-E331-447F-880A-C61A3D5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8DB-2577-499A-8FB8-6279C13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08F3-F91B-4A25-A254-6FA3623B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A947-7F83-4C33-8FD5-93E1A27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BC33-49A5-4E41-82D7-2E5D2914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C553-7754-4CE2-8927-C41302C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1515-FA9F-4EC1-82C5-49AA92DC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21BE-F3E3-4B8D-A93A-7114F868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F00D-5E65-481C-AC64-6E21A09B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7CE-6CD2-4B65-93B7-8DFF10BF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DBE-9385-4A26-9E83-B58F139A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8A3-895A-4DDD-9715-2705AAE0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AD3-9E5D-4331-9B34-5E1C40A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2D0-C1ED-46F5-BBD4-38FA730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370-0CC9-4298-9B70-2593C8B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AFF-F210-45A7-9B95-FAF2FF46C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E387-235A-4C4D-AABB-0FB06B7047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9B78-05F1-4B97-A84B-01641E6E0C2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f4bd542caea"/>
          <p:cNvPicPr/>
          <p:nvPr/>
        </p:nvPicPr>
        <p:blipFill>
          <a:blip r:embed="rId1"/>
          <a:stretch/>
        </p:blipFill>
        <p:spPr>
          <a:xfrm>
            <a:off x="250920" y="169920"/>
            <a:ext cx="8616960" cy="6462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547640" y="907920"/>
            <a:ext cx="62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403280" y="2276640"/>
            <a:ext cx="61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нею нас судь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пятом классе лишь св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ней привыкли быстро 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новой маме клас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72000" y="450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сн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7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КСШ №1г.Константин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лго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 - Гейт Л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572000" y="1773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347200" y="554040"/>
            <a:ext cx="537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онкурс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 Мой любимый уч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4611960" y="105264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 Black"/>
              </a:rPr>
              <a:t>Нет секретов у нас от н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70520" y="350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после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00240" y="60213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 Black"/>
              </a:rPr>
              <a:t>Разрешит, не разреш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PB170283"/>
          <p:cNvPicPr/>
          <p:nvPr/>
        </p:nvPicPr>
        <p:blipFill>
          <a:blip r:embed="rId2"/>
          <a:stretch/>
        </p:blipFill>
        <p:spPr>
          <a:xfrm>
            <a:off x="4535640" y="3213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SDC15271_11-29-2010"/>
          <p:cNvPicPr/>
          <p:nvPr/>
        </p:nvPicPr>
        <p:blipFill>
          <a:blip r:embed="rId3"/>
          <a:stretch/>
        </p:blipFill>
        <p:spPr>
          <a:xfrm>
            <a:off x="250920" y="260280"/>
            <a:ext cx="4068720" cy="30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1547640" y="3141720"/>
            <a:ext cx="712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flowers22"/>
          <p:cNvPicPr/>
          <p:nvPr/>
        </p:nvPicPr>
        <p:blipFill>
          <a:blip r:embed="rId2"/>
          <a:stretch/>
        </p:blipFill>
        <p:spPr>
          <a:xfrm rot="20969400">
            <a:off x="6948360" y="2852280"/>
            <a:ext cx="1486080" cy="20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flowers22"/>
          <p:cNvPicPr/>
          <p:nvPr/>
        </p:nvPicPr>
        <p:blipFill>
          <a:blip r:embed="rId3"/>
          <a:stretch/>
        </p:blipFill>
        <p:spPr>
          <a:xfrm rot="20969400">
            <a:off x="6372360" y="292392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flowers22"/>
          <p:cNvPicPr/>
          <p:nvPr/>
        </p:nvPicPr>
        <p:blipFill>
          <a:blip r:embed="rId4"/>
          <a:stretch/>
        </p:blipFill>
        <p:spPr>
          <a:xfrm rot="20969400">
            <a:off x="6516720" y="256500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IMG_0227"/>
          <p:cNvPicPr/>
          <p:nvPr/>
        </p:nvPicPr>
        <p:blipFill>
          <a:blip r:embed="rId5"/>
          <a:stretch/>
        </p:blipFill>
        <p:spPr>
          <a:xfrm>
            <a:off x="971640" y="189000"/>
            <a:ext cx="7880400" cy="591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flowers22"/>
          <p:cNvPicPr/>
          <p:nvPr/>
        </p:nvPicPr>
        <p:blipFill>
          <a:blip r:embed="rId6"/>
          <a:stretch/>
        </p:blipFill>
        <p:spPr>
          <a:xfrm rot="20969400">
            <a:off x="7658280" y="4581000"/>
            <a:ext cx="1485720" cy="2000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flowers22"/>
          <p:cNvPicPr/>
          <p:nvPr/>
        </p:nvPicPr>
        <p:blipFill>
          <a:blip r:embed="rId7"/>
          <a:stretch/>
        </p:blipFill>
        <p:spPr>
          <a:xfrm rot="20005800">
            <a:off x="7164000" y="3860640"/>
            <a:ext cx="1486080" cy="200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flowers22"/>
          <p:cNvPicPr/>
          <p:nvPr/>
        </p:nvPicPr>
        <p:blipFill>
          <a:blip r:embed="rId8"/>
          <a:stretch/>
        </p:blipFill>
        <p:spPr>
          <a:xfrm rot="19693200">
            <a:off x="6876720" y="5444640"/>
            <a:ext cx="1485720" cy="20005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7"/>
          <p:cNvSpPr/>
          <p:nvPr/>
        </p:nvSpPr>
        <p:spPr>
          <a:xfrm>
            <a:off x="1692360" y="5229360"/>
            <a:ext cx="59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8" descr="flowers22"/>
          <p:cNvPicPr/>
          <p:nvPr/>
        </p:nvPicPr>
        <p:blipFill>
          <a:blip r:embed="rId9"/>
          <a:stretch/>
        </p:blipFill>
        <p:spPr>
          <a:xfrm rot="19693200">
            <a:off x="7235640" y="414936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flowers22"/>
          <p:cNvPicPr/>
          <p:nvPr/>
        </p:nvPicPr>
        <p:blipFill>
          <a:blip r:embed="rId10"/>
          <a:stretch/>
        </p:blipFill>
        <p:spPr>
          <a:xfrm rot="19693200">
            <a:off x="7657920" y="485748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0" descr="flowers22"/>
          <p:cNvPicPr/>
          <p:nvPr/>
        </p:nvPicPr>
        <p:blipFill>
          <a:blip r:embed="rId11"/>
          <a:stretch/>
        </p:blipFill>
        <p:spPr>
          <a:xfrm rot="19693200">
            <a:off x="7019640" y="4581000"/>
            <a:ext cx="1485720" cy="20005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1"/>
          <p:cNvSpPr/>
          <p:nvPr/>
        </p:nvSpPr>
        <p:spPr>
          <a:xfrm>
            <a:off x="3049560" y="404640"/>
            <a:ext cx="48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Мы счастли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тому что мы вмест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 rot="21263400">
            <a:off x="645120" y="450864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спеть бы все сделать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 rot="20669400">
            <a:off x="4385520" y="955800"/>
            <a:ext cx="434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олуб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читель немецкого язы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ысшая квалификаци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тегория, стаж работы 3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ашего 7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DC15292_11-29-2010"/>
          <p:cNvPicPr/>
          <p:nvPr/>
        </p:nvPicPr>
        <p:blipFill>
          <a:blip r:embed="rId1"/>
          <a:stretch/>
        </p:blipFill>
        <p:spPr>
          <a:xfrm rot="20533800">
            <a:off x="394920" y="907920"/>
            <a:ext cx="3789360" cy="28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 rot="20911800">
            <a:off x="595800" y="393372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 7.30 она на пор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школы встречае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662560" y="5516640"/>
            <a:ext cx="58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 Black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мницы, не опоздали на дежур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SDC15272_11-29-2010"/>
          <p:cNvPicPr/>
          <p:nvPr/>
        </p:nvPicPr>
        <p:blipFill>
          <a:blip r:embed="rId2"/>
          <a:stretch/>
        </p:blipFill>
        <p:spPr>
          <a:xfrm rot="20890200">
            <a:off x="863280" y="647640"/>
            <a:ext cx="40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DC15283"/>
          <p:cNvPicPr/>
          <p:nvPr/>
        </p:nvPicPr>
        <p:blipFill>
          <a:blip r:embed="rId3"/>
          <a:stretch/>
        </p:blipFill>
        <p:spPr>
          <a:xfrm>
            <a:off x="5292720" y="1989000"/>
            <a:ext cx="27003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Людмила Ивановна в роли наставниц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43440" y="583236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удентка колледжа дает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SDC15288_11-29-2010"/>
          <p:cNvPicPr/>
          <p:nvPr/>
        </p:nvPicPr>
        <p:blipFill>
          <a:blip r:embed="rId1"/>
          <a:stretch/>
        </p:blipFill>
        <p:spPr>
          <a:xfrm>
            <a:off x="1692360" y="155736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 rot="21316800">
            <a:off x="198720" y="3498480"/>
            <a:ext cx="4572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руппа поддержки студентки «против» Людмилы Ивановны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279680" y="61657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 них всё получилось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SDC15289_11-29-2010"/>
          <p:cNvPicPr/>
          <p:nvPr/>
        </p:nvPicPr>
        <p:blipFill>
          <a:blip r:embed="rId2"/>
          <a:stretch/>
        </p:blipFill>
        <p:spPr>
          <a:xfrm>
            <a:off x="324000" y="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PB170275_11-29-2010"/>
          <p:cNvPicPr/>
          <p:nvPr/>
        </p:nvPicPr>
        <p:blipFill>
          <a:blip r:embed="rId3"/>
          <a:stretch/>
        </p:blipFill>
        <p:spPr>
          <a:xfrm>
            <a:off x="4427640" y="292428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 rot="21052200">
            <a:off x="2903400" y="5805000"/>
            <a:ext cx="42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8781"/>
                </a:solidFill>
                <a:latin typeface="Arial Black"/>
              </a:rPr>
              <a:t>Что нас ждет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SDC15286_11-29-2010"/>
          <p:cNvPicPr/>
          <p:nvPr/>
        </p:nvPicPr>
        <p:blipFill>
          <a:blip r:embed="rId2"/>
          <a:stretch/>
        </p:blipFill>
        <p:spPr>
          <a:xfrm rot="21028800">
            <a:off x="2050560" y="476280"/>
            <a:ext cx="31370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3995640" y="5661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акончился 3 урок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на торопится накормить свой 7 «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PB170278_11-29-2010"/>
          <p:cNvPicPr/>
          <p:nvPr/>
        </p:nvPicPr>
        <p:blipFill>
          <a:blip r:embed="rId2"/>
          <a:stretch/>
        </p:blipFill>
        <p:spPr>
          <a:xfrm>
            <a:off x="1547640" y="54936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-973080" y="414972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 Black"/>
              </a:rPr>
              <a:t>Наша творческая груп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440" y="58770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Готовимся к дню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5296320" y="64911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(перем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PB170305"/>
          <p:cNvPicPr/>
          <p:nvPr/>
        </p:nvPicPr>
        <p:blipFill>
          <a:blip r:embed="rId2"/>
          <a:stretch/>
        </p:blipFill>
        <p:spPr>
          <a:xfrm>
            <a:off x="4500720" y="335772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SDC15285_11-29-2010"/>
          <p:cNvPicPr/>
          <p:nvPr/>
        </p:nvPicPr>
        <p:blipFill>
          <a:blip r:embed="rId3"/>
          <a:stretch/>
        </p:blipFill>
        <p:spPr>
          <a:xfrm>
            <a:off x="0" y="40464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SDC15287_11-29-2010"/>
          <p:cNvPicPr/>
          <p:nvPr/>
        </p:nvPicPr>
        <p:blipFill>
          <a:blip r:embed="rId4"/>
          <a:stretch/>
        </p:blipFill>
        <p:spPr>
          <a:xfrm>
            <a:off x="4211640" y="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4888440" y="476280"/>
            <a:ext cx="36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одители люб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Людмилу Иван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972160" y="58849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ff80"/>
                </a:solidFill>
                <a:latin typeface="Arial Black"/>
              </a:rPr>
              <a:t>«А за вашу дочку рада 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" descr="SDC15280_11-29-2010"/>
          <p:cNvPicPr/>
          <p:nvPr/>
        </p:nvPicPr>
        <p:blipFill>
          <a:blip r:embed="rId1"/>
          <a:stretch/>
        </p:blipFill>
        <p:spPr>
          <a:xfrm>
            <a:off x="4788000" y="270828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1" descr="IMG_0225_11-29-2010"/>
          <p:cNvPicPr/>
          <p:nvPr/>
        </p:nvPicPr>
        <p:blipFill>
          <a:blip r:embed="rId2"/>
          <a:stretch/>
        </p:blipFill>
        <p:spPr>
          <a:xfrm rot="20877600">
            <a:off x="250560" y="692280"/>
            <a:ext cx="4227480" cy="3171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2"/>
          <p:cNvSpPr/>
          <p:nvPr/>
        </p:nvSpPr>
        <p:spPr>
          <a:xfrm rot="20749200">
            <a:off x="1454040" y="3141360"/>
            <a:ext cx="28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ff80"/>
                </a:solidFill>
                <a:latin typeface="Arial Black"/>
              </a:rPr>
              <a:t>«С вашим сыном что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ff80"/>
                </a:solidFill>
                <a:latin typeface="Arial Black"/>
              </a:rPr>
              <a:t>происход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47:45Z</dcterms:created>
  <dc:creator>FuckYouBill</dc:creator>
  <dc:description/>
  <dc:language>en-US</dc:language>
  <cp:lastModifiedBy>Лёля</cp:lastModifiedBy>
  <dcterms:modified xsi:type="dcterms:W3CDTF">2011-12-12T18:16:04Z</dcterms:modified>
  <cp:revision>23</cp:revision>
  <dc:subject/>
  <dc:title>Слайд 1</dc:title>
</cp:coreProperties>
</file>