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85B-E2F2-4F36-B2AF-DD25CFAD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BAC-C84F-4672-9F60-B71539AD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472-6103-4485-B3B8-E449590E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01C-41A5-4D52-95F4-DFCD2C1D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9099-ABF6-45FA-8550-90419018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1B80-9259-4DB6-B9ED-59A9E76B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C830-3BA1-408A-B892-2C2E51C0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209B-54C3-4EE9-B847-96883F11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EE8C-E560-4B6B-87AF-B1148DC7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7B64-8B23-44AE-A7C3-BFA712A2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86ED-51B0-4225-9501-BD915567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57A-D1B8-4117-88DE-325A8E51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B375-BACD-43A5-A250-8C2687CA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A6C5-97CB-4F20-B5CB-155C6141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2D3D-28B9-45BE-982D-B706EA54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218E-738D-4F73-9082-0093E8AF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4D6C-86FD-49DB-A35A-3D29BB97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4D9D-552E-44A4-B200-0B2A042D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0E4E-DAED-49F1-9712-CEB7218E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F3B4A-1AD0-4E3C-8600-67259B67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2FBFD-18C2-4CDE-8174-F5F4488C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82891-C142-4217-8BD6-1F76D42C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F0F-E110-4EF6-AD8C-DD070FE6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13AD-3F4F-4D13-9C98-0E427849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62BF5-5A7C-4CB2-A593-2847DAA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BC45-2C66-427D-A11E-8404A71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3CD23-DC5E-4385-9AA7-6040F819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8FE54-B220-4EDE-918F-FF2110E5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529A0-D17C-4ABD-983E-F22D3E8F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55C96-B5CC-4C04-BAE1-16DB591C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305E-A019-49EC-AC01-4577EFD9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D1F-DA91-4E41-B785-23AFC962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B77-D91F-4DC9-9F93-8B5E5493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D2A-A300-465C-9603-38516FE0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98F-7D49-4738-9B24-8ABC07D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A65-4BD7-4D48-A23E-57EDA189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55AF-862E-44A7-AB97-C2DECD4BF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755C-F987-4F4A-B68B-6B24EAAF585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1855-9B7C-40FE-A8C1-22AE186565D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jpeg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0f4bd542caea"/>
          <p:cNvPicPr/>
          <p:nvPr/>
        </p:nvPicPr>
        <p:blipFill>
          <a:blip r:embed="rId1"/>
          <a:stretch/>
        </p:blipFill>
        <p:spPr>
          <a:xfrm>
            <a:off x="250920" y="169920"/>
            <a:ext cx="8616960" cy="6462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547640" y="907920"/>
            <a:ext cx="62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403280" y="2276640"/>
            <a:ext cx="61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нею нас судь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 пятом классе лишь св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 ней привыкли быстро 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 новой маме клас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572000" y="4508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сную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ца 7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 КСШ №1г.Константино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с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лгова 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ководитель - Гейт Л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572000" y="1773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347200" y="554040"/>
            <a:ext cx="537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Конкурсная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« Мой любимый уч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68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8680"/>
                            </p:stCondLst>
                            <p:childTnLst>
                              <p:par>
                                <p:cTn id="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6"/>
          <p:cNvSpPr/>
          <p:nvPr/>
        </p:nvSpPr>
        <p:spPr>
          <a:xfrm>
            <a:off x="4611960" y="105264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 Black"/>
              </a:rPr>
              <a:t>Нет секретов у нас от не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70520" y="35002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после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00240" y="602136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 Black"/>
              </a:rPr>
              <a:t>Разрешит, не разреши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PB170283"/>
          <p:cNvPicPr/>
          <p:nvPr/>
        </p:nvPicPr>
        <p:blipFill>
          <a:blip r:embed="rId2"/>
          <a:stretch/>
        </p:blipFill>
        <p:spPr>
          <a:xfrm>
            <a:off x="4535640" y="3213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SDC15271_11-29-2010"/>
          <p:cNvPicPr/>
          <p:nvPr/>
        </p:nvPicPr>
        <p:blipFill>
          <a:blip r:embed="rId3"/>
          <a:stretch/>
        </p:blipFill>
        <p:spPr>
          <a:xfrm>
            <a:off x="250920" y="260280"/>
            <a:ext cx="4068720" cy="305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5"/>
          <p:cNvSpPr/>
          <p:nvPr/>
        </p:nvSpPr>
        <p:spPr>
          <a:xfrm>
            <a:off x="1547640" y="3141720"/>
            <a:ext cx="712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flowers22"/>
          <p:cNvPicPr/>
          <p:nvPr/>
        </p:nvPicPr>
        <p:blipFill>
          <a:blip r:embed="rId2"/>
          <a:stretch/>
        </p:blipFill>
        <p:spPr>
          <a:xfrm rot="20969400">
            <a:off x="6948360" y="2852280"/>
            <a:ext cx="1486080" cy="200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flowers22"/>
          <p:cNvPicPr/>
          <p:nvPr/>
        </p:nvPicPr>
        <p:blipFill>
          <a:blip r:embed="rId3"/>
          <a:stretch/>
        </p:blipFill>
        <p:spPr>
          <a:xfrm rot="20969400">
            <a:off x="6372360" y="2923920"/>
            <a:ext cx="1485720" cy="2000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flowers22"/>
          <p:cNvPicPr/>
          <p:nvPr/>
        </p:nvPicPr>
        <p:blipFill>
          <a:blip r:embed="rId4"/>
          <a:stretch/>
        </p:blipFill>
        <p:spPr>
          <a:xfrm rot="20969400">
            <a:off x="6516720" y="2565000"/>
            <a:ext cx="1485720" cy="2000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IMG_0227"/>
          <p:cNvPicPr/>
          <p:nvPr/>
        </p:nvPicPr>
        <p:blipFill>
          <a:blip r:embed="rId5"/>
          <a:stretch/>
        </p:blipFill>
        <p:spPr>
          <a:xfrm>
            <a:off x="971640" y="189000"/>
            <a:ext cx="7880400" cy="5910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flowers22"/>
          <p:cNvPicPr/>
          <p:nvPr/>
        </p:nvPicPr>
        <p:blipFill>
          <a:blip r:embed="rId6"/>
          <a:stretch/>
        </p:blipFill>
        <p:spPr>
          <a:xfrm rot="20969400">
            <a:off x="7658280" y="4581000"/>
            <a:ext cx="1485720" cy="2000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flowers22"/>
          <p:cNvPicPr/>
          <p:nvPr/>
        </p:nvPicPr>
        <p:blipFill>
          <a:blip r:embed="rId7"/>
          <a:stretch/>
        </p:blipFill>
        <p:spPr>
          <a:xfrm rot="20005800">
            <a:off x="7164000" y="3860640"/>
            <a:ext cx="1486080" cy="2000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flowers22"/>
          <p:cNvPicPr/>
          <p:nvPr/>
        </p:nvPicPr>
        <p:blipFill>
          <a:blip r:embed="rId8"/>
          <a:stretch/>
        </p:blipFill>
        <p:spPr>
          <a:xfrm rot="19693200">
            <a:off x="6876720" y="5444640"/>
            <a:ext cx="1485720" cy="20005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7"/>
          <p:cNvSpPr/>
          <p:nvPr/>
        </p:nvSpPr>
        <p:spPr>
          <a:xfrm>
            <a:off x="1692360" y="5229360"/>
            <a:ext cx="59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8" descr="flowers22"/>
          <p:cNvPicPr/>
          <p:nvPr/>
        </p:nvPicPr>
        <p:blipFill>
          <a:blip r:embed="rId9"/>
          <a:stretch/>
        </p:blipFill>
        <p:spPr>
          <a:xfrm rot="19693200">
            <a:off x="7235640" y="4149360"/>
            <a:ext cx="1485720" cy="200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flowers22"/>
          <p:cNvPicPr/>
          <p:nvPr/>
        </p:nvPicPr>
        <p:blipFill>
          <a:blip r:embed="rId10"/>
          <a:stretch/>
        </p:blipFill>
        <p:spPr>
          <a:xfrm rot="19693200">
            <a:off x="7657920" y="4857480"/>
            <a:ext cx="1485720" cy="2000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0" descr="flowers22"/>
          <p:cNvPicPr/>
          <p:nvPr/>
        </p:nvPicPr>
        <p:blipFill>
          <a:blip r:embed="rId11"/>
          <a:stretch/>
        </p:blipFill>
        <p:spPr>
          <a:xfrm rot="19693200">
            <a:off x="7019640" y="4581000"/>
            <a:ext cx="1485720" cy="20005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1"/>
          <p:cNvSpPr/>
          <p:nvPr/>
        </p:nvSpPr>
        <p:spPr>
          <a:xfrm>
            <a:off x="3049560" y="404640"/>
            <a:ext cx="485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«Мы счастлив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тому что мы вмест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 rot="21263400">
            <a:off x="645120" y="4508640"/>
            <a:ext cx="47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Успеть бы все сделать сего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 rot="20669400">
            <a:off x="4385520" y="955800"/>
            <a:ext cx="4341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Голуб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учитель немецкого язы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ысшая квалификацио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атегория, стаж работы 3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ласс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нашего 7 «Б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DC15292_11-29-2010"/>
          <p:cNvPicPr/>
          <p:nvPr/>
        </p:nvPicPr>
        <p:blipFill>
          <a:blip r:embed="rId1"/>
          <a:stretch/>
        </p:blipFill>
        <p:spPr>
          <a:xfrm rot="20533800">
            <a:off x="394920" y="907920"/>
            <a:ext cx="3789360" cy="28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 rot="20911800">
            <a:off x="595800" y="393372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 7.30 она на поро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школы встречает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662560" y="5516640"/>
            <a:ext cx="58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 Black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Умницы, не опоздали на дежур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SDC15272_11-29-2010"/>
          <p:cNvPicPr/>
          <p:nvPr/>
        </p:nvPicPr>
        <p:blipFill>
          <a:blip r:embed="rId2"/>
          <a:stretch/>
        </p:blipFill>
        <p:spPr>
          <a:xfrm rot="20890200">
            <a:off x="863280" y="647640"/>
            <a:ext cx="4068720" cy="3051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SDC15283"/>
          <p:cNvPicPr/>
          <p:nvPr/>
        </p:nvPicPr>
        <p:blipFill>
          <a:blip r:embed="rId3"/>
          <a:stretch/>
        </p:blipFill>
        <p:spPr>
          <a:xfrm>
            <a:off x="5292720" y="1989000"/>
            <a:ext cx="270036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Людмила Ивановна в роли наставниц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243440" y="5832360"/>
            <a:ext cx="35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тудентка колледжа дает у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SDC15288_11-29-2010"/>
          <p:cNvPicPr/>
          <p:nvPr/>
        </p:nvPicPr>
        <p:blipFill>
          <a:blip r:embed="rId1"/>
          <a:stretch/>
        </p:blipFill>
        <p:spPr>
          <a:xfrm>
            <a:off x="1692360" y="1557360"/>
            <a:ext cx="5724360" cy="429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 rot="21316800">
            <a:off x="198720" y="3498480"/>
            <a:ext cx="4572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руппа поддержки студентки «против» Людмилы Ивановны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4279680" y="616572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 них всё получилось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SDC15289_11-29-2010"/>
          <p:cNvPicPr/>
          <p:nvPr/>
        </p:nvPicPr>
        <p:blipFill>
          <a:blip r:embed="rId2"/>
          <a:stretch/>
        </p:blipFill>
        <p:spPr>
          <a:xfrm>
            <a:off x="324000" y="0"/>
            <a:ext cx="4535280" cy="340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PB170275_11-29-2010"/>
          <p:cNvPicPr/>
          <p:nvPr/>
        </p:nvPicPr>
        <p:blipFill>
          <a:blip r:embed="rId3"/>
          <a:stretch/>
        </p:blipFill>
        <p:spPr>
          <a:xfrm>
            <a:off x="4427640" y="292428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1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 rot="21052200">
            <a:off x="2903400" y="5805000"/>
            <a:ext cx="42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8781"/>
                </a:solidFill>
                <a:latin typeface="Arial Black"/>
              </a:rPr>
              <a:t>Что нас ждет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SDC15286_11-29-2010"/>
          <p:cNvPicPr/>
          <p:nvPr/>
        </p:nvPicPr>
        <p:blipFill>
          <a:blip r:embed="rId2"/>
          <a:stretch/>
        </p:blipFill>
        <p:spPr>
          <a:xfrm rot="21028800">
            <a:off x="2050560" y="476280"/>
            <a:ext cx="313704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3995640" y="5661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акончился 3 урок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на торопится накормить свой 7 «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PB170278_11-29-2010"/>
          <p:cNvPicPr/>
          <p:nvPr/>
        </p:nvPicPr>
        <p:blipFill>
          <a:blip r:embed="rId2"/>
          <a:stretch/>
        </p:blipFill>
        <p:spPr>
          <a:xfrm>
            <a:off x="1547640" y="54936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-973080" y="414972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 Black"/>
              </a:rPr>
              <a:t>Наша творческая груп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440" y="587700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Готовимся к дню немец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5296320" y="649116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(переме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PB170305"/>
          <p:cNvPicPr/>
          <p:nvPr/>
        </p:nvPicPr>
        <p:blipFill>
          <a:blip r:embed="rId2"/>
          <a:stretch/>
        </p:blipFill>
        <p:spPr>
          <a:xfrm>
            <a:off x="4500720" y="3357720"/>
            <a:ext cx="4282920" cy="321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SDC15285_11-29-2010"/>
          <p:cNvPicPr/>
          <p:nvPr/>
        </p:nvPicPr>
        <p:blipFill>
          <a:blip r:embed="rId3"/>
          <a:stretch/>
        </p:blipFill>
        <p:spPr>
          <a:xfrm>
            <a:off x="0" y="404640"/>
            <a:ext cx="4140360" cy="3105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SDC15287_11-29-2010"/>
          <p:cNvPicPr/>
          <p:nvPr/>
        </p:nvPicPr>
        <p:blipFill>
          <a:blip r:embed="rId4"/>
          <a:stretch/>
        </p:blipFill>
        <p:spPr>
          <a:xfrm>
            <a:off x="4211640" y="0"/>
            <a:ext cx="417672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4888440" y="476280"/>
            <a:ext cx="36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одители люб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Людмилу Иванов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2972160" y="58849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ff80"/>
                </a:solidFill>
                <a:latin typeface="Arial Black"/>
              </a:rPr>
              <a:t>«А за вашу дочку рада 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0" descr="SDC15280_11-29-2010"/>
          <p:cNvPicPr/>
          <p:nvPr/>
        </p:nvPicPr>
        <p:blipFill>
          <a:blip r:embed="rId1"/>
          <a:stretch/>
        </p:blipFill>
        <p:spPr>
          <a:xfrm>
            <a:off x="4788000" y="270828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1" descr="IMG_0225_11-29-2010"/>
          <p:cNvPicPr/>
          <p:nvPr/>
        </p:nvPicPr>
        <p:blipFill>
          <a:blip r:embed="rId2"/>
          <a:stretch/>
        </p:blipFill>
        <p:spPr>
          <a:xfrm rot="20877600">
            <a:off x="250560" y="692280"/>
            <a:ext cx="4227480" cy="3171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2"/>
          <p:cNvSpPr/>
          <p:nvPr/>
        </p:nvSpPr>
        <p:spPr>
          <a:xfrm rot="20749200">
            <a:off x="1454040" y="3141360"/>
            <a:ext cx="28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ff80"/>
                </a:solidFill>
                <a:latin typeface="Arial Black"/>
              </a:rPr>
              <a:t>«С вашим сыном что-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ff80"/>
                </a:solidFill>
                <a:latin typeface="Arial Black"/>
              </a:rPr>
              <a:t>происход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7:47:45Z</dcterms:created>
  <dc:creator>FuckYouBill</dc:creator>
  <dc:description/>
  <dc:language>en-US</dc:language>
  <cp:lastModifiedBy>Лёля</cp:lastModifiedBy>
  <dcterms:modified xsi:type="dcterms:W3CDTF">2011-12-12T18:16:04Z</dcterms:modified>
  <cp:revision>23</cp:revision>
  <dc:subject/>
  <dc:title>Слайд 1</dc:title>
</cp:coreProperties>
</file>