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9.gif" ContentType="image/gif"/>
  <Override PartName="/ppt/media/image1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4.gif" ContentType="image/gif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277-883F-4591-8F9F-717E6B11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6A9-BD04-4BE8-BD72-A586E160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9296-C7C1-4764-82AF-346AC722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E90-A13F-4D4B-956C-4A4AEE69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D01-9CCD-405E-B70F-874538FA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E18C-5FD6-4E8F-939D-6256B0A1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1EE-2710-4BBF-A309-C608AE07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F95-E842-4873-851A-382C69A3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42A-97BE-4117-8D9B-214D8DCF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6944-852E-4E18-91F9-072019CA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8AD5-B24C-4C9E-936A-2110C4B3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26F-8D6E-45AB-8CEE-05FEA93F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63C8-48BC-46D1-87C5-110A2A472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Урок русского языка в 6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Учитель русского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                           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и литературы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                              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МОУ Багаевской СОШ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                                  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унина Л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1268280"/>
            <a:ext cx="7416720" cy="2837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уффиксы  Н  и  НН  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66ff"/>
                  </a:gs>
                  <a:gs pos="100000">
                    <a:srgbClr val="ff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   именах  прилагательных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66ff"/>
                  </a:gs>
                  <a:gs pos="100000">
                    <a:srgbClr val="ff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26035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Н                     Н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29080" y="59500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3860640"/>
            <a:ext cx="5832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47640" y="1484280"/>
            <a:ext cx="626436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5661000"/>
            <a:ext cx="2376360" cy="289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00000" y="836640"/>
            <a:ext cx="6612120" cy="1593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уффиксы, с помощью которых</a:t>
            </a:r>
            <a:endParaRPr b="0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бразованы прилагательные</a:t>
            </a:r>
            <a:endParaRPr b="0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826560" y="4076640"/>
            <a:ext cx="1728720" cy="23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763280" y="4005360"/>
            <a:ext cx="2592360" cy="107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4005360"/>
            <a:ext cx="3168720" cy="115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4365720"/>
            <a:ext cx="2374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4221000"/>
            <a:ext cx="1440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3645000"/>
            <a:ext cx="2376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3357720"/>
            <a:ext cx="7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005360"/>
            <a:ext cx="82072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834920" y="2637000"/>
            <a:ext cx="2663640" cy="215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075280" y="1197000"/>
            <a:ext cx="3889440" cy="460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508720" y="3500280"/>
            <a:ext cx="2952720" cy="187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908000" y="2637000"/>
            <a:ext cx="2951280" cy="20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3280" y="2708280"/>
            <a:ext cx="3097440" cy="208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4005360"/>
            <a:ext cx="1728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116000" y="436572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4365720"/>
            <a:ext cx="7189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804000" y="414972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12000" y="42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12000" y="4149720"/>
            <a:ext cx="86364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411280" y="5661000"/>
            <a:ext cx="4600800" cy="228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39640" y="2276640"/>
            <a:ext cx="1008000" cy="1582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7667640" y="2349360"/>
            <a:ext cx="927000" cy="158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6732720" y="2349360"/>
            <a:ext cx="927000" cy="158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 rot="7972800">
            <a:off x="1658520" y="3138120"/>
            <a:ext cx="2224080" cy="541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 rot="2389800">
            <a:off x="4356000" y="3141720"/>
            <a:ext cx="2194200" cy="503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1989000"/>
            <a:ext cx="3024000" cy="2232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-ан-, -ян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жа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ледя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4365720"/>
            <a:ext cx="3024000" cy="2332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Исключ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оловя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стекля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деревя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6360" y="189000"/>
            <a:ext cx="3671640" cy="18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1989000"/>
            <a:ext cx="2880000" cy="216072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-ин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гуси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кури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ff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492360" y="259920"/>
            <a:ext cx="1366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59280" y="260280"/>
            <a:ext cx="12970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55640" y="2060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206064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124000" y="206064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2060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516720" y="2060640"/>
            <a:ext cx="719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000" y="2060640"/>
            <a:ext cx="6490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0" y="28098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236000" y="404640"/>
            <a:ext cx="146664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564000" y="5084640"/>
            <a:ext cx="371520" cy="1162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867280" y="4365720"/>
            <a:ext cx="2952720" cy="23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 прилагатель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ных, не имею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щих суффик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юный, зеле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932360" y="4941720"/>
            <a:ext cx="809640" cy="1219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 rot="2248800">
            <a:off x="6453360" y="1165320"/>
            <a:ext cx="1562040" cy="498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 rot="19292400">
            <a:off x="1747440" y="1195200"/>
            <a:ext cx="1314360" cy="537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 rot="5254800">
            <a:off x="1834560" y="4144680"/>
            <a:ext cx="14760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 rot="5400000">
            <a:off x="7331760" y="4109400"/>
            <a:ext cx="216000" cy="296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68360" y="260280"/>
            <a:ext cx="3888000" cy="14414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Н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16360" y="3141720"/>
            <a:ext cx="3240000" cy="15127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-ЕНН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99"/>
                </a:solidFill>
                <a:latin typeface="Arial"/>
              </a:rPr>
              <a:t>УТРЕН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64000" y="1268280"/>
            <a:ext cx="3780000" cy="23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-ОН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АВИАЦИО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557360"/>
            <a:ext cx="3168720" cy="20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НН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5013360"/>
            <a:ext cx="2879640" cy="1511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Arial"/>
              </a:rPr>
              <a:t>Исключ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ветре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flipH="1">
            <a:off x="6227280" y="476280"/>
            <a:ext cx="2916360" cy="1646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 flipH="1" rot="16200000">
            <a:off x="3771000" y="2196360"/>
            <a:ext cx="1386000" cy="50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 flipH="1" rot="19394400">
            <a:off x="1220760" y="1095120"/>
            <a:ext cx="138600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 flipH="1" rot="12456000">
            <a:off x="6019920" y="836280"/>
            <a:ext cx="1458720" cy="519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 flipH="1" rot="16200000">
            <a:off x="4535280" y="4615560"/>
            <a:ext cx="289080" cy="504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- ГОСТИНАЯ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ОТ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ГОСТЬ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+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-ИН-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- ТРУЖЕНИК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- УТРЕННИК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ОТ   </a:t>
            </a: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УТРО   +-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ЕНН- + -ИК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- МОШЕ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03280" y="549360"/>
            <a:ext cx="619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АМЫЕ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ШИБКООПАСНЫЕ СЛОВА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12000" y="2997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2997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508720" y="479736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4797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659640" y="472428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472428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3284640"/>
            <a:ext cx="165564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Г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4941720"/>
            <a:ext cx="115236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УТРО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824960" y="2349360"/>
            <a:ext cx="995040" cy="3167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03640" y="5445000"/>
            <a:ext cx="1181160" cy="1190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V="1">
            <a:off x="1835280" y="39337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93372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124000" y="3933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393372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268360" y="566064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566100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268360" y="333360"/>
            <a:ext cx="424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ктикум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Багрян..ый,подлин..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бесчислен.ое,глинян.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дискуссион.ый,баран.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длин.ый,зелен.ый,юн.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свин.ой, ураган.ый,кон.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соломен.ый,серебрян.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туман.ый,монотон.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кожан.ый, фазан.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0552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Ледян.ой,оловян.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сен.ий,песчан.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клюквен.ый,авиацион.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картин.ый,недюжин.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землян.ой,подлин.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лимон.ый, торфян.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карман.ый,монотон.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совин.ый, ураган.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963720" cy="151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308720" y="404640"/>
            <a:ext cx="1333800" cy="12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908000" y="549360"/>
            <a:ext cx="5329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машняя работа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Подобрать текст, имеющий прилагательные с суффиксами </a:t>
            </a: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-н-</a:t>
            </a: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 и </a:t>
            </a: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-нн-</a:t>
            </a: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. Объяснить написание суффиксов имен прилагатель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1648080" cy="1924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732720" y="4883040"/>
            <a:ext cx="179208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5:37:23Z</dcterms:created>
  <dc:creator>Оля</dc:creator>
  <dc:description/>
  <dc:language>en-US</dc:language>
  <cp:lastModifiedBy>Оля</cp:lastModifiedBy>
  <dcterms:modified xsi:type="dcterms:W3CDTF">2007-01-01T15:30:42Z</dcterms:modified>
  <cp:revision>13</cp:revision>
  <dc:subject/>
  <dc:title>Слайд 1</dc:title>
</cp:coreProperties>
</file>