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gif" ContentType="image/gif"/>
  <Override PartName="/ppt/media/image13.gif" ContentType="image/gif"/>
  <Override PartName="/ppt/media/image8.gif" ContentType="image/gif"/>
  <Override PartName="/ppt/media/image12.gif" ContentType="image/gif"/>
  <Override PartName="/ppt/media/image7.gif" ContentType="image/gif"/>
  <Override PartName="/ppt/media/image11.gif" ContentType="image/gif"/>
  <Override PartName="/ppt/media/image6.gif" ContentType="image/gif"/>
  <Override PartName="/ppt/media/image19.gif" ContentType="image/gif"/>
  <Override PartName="/ppt/media/image1.gif" ContentType="image/gif"/>
  <Override PartName="/ppt/media/image20.gif" ContentType="image/gif"/>
  <Override PartName="/ppt/media/image18.gif" ContentType="image/gif"/>
  <Override PartName="/ppt/media/image17.gif" ContentType="image/gif"/>
  <Override PartName="/ppt/media/image2.jpeg" ContentType="image/jpeg"/>
  <Override PartName="/ppt/media/image3.png" ContentType="image/png"/>
  <Override PartName="/ppt/media/image16.gif" ContentType="image/gif"/>
  <Override PartName="/ppt/media/image15.gif" ContentType="image/gif"/>
  <Override PartName="/ppt/media/image14.gif" ContentType="image/gif"/>
  <Override PartName="/ppt/media/image4.gif" ContentType="image/gif"/>
  <Override PartName="/ppt/media/image5.gif" ContentType="image/gif"/>
  <Override PartName="/ppt/media/image10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0859B-75A4-4CFD-89DC-3F54BFC03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34C71-72AE-4AB3-B180-C340E6E57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E6804-7625-4605-8588-29D45DE4A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90779-63E5-4535-BBEB-36D314E4E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81E9B-3AC5-4514-A1E6-6C9579B70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13926-CCB4-4990-8ADD-2A18C8C34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2D262-D63F-40E2-8B0D-5667312C3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6E00D-F5E0-4206-A8F4-8A1A90503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DAAAA-C01B-4503-88AB-B166E5FDC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4CCCD-6EDE-4C5D-986F-5A564C7D8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3088C-A3E8-4269-801D-96647353C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A10B9-9037-48C2-AD2A-0D1039E6C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2594F-7600-44BF-9BC6-C78CE72A8F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image" Target="../media/image4.gif"/><Relationship Id="rId7" Type="http://schemas.openxmlformats.org/officeDocument/2006/relationships/image" Target="../media/image4.gif"/><Relationship Id="rId8" Type="http://schemas.openxmlformats.org/officeDocument/2006/relationships/image" Target="../media/image4.gif"/><Relationship Id="rId9" Type="http://schemas.openxmlformats.org/officeDocument/2006/relationships/image" Target="../media/image5.gif"/><Relationship Id="rId10" Type="http://schemas.openxmlformats.org/officeDocument/2006/relationships/image" Target="../media/image5.gif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gif"/><Relationship Id="rId3" Type="http://schemas.openxmlformats.org/officeDocument/2006/relationships/image" Target="../media/image8.gif"/><Relationship Id="rId4" Type="http://schemas.openxmlformats.org/officeDocument/2006/relationships/image" Target="../media/image9.gif"/><Relationship Id="rId5" Type="http://schemas.openxmlformats.org/officeDocument/2006/relationships/image" Target="../media/image10.gif"/><Relationship Id="rId6" Type="http://schemas.openxmlformats.org/officeDocument/2006/relationships/image" Target="../media/image11.gif"/><Relationship Id="rId7" Type="http://schemas.openxmlformats.org/officeDocument/2006/relationships/image" Target="../media/image12.gif"/><Relationship Id="rId8" Type="http://schemas.openxmlformats.org/officeDocument/2006/relationships/image" Target="../media/image12.gif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image" Target="../media/image14.gif"/><Relationship Id="rId4" Type="http://schemas.openxmlformats.org/officeDocument/2006/relationships/image" Target="../media/image14.gif"/><Relationship Id="rId5" Type="http://schemas.openxmlformats.org/officeDocument/2006/relationships/image" Target="../media/image14.gif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20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2743200" y="4436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Урок русского языка в 6 класс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Учитель русского язык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                                 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и литературы                                                 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                                    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МОУ Багаевской СОШ №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                                        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Гунина Л.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755640" y="1268280"/>
            <a:ext cx="7416720" cy="28371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0">
                  <a:noFill/>
                </a:ln>
                <a:gradFill rotWithShape="0">
                  <a:gsLst>
                    <a:gs pos="0">
                      <a:srgbClr val="ff66ff"/>
                    </a:gs>
                    <a:gs pos="100000">
                      <a:srgbClr val="ff33cc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Cуффиксы  Н  и  НН  </a:t>
            </a:r>
            <a:endParaRPr b="1" lang="en-US" sz="4400" spc="1" strike="noStrike">
              <a:ln w="0">
                <a:noFill/>
              </a:ln>
              <a:gradFill rotWithShape="0">
                <a:gsLst>
                  <a:gs pos="0">
                    <a:srgbClr val="ff66ff"/>
                  </a:gs>
                  <a:gs pos="100000">
                    <a:srgbClr val="ff33cc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0">
                  <a:noFill/>
                </a:ln>
                <a:gradFill rotWithShape="0">
                  <a:gsLst>
                    <a:gs pos="0">
                      <a:srgbClr val="ff66ff"/>
                    </a:gs>
                    <a:gs pos="100000">
                      <a:srgbClr val="ff33cc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    именах  прилагательных</a:t>
            </a:r>
            <a:endParaRPr b="1" lang="en-US" sz="4400" spc="1" strike="noStrike">
              <a:ln w="0">
                <a:noFill/>
              </a:ln>
              <a:gradFill rotWithShape="0">
                <a:gsLst>
                  <a:gs pos="0">
                    <a:srgbClr val="ff66ff"/>
                  </a:gs>
                  <a:gs pos="100000">
                    <a:srgbClr val="ff33cc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843280" y="3141720"/>
            <a:ext cx="2603520" cy="81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5280" y="4508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6600" spc="-1" strike="noStrike">
                <a:solidFill>
                  <a:srgbClr val="ff33cc"/>
                </a:solidFill>
                <a:latin typeface="Arial"/>
              </a:rPr>
              <a:t>Н                     НН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29080" y="5950080"/>
            <a:ext cx="712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26920" y="3860640"/>
            <a:ext cx="583272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547640" y="1484280"/>
            <a:ext cx="6264360" cy="22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116000" y="5661000"/>
            <a:ext cx="2376360" cy="289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900000" y="836640"/>
            <a:ext cx="6612120" cy="159372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46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Суффиксы, с помощью которых</a:t>
            </a:r>
            <a:endParaRPr b="0" lang="en-US" sz="40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образованы прилагательные</a:t>
            </a:r>
            <a:endParaRPr b="0" lang="en-US" sz="40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5400000">
            <a:off x="826560" y="4076640"/>
            <a:ext cx="1728720" cy="2376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763280" y="4005360"/>
            <a:ext cx="2592360" cy="1079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427640" y="4005360"/>
            <a:ext cx="3168720" cy="1152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300720" y="4365720"/>
            <a:ext cx="237492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340000" y="4221000"/>
            <a:ext cx="1440000" cy="18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26920" y="3645000"/>
            <a:ext cx="2376720" cy="28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724360" y="3357720"/>
            <a:ext cx="7164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68360" y="4005360"/>
            <a:ext cx="8207280" cy="21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1834920" y="2637000"/>
            <a:ext cx="2663640" cy="21589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5075280" y="1197000"/>
            <a:ext cx="3889440" cy="4608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5508720" y="3500280"/>
            <a:ext cx="2952720" cy="18720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1908000" y="2637000"/>
            <a:ext cx="2951280" cy="20160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43280" y="2708280"/>
            <a:ext cx="3097440" cy="2089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71640" y="4005360"/>
            <a:ext cx="1728720" cy="23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1116000" y="4365720"/>
            <a:ext cx="57636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92360" y="4365720"/>
            <a:ext cx="71892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6804000" y="4149720"/>
            <a:ext cx="100800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812000" y="4221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812000" y="4149720"/>
            <a:ext cx="863640" cy="57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2411280" y="5661000"/>
            <a:ext cx="4600800" cy="2286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6"/>
          <a:stretch/>
        </p:blipFill>
        <p:spPr>
          <a:xfrm>
            <a:off x="539640" y="2276640"/>
            <a:ext cx="1008000" cy="15825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7"/>
          <a:stretch/>
        </p:blipFill>
        <p:spPr>
          <a:xfrm>
            <a:off x="7667640" y="2349360"/>
            <a:ext cx="927000" cy="15829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8"/>
          <a:stretch/>
        </p:blipFill>
        <p:spPr>
          <a:xfrm>
            <a:off x="6732720" y="2349360"/>
            <a:ext cx="927000" cy="15829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9"/>
          <a:stretch/>
        </p:blipFill>
        <p:spPr>
          <a:xfrm rot="7972800">
            <a:off x="1658520" y="3138120"/>
            <a:ext cx="2224080" cy="54144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10"/>
          <a:stretch/>
        </p:blipFill>
        <p:spPr>
          <a:xfrm rot="2389800">
            <a:off x="4356000" y="3141720"/>
            <a:ext cx="2194200" cy="5032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468360" y="1989000"/>
            <a:ext cx="3024000" cy="223200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00"/>
                </a:solidFill>
                <a:latin typeface="Arial"/>
              </a:rPr>
              <a:t>-ан-, -ян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кожан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ледяно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4365720"/>
            <a:ext cx="3024000" cy="23320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Исключен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Arial"/>
              </a:rPr>
              <a:t>оловян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Arial"/>
              </a:rPr>
              <a:t>стеклян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Arial"/>
              </a:rPr>
              <a:t>деревян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916360" y="189000"/>
            <a:ext cx="3671640" cy="1871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867280" y="1989000"/>
            <a:ext cx="2880000" cy="2160720"/>
          </a:xfrm>
          <a:prstGeom prst="rect">
            <a:avLst/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-ин-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Arial"/>
              </a:rPr>
              <a:t>гусин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Arial"/>
              </a:rPr>
              <a:t>курин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buClr>
                <a:srgbClr val="ff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3492360" y="259920"/>
            <a:ext cx="136692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859280" y="260280"/>
            <a:ext cx="129708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755640" y="2060280"/>
            <a:ext cx="64764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403280" y="2060640"/>
            <a:ext cx="57636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2124000" y="2060640"/>
            <a:ext cx="50328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627280" y="2060640"/>
            <a:ext cx="57636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6516720" y="2060640"/>
            <a:ext cx="71928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236000" y="2060640"/>
            <a:ext cx="64908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3952800" y="2809800"/>
            <a:ext cx="1238400" cy="12384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7236000" y="404640"/>
            <a:ext cx="1466640" cy="13716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3564000" y="5084640"/>
            <a:ext cx="371520" cy="116208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5867280" y="4365720"/>
            <a:ext cx="2952720" cy="2303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Arial"/>
              </a:rPr>
              <a:t>В прилагатель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Arial"/>
              </a:rPr>
              <a:t>ных, не имею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Arial"/>
              </a:rPr>
              <a:t>щих суффикс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3300"/>
                </a:solidFill>
                <a:latin typeface="Arial"/>
              </a:rPr>
              <a:t>юный, зеле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4932360" y="4941720"/>
            <a:ext cx="809640" cy="12193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5"/>
          <a:stretch/>
        </p:blipFill>
        <p:spPr>
          <a:xfrm rot="2248800">
            <a:off x="6453360" y="1165320"/>
            <a:ext cx="1562040" cy="49824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6"/>
          <a:stretch/>
        </p:blipFill>
        <p:spPr>
          <a:xfrm rot="19292400">
            <a:off x="1747440" y="1195200"/>
            <a:ext cx="1314360" cy="5378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7"/>
          <a:stretch/>
        </p:blipFill>
        <p:spPr>
          <a:xfrm rot="5254800">
            <a:off x="1834560" y="4144680"/>
            <a:ext cx="147600" cy="2970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8"/>
          <a:stretch/>
        </p:blipFill>
        <p:spPr>
          <a:xfrm rot="5400000">
            <a:off x="7331760" y="4109400"/>
            <a:ext cx="216000" cy="29664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68360" y="260280"/>
            <a:ext cx="3888000" cy="1441440"/>
          </a:xfrm>
          <a:prstGeom prst="ellipse">
            <a:avLst/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ff"/>
                </a:solidFill>
                <a:latin typeface="Arial"/>
              </a:rPr>
              <a:t>НН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916360" y="3141720"/>
            <a:ext cx="3240000" cy="1512720"/>
          </a:xfrm>
          <a:prstGeom prst="ellipse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-ЕНН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0099"/>
                </a:solidFill>
                <a:latin typeface="Arial"/>
              </a:rPr>
              <a:t>УТРЕНН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64000" y="1268280"/>
            <a:ext cx="3780000" cy="2305080"/>
          </a:xfrm>
          <a:prstGeom prst="ellipse">
            <a:avLst/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99"/>
                </a:solidFill>
                <a:latin typeface="Arial"/>
              </a:rPr>
              <a:t>-ОНН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cc3300"/>
                </a:solidFill>
                <a:latin typeface="Arial"/>
              </a:rPr>
              <a:t>АВИАЦИОН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50920" y="1557360"/>
            <a:ext cx="3168720" cy="2016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-НН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СОНН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76720" y="5013360"/>
            <a:ext cx="2879640" cy="151128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ccff"/>
                </a:solidFill>
                <a:latin typeface="Arial"/>
              </a:rPr>
              <a:t>Исключение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3300"/>
                </a:solidFill>
                <a:latin typeface="Arial"/>
              </a:rPr>
              <a:t>ветрен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 flipH="1">
            <a:off x="6227280" y="476280"/>
            <a:ext cx="2916360" cy="164628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 flipH="1" rot="16200000">
            <a:off x="3771000" y="2196360"/>
            <a:ext cx="1386000" cy="5047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 flipH="1" rot="19394400">
            <a:off x="1220760" y="1095120"/>
            <a:ext cx="1386000" cy="4572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 flipH="1" rot="12456000">
            <a:off x="6019920" y="836280"/>
            <a:ext cx="1458720" cy="5191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5"/>
          <a:stretch/>
        </p:blipFill>
        <p:spPr>
          <a:xfrm flipH="1" rot="16200000">
            <a:off x="4535280" y="4615560"/>
            <a:ext cx="289080" cy="5047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i="1" lang="en-US" sz="2800" spc="-1" strike="noStrike">
                <a:solidFill>
                  <a:srgbClr val="3333cc"/>
                </a:solidFill>
                <a:latin typeface="Arial"/>
              </a:rPr>
              <a:t>- ГОСТИНАЯ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US" sz="28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ОТ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n-US" sz="2800" spc="-1" strike="noStrike">
                <a:solidFill>
                  <a:srgbClr val="3333cc"/>
                </a:solidFill>
                <a:latin typeface="Arial"/>
              </a:rPr>
              <a:t>ГОСТЬ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n-US" sz="2800" spc="-1" strike="noStrike">
                <a:solidFill>
                  <a:srgbClr val="3333cc"/>
                </a:solidFill>
                <a:latin typeface="Arial"/>
              </a:rPr>
              <a:t>+ </a:t>
            </a:r>
            <a:r>
              <a:rPr b="1" i="1" lang="en-US" sz="2800" spc="-1" strike="noStrike">
                <a:solidFill>
                  <a:srgbClr val="cc3300"/>
                </a:solidFill>
                <a:latin typeface="Arial"/>
              </a:rPr>
              <a:t>-ИН-</a:t>
            </a:r>
            <a:br>
              <a:rPr sz="2800"/>
            </a:br>
            <a:br>
              <a:rPr sz="2800"/>
            </a:br>
            <a:r>
              <a:rPr b="1" i="1" lang="en-US" sz="2800" spc="-1" strike="noStrike">
                <a:solidFill>
                  <a:srgbClr val="3333cc"/>
                </a:solidFill>
                <a:latin typeface="Arial"/>
              </a:rPr>
              <a:t>- ТРУЖЕНИК</a:t>
            </a:r>
            <a:br>
              <a:rPr sz="2800"/>
            </a:br>
            <a:br>
              <a:rPr sz="2800"/>
            </a:br>
            <a:r>
              <a:rPr b="1" i="1" lang="en-US" sz="2800" spc="-1" strike="noStrike">
                <a:solidFill>
                  <a:srgbClr val="3333cc"/>
                </a:solidFill>
                <a:latin typeface="Arial"/>
              </a:rPr>
              <a:t>- УТРЕННИК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n-US" sz="28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ОТ   </a:t>
            </a:r>
            <a:r>
              <a:rPr b="1" i="1" lang="en-US" sz="28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Arial"/>
              </a:rPr>
              <a:t>УТРО   +-</a:t>
            </a:r>
            <a:r>
              <a:rPr b="1" i="1" lang="en-US" sz="2800" spc="-1" strike="noStrike">
                <a:solidFill>
                  <a:srgbClr val="cc3300"/>
                </a:solidFill>
                <a:latin typeface="Arial"/>
              </a:rPr>
              <a:t>ЕНН- + -ИК</a:t>
            </a:r>
            <a:br>
              <a:rPr sz="2800"/>
            </a:br>
            <a:br>
              <a:rPr sz="2800"/>
            </a:br>
            <a:r>
              <a:rPr b="1" i="1" lang="en-US" sz="2800" spc="-1" strike="noStrike">
                <a:solidFill>
                  <a:srgbClr val="3333cc"/>
                </a:solidFill>
                <a:latin typeface="Arial"/>
              </a:rPr>
              <a:t>- МОШЕНН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403280" y="549360"/>
            <a:ext cx="619308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САМЫЕ</a:t>
            </a:r>
            <a:endParaRPr b="1" lang="en-US" sz="4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ОШИБКООПАСНЫЕ СЛОВА</a:t>
            </a:r>
            <a:endParaRPr b="1" lang="en-US" sz="4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6012000" y="2997000"/>
            <a:ext cx="50472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516720" y="2997360"/>
            <a:ext cx="36036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508720" y="4797360"/>
            <a:ext cx="50328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012000" y="4797360"/>
            <a:ext cx="36036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6659640" y="4724280"/>
            <a:ext cx="36036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020000" y="4724280"/>
            <a:ext cx="43164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708360" y="3284640"/>
            <a:ext cx="1655640" cy="504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Г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851280" y="4941720"/>
            <a:ext cx="1152360" cy="6494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УТРО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7824960" y="2349360"/>
            <a:ext cx="995040" cy="31672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5003640" y="5445000"/>
            <a:ext cx="1181160" cy="119088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 flipV="1">
            <a:off x="1835280" y="3933720"/>
            <a:ext cx="14436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979640" y="3933720"/>
            <a:ext cx="7128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2124000" y="3933720"/>
            <a:ext cx="36036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484360" y="3933720"/>
            <a:ext cx="35892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2268360" y="5660640"/>
            <a:ext cx="28764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556000" y="5661000"/>
            <a:ext cx="36036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2268360" y="333360"/>
            <a:ext cx="4248360" cy="158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6669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практикум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0" y="1988640"/>
            <a:ext cx="403848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3333cc"/>
                </a:solidFill>
                <a:latin typeface="Arial"/>
              </a:rPr>
              <a:t>Багрян..ый,подлин..о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Arial"/>
              </a:rPr>
              <a:t>бесчислен.ое,глинян.а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Arial"/>
              </a:rPr>
              <a:t>дискуссион.ый,баран.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Arial"/>
              </a:rPr>
              <a:t>длин.ый,зелен.ый,юн.ы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Arial"/>
              </a:rPr>
              <a:t>свин.ой, ураган.ый,кон.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Arial"/>
              </a:rPr>
              <a:t>соломен.ый,серебрян.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Arial"/>
              </a:rPr>
              <a:t>туман.ый,монотон.ы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Arial"/>
              </a:rPr>
              <a:t>кожан.ый, фазан.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105520" y="1988640"/>
            <a:ext cx="403848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3333cc"/>
                </a:solidFill>
                <a:latin typeface="Arial"/>
              </a:rPr>
              <a:t>Ледян.ой,оловян.ы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Arial"/>
              </a:rPr>
              <a:t>осен.ий,песчан.ы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Arial"/>
              </a:rPr>
              <a:t>клюквен.ый,авиацион.ы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Arial"/>
              </a:rPr>
              <a:t>картин.ый,недюжин.ы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Arial"/>
              </a:rPr>
              <a:t>землян.ой,подлин.ы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Arial"/>
              </a:rPr>
              <a:t>лимон.ый, торфян.о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Arial"/>
              </a:rPr>
              <a:t>карман.ый,монотон.ы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Arial"/>
              </a:rPr>
              <a:t>совин.ый, ураган.ы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68360" y="404640"/>
            <a:ext cx="963720" cy="15116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7308720" y="404640"/>
            <a:ext cx="1333800" cy="124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1908000" y="549360"/>
            <a:ext cx="532944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Домашняя работа</a:t>
            </a:r>
            <a:endParaRPr b="1" lang="en-US" sz="4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i="1" lang="ru-RU" sz="4000" spc="-1" strike="noStrike">
                <a:solidFill>
                  <a:srgbClr val="009900"/>
                </a:solidFill>
                <a:latin typeface="Arial"/>
              </a:rPr>
              <a:t>Подобрать текст, имеющий прилагательные с суффиксами </a:t>
            </a:r>
            <a:r>
              <a:rPr b="1" i="1" lang="ru-RU" sz="4000" spc="-1" strike="noStrike">
                <a:solidFill>
                  <a:srgbClr val="cc3300"/>
                </a:solidFill>
                <a:latin typeface="Arial"/>
              </a:rPr>
              <a:t>-н-</a:t>
            </a:r>
            <a:r>
              <a:rPr b="1" i="1" lang="ru-RU" sz="4000" spc="-1" strike="noStrike">
                <a:solidFill>
                  <a:srgbClr val="009900"/>
                </a:solidFill>
                <a:latin typeface="Arial"/>
              </a:rPr>
              <a:t> и </a:t>
            </a:r>
            <a:r>
              <a:rPr b="1" i="1" lang="ru-RU" sz="4000" spc="-1" strike="noStrike">
                <a:solidFill>
                  <a:srgbClr val="cc3300"/>
                </a:solidFill>
                <a:latin typeface="Arial"/>
              </a:rPr>
              <a:t>-нн-</a:t>
            </a:r>
            <a:r>
              <a:rPr b="1" i="1" lang="ru-RU" sz="4000" spc="-1" strike="noStrike">
                <a:solidFill>
                  <a:srgbClr val="009900"/>
                </a:solidFill>
                <a:latin typeface="Arial"/>
              </a:rPr>
              <a:t>. Объяснить написание суффиксов имен прилагательных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79280" y="333360"/>
            <a:ext cx="1648080" cy="19242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6732720" y="4883040"/>
            <a:ext cx="1792080" cy="11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4T05:37:23Z</dcterms:created>
  <dc:creator>Оля</dc:creator>
  <dc:description/>
  <dc:language>en-US</dc:language>
  <cp:lastModifiedBy>Оля</cp:lastModifiedBy>
  <dcterms:modified xsi:type="dcterms:W3CDTF">2007-01-01T15:30:42Z</dcterms:modified>
  <cp:revision>13</cp:revision>
  <dc:subject/>
  <dc:title>Слайд 1</dc:title>
</cp:coreProperties>
</file>