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49F-64C3-49B8-8776-D632F541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251-00EF-4E9B-8A31-2163401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F27-B9FB-4C06-8C63-5C70A510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571-F5B4-451B-A1FB-144A7A13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100-2FFF-44AD-B3F0-939A6E92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010-1016-4725-B950-4E57719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104-4D45-4DA1-9B2F-CF5316D3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294-D786-4BF7-852A-E1FC7076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B8E-A1C3-438A-9C5D-32ADC46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EF4-923D-41B6-B243-0D60C75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DCC-954B-48ED-9F5C-91C71C8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20B-1AE9-4C2A-A218-BB56A9C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EF1A-9ADC-49AF-9ECE-134AAF21E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omic"/>
              </a:rPr>
              <a:t>Thema</a:t>
            </a: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: «</a:t>
            </a:r>
            <a:r>
              <a:rPr b="1" i="1" lang="de-DE" sz="4400" spc="-1" strike="noStrike">
                <a:solidFill>
                  <a:srgbClr val="000000"/>
                </a:solidFill>
                <a:latin typeface="comic"/>
              </a:rPr>
              <a:t>Ü</a:t>
            </a: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ber Filmkunst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Урок немец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МБОУ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г.Константин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Учитель Голуб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6720" y="549360"/>
            <a:ext cx="62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"/>
              </a:rPr>
              <a:t>Was passt zusammen? Ordne richtig 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"/>
              </a:rPr>
              <a:t>und bilde die Sät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319068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480" y="1647720"/>
            <a:ext cx="583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Wir gehen                       a.ein bekannter Schauspi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Die Kinokarten                b.ganz hinten,Reihe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Der Film dauert               c.in den Film vonSpiel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Wir sitzen                        d.gut und lus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Die Hauptrolle spielt        e.an der K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Alle finden den Film         f.fast drei Stunde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63640" y="4221000"/>
            <a:ext cx="4392720" cy="182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2000" y="524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1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3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21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30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3328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4797360"/>
            <a:ext cx="4032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"/>
              </a:rPr>
              <a:t>Formuliert die Regeln des "Guten Tons"für Kinobesu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n einem Kino muß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n Kino darf man nicht..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mt nicht zu spät zur Vorstel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Das Quiz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1.Was nennt man das achte Weltw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a.das Th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b.das K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c.da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2.Wer sind di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Hausaufgab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Schreiben eine Rezension zu einem Film, den Sie vor kurzem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angesehen habeh und der auf sich einen großen Eindruck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gemacht hat. Gebrauch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n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 dabei die Gliederung aus Übung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2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"/>
              </a:rPr>
              <a:t>Welche Wörter sind Synonyme? Verbinde richtig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1720" y="1916280"/>
            <a:ext cx="73908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Titelrolle                                        a.das Theater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Komödie                                         b.das Theaterfre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Bühnenstück                                 c.das Lust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er Theaterfan                                     d.urauf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Tragödie                                         e.auf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erstaufführen                                        f.das Trauer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geben                                                    g.das Film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Repertoire                                      h.der Spiel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Stück                                              i.die Auf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Theaterticket                                j. die Haupt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Kino                                               k. die Theater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Festival                                          l.das Fest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133720"/>
            <a:ext cx="3456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2421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771640" y="2420640"/>
            <a:ext cx="31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357720"/>
            <a:ext cx="352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4292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869000"/>
            <a:ext cx="27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5445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050920" y="3933360"/>
            <a:ext cx="3961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27280" y="3068280"/>
            <a:ext cx="33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3357360"/>
            <a:ext cx="432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2204640"/>
            <a:ext cx="3743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2708280"/>
            <a:ext cx="2952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hen Sie die Fotos einiger weltbekannter Filmstars an.Kennen Sie sie? Sagen ihre Name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170208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356000" y="1268280"/>
            <a:ext cx="1600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2000" y="1197000"/>
            <a:ext cx="136188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524720" y="1268280"/>
            <a:ext cx="143820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39640" y="3573360"/>
            <a:ext cx="1584360" cy="237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340000" y="3429000"/>
            <a:ext cx="1682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211640" y="3645000"/>
            <a:ext cx="1685880" cy="23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012000" y="371628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27960" y="3213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lene Diet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0680" y="573408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ly Chap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7600" y="29973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ylin Mon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8320" y="58053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in D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4520" y="306864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my Schn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4520" y="59500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jubow Orl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520" y="321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uis de F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57340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phia L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6680" y="3357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rej Miro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28464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580536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335772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314172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573408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6021360"/>
            <a:ext cx="1656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87700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328464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314172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Von welchem Film möchten Sie erzählen?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mic"/>
              </a:rPr>
              <a:t>Lest folgende Affiche und sprecht über diesen Film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140000" cy="2925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21188400">
            <a:off x="323640" y="260280"/>
            <a:ext cx="3240000" cy="2260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2675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59280" y="3716280"/>
            <a:ext cx="4105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Erzählt über einen Film nach folgender Gliederu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1.Titel des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2.R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3.Inhalt, wichtigste Probl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4.Hauptpersonen, Schauspi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5.Eure Eindrü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27640" y="1905120"/>
            <a:ext cx="4314600" cy="4952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56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9120" y="1936800"/>
            <a:ext cx="36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33360"/>
            <a:ext cx="727236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comic"/>
              </a:rPr>
              <a:t>                                  </a:t>
            </a:r>
            <a:r>
              <a:rPr b="1" i="1" lang="de-DE" sz="2800" spc="-1" strike="noStrike">
                <a:solidFill>
                  <a:srgbClr val="ffffff"/>
                </a:solidFill>
                <a:latin typeface="comic"/>
              </a:rPr>
              <a:t>Höre den Di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697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"/>
              </a:rPr>
              <a:t>Beantworte die F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1600" y="170028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Wo läuft der Film „Der Herr der Ringe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0" y="220500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Um wie viel Uhr fängt der Film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0320" y="27082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Wo stehen Kai und Sand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53040" y="31417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Wo haben Kai und Sandra ihre Plät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51600" y="357336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Wie lange dauert der Fil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00536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Was haben Kai und Sandra zu essen und zu trin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571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6:35:40Z</dcterms:created>
  <dc:creator>FuckYouBill</dc:creator>
  <dc:description/>
  <dc:language>en-US</dc:language>
  <cp:lastModifiedBy>PC</cp:lastModifiedBy>
  <dcterms:modified xsi:type="dcterms:W3CDTF">2011-12-12T09:05:27Z</dcterms:modified>
  <cp:revision>12</cp:revision>
  <dc:subject/>
  <dc:title>Thema: «Über Filmkunst» </dc:title>
</cp:coreProperties>
</file>