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7D9-73DA-42A7-84BE-BF18AA22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7E8-3477-4724-A303-F6E3053E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B57-6439-4B33-BDD5-7FA6DBD9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602F-28AB-4F9C-80C5-C7393D76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8AA-342B-42B8-97CC-3E08024E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79B-639C-41E5-84DC-8B8E7C0F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C9A-66E8-435E-B991-E40E6D37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585-AFA3-40F5-BEF7-A2FA713A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FC7-EE68-4CC3-BAD7-3C9017E6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791-9334-4D11-9320-71EC8559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9D5-8B1E-40A9-9AD9-995BD601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F2D-7A9D-4916-9376-EEB5A14C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C696-B171-47FF-A073-14445CF45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comic"/>
              </a:rPr>
              <a:t>Thema</a:t>
            </a:r>
            <a:r>
              <a:rPr b="1" i="1" lang="ru-RU" sz="4400" spc="-1" strike="noStrike">
                <a:solidFill>
                  <a:srgbClr val="000000"/>
                </a:solidFill>
                <a:latin typeface="comic"/>
              </a:rPr>
              <a:t>: «</a:t>
            </a:r>
            <a:r>
              <a:rPr b="1" i="1" lang="de-DE" sz="4400" spc="-1" strike="noStrike">
                <a:solidFill>
                  <a:srgbClr val="000000"/>
                </a:solidFill>
                <a:latin typeface="comic"/>
              </a:rPr>
              <a:t>Ü</a:t>
            </a:r>
            <a:r>
              <a:rPr b="1" i="1" lang="ru-RU" sz="4400" spc="-1" strike="noStrike">
                <a:solidFill>
                  <a:srgbClr val="000000"/>
                </a:solidFill>
                <a:latin typeface="comic"/>
              </a:rPr>
              <a:t>ber Filmkunst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"/>
              </a:rPr>
              <a:t>Урок немецкого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"/>
              </a:rPr>
              <a:t>МБОУ СОШ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"/>
              </a:rPr>
              <a:t>г.Константин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"/>
              </a:rPr>
              <a:t>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"/>
              </a:rPr>
              <a:t>Учитель Голубева Л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86720" y="549360"/>
            <a:ext cx="621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"/>
              </a:rPr>
              <a:t>Was passt zusammen? Ordne richtig z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"/>
              </a:rPr>
              <a:t>und bilde die Sät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508720" y="1197000"/>
            <a:ext cx="3190680" cy="2867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9480" y="1647720"/>
            <a:ext cx="583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Wir gehen                       a.ein bekannter Schauspi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Die Kinokarten                b.ganz hinten,Reihe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ko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Der Film dauert               c.in den Film vonSpielbe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Wir sitzen                        d.gut und lus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Die Hauptrolle spielt        e.an der K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Alle finden den Film         f.fast drei Stunden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63640" y="4221000"/>
            <a:ext cx="4392720" cy="1825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02000" y="5248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81640" y="524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13640" y="524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21640" y="524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530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33280" y="524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4797360"/>
            <a:ext cx="4032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"/>
              </a:rPr>
              <a:t>Formuliert die Regeln des "Guten Tons"für Kinobesu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In einem Kino muß..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In Kino darf man nicht..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mmt nicht zu spät zur Vorstel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Das Quiz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1.Was nennt man das achte Weltwu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a.das Th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b.das K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c.das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2.Wer sind di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Hausaufgab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Schreiben eine Rezension zu einem Film, den Sie vor kurzem</a:t>
            </a: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comic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angesehen habeh und der auf sich einen großen Eindruck</a:t>
            </a: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comic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gemacht hat. Gebrauche</a:t>
            </a: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comic"/>
              </a:rPr>
              <a:t>n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 dabei die Gliederung aus Übung</a:t>
            </a: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comic"/>
              </a:rPr>
              <a:t>2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"/>
              </a:rPr>
              <a:t>Welche Wörter sind Synonyme? Verbinde richtig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1720" y="1916280"/>
            <a:ext cx="73908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ie Titelrolle                                        a.das Theaterstü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ie Komödie                                         b.das Theaterfre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as Bühnenstück                                 c.das Lust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er Theaterfan                                     d.urauf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ie Tragödie                                         e.auf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erstaufführen                                        f.das Trauer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geben                                                    g.das Filmth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as Repertoire                                      h.der Spiel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as Stück                                              i.die Auffüh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as Theaterticket                                j. die Hauptr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as Kino                                               k. die Theater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das Festival                                          l.das Fest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2133720"/>
            <a:ext cx="3456000" cy="26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2421000"/>
            <a:ext cx="345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771640" y="2420640"/>
            <a:ext cx="316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3357720"/>
            <a:ext cx="352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429264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4869000"/>
            <a:ext cx="2735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544500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050920" y="3933360"/>
            <a:ext cx="3961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627280" y="3068280"/>
            <a:ext cx="33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619280" y="3357360"/>
            <a:ext cx="4321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24000" y="2204640"/>
            <a:ext cx="374328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2708280"/>
            <a:ext cx="295272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ehen Sie die Fotos einiger weltbekannter Filmstars an.Kennen Sie sie? Sagen ihre Name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1702080" cy="244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979640" y="981000"/>
            <a:ext cx="230508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356000" y="1268280"/>
            <a:ext cx="1600200" cy="201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012000" y="1197000"/>
            <a:ext cx="136188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7524720" y="1268280"/>
            <a:ext cx="1438200" cy="2143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539640" y="3573360"/>
            <a:ext cx="1584360" cy="2376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340000" y="3429000"/>
            <a:ext cx="168264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211640" y="3645000"/>
            <a:ext cx="1685880" cy="23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6012000" y="3716280"/>
            <a:ext cx="2438280" cy="2181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27960" y="32130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lene Diet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20680" y="573408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rly Chap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27600" y="29973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ylin Mon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88320" y="580536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ain De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4520" y="306864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my Schne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4520" y="595008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jubow Orl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2520" y="32130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uis de F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960" y="57340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phia Lo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96680" y="33577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drej Miro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3284640"/>
            <a:ext cx="1655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5805360"/>
            <a:ext cx="1655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64360" y="3357720"/>
            <a:ext cx="1655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08720" y="3141720"/>
            <a:ext cx="1655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5734080"/>
            <a:ext cx="1655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920" y="6021360"/>
            <a:ext cx="165600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877000"/>
            <a:ext cx="1655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3284640"/>
            <a:ext cx="1656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3141720"/>
            <a:ext cx="1656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Von welchem Film möchten Sie erzählen?</a:t>
            </a:r>
            <a:br>
              <a:rPr sz="24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omic"/>
              </a:rPr>
              <a:t>Lest folgende Affiche und sprecht über diesen Film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4140000" cy="2925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 rot="21188400">
            <a:off x="323640" y="260280"/>
            <a:ext cx="3240000" cy="2260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003640" y="260280"/>
            <a:ext cx="3816360" cy="2675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859280" y="3716280"/>
            <a:ext cx="41054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mic"/>
              </a:rPr>
              <a:t>Erzählt über einen Film nach folgender Gliederu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1.Titel des Fil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2.R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3.Inhalt, wichtigste Probl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4.Hauptpersonen, Schauspi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5.Eure Eindrüc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27640" y="1905120"/>
            <a:ext cx="4314600" cy="4952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567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9120" y="1936800"/>
            <a:ext cx="36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333360"/>
            <a:ext cx="7272360" cy="5205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comic"/>
              </a:rPr>
              <a:t>                                  </a:t>
            </a:r>
            <a:r>
              <a:rPr b="1" i="1" lang="de-DE" sz="2800" spc="-1" strike="noStrike">
                <a:solidFill>
                  <a:srgbClr val="ffffff"/>
                </a:solidFill>
                <a:latin typeface="comic"/>
              </a:rPr>
              <a:t>Höre den Di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697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mic"/>
              </a:rPr>
              <a:t>Beantworte die Fra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51600" y="170028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Wo läuft der Film „Der Herr der Ringe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51600" y="220500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Um wie viel Uhr fängt der Film 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80320" y="270828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Wo stehen Kai und Sand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53040" y="3141720"/>
            <a:ext cx="43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Wo haben Kai und Sandra ihre Plätz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51600" y="357336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Wie lange dauert der Fil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4005360"/>
            <a:ext cx="51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Was haben Kai und Sandra zu essen und zu trink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1571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6:35:40Z</dcterms:created>
  <dc:creator>FuckYouBill</dc:creator>
  <dc:description/>
  <dc:language>en-US</dc:language>
  <cp:lastModifiedBy>PC</cp:lastModifiedBy>
  <dcterms:modified xsi:type="dcterms:W3CDTF">2011-12-12T09:05:27Z</dcterms:modified>
  <cp:revision>12</cp:revision>
  <dc:subject/>
  <dc:title>Thema: «Über Filmkunst» </dc:title>
</cp:coreProperties>
</file>