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D1A-5A9A-452F-8267-42C1D637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581-3A08-4F21-9910-8047D5E1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651-0A54-4454-A120-95F0C0DE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6F5-4106-44F3-82D9-7B266D3C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B741-D344-49D1-88D1-9F6A808A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7FB0-6134-4F35-A597-1A7F26A6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9F89-002D-4046-A443-476E7D71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AA8A-2B0F-43DA-9C52-EC617067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400C-0458-4E5A-B2C9-5CE43A3D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E2CC-236C-43A3-B78F-C125447C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8269-6F75-4603-995C-BA89D691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D3B-1392-4A2C-9A4B-CC3174F0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7E6A-F900-4311-9918-71E8B2B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3572-A96C-4BC4-9DBD-7038C7D9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42A3-F12E-4EC8-B138-AD648357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6AA2-1311-4D70-9226-4658120D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5B4-3B91-4043-BF78-7BDCE76E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076-5754-446C-BE43-15C02E3D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7FF-F70F-4418-BF3A-0178F01C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E0E-50B2-49D9-9AEE-2E10125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676-7D1E-4D3B-8D8B-F5EB0F27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E24-6A64-4DEA-9C55-E4F949EF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27B-5DA2-49D2-BE5B-30CCBC3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9D5-8C78-4586-95CB-FA270BD8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6713-1586-4341-BCC2-CEA7F0CB23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3C2-2D3C-4F9F-9680-2002195376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urnikmans.ru/glossarij/turnikmen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116000" y="1197000"/>
            <a:ext cx="7416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treet Workout (Дворовый спорт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530064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ыполнили уче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А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колы №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аксимов Олег и Клёнов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00720" y="549360"/>
            <a:ext cx="43192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епенно в это движения вливаются элементы из 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спортивной гимнастики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и порой 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уличный гимнаст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 без тренера и без специального оборудования, на стареньком ржавом турнике творит такие чудеса, что даже не каждый профессиональный спортсмен смог б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Картинка 93 из 1636"/>
          <p:cNvPicPr/>
          <p:nvPr/>
        </p:nvPicPr>
        <p:blipFill>
          <a:blip r:embed="rId2"/>
          <a:stretch/>
        </p:blipFill>
        <p:spPr>
          <a:xfrm>
            <a:off x="468360" y="476280"/>
            <a:ext cx="3887640" cy="59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604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ение 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турникмено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– правльный выбор молодежи, позволяющий направлять подростков по правильному жизменному пут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Картинка 60 из 1636"/>
          <p:cNvPicPr/>
          <p:nvPr/>
        </p:nvPicPr>
        <p:blipFill>
          <a:blip r:embed="rId2"/>
          <a:stretch/>
        </p:blipFill>
        <p:spPr>
          <a:xfrm>
            <a:off x="684360" y="2349360"/>
            <a:ext cx="748800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нтернете встречается большое количество демотиваторов, позволяющих подростку выбрать правильный путь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77708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ля страховки используются две обычные лям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Картинка 3 из 140"/>
          <p:cNvPicPr/>
          <p:nvPr/>
        </p:nvPicPr>
        <p:blipFill>
          <a:blip r:embed="rId2"/>
          <a:stretch/>
        </p:blipFill>
        <p:spPr>
          <a:xfrm>
            <a:off x="395280" y="260280"/>
            <a:ext cx="820908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турникменом, присоединяйся к нам!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Картинка 27 из 1636"/>
          <p:cNvPicPr/>
          <p:nvPr/>
        </p:nvPicPr>
        <p:blipFill>
          <a:blip r:embed="rId2"/>
          <a:stretch/>
        </p:blipFill>
        <p:spPr>
          <a:xfrm>
            <a:off x="468360" y="1700280"/>
            <a:ext cx="7991280" cy="48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1640" y="189000"/>
            <a:ext cx="7416720" cy="28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68360" y="5084640"/>
            <a:ext cx="63010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ирайте спорт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ртсмены занимающиеся Дворовым спортом называют себя Турникмэнами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Картинка 39 из 1636"/>
          <p:cNvPicPr/>
          <p:nvPr/>
        </p:nvPicPr>
        <p:blipFill>
          <a:blip r:embed="rId2"/>
          <a:stretch/>
        </p:blipFill>
        <p:spPr>
          <a:xfrm>
            <a:off x="684360" y="2276640"/>
            <a:ext cx="7561080" cy="41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43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Турникмен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–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уличный гимнаст, дворовый гимнаст, 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нимающийся на дворовом жестком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урник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Последователь нового молодежного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вижея уличных гимнасто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в России. Довольно новое слово, происхождение которого кроется в 2009 год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Картинка 4 из 1636"/>
          <p:cNvPicPr/>
          <p:nvPr/>
        </p:nvPicPr>
        <p:blipFill>
          <a:blip r:embed="rId3"/>
          <a:stretch/>
        </p:blipFill>
        <p:spPr>
          <a:xfrm>
            <a:off x="4572000" y="620640"/>
            <a:ext cx="4143240" cy="56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522900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ло закреплено 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Михаилом Баратовым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после создания своеобразного плаката «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лавянского содружества турникменов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635280" y="836640"/>
            <a:ext cx="5329440" cy="3645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15 из 1636"/>
          <p:cNvPicPr/>
          <p:nvPr/>
        </p:nvPicPr>
        <p:blipFill>
          <a:blip r:embed="rId3"/>
          <a:stretch/>
        </p:blipFill>
        <p:spPr>
          <a:xfrm>
            <a:off x="179280" y="1125360"/>
            <a:ext cx="3203640" cy="294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27560" y="4149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ихаил Бар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74160" y="443700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лавянского содружества турникмен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 смотря на свою молодость, движение захлестнуло практически все страны СНГ, да и всего мира в целом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океаном большое количество аналогов данного движе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Картинка 3 из 6"/>
          <p:cNvPicPr/>
          <p:nvPr/>
        </p:nvPicPr>
        <p:blipFill>
          <a:blip r:embed="rId2"/>
          <a:stretch/>
        </p:blipFill>
        <p:spPr>
          <a:xfrm>
            <a:off x="826920" y="2276640"/>
            <a:ext cx="7344000" cy="3673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3280" y="594972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лементы из стиля </a:t>
            </a: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gimbarr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 – элементы на силу и гибкость одновремен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Workout (Ghetto/Street Workout) - многокомплексная система физического развития в уличных условиях, с преимущественным использованием  веса собственного тела  на спортивных площадках, объектах естественного и городского ландшафта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Картинка 54 из 1218"/>
          <p:cNvPicPr/>
          <p:nvPr/>
        </p:nvPicPr>
        <p:blipFill>
          <a:blip r:embed="rId2"/>
          <a:stretch/>
        </p:blipFill>
        <p:spPr>
          <a:xfrm>
            <a:off x="539640" y="2349360"/>
            <a:ext cx="7777440" cy="42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859280" y="907920"/>
            <a:ext cx="3898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reet Workout 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W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 - это мощная, эффективная физическая база для тех видов спорта и уличного экстрима, где требуются проявление взрывной силы и большой вынослив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Картинка 3 из 7337"/>
          <p:cNvPicPr/>
          <p:nvPr/>
        </p:nvPicPr>
        <p:blipFill>
          <a:blip r:embed="rId2"/>
          <a:stretch/>
        </p:blipFill>
        <p:spPr>
          <a:xfrm>
            <a:off x="468360" y="836640"/>
            <a:ext cx="4105080" cy="52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ение активно поддерживается молодежью и даже проводятся так называемые «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леты турникменов»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Картинка 1 из 1636"/>
          <p:cNvPicPr/>
          <p:nvPr/>
        </p:nvPicPr>
        <p:blipFill>
          <a:blip r:embed="rId2"/>
          <a:stretch/>
        </p:blipFill>
        <p:spPr>
          <a:xfrm>
            <a:off x="611280" y="2276640"/>
            <a:ext cx="7848360" cy="39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39704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 которых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урникме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ериются «силами» и делятся опытом. Хотя выражение мериться силами в данном контексте не совсем удачное, поскольку сила не главное для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турникмен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помимо силы также необходимо развивать гибкость, технику и проявлять фантазию, поскольку просто диву даешься, как увидишь некоторые элементы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92436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4:21:55Z</dcterms:created>
  <dc:creator>Admin</dc:creator>
  <dc:description/>
  <dc:language>en-US</dc:language>
  <cp:lastModifiedBy>Admin</cp:lastModifiedBy>
  <dcterms:modified xsi:type="dcterms:W3CDTF">2011-11-24T15:07:21Z</dcterms:modified>
  <cp:revision>2</cp:revision>
  <dc:subject/>
  <dc:title>Слайд 1</dc:title>
</cp:coreProperties>
</file>