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8C87-6EF4-4A69-8F7E-B1494140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857F-0C7C-4173-B03E-97D3322A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B7B6-C237-44D3-B52E-FFC7E82A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95D4-DF5C-473F-AC30-DBB96B40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DE9A-ACAD-46F8-A6F1-3FA57321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893A-2AD5-4BF3-9D2D-E316974F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8CC2-DE33-4F0A-9AEC-6C4C7383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ACD3-B758-4E57-933D-668E1451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4B88-00D6-4F33-8210-40ABBFC3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D77A-800B-4AD7-8ADC-2BEF1F43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53D1-3AE1-465C-BECA-ADB9C529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C336-B2F4-4F86-BDD4-6531E359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9AD2-7972-451B-9A42-9D5342E6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1B87-AE68-45ED-AAEE-69959A43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53C6-E1E8-4D36-8068-623FE18A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204B-FFEA-4D66-8CC3-B57FDDE5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778B-F1DA-490C-92FF-1F425FA8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393F-9C30-445A-B2BB-9057D836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F733-D9E6-4392-AAE6-7EF3DAC9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6040-7C4E-4648-8F66-72FC77BE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EB91-C685-4BE2-94E8-F2B88B9F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255A-05AA-45B2-B316-A6ECDA49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47EF-7DAC-4B7D-805A-DFCBA34A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B81A-0CF4-4875-B484-2E75E06B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DE9B-C118-4B55-AC49-AEC8A4C7B13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514B-69CE-42CB-8606-7109DFE9D39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urnikmans.ru/glossarij/turnikmen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116000" y="1197000"/>
            <a:ext cx="7416720" cy="19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treet Workout (Дворовый спорт)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16360" y="530064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ыполнили уче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8А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Школы №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Максимов Олег и Клёнов Алекс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00720" y="549360"/>
            <a:ext cx="43192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степенно в это движения вливаются элементы из 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спортивной гимнастики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 и порой 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уличный гимнаст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 без тренера и без специального оборудования, на стареньком ржавом турнике творит такие чудеса, что даже не каждый профессиональный спортсмен смог бы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Картинка 93 из 1636"/>
          <p:cNvPicPr/>
          <p:nvPr/>
        </p:nvPicPr>
        <p:blipFill>
          <a:blip r:embed="rId2"/>
          <a:stretch/>
        </p:blipFill>
        <p:spPr>
          <a:xfrm>
            <a:off x="468360" y="476280"/>
            <a:ext cx="3887640" cy="597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6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ижение 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турникменов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 – правльный выбор молодежи, позволяющий направлять подростков по правильному жизменному пути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Картинка 60 из 1636"/>
          <p:cNvPicPr/>
          <p:nvPr/>
        </p:nvPicPr>
        <p:blipFill>
          <a:blip r:embed="rId2"/>
          <a:stretch/>
        </p:blipFill>
        <p:spPr>
          <a:xfrm>
            <a:off x="684360" y="2349360"/>
            <a:ext cx="7488000" cy="424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68360" y="494136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интернете встречается большое количество демотиваторов, позволяющих подростку выбрать правильный путь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777708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Для страховки используются две обычные лямк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Картинка 3 из 140"/>
          <p:cNvPicPr/>
          <p:nvPr/>
        </p:nvPicPr>
        <p:blipFill>
          <a:blip r:embed="rId2"/>
          <a:stretch/>
        </p:blipFill>
        <p:spPr>
          <a:xfrm>
            <a:off x="395280" y="260280"/>
            <a:ext cx="820908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турникменом, присоединяйся к нам!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" descr="Картинка 27 из 1636"/>
          <p:cNvPicPr/>
          <p:nvPr/>
        </p:nvPicPr>
        <p:blipFill>
          <a:blip r:embed="rId2"/>
          <a:stretch/>
        </p:blipFill>
        <p:spPr>
          <a:xfrm>
            <a:off x="468360" y="1700280"/>
            <a:ext cx="7991280" cy="484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71640" y="189000"/>
            <a:ext cx="7416720" cy="287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68360" y="5084640"/>
            <a:ext cx="63010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бирайте спорт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ртсмены занимающиеся Дворовым спортом называют себя Турникмэнами.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Картинка 39 из 1636"/>
          <p:cNvPicPr/>
          <p:nvPr/>
        </p:nvPicPr>
        <p:blipFill>
          <a:blip r:embed="rId2"/>
          <a:stretch/>
        </p:blipFill>
        <p:spPr>
          <a:xfrm>
            <a:off x="684360" y="2276640"/>
            <a:ext cx="7561080" cy="41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4043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Турникмен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– 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уличный гимнаст, дворовый гимнаст, 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нимающийся на дворовом жестком 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турнике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Последователь нового молодежного 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движея уличных гимнастов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в России. Довольно новое слово, происхождение которого кроется в 2009 год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Картинка 4 из 1636"/>
          <p:cNvPicPr/>
          <p:nvPr/>
        </p:nvPicPr>
        <p:blipFill>
          <a:blip r:embed="rId3"/>
          <a:stretch/>
        </p:blipFill>
        <p:spPr>
          <a:xfrm>
            <a:off x="4572000" y="620640"/>
            <a:ext cx="4143240" cy="568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9280" y="5229000"/>
            <a:ext cx="8218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ыло закреплено 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Михаилом Баратовым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после создания своеобразного плаката «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Славянского содружества турникменов»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635280" y="836640"/>
            <a:ext cx="5329440" cy="3645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Картинка 15 из 1636"/>
          <p:cNvPicPr/>
          <p:nvPr/>
        </p:nvPicPr>
        <p:blipFill>
          <a:blip r:embed="rId3"/>
          <a:stretch/>
        </p:blipFill>
        <p:spPr>
          <a:xfrm>
            <a:off x="179280" y="1125360"/>
            <a:ext cx="3203640" cy="2940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27560" y="414972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Михаил Бара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74160" y="4437000"/>
            <a:ext cx="51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Славянского содружества турникмен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е смотря на свою молодость, движение захлестнуло практически все страны СНГ, да и всего мира в целом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а океаном большое количество аналогов данного движени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Картинка 3 из 6"/>
          <p:cNvPicPr/>
          <p:nvPr/>
        </p:nvPicPr>
        <p:blipFill>
          <a:blip r:embed="rId2"/>
          <a:stretch/>
        </p:blipFill>
        <p:spPr>
          <a:xfrm>
            <a:off x="826920" y="2276640"/>
            <a:ext cx="7344000" cy="3673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03280" y="5949720"/>
            <a:ext cx="86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Элементы из стиля </a:t>
            </a: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gimbarr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– элементы на силу и гибкость одновременн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889308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Workout (Ghetto/Street Workout) - многокомплексная система физического развития в уличных условиях, с преимущественным использованием  веса собственного тела  на спортивных площадках, объектах естественного и городского ландшафта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Картинка 54 из 1218"/>
          <p:cNvPicPr/>
          <p:nvPr/>
        </p:nvPicPr>
        <p:blipFill>
          <a:blip r:embed="rId2"/>
          <a:stretch/>
        </p:blipFill>
        <p:spPr>
          <a:xfrm>
            <a:off x="539640" y="2349360"/>
            <a:ext cx="7777440" cy="42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859280" y="907920"/>
            <a:ext cx="3898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treet Workout 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W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) - это мощная, эффективная физическая база для тех видов спорта и уличного экстрима, где требуются проявление взрывной силы и большой выносливост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Картинка 3 из 7337"/>
          <p:cNvPicPr/>
          <p:nvPr/>
        </p:nvPicPr>
        <p:blipFill>
          <a:blip r:embed="rId2"/>
          <a:stretch/>
        </p:blipFill>
        <p:spPr>
          <a:xfrm>
            <a:off x="468360" y="836640"/>
            <a:ext cx="4105080" cy="52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ижение активно поддерживается молодежью и даже проводятся так называемые «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слеты турникменов»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Картинка 1 из 1636"/>
          <p:cNvPicPr/>
          <p:nvPr/>
        </p:nvPicPr>
        <p:blipFill>
          <a:blip r:embed="rId2"/>
          <a:stretch/>
        </p:blipFill>
        <p:spPr>
          <a:xfrm>
            <a:off x="611280" y="2276640"/>
            <a:ext cx="7848360" cy="396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397044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 которых 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турникмеы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ериются «силами» и делятся опытом. Хотя выражение мериться силами в данном контексте не совсем удачное, поскольку сила не главное для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турникмен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помимо силы также необходимо развивать гибкость, технику и проявлять фантазию, поскольку просто диву даешься, как увидишь некоторые элементы.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3924360" cy="62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4T14:21:55Z</dcterms:created>
  <dc:creator>Admin</dc:creator>
  <dc:description/>
  <dc:language>en-US</dc:language>
  <cp:lastModifiedBy>Admin</cp:lastModifiedBy>
  <dcterms:modified xsi:type="dcterms:W3CDTF">2011-11-24T15:07:21Z</dcterms:modified>
  <cp:revision>2</cp:revision>
  <dc:subject/>
  <dc:title>Слайд 1</dc:title>
</cp:coreProperties>
</file>