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6797-F092-4161-ABCC-8C7E6582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79A9-375C-4E47-867A-903598E9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98D7-23AF-46CC-9011-B3444B316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8709-355C-4930-AF77-5A12EEEA1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FF5F-3480-4AA1-B8A3-9BAABDA0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F485-169F-49B1-8045-CF832888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0563-F3F1-4782-84F4-9C794B5C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718E-EB02-49C6-A0C1-15C3CF84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B7ED-EE8F-42F5-A714-22F81393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1DE4-B2B9-4FE0-9820-7DFCC1C8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07D1-1F92-4E1B-88EB-D6F455F1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2905-0FB3-4BDB-B0BD-9F694728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EA02-09B3-43F7-93E6-80C8A9F5AB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1642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усть всегда будет солнц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920" y="3499920"/>
            <a:ext cx="612936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Презентация по технолог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«Солнышко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Выполнила Перфилова Г.Б.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учитель начальных классов МОУ-СОШ № 1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г. Клин Московская облас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ерем 2 диск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(у солнышка будет два лица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428840" y="1785960"/>
            <a:ext cx="6143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леиваем отверстия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785960" y="1714680"/>
            <a:ext cx="550080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..оформляем мордашку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357200" y="1571760"/>
            <a:ext cx="62150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мазываем диск клеем, прикладываем на собранные лучи, кладем под легкий пресс для надежности крепл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857240" y="2643120"/>
            <a:ext cx="507708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ольшое спасиб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ликовой Надежде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 предоставленные матириалы и замечательную идею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2" descr=""/>
          <p:cNvPicPr/>
          <p:nvPr/>
        </p:nvPicPr>
        <p:blipFill>
          <a:blip r:embed="rId1"/>
          <a:stretch/>
        </p:blipFill>
        <p:spPr>
          <a:xfrm>
            <a:off x="401760" y="2633760"/>
            <a:ext cx="834048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Пусть всегда улыбается вам солнышко, рассылая тепло, хорошее настроение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285920" y="1643040"/>
            <a:ext cx="65721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ладываем гармошкой цветной лист офисной бумаги А4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ирина полосы чуть шире 1 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285920" y="2214720"/>
            <a:ext cx="66438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резаем , плавно закругляя с двух сторон, угл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000080" y="1643040"/>
            <a:ext cx="70722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т такой "веер" в сложенном состоянии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571760" y="1785960"/>
            <a:ext cx="58579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..в развернут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285920" y="1571760"/>
            <a:ext cx="65721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гибаем наш веер пополам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60008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.. склеиваем или степлируем, чтобы не расходилс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214280" y="1643040"/>
            <a:ext cx="66438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 же делаем еще веер, соединяем с предыдущим и т.д. Цвета можно изменить, сделать однотонным, радужным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357200" y="2004840"/>
            <a:ext cx="64296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4:54:29Z</dcterms:created>
  <dc:creator>Admin</dc:creator>
  <dc:description/>
  <dc:language>en-US</dc:language>
  <cp:lastModifiedBy>Admin</cp:lastModifiedBy>
  <dcterms:modified xsi:type="dcterms:W3CDTF">2010-11-14T15:17:29Z</dcterms:modified>
  <cp:revision>3</cp:revision>
  <dc:subject/>
  <dc:title>Пусть всегда будет солнце!</dc:title>
</cp:coreProperties>
</file>