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69A-7D3E-43D8-B4DA-8B171726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D39-09EE-4347-A280-F44075A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71F-EACB-478B-A219-1FBED6D6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1E1-54DD-4583-B8C8-3A2625A2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93B-0181-42AD-89B0-8317E399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EFB-0681-4D78-99ED-9AAC0BE9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91E-765E-409C-9E3D-EBD3B93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FB5-DD12-4DF6-8904-69650F8B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88C-9B3B-490E-955E-D50FFEAF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556-CB51-4E7A-BEEF-E11F0C2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248-A711-42BE-9899-0734CDD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836-989F-4D7D-91AB-43761A6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53C7-9164-4A71-93E5-BB87CA04C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усть всегда будет солнц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3499920"/>
            <a:ext cx="61293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Презентация по техноло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«Солнышко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ыполнила Перфилова Г.Б.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читель начальных классов МОУ-СОШ № 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. Клин Московская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рем 2 дис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у солнышка будет два лиц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1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еиваем отверстия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85960" y="1714680"/>
            <a:ext cx="5500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..оформляем мордашку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215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мазываем диск клеем, прикладываем на собранные лучи, кладем под легкий пресс для надежности креп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0770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льшое спасиб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иковой Надежд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предоставленные матириалы и замечательную идею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2" descr=""/>
          <p:cNvPicPr/>
          <p:nvPr/>
        </p:nvPicPr>
        <p:blipFill>
          <a:blip r:embed="rId1"/>
          <a:stretch/>
        </p:blipFill>
        <p:spPr>
          <a:xfrm>
            <a:off x="401760" y="2633760"/>
            <a:ext cx="8340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Пусть всегда улыбается вам солнышко, рассылая тепло, хорошее настроение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6572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ываем гармошкой цветной лист офисной бумаги А4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рина полосы чуть шире 1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85920" y="2214720"/>
            <a:ext cx="6643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заем , плавно закругляя с двух сторон, уг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7072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т такой "веер" в сложенном состоянии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5857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..в развернут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57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гибаем наш веер пополам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00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.. склеиваем или степлируем, чтобы не расходил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664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же делаем еще веер, соединяем с предыдущим и т.д. Цвета можно изменить, сделать однотонным, радужным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57200" y="2004840"/>
            <a:ext cx="64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54:29Z</dcterms:created>
  <dc:creator>Admin</dc:creator>
  <dc:description/>
  <dc:language>en-US</dc:language>
  <cp:lastModifiedBy>Admin</cp:lastModifiedBy>
  <dcterms:modified xsi:type="dcterms:W3CDTF">2010-11-14T15:17:29Z</dcterms:modified>
  <cp:revision>3</cp:revision>
  <dc:subject/>
  <dc:title>Пусть всегда будет солнце!</dc:title>
</cp:coreProperties>
</file>