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1EF-1CD7-4363-AF3C-E27041D7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ACE-204D-49F6-B0D7-AB5DE8E1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1F6-7A78-4085-B88E-37CEB4D3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A119-8668-4D4B-94FC-DC445B24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4C22-9FF1-4496-9281-7F3F72CE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9207-CF36-45D1-9DD6-814E9A99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FB70-48F5-4125-99A5-3B01561A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7972-31BC-4460-8932-E82151D9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24E2-F88A-4C35-873D-1EFA6D67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2E1C-A3F7-4D9E-B7F2-E7ACDEB2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D70A-C335-4620-B8B2-3B7AB5E6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743-A006-4A9A-8866-30DE1B05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02AA-B983-4D17-9F02-39017EB8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4EA0-FC22-419C-A0F9-C942B520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9497-2923-4387-BA11-567833C3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10FC-8661-477F-8A66-AAEC3E7B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5440-6457-497E-86A3-6A3C81E3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90F-3426-4E0F-BAD2-759C8315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3814-8F9B-4951-85A9-29FA7EF2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0EDC-CDA5-4D8D-BE4A-9A2B6175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D72-B0EC-4FC5-9A99-2D889956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19C8-C002-4307-8A63-339B2D2C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CA97-ECDE-486D-B93D-D3DD0B0E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221-165A-4211-BF5C-BD9F5D9C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9c7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9c73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9c73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c7300"/>
                        </a:solidFill>
                        <a:ln w="9360">
                          <a:solidFill>
                            <a:srgbClr val="9c73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9c7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9c7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9c7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98AF-409F-4190-8C2C-62FF72580CD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9c7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9c73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9c73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c7300"/>
                        </a:solidFill>
                        <a:ln w="9360">
                          <a:solidFill>
                            <a:srgbClr val="9c73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9c7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9c7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9c7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E41A-ED1D-4EFB-B84E-9959DD38205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cc0099"/>
                </a:solidFill>
                <a:latin typeface="Arial"/>
              </a:rPr>
              <a:t>Тема:</a:t>
            </a:r>
            <a:endParaRPr b="0" lang="en-US" sz="5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225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cc0099"/>
                </a:solidFill>
                <a:latin typeface="Verdana"/>
              </a:rPr>
              <a:t>Виды телефонной связи .Городской, междугородний, мобильный</a:t>
            </a:r>
            <a:endParaRPr b="0" lang="en-US" sz="4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225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cc0099"/>
                </a:solidFill>
                <a:latin typeface="Verdana"/>
              </a:rPr>
              <a:t>Телефон. </a:t>
            </a:r>
            <a:endParaRPr b="0" lang="en-US" sz="4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Правила телефонного разговор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огда звоните-здоровайтес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.Не кричит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.Говорите по дел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.Не говорите долг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.Не звоните очень поздно или ран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.Если не туда попали -извинитес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7.Отвечайте вежлив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8.Заканчивая разговор ,попрощайтес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99"/>
                </a:solidFill>
                <a:latin typeface="Arial"/>
              </a:rPr>
              <a:t>Телефонный этикет.</a:t>
            </a:r>
            <a:endParaRPr b="0" lang="en-US" sz="4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ыключайте  мобильный телефон, когда использование радиосвязи может подвергнуть опасности жизнь других людей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оздерживайтесь от использования мобильного телефона во время управления транспорто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ыключайте телефон или переводите его в беззвучный режим на спектаклях, киносеансах, концертах, в музеях и выставочных залах, во время церемоний и ритуалов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7" name="" descr="Мобильные телефоны повышают риск лейкемии или образования опухоли в голове, глазах или слюнных железах"/>
          <p:cNvPicPr/>
          <p:nvPr/>
        </p:nvPicPr>
        <p:blipFill>
          <a:blip r:embed="rId1"/>
          <a:stretch/>
        </p:blipFill>
        <p:spPr>
          <a:xfrm>
            <a:off x="324000" y="1773360"/>
            <a:ext cx="413064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рактическая часть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7800" y="1598760"/>
            <a:ext cx="8082000" cy="45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1280" y="2133720"/>
            <a:ext cx="77770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делирование реальных ситуаций. 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29280" y="2860560"/>
            <a:ext cx="685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телефон»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«теле»-далеко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фон»-звук),т.е. передача звуков на расстоян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99"/>
                </a:solidFill>
                <a:latin typeface="Arial"/>
              </a:rPr>
              <a:t>История создания телефона.</a:t>
            </a:r>
            <a:endParaRPr b="0" lang="en-US" sz="4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 1837 году Уитстон и Кук первый аппарат для передачи и приёма сообщени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 1876 году Грех Бел изобрёл передатчик (микрофон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605480" y="2109960"/>
            <a:ext cx="403056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одская-передача на расстоянии речевой информац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городняя-передача информации между город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бильная-беспроводная связ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лефонист-оператор телефонной связ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Телефонный справочник состоит из разделов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часть -телефоны предприятий,организаций,учрежден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часть-телефоны индивидуального пользов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аст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лефоны абонентов сельских  станций Балашовского район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Подпиши названия служб к телефонным номерам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01-вызов пожарной служб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02-вызов милиц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03-вызов «скорой помощи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04-вызов службы при утечке газ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Первый сотовый телефон, немного истории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227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стория сотового телефона началась в 1947 год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 апреля 1973 года была смонтирована базовая станция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спытания первого в мире мобильного телефона прошли 3 апреля 1973 год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>
            <a:off x="3433680" y="322956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" descr="Телефоны американской компании Motorola признаны самыми опасными с точки зрения уровня излучения"/>
          <p:cNvPicPr/>
          <p:nvPr/>
        </p:nvPicPr>
        <p:blipFill>
          <a:blip r:embed="rId1"/>
          <a:stretch/>
        </p:blipFill>
        <p:spPr>
          <a:xfrm>
            <a:off x="3608280" y="1693800"/>
            <a:ext cx="49276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редостереж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6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Эксперты, тем не менее, все равно советуют детям и подросткам ограничивать время пользования телефонами, поскольку их мозг и нервная система все еще находятся в процессе формирования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530600" y="1774800"/>
            <a:ext cx="40816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амое популярное место ношения телефонов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03280" y="1599840"/>
            <a:ext cx="36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чёный Шильников Е.Н. считает, что вред приносит не только разговор по мобильному телефону, но даже нахождение такового в кармане брю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ченики же носят их в карманах брюк,  жакетов; некоторые носят телефоны в сумках; часть детей предпочитает носить сотовый телефон на шее, на пояс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457200" y="1612800"/>
          <a:ext cx="4033800" cy="44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2800"/>
                    <a:ext cx="403380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0:07:27Z</dcterms:created>
  <dc:creator>Милана</dc:creator>
  <dc:description/>
  <dc:language>en-US</dc:language>
  <cp:lastModifiedBy>User</cp:lastModifiedBy>
  <dcterms:modified xsi:type="dcterms:W3CDTF">2011-03-11T06:04:26Z</dcterms:modified>
  <cp:revision>19</cp:revision>
  <dc:subject/>
  <dc:title>Презентация PowerPoint</dc:title>
</cp:coreProperties>
</file>