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8081-794F-4DA8-9510-DF862B5E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AF8-9EBA-4072-8652-75EF620E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211-4EE0-410E-BC20-5FCCF5BA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7FC-8191-4DA1-BE72-DC9BB7FE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60F5-C094-4796-8D47-B471BB78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594E-F597-402E-8351-70B4C078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0695-D91C-4152-BD7E-83FDF3DA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149A-3DEE-4960-9383-4A0B113F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087F-9D40-40FD-A14D-0674EC0F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B135-E5CA-4306-B82D-08F0D7B9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96E8-9DA7-4887-B01D-4381191A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5F1D-9AC2-4CEC-8C63-7F54AF80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989E-4D60-4C34-A16B-C30AF7CD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6140-F0BD-4E8E-8F03-7CCD7CE9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FE2C-E7D4-4D35-B439-85D9E6BF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342D-89A1-4254-A010-DE77D237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C2F9-D09B-46DE-B8CD-8BD03199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DA21-2BB0-40DD-90F7-DE3C2605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112-1885-416E-B9D5-8F4476F1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46B-6019-4436-9F1D-80CE5018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A89-D724-4C5B-BF74-6341EF2F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9509-F33A-4DD9-A0E5-20BD6F8D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133-45F4-4829-A45C-21FFEDC8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C36E-377F-4229-86F7-99C9810B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9c7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9c73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9c73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c7300"/>
                        </a:solidFill>
                        <a:ln w="9360">
                          <a:solidFill>
                            <a:srgbClr val="9c73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9c7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9c7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9c7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73DD-D675-4B1D-BF34-A993A7268CD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9c7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9c73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9c73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c7300"/>
                        </a:solidFill>
                        <a:ln w="9360">
                          <a:solidFill>
                            <a:srgbClr val="9c73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9c7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9c7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9c7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3418-586A-4EE2-A74A-0FFEAED3736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cc0099"/>
                </a:solidFill>
                <a:latin typeface="Arial"/>
              </a:rPr>
              <a:t>Тема:</a:t>
            </a:r>
            <a:endParaRPr b="0" lang="en-US" sz="5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225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cc0099"/>
                </a:solidFill>
                <a:latin typeface="Verdana"/>
              </a:rPr>
              <a:t>Виды телефонной связи .Городской, междугородний, мобильный</a:t>
            </a:r>
            <a:endParaRPr b="0" lang="en-US" sz="4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225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cc0099"/>
                </a:solidFill>
                <a:latin typeface="Verdana"/>
              </a:rPr>
              <a:t>Телефон. </a:t>
            </a:r>
            <a:endParaRPr b="0" lang="en-US" sz="4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Правила телефонного разговор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огда звоните-здоровайтес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.Не кричит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.Говорите по дел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.Не говорите долг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.Не звоните очень поздно или ран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.Если не туда попали -извинитес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7.Отвечайте вежлив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8.Заканчивая разговор ,попрощайтес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99"/>
                </a:solidFill>
                <a:latin typeface="Arial"/>
              </a:rPr>
              <a:t>Телефонный этикет.</a:t>
            </a:r>
            <a:endParaRPr b="0" lang="en-US" sz="4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ыключайте  мобильный телефон, когда использование радиосвязи может подвергнуть опасности жизнь других людей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оздерживайтесь от использования мобильного телефона во время управления транспорто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ыключайте телефон или переводите его в беззвучный режим на спектаклях, киносеансах, концертах, в музеях и выставочных залах, во время церемоний и ритуалов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7" name="" descr="Мобильные телефоны повышают риск лейкемии или образования опухоли в голове, глазах или слюнных железах"/>
          <p:cNvPicPr/>
          <p:nvPr/>
        </p:nvPicPr>
        <p:blipFill>
          <a:blip r:embed="rId1"/>
          <a:stretch/>
        </p:blipFill>
        <p:spPr>
          <a:xfrm>
            <a:off x="324000" y="1773360"/>
            <a:ext cx="413064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рактическая часть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7800" y="1598760"/>
            <a:ext cx="8082000" cy="45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1280" y="2133720"/>
            <a:ext cx="77770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делирование реальных ситуаций. 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229280" y="2860560"/>
            <a:ext cx="685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телефон»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«теле»-далеко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фон»-звук),т.е. передача звуков на расстоян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99"/>
                </a:solidFill>
                <a:latin typeface="Arial"/>
              </a:rPr>
              <a:t>История создания телефона.</a:t>
            </a:r>
            <a:endParaRPr b="0" lang="en-US" sz="4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 1837 году Уитстон и Кук первый аппарат для передачи и приёма сообщени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 1876 году Грех Бел изобрёл передатчик (микрофон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605480" y="2109960"/>
            <a:ext cx="403056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одская-передача на расстоянии речевой информац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дугородняя-передача информации между города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бильная-беспроводная связ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лефонист-оператор телефонной связ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Телефонный справочник состоит из разделов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часть -телефоны предприятий,организаций,учрежден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часть-телефоны индивидуального пользов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аст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лефоны абонентов сельских  станций Балашовского район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Подпиши названия служб к телефонным номерам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01-вызов пожарной служб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02-вызов милиц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03-вызов «скорой помощи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04-вызов службы при утечке газ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Первый сотовый телефон, немного истории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227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стория сотового телефона началась в 1947 год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 апреля 1973 года была смонтирована базовая станция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спытания первого в мире мобильного телефона прошли 3 апреля 1973 год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/>
          <p:nvPr/>
        </p:nvSpPr>
        <p:spPr>
          <a:xfrm>
            <a:off x="3433680" y="322956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" descr="Телефоны американской компании Motorola признаны самыми опасными с точки зрения уровня излучения"/>
          <p:cNvPicPr/>
          <p:nvPr/>
        </p:nvPicPr>
        <p:blipFill>
          <a:blip r:embed="rId1"/>
          <a:stretch/>
        </p:blipFill>
        <p:spPr>
          <a:xfrm>
            <a:off x="3608280" y="1693800"/>
            <a:ext cx="49276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редостереж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6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Эксперты, тем не менее, все равно советуют детям и подросткам ограничивать время пользования телефонами, поскольку их мозг и нервная система все еще находятся в процессе формирования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530600" y="1774800"/>
            <a:ext cx="40816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амое популярное место ношения телефонов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03280" y="1599840"/>
            <a:ext cx="36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чёный Шильников Е.Н. считает, что вред приносит не только разговор по мобильному телефону, но даже нахождение такового в кармане брю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ченики же носят их в карманах брюк,  жакетов; некоторые носят телефоны в сумках; часть детей предпочитает носить сотовый телефон на шее, на пояс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457200" y="1612800"/>
          <a:ext cx="4033800" cy="44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12800"/>
                    <a:ext cx="403380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0:07:27Z</dcterms:created>
  <dc:creator>Милана</dc:creator>
  <dc:description/>
  <dc:language>en-US</dc:language>
  <cp:lastModifiedBy>User</cp:lastModifiedBy>
  <dcterms:modified xsi:type="dcterms:W3CDTF">2011-03-11T06:04:26Z</dcterms:modified>
  <cp:revision>19</cp:revision>
  <dc:subject/>
  <dc:title>Презентация PowerPoint</dc:title>
</cp:coreProperties>
</file>