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D57-EE9B-4513-9FBA-A941942C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EA0-1EAE-4F58-BEB7-120B2343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C2D-746C-408A-9FC4-0EF98C7E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A39-3B9D-420D-A87B-6407B858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001E-E4E7-4D8E-934B-B73287D0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9D60-CDB5-4C84-B6DE-B67CEDBE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B5C6-89D8-4BBF-9DCD-DBEB0CB3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7BCA-6D46-4292-8627-41D6B6C5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A03A-2344-427A-9E06-B148F5BF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25A3-E2F7-4125-8005-06D2C37E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483B-CE2A-48FF-817E-51E5D8F8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F23-ACC8-47F9-A590-18206D70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CE95-8F42-4B2C-9B4B-13A70294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EC38-845D-4725-8841-9847D3A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2F3B-EA6F-4098-866E-951F0A9A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AEE3-CA1E-46E7-8776-6A384506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36FD-85F0-47C4-B65B-79460EB6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4F6-2A5B-4FBF-8922-D94F6381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193-4CBD-4318-882B-7C483BB9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CB9-FF1C-4AF5-96BB-D9CDE850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E34-BC15-4065-8F1B-B013F470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C26-9FB3-4271-9127-12E5356C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90D-D7FA-434F-8B09-25AB9D0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DFE-0E16-450D-AE01-5F0215A7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6665-622C-455C-8491-1F53C74FD5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FCA9-000C-450D-9A64-7AEC6EC8AB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C:\Documents and Settings\User\Рабочий стол\Посылка\01.jpg"/>
          <p:cNvPicPr/>
          <p:nvPr/>
        </p:nvPicPr>
        <p:blipFill>
          <a:blip r:embed="rId1"/>
          <a:stretch/>
        </p:blipFill>
        <p:spPr>
          <a:xfrm>
            <a:off x="500040" y="374760"/>
            <a:ext cx="807264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User\Рабочий стол\Посылка\11.jpg"/>
          <p:cNvPicPr/>
          <p:nvPr/>
        </p:nvPicPr>
        <p:blipFill>
          <a:blip r:embed="rId1"/>
          <a:stretch/>
        </p:blipFill>
        <p:spPr>
          <a:xfrm>
            <a:off x="428760" y="32076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User\Рабочий стол\Посылка\12.jpg"/>
          <p:cNvPicPr/>
          <p:nvPr/>
        </p:nvPicPr>
        <p:blipFill>
          <a:blip r:embed="rId1"/>
          <a:srcRect l="40495" t="0" r="0" b="0"/>
          <a:stretch/>
        </p:blipFill>
        <p:spPr>
          <a:xfrm>
            <a:off x="2071800" y="142920"/>
            <a:ext cx="514332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User\Рабочий стол\Посылка\14.jpg"/>
          <p:cNvPicPr/>
          <p:nvPr/>
        </p:nvPicPr>
        <p:blipFill>
          <a:blip r:embed="rId1"/>
          <a:stretch/>
        </p:blipFill>
        <p:spPr>
          <a:xfrm>
            <a:off x="428760" y="320760"/>
            <a:ext cx="833256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User\Рабочий стол\Посылка\15.jpg"/>
          <p:cNvPicPr/>
          <p:nvPr/>
        </p:nvPicPr>
        <p:blipFill>
          <a:blip r:embed="rId1"/>
          <a:stretch/>
        </p:blipFill>
        <p:spPr>
          <a:xfrm>
            <a:off x="2143080" y="190440"/>
            <a:ext cx="492912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Documents and Settings\User\Рабочий стол\Посылка\16.jpg"/>
          <p:cNvPicPr/>
          <p:nvPr/>
        </p:nvPicPr>
        <p:blipFill>
          <a:blip r:embed="rId1"/>
          <a:stretch/>
        </p:blipFill>
        <p:spPr>
          <a:xfrm>
            <a:off x="380880" y="285840"/>
            <a:ext cx="847728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User\Рабочий стол\Посылка\17.jpg"/>
          <p:cNvPicPr/>
          <p:nvPr/>
        </p:nvPicPr>
        <p:blipFill>
          <a:blip r:embed="rId1"/>
          <a:stretch/>
        </p:blipFill>
        <p:spPr>
          <a:xfrm>
            <a:off x="357120" y="268200"/>
            <a:ext cx="85726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User\Рабочий стол\Посылка\19.jpg"/>
          <p:cNvPicPr/>
          <p:nvPr/>
        </p:nvPicPr>
        <p:blipFill>
          <a:blip r:embed="rId1"/>
          <a:stretch/>
        </p:blipFill>
        <p:spPr>
          <a:xfrm>
            <a:off x="500040" y="374760"/>
            <a:ext cx="828684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User\Рабочий стол\Посылка\20.jpg"/>
          <p:cNvPicPr/>
          <p:nvPr/>
        </p:nvPicPr>
        <p:blipFill>
          <a:blip r:embed="rId1"/>
          <a:stretch/>
        </p:blipFill>
        <p:spPr>
          <a:xfrm>
            <a:off x="142920" y="106200"/>
            <a:ext cx="8786880" cy="65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User\Рабочий стол\Посылка\02.jpg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User\Рабочий стол\Посылка\03.jpg"/>
          <p:cNvPicPr/>
          <p:nvPr/>
        </p:nvPicPr>
        <p:blipFill>
          <a:blip r:embed="rId1"/>
          <a:stretch/>
        </p:blipFill>
        <p:spPr>
          <a:xfrm>
            <a:off x="2143080" y="190440"/>
            <a:ext cx="485784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User\Рабочий стол\Посылка\04.jpg"/>
          <p:cNvPicPr/>
          <p:nvPr/>
        </p:nvPicPr>
        <p:blipFill>
          <a:blip r:embed="rId1"/>
          <a:stretch/>
        </p:blipFill>
        <p:spPr>
          <a:xfrm>
            <a:off x="357120" y="268200"/>
            <a:ext cx="84042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User\Рабочий стол\Посылка\05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Documents and Settings\User\Рабочий стол\Посылка\06.jpg"/>
          <p:cNvPicPr/>
          <p:nvPr/>
        </p:nvPicPr>
        <p:blipFill>
          <a:blip r:embed="rId1"/>
          <a:stretch/>
        </p:blipFill>
        <p:spPr>
          <a:xfrm>
            <a:off x="357120" y="268200"/>
            <a:ext cx="84297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User\Рабочий стол\Посылка\07.jpg"/>
          <p:cNvPicPr/>
          <p:nvPr/>
        </p:nvPicPr>
        <p:blipFill>
          <a:blip r:embed="rId1"/>
          <a:stretch/>
        </p:blipFill>
        <p:spPr>
          <a:xfrm>
            <a:off x="2214720" y="285840"/>
            <a:ext cx="47145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User\Рабочий стол\Посылка\08.jpg"/>
          <p:cNvPicPr/>
          <p:nvPr/>
        </p:nvPicPr>
        <p:blipFill>
          <a:blip r:embed="rId1"/>
          <a:stretch/>
        </p:blipFill>
        <p:spPr>
          <a:xfrm>
            <a:off x="762120" y="571680"/>
            <a:ext cx="77389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User\Рабочий стол\Посылка\10.jpg"/>
          <p:cNvPicPr/>
          <p:nvPr/>
        </p:nvPicPr>
        <p:blipFill>
          <a:blip r:embed="rId1"/>
          <a:stretch/>
        </p:blipFill>
        <p:spPr>
          <a:xfrm>
            <a:off x="380880" y="285840"/>
            <a:ext cx="847728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1:49:41Z</dcterms:created>
  <dc:creator>Наташка</dc:creator>
  <dc:description/>
  <dc:language>en-US</dc:language>
  <cp:lastModifiedBy>User</cp:lastModifiedBy>
  <dcterms:modified xsi:type="dcterms:W3CDTF">2011-11-29T17:54:53Z</dcterms:modified>
  <cp:revision>12</cp:revision>
  <dc:subject/>
  <dc:title>Слайд 1</dc:title>
</cp:coreProperties>
</file>